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2ADF-AAC6-45CD-A136-9411F8EC970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 1881 Clément Ader apresentou um sistema estéreo na exibição de equipamentos elétricos en Paris, transmitindo uma ópera da capital francesa por meio de um tipo de telefone, o teatrófono, que produzia uma sensação de som espacial para os ouvintes. Mas a estereofonia foi lançada no mercado somente em 1957, substituindo os aparelhos monaur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866-161D-40AF-92C7-BF8EC25B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9E9-3E4F-49E3-BC8E-8537C39E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B18-2B4C-48B5-B314-C698273B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739-AE30-479D-8B49-1ED3CC89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232-7A87-44B9-BF10-B9E769E3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CC4-4540-4B41-8DA2-264B9EF4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92E-48DA-473D-A199-C807D92C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FCF-077F-45B8-B980-FC19E34E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1D5-D8B5-47CE-9EC3-9793BD41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5D0-13B6-4BD4-AC55-08AA984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12F-B09A-485A-8CFC-9104967A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987-AD55-404A-8BB7-CD5F503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76DD-0278-4763-AC66-C3EC364EA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nterface.cipic.ucdavis.edu/CIL_tutorial/3D_home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acialização d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lio A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ulo So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ago Bu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jam, ssrf, tbac}@cin.ufpe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sicoacústic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ça na resposta da freqü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dependente de dir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2670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D P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do em D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ns mono (fontes*)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om esté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nhuma percepção na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tera intens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querda e dir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ltragem de fre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.g. altas freq. de t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uco 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4120" y="4010040"/>
            <a:ext cx="38098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T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ead Related Transfe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 a percepção do som para as duas orel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ída = som bina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ito 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distorcer de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ito process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ende de movimentação da fo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51640" y="3213000"/>
            <a:ext cx="2476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335772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rês 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33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gra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interpo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5734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filtr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T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relado ao fone de ouv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entrada para cada ouv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 das caixas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aixa emite para os dois ouv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weet 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RTFs para 4 caix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Dr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sstalk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nais discretos vs.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matrix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nais discr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úmero de canais usados originalmente para codificar o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nais independentes (toda informação contida no canal não está condicionada a nenhum out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nai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nai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laybac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gt; canais origi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canai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laybac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êm que ser derivados dos canais origi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pecificações de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Surround S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tação X.{0,1}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: número de can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ull-ran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isponí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/1: indicação da ausência ou presença de um canal LFE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ow-Frequency Effec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eg.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bwoof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tação X/Y.{0,1}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: número de can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ull-ran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frente do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Y: número de can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ull-ran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s lados ou atrás do espec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pecificações de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Surround Sound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falantes na frente (L/R) e um atrás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Surround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.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falantes na frente (L/R) e dois atrás (LS/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rround Quadraphonic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.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falantes na frente (L/C/R), um falante mono atrás (S) e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bwoof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o 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Prologic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noa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reofô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ina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rround Sound vs. 3D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scoacústica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D P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R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rrround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real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rectSound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pecificações de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Surround Sound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.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falantes na frente (L/C/R), 2 atrás (LS/RS) e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bwoo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Prologic II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rix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Digital, DTS (discr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ressão de som com AC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luído na especificação do DVD e do padrão americano de HD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.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ual ao 5.1 mas com a adição de mais um falante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icamente o falante adicional é “matrixado” a partir do LS/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lby Digital EX (THX + Dolby), DTS-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pecificações de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Surround Sound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.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ciona dois falantes à especificação 5.1 (podendo ser na frente ou atr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rática, normalmente funciona como um 6.1 com o 7º canal sendo uma duplicata do 6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DD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ony Dynamic Digital Soun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HX não é uma especificação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urround Soun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m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sceu em 1983 (Retorno de Je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te 1: Técnicas de Pós-Process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visão do canal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rroun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mono 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tereo Surroun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3/1.0) em d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frequências inferiores a 100Hz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laybac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o canal L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X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te 2: Certificação dos aparelhos de criação e reprodução de trilhas de cinema e 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ceiver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ixer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amplificadores, caixas acú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ormulação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X Ultra vs. THX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ós-processamento THX-EX 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tificação de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X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ormulação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X Ultr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finação do pós-processamento (melhor aproximação para 6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real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3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eira API de som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ançada em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indows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uladores de vô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cença p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eative Labs, atual propriet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1428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real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í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eadf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ou 4 fa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lhor para jogo do que surroun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lcula reflexões do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ave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i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ito cust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428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rect Sound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rect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I da 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riet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rect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oritmos de tercei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argamente implementado em placas de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ida pela Creative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997-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junto de fun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verb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flex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str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do em conjunto com outras AP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s sucesso do que A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2590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istema Monoa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0 sound, m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único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smo sinal compartil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últiplas caixas de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lindros fono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cos de vi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mof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32720" y="1557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256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ki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ar jogos para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mente mantido pela Creative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ilo e convenções baseados em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cença 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4284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enuação baseado em dis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eito Dop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norama baseado em pos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adiação do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4284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o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k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nreal Tournament 200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ttlefiel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edi Knigh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nterface.cipic.ucdavis.edu/CIL_tutorial/3D_home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digit-life.com/articles2/sound-technology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dvd21.com.br/trilhasdeaudio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stereofô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reo, 2.0 sound, Ster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éia: Duas or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is canais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sação de espaci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co gravações ao v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957,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ixas de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üidistantes do ouv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istema Bina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mula o sinal recebido por cada ouvido ex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ldes dos ouv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lde de cabeça acú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mente 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 headfones ab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24720" y="4797360"/>
            <a:ext cx="1143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istema Bina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881, Clément 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ira de equipamento eletrônicos em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mitiu uma Ó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emelhava-se a um telef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rcialia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890 – 19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r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héâtro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895 – 19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ctrophone (fo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o e incoven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4360" y="1413000"/>
            <a:ext cx="13287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urround Sound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vs.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3D S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rroun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-ca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éia: simular ambiente realí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 sistema de som (estéreo, binaural, quadrifônico, 5.1, 7.1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a percepção das diversas fontes sonoras no espaço 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sicoac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D panning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R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 multi-ca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00720" y="2997360"/>
            <a:ext cx="38098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sicoacústic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ferença de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ferença de intes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eptível em altas freqü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(20 dB a 6 k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3 dB a 500 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ns inaud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cons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vimento da fo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23:36:51Z</dcterms:created>
  <dc:creator>Pentium</dc:creator>
  <dc:description/>
  <dc:language>en-US</dc:language>
  <cp:lastModifiedBy>tbac</cp:lastModifiedBy>
  <dcterms:modified xsi:type="dcterms:W3CDTF">2006-09-25T12:59:28Z</dcterms:modified>
  <cp:revision>98</cp:revision>
  <dc:subject/>
  <dc:title>Espacialização de Som</dc:title>
</cp:coreProperties>
</file>