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FB68-7943-4681-AE41-0CE44A197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7706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2880" y="4129920"/>
            <a:ext cx="77706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13B0-D114-4808-BCE8-04D50F8CD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484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288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484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7DD5-DD85-4FBD-8B26-5A1048F42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05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7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288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05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7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76EE-8B29-44AD-8D75-2F7ADAF41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78709-1493-48AA-9FF0-00E7F4D9E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2880" y="1981080"/>
            <a:ext cx="77706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CB8CA-AD9F-41FA-AEC6-205F5C51F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7706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11A85-AE1C-4DDE-85C4-062B49F13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484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C193B-4768-4DC0-8E1D-AFFF1DA5E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E2269-8AF0-483E-BCD0-B97E7CA8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2880" y="456840"/>
            <a:ext cx="77706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4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84BF9-AA57-4A80-85D4-3FC665796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484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288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ACD2A-4BE8-4F23-B7F5-9B0D1313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2880" y="1981080"/>
            <a:ext cx="77706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2D05-4532-4D3A-A8BF-A033F3B67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484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484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2E501-1D2D-4F63-BA7B-1493E94B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484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2880" y="4129920"/>
            <a:ext cx="77706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9D61A-FD74-4FB1-B90D-D05129E9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7706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2880" y="4129920"/>
            <a:ext cx="77706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66610-1A5B-4CDF-82D8-C6DDCEDBB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484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288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484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288C7-03A7-4E3D-9F17-E16709F8D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05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7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288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05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7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81BE9-1D81-4038-AF93-2B05CE655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7706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EA7C-725F-4A2F-BEDA-84AA0A8BF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484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25AA-8990-43F0-BF0E-00567A5B7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7A92-6869-4F33-BE85-B6A545B35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2880" y="456840"/>
            <a:ext cx="77706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4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B298-8403-4A1F-9248-5AE3F2801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484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288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6350-98BB-4147-968B-48B114AD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484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484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5CAD-B958-41CD-B3C3-2C9F9E2A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484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2880" y="4129920"/>
            <a:ext cx="77706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22D9-AF77-4284-A6A5-3309852E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1149480"/>
            <a:ext cx="1066680" cy="9149040"/>
            <a:chOff x="-720" y="-1149480"/>
            <a:chExt cx="1066680" cy="9149040"/>
          </a:xfrm>
        </p:grpSpPr>
        <p:grpSp>
          <p:nvGrpSpPr>
            <p:cNvPr id="1" name=""/>
            <p:cNvGrpSpPr/>
            <p:nvPr/>
          </p:nvGrpSpPr>
          <p:grpSpPr>
            <a:xfrm>
              <a:off x="167760" y="-1149480"/>
              <a:ext cx="759240" cy="9149040"/>
              <a:chOff x="167760" y="-1149480"/>
              <a:chExt cx="759240" cy="91490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174600" y="-1149480"/>
                <a:ext cx="74304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174600" y="1114560"/>
                <a:ext cx="74304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174600" y="573120"/>
                <a:ext cx="74304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174600" y="-944640"/>
                <a:ext cx="74304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174600" y="169920"/>
                <a:ext cx="74304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174600" y="-236520"/>
                <a:ext cx="74304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174600" y="-647640"/>
                <a:ext cx="75240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168120" y="4111560"/>
                <a:ext cx="74304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168120" y="3570120"/>
                <a:ext cx="74304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168120" y="2050920"/>
                <a:ext cx="74304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168120" y="3165480"/>
                <a:ext cx="74304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168120" y="2760840"/>
                <a:ext cx="74304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167400" y="2347920"/>
                <a:ext cx="75276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174600" y="5486400"/>
                <a:ext cx="74304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174600" y="4944960"/>
                <a:ext cx="74304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168120" y="6423120"/>
                <a:ext cx="74304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11040" y="7396200"/>
                <a:ext cx="462240" cy="74448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168120" y="7132680"/>
                <a:ext cx="74304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167400" y="6719760"/>
                <a:ext cx="75276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7770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2880" y="1981080"/>
            <a:ext cx="77706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7600" indent="-327600">
              <a:lnSpc>
                <a:spcPct val="104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7252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09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06072DB-5F96-4C47-AC16-83B28E74E90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6160" cy="1012320"/>
              <a:chOff x="-3600" y="2479680"/>
              <a:chExt cx="914616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708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08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887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3896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240" y="2750760"/>
                <a:ext cx="990720" cy="466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40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832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52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340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40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212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68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00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2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2880" y="-898920"/>
            <a:ext cx="7770600" cy="33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40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09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55B22D6-1349-4FF0-AD24-A6EBE9DA60F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0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7200" spc="-1" strike="noStrike">
                <a:solidFill>
                  <a:srgbClr val="003366"/>
                </a:solidFill>
                <a:latin typeface="Times New Roman"/>
              </a:rPr>
              <a:t>Softwares Educativos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DejaVu Sans"/>
              </a:rPr>
              <a:t>Softwares musicais educativos para violã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646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Times New Roman"/>
              </a:rPr>
              <a:t>eMedia Guitar Method (cont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38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antagens observ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mato de curso, divido em li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gressividade, adequado para quem está partindo do z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ém do uso de recursos multimídia como vídeos e partitura sincronizada, permite interatividade, aumentando o dinamismo do aprendiz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646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Times New Roman"/>
              </a:rPr>
              <a:t>eMedia Guitar Method (cont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20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svanta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ão permite edição de músicas (abrir ou salvar arquivos personalizad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mitado ao 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646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Times New Roman"/>
              </a:rPr>
              <a:t>eMedia Guitar Method (cont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056120" y="1798560"/>
            <a:ext cx="4707000" cy="467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646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uitar Pr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38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ma das ferramentas mais utilizadas para edição e execução musical para instrumentos de violão e guitar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úsicas podem ser editadas em partitura, e com o auxílio da própria imagem do braço do instru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lui ferramentas avançadas, ideais para músicos mais experi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uitar Pro (cont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1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antag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mplo ferramental para criação e edição de mús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ração com o usuário é bastante rica, permitindo ao músico criar com velocidade e versatil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úsicas podem ser importadas e carregadas de diferentes tipos de arqu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aço do instrumento sendo exibido permite aprendizado rápido de mús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uitar Pro (cont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24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svanta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ão pareceu muito adequado para pessoas iniciantes, é fácil se perder devido à grande quantidade de funcional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646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uitar Pro (cont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324160" y="1798560"/>
            <a:ext cx="6438960" cy="467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646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inale Guita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rramenta também voltada à edi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blatur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itu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mbém permite importar músicas MI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oltado para estudantes de música que tenham aprendizado baseado em teoria mus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inale Guitar (cont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1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anta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face bastante simples e intui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celente para quem esteja aprende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svanta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ão é muito adequado para auto-didatas que não aprendam com embasamento de teoria mus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646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inale Guitar (cont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324160" y="1798560"/>
            <a:ext cx="6438960" cy="467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646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Times New Roman"/>
              </a:rPr>
              <a:t>Grup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23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uro Beltr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smany Frei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oberto Cáss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odrigo Far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646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Times New Roman"/>
              </a:rPr>
              <a:t>D’Accord Violão Mast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38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rramenta para auxiliar iniciantes autodidatas, em particular que costumam aprender por cifras e tablatu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onibiliza músicas populares para execução e permite criar / editar personaliz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de importar MIDI e outros arqu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646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Times New Roman"/>
              </a:rPr>
              <a:t>D’Accord Violão Master (cont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29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mite importar músicas da web (sites de cifr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lui ferramentas extras de auxílio, como metrônomo e afin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úsica tocada com exibição sincronizada de como deve ser a execução no braço do viol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646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Times New Roman"/>
              </a:rPr>
              <a:t>D’Accord Violão Master (cont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39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anta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celente para quem deseja aprender o básico para tocar músicas, por cif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face bastante simples e intuitiva, não trazendo dificuldades para inici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ursos podem ser úteis até mesmo a usuários mais avanç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646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Times New Roman"/>
              </a:rPr>
              <a:t>D’Accord Violão Master (cont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svanta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execução das músicas é simples, ideal para aprendizado inicial, mas um pouco “mecanizada”, a depender muito do aluno o melhoramento em sua habilidade para rit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ão auxilia muito para quem deseja conhecimento mais profundo em teoria mus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646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Times New Roman"/>
              </a:rPr>
              <a:t>D’Accord Violão Master (cont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292480" y="1800360"/>
            <a:ext cx="6470640" cy="467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686520"/>
            <a:ext cx="7772400" cy="68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Times New Roman"/>
              </a:rPr>
              <a:t>D'Accord Curso de Violã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32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7680" indent="-337680">
              <a:lnSpc>
                <a:spcPct val="104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so multimídia (em Flash) para ensino de viol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104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nhum conhecimento prévio necessá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104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ções gradativas envolvendo prática e teoria mus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686520"/>
            <a:ext cx="7772400" cy="68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Times New Roman"/>
              </a:rPr>
              <a:t>D'Accord Curso de Violão (cont.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anta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ções gradativas didaticamente escolhidas para pessoa desenvolver do zero lado prático e teórico no uso do instru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4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svanta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sino “mastigado” pode entendiar alguns usuários que tenham pressa de ir mais diretamente ao po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686520"/>
            <a:ext cx="7772400" cy="68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Times New Roman"/>
              </a:rPr>
              <a:t>D'Accord Curso de Violão (cont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260360" y="1440000"/>
            <a:ext cx="6840720" cy="48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686520"/>
            <a:ext cx="7772400" cy="68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Times New Roman"/>
              </a:rPr>
              <a:t>Outras Mençõ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34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7680" indent="-337680">
              <a:lnSpc>
                <a:spcPct val="104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ux Gui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104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gui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104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tar H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104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ets on F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104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versos tutoriais on-line para aprender viol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686520"/>
            <a:ext cx="7772400" cy="68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Times New Roman"/>
              </a:rPr>
              <a:t>Conclusõ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47600" y="1439640"/>
            <a:ext cx="777240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7680" indent="-337680">
              <a:lnSpc>
                <a:spcPct val="104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ão faltam boas opções para quem esteja disposto a aprender sem sair de casa ou contratar prof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104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cadores mais avançados também podem enriquecer sua capacidade com softwares exist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104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 aplicativos pra celulares e dispositivos móveis, as “revistinhas” devem ir ficando rapidamente ultrapassada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31068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Times New Roman"/>
              </a:rPr>
              <a:t>Softwares Educativos e afins</a:t>
            </a:r>
            <a:br>
              <a:rPr sz="4400"/>
            </a:br>
            <a:r>
              <a:rPr b="0" i="1" lang="en-GB" sz="4400" spc="-1" strike="noStrike">
                <a:solidFill>
                  <a:srgbClr val="003366"/>
                </a:solidFill>
                <a:latin typeface="Times New Roman"/>
              </a:rPr>
              <a:t>para ensino de violão/guitarr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tar Stu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tar Chords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edia Guitar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tar P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ale Gui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so de violão D'Acc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’Accord Violão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646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uitar Chords Laborato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33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fin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isualizador de acordes e variaç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versas bat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ibe o braço do viol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a cifras da w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dança manual de acor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646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uitar Chords Laboratory (cont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525760" y="1798560"/>
            <a:ext cx="6237360" cy="467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646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uitar Studi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39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ditor de tablatura multitr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face intui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ursos avanç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ibe o braço do viol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a tablaturas e arquivos MI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exão MIDI com disposi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uitar Studio (cont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fin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trôn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isualizador de acordes, escalas e variaç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layer de arquivos WAV, MIDI e 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646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uitar Studio (cont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320920" y="1797120"/>
            <a:ext cx="644220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646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Times New Roman"/>
              </a:rPr>
              <a:t>eMedia Guitar Metho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27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rso inter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blatura / Notação musical padr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ação alternativa facilita acompanhamento no viol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o de víde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rsões para diversos níveis (e estilos musica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iciante, intermediário, rock, blue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lui também ferramentas auxiliares, como metrônomo e afin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F</dc:creator>
  <dc:description/>
  <dc:language>en-US</dc:language>
  <cp:lastModifiedBy>obf</cp:lastModifiedBy>
  <dcterms:modified xsi:type="dcterms:W3CDTF">2006-09-18T12:41:56Z</dcterms:modified>
  <cp:revision>2</cp:revision>
  <dc:subject/>
  <dc:title>Softwares Musicais</dc:title>
</cp:coreProperties>
</file>