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A21D-DCC8-4005-844E-CBA246799D3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evantar o questionamento de o por que de mais uma AP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as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icrosoft® Windows® provides functions that enable an application to add audio services. The multimedia audio functions were introduced in 16-bit Windows. Many of their features have been superseded by features in DirectX. For more information, see the DirectX docu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CC64-E081-4B86-800E-A3B8DAE6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3BA-F963-4D28-9651-98FCC21F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9869-6093-4220-9EFE-6FDE7167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8790-8EE8-424E-824F-32B107B7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38EB-703B-450E-B166-14CC7E7F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DB6D-A470-479C-B5DA-1FCCABA1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0BB9-5C48-41B1-8C5F-9D89DE00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92A1-B344-4904-A791-29201042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7860-F54A-4A98-829B-DCBED252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DD11-56EE-4FFF-96E6-10874657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C0E8-53FB-4B35-85C1-5BC27E04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3786-857A-4EC7-8A87-6F7E3B3A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607D-0CFE-4BF4-9D9E-A9E3128C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3A7F-F060-4F94-9C66-89B8860F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EB4E-4174-4CC2-90AB-9E054A5A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82B7-DF7B-47ED-B02F-C5D03643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040B-0736-4EB7-A26D-20FDD0C8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F357-B61C-45C9-8A79-FF697E3A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A5F2-E7FF-42E7-A628-5389EA83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EA6-D950-4283-96B1-C07AA38A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88F6-D682-4C6D-BE6D-F99B7492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F0F-E7AD-43CC-97E0-3F8F8AEC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E2AF-E3D3-42AE-B9DD-F2BFF16B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19F-211D-4285-A2A9-09F6B03E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D82C-02FF-46E2-8D2C-D06EA9D19B13}" type="slidenum">
              <a:rPr b="0" lang="pt-BR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679E-E075-4593-B2AB-F48229B4F286}" type="slidenum">
              <a:rPr b="0" lang="pt-BR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702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Waveform Audio</a:t>
            </a:r>
            <a:br>
              <a:rPr sz="4000"/>
            </a:b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API Multimedia Audio do Window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3581280" y="3657240"/>
            <a:ext cx="47246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omputação Music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Prof. Geber Ramalh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Alexandre Sarmento, Arlei Calazans, Diogo José, Jarbas Jáco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{asas, ajcm, djca, jjoj}@cin.ufpe.b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PCM Waveform-Audio Data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PCM Data Pack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8-bit mon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8-bit stere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16-bit mon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16-bit stere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Outros  (WAVEFORMATEXTENSIBLE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Waveform Audio Interfa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692360" y="2765520"/>
          <a:ext cx="5600520" cy="1255320"/>
        </p:xfrm>
        <a:graphic>
          <a:graphicData uri="http://schemas.openxmlformats.org/drawingml/2006/table">
            <a:tbl>
              <a:tblPr/>
              <a:tblGrid>
                <a:gridCol w="1866600"/>
                <a:gridCol w="1866960"/>
                <a:gridCol w="1866960"/>
              </a:tblGrid>
              <a:tr h="39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ormato de dado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alor máxim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alor do mei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-bit PCM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5 (0xFF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 128 (0x80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-bit PCM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67 (0x7FFF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 32,768 (0x8000) 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"/>
          <p:cNvSpPr/>
          <p:nvPr/>
        </p:nvSpPr>
        <p:spPr>
          <a:xfrm>
            <a:off x="2917800" y="4797360"/>
            <a:ext cx="460836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2520" y="4797360"/>
            <a:ext cx="50328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30880" y="4797360"/>
            <a:ext cx="50292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38880" y="4797360"/>
            <a:ext cx="50328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446880" y="4797360"/>
            <a:ext cx="50328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17800" y="5157720"/>
            <a:ext cx="460836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26160" y="479736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50160" y="479736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46880" y="479736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42160" y="479736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438880" y="479736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33800" y="479736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30880" y="479736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25800" y="479736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22520" y="479736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22520" y="5157720"/>
            <a:ext cx="503280" cy="21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30880" y="5157720"/>
            <a:ext cx="502920" cy="21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46880" y="5157720"/>
            <a:ext cx="503280" cy="21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38880" y="5157720"/>
            <a:ext cx="503280" cy="21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50160" y="515772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42160" y="515772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33800" y="515772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25800" y="515772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17800" y="479736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16360" y="480528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17800" y="515772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17800" y="5877000"/>
            <a:ext cx="460836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25800" y="5877000"/>
            <a:ext cx="1008000" cy="21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42160" y="5877000"/>
            <a:ext cx="1008000" cy="21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50160" y="587700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33800" y="587700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17800" y="587700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17800" y="5518080"/>
            <a:ext cx="460836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50160" y="551808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33800" y="551808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17800" y="551808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25800" y="551808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42160" y="5518080"/>
            <a:ext cx="0" cy="2160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7166520" y="4437720"/>
            <a:ext cx="144720" cy="431640"/>
          </a:xfrm>
          <a:custGeom>
            <a:avLst/>
            <a:gdLst>
              <a:gd name="textAreaLeft" fmla="*/ 0 w 144720"/>
              <a:gd name="textAreaRight" fmla="*/ 52200 w 14472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41"/>
                </a:lnTo>
                <a:cubicBezTo>
                  <a:pt x="10800" y="9741"/>
                  <a:pt x="16200" y="10641"/>
                  <a:pt x="21600" y="10641"/>
                </a:cubicBezTo>
                <a:cubicBezTo>
                  <a:pt x="16200" y="10641"/>
                  <a:pt x="10800" y="11541"/>
                  <a:pt x="10800" y="1244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319080" y="4076640"/>
            <a:ext cx="1930320" cy="459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8 bits = 1 by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527960" y="4653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527960" y="49878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527960" y="53020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27960" y="5661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Waveform Audio Interfa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Blocos de Dados de Áudi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Funçõe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waveInPrepareHea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waveInUnprepareHea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waveOutPrepareHea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waveOutUnprepareHea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uando dwFlags = WHDR_DONE o buffer foi preenchido totalment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ve-se usar no mínimo dois buffers para não ocorrer falhas no som (tem que dar tempo de preparar um buffer enquanto o outro ainda está sendo preenchido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263760" y="3505320"/>
            <a:ext cx="2667240" cy="1701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1968120" y="4317480"/>
            <a:ext cx="1536840" cy="48276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aptura (waveIn)</a:t>
            </a:r>
            <a:br>
              <a:rPr sz="4400"/>
            </a:b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Inicializan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79720" y="2679840"/>
            <a:ext cx="1349640" cy="368280"/>
          </a:xfrm>
          <a:prstGeom prst="rect">
            <a:avLst/>
          </a:prstGeom>
          <a:solidFill>
            <a:srgbClr val="efe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waveInOp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2840" y="4127400"/>
            <a:ext cx="1223280" cy="307080"/>
          </a:xfrm>
          <a:prstGeom prst="rect">
            <a:avLst/>
          </a:prstGeom>
          <a:solidFill>
            <a:srgbClr val="fff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waveInHandl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21120" y="2451240"/>
            <a:ext cx="835920" cy="307080"/>
          </a:xfrm>
          <a:prstGeom prst="rect">
            <a:avLst/>
          </a:prstGeom>
          <a:solidFill>
            <a:srgbClr val="ff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deviceID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1968480" y="3136680"/>
            <a:ext cx="1752480" cy="95220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11480" y="2603520"/>
            <a:ext cx="609480" cy="15228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85560" y="2908440"/>
            <a:ext cx="1689480" cy="307080"/>
          </a:xfrm>
          <a:prstGeom prst="rect">
            <a:avLst/>
          </a:prstGeom>
          <a:solidFill>
            <a:srgbClr val="ff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WAVEFORMATEX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3111480" y="2908080"/>
            <a:ext cx="609480" cy="15228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97400" y="3772080"/>
            <a:ext cx="2215440" cy="368280"/>
          </a:xfrm>
          <a:prstGeom prst="rect">
            <a:avLst/>
          </a:prstGeom>
          <a:solidFill>
            <a:srgbClr val="efe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waveInPrepareHead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51120" y="4597560"/>
            <a:ext cx="1845000" cy="368280"/>
          </a:xfrm>
          <a:prstGeom prst="rect">
            <a:avLst/>
          </a:prstGeom>
          <a:solidFill>
            <a:srgbClr val="efe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waveInAddBuff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994040" y="4114800"/>
            <a:ext cx="1358640" cy="10152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76880" y="4140360"/>
            <a:ext cx="1087560" cy="307080"/>
          </a:xfrm>
          <a:prstGeom prst="rect">
            <a:avLst/>
          </a:prstGeom>
          <a:solidFill>
            <a:srgbClr val="fff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WAVEHD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626080" y="4368960"/>
            <a:ext cx="1295280" cy="38088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54680" y="3924360"/>
            <a:ext cx="1066680" cy="15228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55320" y="5905440"/>
            <a:ext cx="1287000" cy="368280"/>
          </a:xfrm>
          <a:prstGeom prst="rect">
            <a:avLst/>
          </a:prstGeom>
          <a:solidFill>
            <a:srgbClr val="efe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waveInStar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68480" y="4508640"/>
            <a:ext cx="1841400" cy="151128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47680" y="516888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cccc99"/>
                </a:solidFill>
                <a:latin typeface="Times New Roman"/>
              </a:rPr>
              <a:t>“</a:t>
            </a:r>
            <a:r>
              <a:rPr b="0" lang="pt-BR" sz="1400" spc="-1" strike="noStrike">
                <a:solidFill>
                  <a:srgbClr val="cccc99"/>
                </a:solidFill>
                <a:latin typeface="Times New Roman"/>
              </a:rPr>
              <a:t>prepararBuffer()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09280" y="372096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ada50d"/>
                </a:solidFill>
                <a:latin typeface="Verdana"/>
              </a:rPr>
              <a:t>&amp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71120" y="45338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ada50d"/>
                </a:solidFill>
                <a:latin typeface="Verdana"/>
              </a:rPr>
              <a:t>&amp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132280" y="351792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ada50d"/>
                </a:solidFill>
                <a:latin typeface="Verdana"/>
              </a:rPr>
              <a:t>&amp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3124080"/>
            <a:ext cx="0" cy="5335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421632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0" y="5092560"/>
            <a:ext cx="0" cy="685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aptura (waveIn)</a:t>
            </a:r>
            <a:br>
              <a:rPr sz="4400"/>
            </a:b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Lendo os Dad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00280" y="3048120"/>
            <a:ext cx="160020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25480" y="31212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verificar buff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14600" y="3352680"/>
            <a:ext cx="1143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589480" y="3048120"/>
            <a:ext cx="9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preenchido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2" idx="1"/>
            <a:endCxn id="393" idx="2"/>
          </p:cNvCxnSpPr>
          <p:nvPr/>
        </p:nvCxnSpPr>
        <p:spPr>
          <a:xfrm flipH="1" flipV="1" rot="10800000">
            <a:off x="799200" y="3314520"/>
            <a:ext cx="813240" cy="173520"/>
          </a:xfrm>
          <a:prstGeom prst="bentConnector4">
            <a:avLst>
              <a:gd name="adj1" fmla="val -28122"/>
              <a:gd name="adj2" fmla="val 28607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97" name=""/>
          <p:cNvSpPr/>
          <p:nvPr/>
        </p:nvSpPr>
        <p:spPr>
          <a:xfrm>
            <a:off x="419040" y="3886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está preenchendo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15280" y="3137040"/>
            <a:ext cx="2481840" cy="368280"/>
          </a:xfrm>
          <a:prstGeom prst="rect">
            <a:avLst/>
          </a:prstGeom>
          <a:solidFill>
            <a:srgbClr val="efe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waveInUnprepareHead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19360" y="2374920"/>
            <a:ext cx="1223280" cy="307080"/>
          </a:xfrm>
          <a:prstGeom prst="rect">
            <a:avLst/>
          </a:prstGeom>
          <a:solidFill>
            <a:srgbClr val="fff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waveInHandl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029200" y="2755440"/>
            <a:ext cx="0" cy="30492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391520" y="3048120"/>
            <a:ext cx="109224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417440" y="312120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ler dad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77120" y="3352680"/>
            <a:ext cx="7617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36800" y="4343400"/>
            <a:ext cx="1087560" cy="307080"/>
          </a:xfrm>
          <a:prstGeom prst="rect">
            <a:avLst/>
          </a:prstGeom>
          <a:solidFill>
            <a:srgbClr val="fff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WAVEHD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2133360" y="3657240"/>
            <a:ext cx="1981080" cy="60948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2590920"/>
            <a:ext cx="45720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495680" y="3580920"/>
            <a:ext cx="2743200" cy="68580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924680" y="3733920"/>
            <a:ext cx="0" cy="1676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23240" y="5562720"/>
            <a:ext cx="177804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076520" y="563868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processar dad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5410080"/>
            <a:ext cx="5715000" cy="838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510360" y="5638680"/>
            <a:ext cx="2215440" cy="368280"/>
          </a:xfrm>
          <a:prstGeom prst="rect">
            <a:avLst/>
          </a:prstGeom>
          <a:solidFill>
            <a:srgbClr val="efe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waveInPrepareHead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20520" y="5638680"/>
            <a:ext cx="1845000" cy="368280"/>
          </a:xfrm>
          <a:prstGeom prst="rect">
            <a:avLst/>
          </a:prstGeom>
          <a:solidFill>
            <a:srgbClr val="efe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waveInAddBuff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60280" y="622296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cccc99"/>
                </a:solidFill>
                <a:latin typeface="Times New Roman"/>
              </a:rPr>
              <a:t>“</a:t>
            </a:r>
            <a:r>
              <a:rPr b="0" lang="pt-BR" sz="1400" spc="-1" strike="noStrike">
                <a:solidFill>
                  <a:srgbClr val="cccc99"/>
                </a:solidFill>
                <a:latin typeface="Times New Roman"/>
              </a:rPr>
              <a:t>prepararBuffer()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1905120" y="3733920"/>
            <a:ext cx="0" cy="1828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895480" y="5867280"/>
            <a:ext cx="5335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735800" y="49528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ada50d"/>
                </a:solidFill>
                <a:latin typeface="Verdana"/>
              </a:rPr>
              <a:t>&amp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380880" cy="83844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286000" y="4724280"/>
            <a:ext cx="1752480" cy="83844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78400" y="49528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ada50d"/>
                </a:solidFill>
                <a:latin typeface="Verdana"/>
              </a:rPr>
              <a:t>&amp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263760" y="3886200"/>
            <a:ext cx="266724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eprodução (waveOu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79720" y="2679840"/>
            <a:ext cx="1501920" cy="368280"/>
          </a:xfrm>
          <a:prstGeom prst="rect">
            <a:avLst/>
          </a:prstGeom>
          <a:solidFill>
            <a:srgbClr val="efe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waveOutOp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2840" y="4127400"/>
            <a:ext cx="1342080" cy="307080"/>
          </a:xfrm>
          <a:prstGeom prst="rect">
            <a:avLst/>
          </a:prstGeom>
          <a:solidFill>
            <a:srgbClr val="fff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waveOutHandl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21120" y="2451240"/>
            <a:ext cx="835920" cy="307080"/>
          </a:xfrm>
          <a:prstGeom prst="rect">
            <a:avLst/>
          </a:prstGeom>
          <a:solidFill>
            <a:srgbClr val="ff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deviceID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1968480" y="3136680"/>
            <a:ext cx="1752480" cy="95220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11480" y="2603520"/>
            <a:ext cx="609480" cy="15228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85560" y="2908440"/>
            <a:ext cx="1689480" cy="307080"/>
          </a:xfrm>
          <a:prstGeom prst="rect">
            <a:avLst/>
          </a:prstGeom>
          <a:solidFill>
            <a:srgbClr val="ff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WAVEFORMATEX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111480" y="2908080"/>
            <a:ext cx="609480" cy="15228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97400" y="4114800"/>
            <a:ext cx="2215440" cy="368280"/>
          </a:xfrm>
          <a:prstGeom prst="rect">
            <a:avLst/>
          </a:prstGeom>
          <a:solidFill>
            <a:srgbClr val="efe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waveInPrepareHead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082600" y="4276800"/>
            <a:ext cx="1277640" cy="324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076880" y="4140360"/>
            <a:ext cx="1087560" cy="307080"/>
          </a:xfrm>
          <a:prstGeom prst="rect">
            <a:avLst/>
          </a:prstGeom>
          <a:solidFill>
            <a:srgbClr val="fff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WAVEHD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91320" y="4267080"/>
            <a:ext cx="1143000" cy="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14920" y="5905440"/>
            <a:ext cx="1529640" cy="368280"/>
          </a:xfrm>
          <a:prstGeom prst="rect">
            <a:avLst/>
          </a:prstGeom>
          <a:solidFill>
            <a:srgbClr val="efe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waveOutWrit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68480" y="4508640"/>
            <a:ext cx="1689120" cy="151128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183720" y="396252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ada50d"/>
                </a:solidFill>
                <a:latin typeface="Verdana"/>
              </a:rPr>
              <a:t>&amp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2280" y="351792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ada50d"/>
                </a:solidFill>
                <a:latin typeface="Verdana"/>
              </a:rPr>
              <a:t>&amp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0" y="3124080"/>
            <a:ext cx="0" cy="685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4952880"/>
            <a:ext cx="0" cy="825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5562720" y="4495680"/>
            <a:ext cx="1371600" cy="1371600"/>
          </a:xfrm>
          <a:prstGeom prst="line">
            <a:avLst/>
          </a:prstGeom>
          <a:ln w="9360">
            <a:solidFill>
              <a:srgbClr val="ada50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DirectSound e DirectSho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DirectSound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: permite algumas funcionalidades e facilidades a mais que a API do Windows, como executar vários sons simultaneamente (ideal para jogo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DirectShow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: arquitetura para media-streamming com a qual pode-se tocar e capturar áudio e vídeos aplicando-lhes filtros facilment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nsiderações Fina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Antes de escolher entre DirectSound, DirectShow ou a própria API de Áudio do Windows deve-se levar em consideração todos os requisitos do sistema. Assim, escolhe-se o que satisfaz a maioria dos requisitos, pois ambos teoricamente têm desempenho equivalent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eferênc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imes New Roman"/>
              </a:rPr>
              <a:t>API de Áudio do Windows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http://msdn.microsoft.com/library/en-us/multimed/htm/_win32_multimedia_audio.asp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imes New Roman"/>
              </a:rPr>
              <a:t>DirectSound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http://msdn.microsoft.com/library/en-us/directx9_c/directx/htm/directsound.as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imes New Roman"/>
              </a:rPr>
              <a:t>DirectShow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http://msdn.microsoft.com/library/en-us/directshow/htm/directshow.as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otiv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Como capturar áudio da placa de som com eficiência no Window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Exemplo prático de uso do formato PCM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Quais são as demais funcionalidades da API de Áudio do Window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Que outros recursos podem ser usados em vez dessa API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tei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Introduçã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Multimedia Audi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Waveform Audio Interfa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Usando a AP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aptura (waveIn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Reprodução (waveOut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Exemp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DirectSound e DirectShow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Considerações Fina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O que é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Funções e estrutur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Relativamente baixo ní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Orientada a mensage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ultimedia Audi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Audio Compression Manager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Audio Mixer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MIDI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Waveform Aud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Waveform Audio Interfa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Usada por aplicativos que precisam do maior controle possível dos dispositivos de áudi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As funções e estruturas (em letras maiúsculas) dessa interface são nomeadas com o prefixo “wave”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Vejamo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ispositiv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Tipos de Da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Blocos de Dados de Áud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Waveform Audio Interfa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91856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Dispositivo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Abrindo dispositivos Waveform-Audio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waveInOp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waveOutOp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Pesquisando dispositiv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waveInGetNumDev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waveOutGetNumDev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waveInGetDevCaps (preenche WAVEINCAP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waveOutGetDevCaps (preenche WAVEOUTCAP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Waveform Audio Interfa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2286000"/>
            <a:ext cx="403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WAVEINCAP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typedef struct {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WORD      wMid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WORD      wPid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MMVERSION vDriverVersion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TCHAR     szPname[MAXPNAMELEN]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DWORD     dwFormats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WORD      wChannels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WORD      wReserved1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} WAVEINCAPS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284720" y="3789360"/>
            <a:ext cx="403380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WAVEOUTCAP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typedef struct {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WORD      wMid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WORD      wPid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MMVERSION vDriverVersion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TCHAR     szPname[MAXPNAMELEN]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DWORD     dwFormats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WORD      wChannels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WORD      wReserved1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DWORD     dwSupport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} WAVEOUTCAPS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Waveform Audio Interfa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Tipos de Dados (Estruturas)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Handles: HWAVEIN e HWAVEOU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WAVEFORMATE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typedef struct {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WORD  wFormatTag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WORD  nChannels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DWORD nSamplesPerSec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DWORD nAvgBytesPerSec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WORD  nBlockAlign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WORD  wBitsPerSample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WORD  cbSize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Courier New"/>
              </a:rPr>
              <a:t>} WAVEFORMATEX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59280" y="3357720"/>
            <a:ext cx="403380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WAVEHD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typedef struct {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LPSTR      lpData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DWORD      dwBufferLength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DWORD      dwBytesRecorded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DWORD_PTR  dwUser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DWORD      dwFlags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DWORD      dwLoops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struct wavehdr_tag * lpNext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DWORD_PTR reserved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} WAVEHDR;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joj</cp:lastModifiedBy>
  <dcterms:modified xsi:type="dcterms:W3CDTF">2001-02-24T04:52:25Z</dcterms:modified>
  <cp:revision>15</cp:revision>
  <dc:subject/>
  <dc:title>PowerPoint Presentation</dc:title>
</cp:coreProperties>
</file>