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D76-D637-4634-9F9A-76758942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289-93D5-4E15-9291-55170E2D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DC9-53BD-446A-A476-97D07BC4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01F-AAD4-46E7-9A9B-D209AEEB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A3FD-E6A9-40D8-9E3F-071F6480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8C3B-53AA-40AC-8355-46D6D553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7072-DB52-4099-A88A-93CEF562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F37F-C822-4360-BF09-6D8FE9A6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A196-97A0-40A4-B1D4-57DEC94B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1EC3-73D0-406F-8D0A-AA391C04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B436-3D84-4613-9109-CDE75B77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3DE-D3B9-4280-A0AE-6AFAA3A7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EBA6-BA75-4C9D-A182-11355226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20AA-FDFA-4839-9913-017E8A3D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2C60-464F-4A3E-B144-60272A3B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0688-6E74-431A-AD76-3A5C948D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ADC3-A254-4972-8CFE-0F5B7DE8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D41-137E-4362-9238-A5D1C5D8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45C-A756-471D-BC1F-85AB274A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A89-8A04-47E0-933B-0EA52996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6E3E-9645-456B-8B57-21187502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748-88D1-4850-BBC1-B160F06E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3BB-41ED-4988-8E14-FB4561F0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153-BCA5-4607-A3BF-1DC02370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BAC6-6A56-49BD-9169-EAFE749C7CB8}" type="slidenum">
              <a:rPr b="0" lang="pt-B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7A61-406D-4168-8185-86C56C230CAB}" type="slidenum">
              <a:rPr b="0" lang="pt-B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andbox.parc.xerox.com/parctab/" TargetMode="External"/><Relationship Id="rId3" Type="http://schemas.openxmlformats.org/officeDocument/2006/relationships/hyperlink" Target="http://sandbox.parc.xerox.com/parctab/" TargetMode="External"/><Relationship Id="rId4" Type="http://schemas.openxmlformats.org/officeDocument/2006/relationships/hyperlink" Target="http://sandbox.parc.xerox.com/parctab/" TargetMode="External"/><Relationship Id="rId5" Type="http://schemas.openxmlformats.org/officeDocument/2006/relationships/hyperlink" Target="http://sandbox.parc.xerox.com/parctab/" TargetMode="External"/><Relationship Id="rId6" Type="http://schemas.openxmlformats.org/officeDocument/2006/relationships/hyperlink" Target="http://sandbox.parc.xerox.com/parctab/" TargetMode="External"/><Relationship Id="rId7" Type="http://schemas.openxmlformats.org/officeDocument/2006/relationships/hyperlink" Target="http://sandbox.parc.xerox.com/parctab/" TargetMode="External"/><Relationship Id="rId8" Type="http://schemas.openxmlformats.org/officeDocument/2006/relationships/hyperlink" Target="http://sandbox.parc.xerox.com/parctab/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www.ubiq.com/hypertext/weiser/UbiHome.html" TargetMode="External"/><Relationship Id="rId11" Type="http://schemas.openxmlformats.org/officeDocument/2006/relationships/hyperlink" Target="http://www.ubiq.com/hypertext/weiser/UbiHome.html" TargetMode="External"/><Relationship Id="rId12" Type="http://schemas.openxmlformats.org/officeDocument/2006/relationships/hyperlink" Target="http://www.ubiq.com/hypertext/weiser/UbiHome.html" TargetMode="External"/><Relationship Id="rId13" Type="http://schemas.openxmlformats.org/officeDocument/2006/relationships/hyperlink" Target="http://www.ubiq.com/hypertext/weiser/UbiHome.html" TargetMode="External"/><Relationship Id="rId14" Type="http://schemas.openxmlformats.org/officeDocument/2006/relationships/hyperlink" Target="http://www.ubiq.com/hypertext/weiser/UbiHome.html" TargetMode="External"/><Relationship Id="rId1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197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ndré Paschoal (afsp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Josemando Sobral (jmtb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Paulo Victor (pvsm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Vitor Guedes (vsg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Características da</a:t>
            </a:r>
            <a:br>
              <a:rPr sz="4000"/>
            </a:b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Computação Ubíqu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cesso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Deve se ter acesso 24 horas por dia, 7 dias por sema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Mobilida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Disponível em qualquer lugar a qualquer ho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Universalida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Funcionalidades padrã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ransparê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ão se deve perceber a presença dos computad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ersonalizaçã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Configuração pessoais devem estar disponíve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rviç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Deve fornecer confiabilidade e seguranç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Projetado para Atividades </a:t>
            </a:r>
            <a:br>
              <a:rPr sz="4000"/>
            </a:b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do Dia-a-D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em início ou fim claramente defini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ncerrar vs. flexibilidade e simplicida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terrupção é espera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rojetado para continu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tividades Concor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Monitorar por uma oportunida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empo é um importante discrimin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nterpretar eventos rapidam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Necessidades de modelos associa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adquire informação de vários pontos de vis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ecnologias Wirele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57200" y="1684080"/>
            <a:ext cx="8224560" cy="4800600"/>
            <a:chOff x="457200" y="1684080"/>
            <a:chExt cx="8224560" cy="4800600"/>
          </a:xfrm>
        </p:grpSpPr>
        <p:sp>
          <p:nvSpPr>
            <p:cNvPr id="299" name=""/>
            <p:cNvSpPr/>
            <p:nvPr/>
          </p:nvSpPr>
          <p:spPr>
            <a:xfrm>
              <a:off x="457200" y="1687320"/>
              <a:ext cx="822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7200" y="1992240"/>
              <a:ext cx="82234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7200" y="6481800"/>
              <a:ext cx="82234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80600" y="2450160"/>
              <a:ext cx="1440" cy="342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55280" y="1687320"/>
              <a:ext cx="1080" cy="479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" y="2450160"/>
              <a:ext cx="822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80600" y="2752920"/>
              <a:ext cx="7301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80600" y="3059280"/>
              <a:ext cx="73011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80600" y="3404880"/>
              <a:ext cx="73011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80600" y="3665160"/>
              <a:ext cx="73011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80600" y="3971160"/>
              <a:ext cx="7301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80600" y="4275720"/>
              <a:ext cx="73011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80600" y="4656240"/>
              <a:ext cx="7301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80600" y="4959000"/>
              <a:ext cx="7301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80600" y="5230080"/>
              <a:ext cx="7301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80600" y="5547240"/>
              <a:ext cx="7301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7200" y="5850360"/>
              <a:ext cx="82234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7200" y="6156360"/>
              <a:ext cx="82234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01360" y="1687320"/>
              <a:ext cx="1440" cy="479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51800" y="1687320"/>
              <a:ext cx="1080" cy="479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57200" y="1684080"/>
              <a:ext cx="1080" cy="480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680680" y="1687320"/>
              <a:ext cx="1080" cy="479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2557440" y="1689840"/>
            <a:ext cx="184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  <a:ea typeface="바탕"/>
              </a:rPr>
              <a:t>Bluetooth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03880" y="1689840"/>
            <a:ext cx="2350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0458c"/>
                </a:solidFill>
                <a:latin typeface="Arial"/>
                <a:ea typeface="바탕"/>
              </a:rPr>
              <a:t>HomeRF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53240" y="1686960"/>
            <a:ext cx="193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  <a:ea typeface="바탕"/>
              </a:rPr>
              <a:t>IEEE 802.11(WLAN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57200" y="1989000"/>
            <a:ext cx="2100240" cy="459000"/>
            <a:chOff x="457200" y="1989000"/>
            <a:chExt cx="2100240" cy="459000"/>
          </a:xfrm>
        </p:grpSpPr>
        <p:sp>
          <p:nvSpPr>
            <p:cNvPr id="325" name=""/>
            <p:cNvSpPr/>
            <p:nvPr/>
          </p:nvSpPr>
          <p:spPr>
            <a:xfrm>
              <a:off x="457200" y="1989000"/>
              <a:ext cx="2100240" cy="4590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7200" y="2100960"/>
              <a:ext cx="21002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Major Company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738520" y="2065320"/>
            <a:ext cx="1496880" cy="355320"/>
            <a:chOff x="2738520" y="2065320"/>
            <a:chExt cx="1496880" cy="355320"/>
          </a:xfrm>
        </p:grpSpPr>
        <p:sp>
          <p:nvSpPr>
            <p:cNvPr id="328" name=""/>
            <p:cNvSpPr/>
            <p:nvPr/>
          </p:nvSpPr>
          <p:spPr>
            <a:xfrm>
              <a:off x="2738520" y="2065320"/>
              <a:ext cx="1496880" cy="353880"/>
            </a:xfrm>
            <a:prstGeom prst="roundRect">
              <a:avLst>
                <a:gd name="adj" fmla="val 44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38520" y="2065320"/>
              <a:ext cx="14954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Ericsson, Intel, IBM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Nokia, Toshib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572000" y="2021040"/>
            <a:ext cx="2095560" cy="426960"/>
            <a:chOff x="4572000" y="2021040"/>
            <a:chExt cx="2095560" cy="426960"/>
          </a:xfrm>
        </p:grpSpPr>
        <p:sp>
          <p:nvSpPr>
            <p:cNvPr id="331" name=""/>
            <p:cNvSpPr/>
            <p:nvPr/>
          </p:nvSpPr>
          <p:spPr>
            <a:xfrm>
              <a:off x="4572000" y="2021040"/>
              <a:ext cx="2095560" cy="42696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72000" y="2071080"/>
              <a:ext cx="209556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Microsoft, Intel, IBM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HP, Compaq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6753240" y="2029320"/>
            <a:ext cx="193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0458c"/>
                </a:solidFill>
                <a:latin typeface="Arial"/>
                <a:ea typeface="굴림"/>
              </a:rPr>
              <a:t>Harris,3COM,Lucent, Aironet,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4007520"/>
            <a:ext cx="1008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Arial"/>
                <a:ea typeface="바탕"/>
              </a:rPr>
              <a:t>Standard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380960" y="2448000"/>
            <a:ext cx="1176480" cy="304560"/>
            <a:chOff x="1380960" y="2448000"/>
            <a:chExt cx="1176480" cy="304560"/>
          </a:xfrm>
        </p:grpSpPr>
        <p:sp>
          <p:nvSpPr>
            <p:cNvPr id="336" name=""/>
            <p:cNvSpPr/>
            <p:nvPr/>
          </p:nvSpPr>
          <p:spPr>
            <a:xfrm>
              <a:off x="1380960" y="2448000"/>
              <a:ext cx="1176480" cy="304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0960" y="248184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Statu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903400" y="2508120"/>
            <a:ext cx="1106640" cy="244440"/>
            <a:chOff x="2903400" y="2508120"/>
            <a:chExt cx="1106640" cy="244440"/>
          </a:xfrm>
        </p:grpSpPr>
        <p:sp>
          <p:nvSpPr>
            <p:cNvPr id="339" name=""/>
            <p:cNvSpPr/>
            <p:nvPr/>
          </p:nvSpPr>
          <p:spPr>
            <a:xfrm>
              <a:off x="2903400" y="2508120"/>
              <a:ext cx="110664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03400" y="2512080"/>
              <a:ext cx="11066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SIG 1.0b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981680" y="2508120"/>
            <a:ext cx="1355760" cy="244440"/>
            <a:chOff x="4981680" y="2508120"/>
            <a:chExt cx="1355760" cy="244440"/>
          </a:xfrm>
        </p:grpSpPr>
        <p:sp>
          <p:nvSpPr>
            <p:cNvPr id="342" name=""/>
            <p:cNvSpPr/>
            <p:nvPr/>
          </p:nvSpPr>
          <p:spPr>
            <a:xfrm>
              <a:off x="4981680" y="2508120"/>
              <a:ext cx="135576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81680" y="2512080"/>
              <a:ext cx="13557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SWAP 1.11 (‘99.6)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7165800" y="2442240"/>
            <a:ext cx="984600" cy="376920"/>
            <a:chOff x="7165800" y="2442240"/>
            <a:chExt cx="984600" cy="376920"/>
          </a:xfrm>
        </p:grpSpPr>
        <p:sp>
          <p:nvSpPr>
            <p:cNvPr id="345" name=""/>
            <p:cNvSpPr/>
            <p:nvPr/>
          </p:nvSpPr>
          <p:spPr>
            <a:xfrm>
              <a:off x="7165800" y="2508120"/>
              <a:ext cx="98280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67600" y="2442240"/>
              <a:ext cx="9828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IEEE 802.11 Rev D10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380960" y="2752560"/>
            <a:ext cx="1176480" cy="304920"/>
            <a:chOff x="1380960" y="2752560"/>
            <a:chExt cx="1176480" cy="304920"/>
          </a:xfrm>
        </p:grpSpPr>
        <p:sp>
          <p:nvSpPr>
            <p:cNvPr id="348" name=""/>
            <p:cNvSpPr/>
            <p:nvPr/>
          </p:nvSpPr>
          <p:spPr>
            <a:xfrm>
              <a:off x="1380960" y="2752560"/>
              <a:ext cx="117648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80960" y="278676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Technology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380960" y="3071880"/>
            <a:ext cx="1176480" cy="291960"/>
            <a:chOff x="1380960" y="3071880"/>
            <a:chExt cx="1176480" cy="291960"/>
          </a:xfrm>
        </p:grpSpPr>
        <p:sp>
          <p:nvSpPr>
            <p:cNvPr id="351" name=""/>
            <p:cNvSpPr/>
            <p:nvPr/>
          </p:nvSpPr>
          <p:spPr>
            <a:xfrm>
              <a:off x="1380960" y="3071880"/>
              <a:ext cx="1176480" cy="291960"/>
            </a:xfrm>
            <a:prstGeom prst="roundRect">
              <a:avLst>
                <a:gd name="adj" fmla="val 54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80960" y="309924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Power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380960" y="3434400"/>
            <a:ext cx="1176480" cy="235440"/>
            <a:chOff x="1380960" y="3434400"/>
            <a:chExt cx="1176480" cy="235440"/>
          </a:xfrm>
        </p:grpSpPr>
        <p:sp>
          <p:nvSpPr>
            <p:cNvPr id="354" name=""/>
            <p:cNvSpPr/>
            <p:nvPr/>
          </p:nvSpPr>
          <p:spPr>
            <a:xfrm>
              <a:off x="1380960" y="3436920"/>
              <a:ext cx="1176480" cy="230040"/>
            </a:xfrm>
            <a:prstGeom prst="roundRect">
              <a:avLst>
                <a:gd name="adj" fmla="val 6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80960" y="343440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Symbol Rat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380960" y="3665520"/>
            <a:ext cx="1090800" cy="304920"/>
            <a:chOff x="1380960" y="3665520"/>
            <a:chExt cx="1090800" cy="304920"/>
          </a:xfrm>
        </p:grpSpPr>
        <p:sp>
          <p:nvSpPr>
            <p:cNvPr id="357" name=""/>
            <p:cNvSpPr/>
            <p:nvPr/>
          </p:nvSpPr>
          <p:spPr>
            <a:xfrm>
              <a:off x="1380960" y="3665520"/>
              <a:ext cx="109080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80960" y="3701160"/>
              <a:ext cx="10908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Rang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380960" y="3971880"/>
            <a:ext cx="1176480" cy="382680"/>
            <a:chOff x="1380960" y="3971880"/>
            <a:chExt cx="1176480" cy="382680"/>
          </a:xfrm>
        </p:grpSpPr>
        <p:sp>
          <p:nvSpPr>
            <p:cNvPr id="360" name=""/>
            <p:cNvSpPr/>
            <p:nvPr/>
          </p:nvSpPr>
          <p:spPr>
            <a:xfrm>
              <a:off x="1380960" y="3971880"/>
              <a:ext cx="1176480" cy="38268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80960" y="404568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Topology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380960" y="4354560"/>
            <a:ext cx="1176480" cy="304920"/>
            <a:chOff x="1380960" y="4354560"/>
            <a:chExt cx="1176480" cy="304920"/>
          </a:xfrm>
        </p:grpSpPr>
        <p:sp>
          <p:nvSpPr>
            <p:cNvPr id="363" name=""/>
            <p:cNvSpPr/>
            <p:nvPr/>
          </p:nvSpPr>
          <p:spPr>
            <a:xfrm>
              <a:off x="1380960" y="4354560"/>
              <a:ext cx="117648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80960" y="438840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Security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840040" y="2811600"/>
            <a:ext cx="1349280" cy="245880"/>
            <a:chOff x="2840040" y="2811600"/>
            <a:chExt cx="1349280" cy="245880"/>
          </a:xfrm>
        </p:grpSpPr>
        <p:sp>
          <p:nvSpPr>
            <p:cNvPr id="366" name=""/>
            <p:cNvSpPr/>
            <p:nvPr/>
          </p:nvSpPr>
          <p:spPr>
            <a:xfrm>
              <a:off x="2840040" y="2811600"/>
              <a:ext cx="1349280" cy="24588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40040" y="2816640"/>
              <a:ext cx="13478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RF 2.4GHz, FHS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915080" y="2811600"/>
            <a:ext cx="1350720" cy="245880"/>
            <a:chOff x="4915080" y="2811600"/>
            <a:chExt cx="1350720" cy="245880"/>
          </a:xfrm>
        </p:grpSpPr>
        <p:sp>
          <p:nvSpPr>
            <p:cNvPr id="369" name=""/>
            <p:cNvSpPr/>
            <p:nvPr/>
          </p:nvSpPr>
          <p:spPr>
            <a:xfrm>
              <a:off x="4915080" y="2811600"/>
              <a:ext cx="1350720" cy="24588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15080" y="2816640"/>
              <a:ext cx="13492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RF 2.4GHz, FHS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967440" y="2791080"/>
            <a:ext cx="1381320" cy="295200"/>
            <a:chOff x="6967440" y="2791080"/>
            <a:chExt cx="1381320" cy="295200"/>
          </a:xfrm>
        </p:grpSpPr>
        <p:sp>
          <p:nvSpPr>
            <p:cNvPr id="372" name=""/>
            <p:cNvSpPr/>
            <p:nvPr/>
          </p:nvSpPr>
          <p:spPr>
            <a:xfrm>
              <a:off x="6967440" y="2793960"/>
              <a:ext cx="1381320" cy="292320"/>
            </a:xfrm>
            <a:prstGeom prst="roundRect">
              <a:avLst>
                <a:gd name="adj" fmla="val 54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69240" y="2791080"/>
              <a:ext cx="137952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RF 2.4GHz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FHSS, DSSS, irD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882880" y="3074400"/>
            <a:ext cx="1263600" cy="325080"/>
            <a:chOff x="2882880" y="3074400"/>
            <a:chExt cx="1263600" cy="325080"/>
          </a:xfrm>
        </p:grpSpPr>
        <p:sp>
          <p:nvSpPr>
            <p:cNvPr id="375" name=""/>
            <p:cNvSpPr/>
            <p:nvPr/>
          </p:nvSpPr>
          <p:spPr>
            <a:xfrm>
              <a:off x="2882880" y="3078000"/>
              <a:ext cx="1263600" cy="319320"/>
            </a:xfrm>
            <a:prstGeom prst="roundRect">
              <a:avLst>
                <a:gd name="adj" fmla="val 5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2882880" y="3074400"/>
              <a:ext cx="1263600" cy="325080"/>
              <a:chOff x="2882880" y="3074400"/>
              <a:chExt cx="1263600" cy="325080"/>
            </a:xfrm>
          </p:grpSpPr>
          <p:sp>
            <p:nvSpPr>
              <p:cNvPr id="377" name=""/>
              <p:cNvSpPr/>
              <p:nvPr/>
            </p:nvSpPr>
            <p:spPr>
              <a:xfrm>
                <a:off x="2882880" y="3078000"/>
                <a:ext cx="1263600" cy="319320"/>
              </a:xfrm>
              <a:prstGeom prst="roundRect">
                <a:avLst>
                  <a:gd name="adj" fmla="val 5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882880" y="3074400"/>
                <a:ext cx="126360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808080"/>
                    </a:solidFill>
                    <a:latin typeface="Arial"/>
                    <a:ea typeface="바탕"/>
                  </a:rPr>
                  <a:t>0 ~ 20 dBm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808080"/>
                    </a:solidFill>
                    <a:latin typeface="Arial"/>
                    <a:ea typeface="바탕"/>
                  </a:rPr>
                  <a:t>(1mW ~ 100mW)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5086440" y="3069000"/>
            <a:ext cx="1001520" cy="376920"/>
            <a:chOff x="5086440" y="3069000"/>
            <a:chExt cx="1001520" cy="376920"/>
          </a:xfrm>
        </p:grpSpPr>
        <p:sp>
          <p:nvSpPr>
            <p:cNvPr id="380" name=""/>
            <p:cNvSpPr/>
            <p:nvPr/>
          </p:nvSpPr>
          <p:spPr>
            <a:xfrm>
              <a:off x="5086440" y="3095640"/>
              <a:ext cx="1001520" cy="322200"/>
            </a:xfrm>
            <a:prstGeom prst="roundRect">
              <a:avLst>
                <a:gd name="adj" fmla="val 4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86440" y="3069000"/>
              <a:ext cx="100008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&lt; 20 dBm </a:t>
              </a:r>
              <a:br>
                <a:rPr sz="1000"/>
              </a:b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(100mW)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14800" y="3422520"/>
            <a:ext cx="598320" cy="244440"/>
            <a:chOff x="3214800" y="3422520"/>
            <a:chExt cx="598320" cy="244440"/>
          </a:xfrm>
        </p:grpSpPr>
        <p:sp>
          <p:nvSpPr>
            <p:cNvPr id="383" name=""/>
            <p:cNvSpPr/>
            <p:nvPr/>
          </p:nvSpPr>
          <p:spPr>
            <a:xfrm>
              <a:off x="3214800" y="3422520"/>
              <a:ext cx="59832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14800" y="3426480"/>
              <a:ext cx="5968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1MS/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094360" y="3427920"/>
            <a:ext cx="1114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Arial"/>
                <a:ea typeface="바탕"/>
              </a:rPr>
              <a:t>0.8/1.6 MS/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318440" y="3422520"/>
            <a:ext cx="676080" cy="244440"/>
            <a:chOff x="7318440" y="3422520"/>
            <a:chExt cx="676080" cy="244440"/>
          </a:xfrm>
        </p:grpSpPr>
        <p:sp>
          <p:nvSpPr>
            <p:cNvPr id="387" name=""/>
            <p:cNvSpPr/>
            <p:nvPr/>
          </p:nvSpPr>
          <p:spPr>
            <a:xfrm>
              <a:off x="7318440" y="3422520"/>
              <a:ext cx="67608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18440" y="3426480"/>
              <a:ext cx="6760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11MS/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933640" y="3687120"/>
            <a:ext cx="1163520" cy="325080"/>
            <a:chOff x="2933640" y="3687120"/>
            <a:chExt cx="1163520" cy="325080"/>
          </a:xfrm>
        </p:grpSpPr>
        <p:sp>
          <p:nvSpPr>
            <p:cNvPr id="390" name=""/>
            <p:cNvSpPr/>
            <p:nvPr/>
          </p:nvSpPr>
          <p:spPr>
            <a:xfrm>
              <a:off x="2933640" y="3689280"/>
              <a:ext cx="1163520" cy="322200"/>
            </a:xfrm>
            <a:prstGeom prst="roundRect">
              <a:avLst>
                <a:gd name="adj" fmla="val 4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33640" y="3687120"/>
              <a:ext cx="11620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10 m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100m(Optional)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195880" y="3703680"/>
            <a:ext cx="784080" cy="244440"/>
            <a:chOff x="5195880" y="3703680"/>
            <a:chExt cx="784080" cy="244440"/>
          </a:xfrm>
        </p:grpSpPr>
        <p:sp>
          <p:nvSpPr>
            <p:cNvPr id="393" name=""/>
            <p:cNvSpPr/>
            <p:nvPr/>
          </p:nvSpPr>
          <p:spPr>
            <a:xfrm>
              <a:off x="5195880" y="3703680"/>
              <a:ext cx="78408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95880" y="3709080"/>
              <a:ext cx="7826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50/100 m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7356600" y="3709080"/>
            <a:ext cx="6253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Arial"/>
                <a:ea typeface="바탕"/>
              </a:rPr>
              <a:t>30 m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03480" y="3988080"/>
            <a:ext cx="1022400" cy="321840"/>
            <a:chOff x="3003480" y="3988080"/>
            <a:chExt cx="1022400" cy="321840"/>
          </a:xfrm>
        </p:grpSpPr>
        <p:sp>
          <p:nvSpPr>
            <p:cNvPr id="397" name=""/>
            <p:cNvSpPr/>
            <p:nvPr/>
          </p:nvSpPr>
          <p:spPr>
            <a:xfrm>
              <a:off x="3003480" y="3989520"/>
              <a:ext cx="1022400" cy="318960"/>
            </a:xfrm>
            <a:prstGeom prst="roundRect">
              <a:avLst>
                <a:gd name="adj" fmla="val 4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03480" y="3988080"/>
              <a:ext cx="10209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8 (Piconet),Point-to-Multi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989440" y="4287960"/>
            <a:ext cx="1082520" cy="360360"/>
            <a:chOff x="2989440" y="4287960"/>
            <a:chExt cx="1082520" cy="360360"/>
          </a:xfrm>
        </p:grpSpPr>
        <p:sp>
          <p:nvSpPr>
            <p:cNvPr id="400" name=""/>
            <p:cNvSpPr/>
            <p:nvPr/>
          </p:nvSpPr>
          <p:spPr>
            <a:xfrm>
              <a:off x="2989440" y="4287960"/>
              <a:ext cx="1082520" cy="360360"/>
            </a:xfrm>
            <a:prstGeom prst="roundRect">
              <a:avLst>
                <a:gd name="adj" fmla="val 44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989440" y="4287960"/>
              <a:ext cx="1082520" cy="360360"/>
              <a:chOff x="2989440" y="4287960"/>
              <a:chExt cx="1082520" cy="360360"/>
            </a:xfrm>
          </p:grpSpPr>
          <p:sp>
            <p:nvSpPr>
              <p:cNvPr id="402" name=""/>
              <p:cNvSpPr/>
              <p:nvPr/>
            </p:nvSpPr>
            <p:spPr>
              <a:xfrm>
                <a:off x="2989440" y="4287960"/>
                <a:ext cx="1082520" cy="360360"/>
              </a:xfrm>
              <a:prstGeom prst="roundRect">
                <a:avLst>
                  <a:gd name="adj" fmla="val 44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89440" y="4304880"/>
                <a:ext cx="10810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Arial"/>
                    <a:ea typeface="바탕"/>
                  </a:rPr>
                  <a:t>Authentication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Arial"/>
                    <a:ea typeface="바탕"/>
                  </a:rPr>
                  <a:t>Encryption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5222880" y="4354560"/>
            <a:ext cx="722160" cy="244440"/>
            <a:chOff x="5222880" y="4354560"/>
            <a:chExt cx="722160" cy="244440"/>
          </a:xfrm>
        </p:grpSpPr>
        <p:sp>
          <p:nvSpPr>
            <p:cNvPr id="405" name=""/>
            <p:cNvSpPr/>
            <p:nvPr/>
          </p:nvSpPr>
          <p:spPr>
            <a:xfrm>
              <a:off x="5222880" y="4354560"/>
              <a:ext cx="72216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22880" y="4358160"/>
              <a:ext cx="7207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Optional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097760" y="4354560"/>
            <a:ext cx="1117440" cy="244440"/>
            <a:chOff x="7097760" y="4354560"/>
            <a:chExt cx="1117440" cy="244440"/>
          </a:xfrm>
        </p:grpSpPr>
        <p:sp>
          <p:nvSpPr>
            <p:cNvPr id="408" name=""/>
            <p:cNvSpPr/>
            <p:nvPr/>
          </p:nvSpPr>
          <p:spPr>
            <a:xfrm>
              <a:off x="7097760" y="4354560"/>
              <a:ext cx="111744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97760" y="4358160"/>
              <a:ext cx="11174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Optional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102440" y="3093480"/>
            <a:ext cx="1001880" cy="325080"/>
            <a:chOff x="7102440" y="3093480"/>
            <a:chExt cx="1001880" cy="325080"/>
          </a:xfrm>
        </p:grpSpPr>
        <p:sp>
          <p:nvSpPr>
            <p:cNvPr id="411" name=""/>
            <p:cNvSpPr/>
            <p:nvPr/>
          </p:nvSpPr>
          <p:spPr>
            <a:xfrm>
              <a:off x="7102440" y="3095640"/>
              <a:ext cx="1001880" cy="322200"/>
            </a:xfrm>
            <a:prstGeom prst="roundRect">
              <a:avLst>
                <a:gd name="adj" fmla="val 4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04240" y="3093480"/>
              <a:ext cx="10000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&lt; 20 dBm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(100mW)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105520" y="3962520"/>
            <a:ext cx="1066320" cy="320400"/>
            <a:chOff x="5105520" y="3962520"/>
            <a:chExt cx="1066320" cy="320400"/>
          </a:xfrm>
        </p:grpSpPr>
        <p:sp>
          <p:nvSpPr>
            <p:cNvPr id="414" name=""/>
            <p:cNvSpPr/>
            <p:nvPr/>
          </p:nvSpPr>
          <p:spPr>
            <a:xfrm>
              <a:off x="5105520" y="3962520"/>
              <a:ext cx="1066320" cy="320400"/>
            </a:xfrm>
            <a:prstGeom prst="roundRect">
              <a:avLst>
                <a:gd name="adj" fmla="val 4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05520" y="3999600"/>
              <a:ext cx="10663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Peer to Peer, MS to B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086600" y="3962520"/>
            <a:ext cx="1142640" cy="320400"/>
            <a:chOff x="7086600" y="3962520"/>
            <a:chExt cx="1142640" cy="320400"/>
          </a:xfrm>
        </p:grpSpPr>
        <p:sp>
          <p:nvSpPr>
            <p:cNvPr id="417" name=""/>
            <p:cNvSpPr/>
            <p:nvPr/>
          </p:nvSpPr>
          <p:spPr>
            <a:xfrm>
              <a:off x="7086600" y="3962520"/>
              <a:ext cx="1142640" cy="320400"/>
            </a:xfrm>
            <a:prstGeom prst="roundRect">
              <a:avLst>
                <a:gd name="adj" fmla="val 4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89840" y="3999960"/>
              <a:ext cx="11390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Peer to Peer, MS to B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380960" y="4667400"/>
            <a:ext cx="1176480" cy="296640"/>
            <a:chOff x="1380960" y="4667400"/>
            <a:chExt cx="1176480" cy="296640"/>
          </a:xfrm>
        </p:grpSpPr>
        <p:sp>
          <p:nvSpPr>
            <p:cNvPr id="420" name=""/>
            <p:cNvSpPr/>
            <p:nvPr/>
          </p:nvSpPr>
          <p:spPr>
            <a:xfrm>
              <a:off x="1380960" y="4667400"/>
              <a:ext cx="1176480" cy="296640"/>
            </a:xfrm>
            <a:prstGeom prst="roundRect">
              <a:avLst>
                <a:gd name="adj" fmla="val 5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80960" y="469656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Freq HOP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808360" y="4702680"/>
            <a:ext cx="1414440" cy="235440"/>
            <a:chOff x="2808360" y="4702680"/>
            <a:chExt cx="1414440" cy="235440"/>
          </a:xfrm>
        </p:grpSpPr>
        <p:sp>
          <p:nvSpPr>
            <p:cNvPr id="423" name=""/>
            <p:cNvSpPr/>
            <p:nvPr/>
          </p:nvSpPr>
          <p:spPr>
            <a:xfrm>
              <a:off x="2808360" y="4705200"/>
              <a:ext cx="1414440" cy="230400"/>
            </a:xfrm>
            <a:prstGeom prst="roundRect">
              <a:avLst>
                <a:gd name="adj" fmla="val 6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08360" y="4702680"/>
              <a:ext cx="14144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79ch, 1600 hop/sec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956120" y="4689360"/>
            <a:ext cx="1258920" cy="246240"/>
            <a:chOff x="4956120" y="4689360"/>
            <a:chExt cx="1258920" cy="246240"/>
          </a:xfrm>
        </p:grpSpPr>
        <p:sp>
          <p:nvSpPr>
            <p:cNvPr id="426" name=""/>
            <p:cNvSpPr/>
            <p:nvPr/>
          </p:nvSpPr>
          <p:spPr>
            <a:xfrm>
              <a:off x="4956120" y="4689360"/>
              <a:ext cx="1258920" cy="2462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56120" y="4696560"/>
              <a:ext cx="12589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75ch, 50 hop/sec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027920" y="4689360"/>
            <a:ext cx="1257120" cy="246240"/>
            <a:chOff x="7027920" y="4689360"/>
            <a:chExt cx="1257120" cy="246240"/>
          </a:xfrm>
        </p:grpSpPr>
        <p:sp>
          <p:nvSpPr>
            <p:cNvPr id="429" name=""/>
            <p:cNvSpPr/>
            <p:nvPr/>
          </p:nvSpPr>
          <p:spPr>
            <a:xfrm>
              <a:off x="7027920" y="4689360"/>
              <a:ext cx="1257120" cy="2462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27920" y="4696560"/>
              <a:ext cx="12571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79ch, 2.5hop/sec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57200" y="5886360"/>
            <a:ext cx="2100240" cy="274680"/>
            <a:chOff x="457200" y="5886360"/>
            <a:chExt cx="2100240" cy="274680"/>
          </a:xfrm>
        </p:grpSpPr>
        <p:sp>
          <p:nvSpPr>
            <p:cNvPr id="432" name=""/>
            <p:cNvSpPr/>
            <p:nvPr/>
          </p:nvSpPr>
          <p:spPr>
            <a:xfrm>
              <a:off x="457200" y="5886360"/>
              <a:ext cx="2100240" cy="274680"/>
            </a:xfrm>
            <a:prstGeom prst="roundRect">
              <a:avLst>
                <a:gd name="adj" fmla="val 57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7200" y="5906160"/>
              <a:ext cx="21002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Application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976480" y="5862600"/>
            <a:ext cx="1187640" cy="355680"/>
            <a:chOff x="2976480" y="5862600"/>
            <a:chExt cx="1187640" cy="355680"/>
          </a:xfrm>
        </p:grpSpPr>
        <p:sp>
          <p:nvSpPr>
            <p:cNvPr id="435" name=""/>
            <p:cNvSpPr/>
            <p:nvPr/>
          </p:nvSpPr>
          <p:spPr>
            <a:xfrm>
              <a:off x="2976480" y="5896080"/>
              <a:ext cx="1187640" cy="287280"/>
            </a:xfrm>
            <a:prstGeom prst="roundRect">
              <a:avLst>
                <a:gd name="adj" fmla="val 5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76480" y="5862600"/>
              <a:ext cx="1187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Mobile Phon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Mobile Computer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078520" y="5877000"/>
            <a:ext cx="1017360" cy="245880"/>
            <a:chOff x="5078520" y="5877000"/>
            <a:chExt cx="1017360" cy="245880"/>
          </a:xfrm>
        </p:grpSpPr>
        <p:sp>
          <p:nvSpPr>
            <p:cNvPr id="438" name=""/>
            <p:cNvSpPr/>
            <p:nvPr/>
          </p:nvSpPr>
          <p:spPr>
            <a:xfrm>
              <a:off x="5078520" y="5877000"/>
              <a:ext cx="1017360" cy="24588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78520" y="5883840"/>
              <a:ext cx="10159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Home WLAN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354800" y="5877000"/>
            <a:ext cx="606600" cy="245880"/>
            <a:chOff x="7354800" y="5877000"/>
            <a:chExt cx="606600" cy="245880"/>
          </a:xfrm>
        </p:grpSpPr>
        <p:sp>
          <p:nvSpPr>
            <p:cNvPr id="441" name=""/>
            <p:cNvSpPr/>
            <p:nvPr/>
          </p:nvSpPr>
          <p:spPr>
            <a:xfrm>
              <a:off x="7354800" y="5877000"/>
              <a:ext cx="604800" cy="24588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56600" y="5883840"/>
              <a:ext cx="6048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WLAN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380960" y="4970520"/>
            <a:ext cx="1176480" cy="298440"/>
            <a:chOff x="1380960" y="4970520"/>
            <a:chExt cx="1176480" cy="298440"/>
          </a:xfrm>
        </p:grpSpPr>
        <p:sp>
          <p:nvSpPr>
            <p:cNvPr id="444" name=""/>
            <p:cNvSpPr/>
            <p:nvPr/>
          </p:nvSpPr>
          <p:spPr>
            <a:xfrm>
              <a:off x="1380960" y="4970520"/>
              <a:ext cx="1176480" cy="298440"/>
            </a:xfrm>
            <a:prstGeom prst="roundRect">
              <a:avLst>
                <a:gd name="adj" fmla="val 5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80960" y="500112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MAC Protocol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894040" y="4960440"/>
            <a:ext cx="1308240" cy="325080"/>
            <a:chOff x="2894040" y="4960440"/>
            <a:chExt cx="1308240" cy="325080"/>
          </a:xfrm>
        </p:grpSpPr>
        <p:sp>
          <p:nvSpPr>
            <p:cNvPr id="447" name=""/>
            <p:cNvSpPr/>
            <p:nvPr/>
          </p:nvSpPr>
          <p:spPr>
            <a:xfrm>
              <a:off x="2894040" y="4962600"/>
              <a:ext cx="1308240" cy="320760"/>
            </a:xfrm>
            <a:prstGeom prst="roundRect">
              <a:avLst>
                <a:gd name="adj" fmla="val 4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94040" y="4960440"/>
              <a:ext cx="13082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Link Managemen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L2CAP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221440" y="4962600"/>
            <a:ext cx="728640" cy="244440"/>
            <a:chOff x="5221440" y="4962600"/>
            <a:chExt cx="728640" cy="244440"/>
          </a:xfrm>
        </p:grpSpPr>
        <p:sp>
          <p:nvSpPr>
            <p:cNvPr id="450" name=""/>
            <p:cNvSpPr/>
            <p:nvPr/>
          </p:nvSpPr>
          <p:spPr>
            <a:xfrm>
              <a:off x="5221440" y="4962600"/>
              <a:ext cx="72864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21440" y="4968000"/>
              <a:ext cx="7286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Etherne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7292880" y="4962600"/>
            <a:ext cx="727200" cy="244440"/>
            <a:chOff x="7292880" y="4962600"/>
            <a:chExt cx="727200" cy="244440"/>
          </a:xfrm>
        </p:grpSpPr>
        <p:sp>
          <p:nvSpPr>
            <p:cNvPr id="453" name=""/>
            <p:cNvSpPr/>
            <p:nvPr/>
          </p:nvSpPr>
          <p:spPr>
            <a:xfrm>
              <a:off x="7292880" y="4962600"/>
              <a:ext cx="72720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94680" y="4968000"/>
              <a:ext cx="725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Etherne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380960" y="5231520"/>
            <a:ext cx="1176480" cy="235440"/>
            <a:chOff x="1380960" y="5231520"/>
            <a:chExt cx="1176480" cy="235440"/>
          </a:xfrm>
        </p:grpSpPr>
        <p:sp>
          <p:nvSpPr>
            <p:cNvPr id="456" name=""/>
            <p:cNvSpPr/>
            <p:nvPr/>
          </p:nvSpPr>
          <p:spPr>
            <a:xfrm>
              <a:off x="1380960" y="5275440"/>
              <a:ext cx="1176480" cy="145800"/>
            </a:xfrm>
            <a:prstGeom prst="roundRect">
              <a:avLst>
                <a:gd name="adj" fmla="val 10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80960" y="523152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Voic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894040" y="5280480"/>
            <a:ext cx="1247760" cy="294840"/>
            <a:chOff x="2894040" y="5280480"/>
            <a:chExt cx="1247760" cy="294840"/>
          </a:xfrm>
        </p:grpSpPr>
        <p:sp>
          <p:nvSpPr>
            <p:cNvPr id="459" name=""/>
            <p:cNvSpPr/>
            <p:nvPr/>
          </p:nvSpPr>
          <p:spPr>
            <a:xfrm>
              <a:off x="2894040" y="5283360"/>
              <a:ext cx="1247760" cy="288720"/>
            </a:xfrm>
            <a:prstGeom prst="roundRect">
              <a:avLst>
                <a:gd name="adj" fmla="val 5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894040" y="5280480"/>
              <a:ext cx="124776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3Ch, 64kb/ch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CVSD, Log PCM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815000" y="5280480"/>
            <a:ext cx="1550880" cy="294840"/>
            <a:chOff x="4815000" y="5280480"/>
            <a:chExt cx="1550880" cy="294840"/>
          </a:xfrm>
        </p:grpSpPr>
        <p:sp>
          <p:nvSpPr>
            <p:cNvPr id="462" name=""/>
            <p:cNvSpPr/>
            <p:nvPr/>
          </p:nvSpPr>
          <p:spPr>
            <a:xfrm>
              <a:off x="4815000" y="5283360"/>
              <a:ext cx="1550880" cy="288720"/>
            </a:xfrm>
            <a:prstGeom prst="roundRect">
              <a:avLst>
                <a:gd name="adj" fmla="val 5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15000" y="5280480"/>
              <a:ext cx="154944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DEC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6Ch, 32Kbps ADPCM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7507440" y="5268960"/>
            <a:ext cx="298440" cy="244440"/>
            <a:chOff x="7507440" y="5268960"/>
            <a:chExt cx="298440" cy="244440"/>
          </a:xfrm>
        </p:grpSpPr>
        <p:sp>
          <p:nvSpPr>
            <p:cNvPr id="465" name=""/>
            <p:cNvSpPr/>
            <p:nvPr/>
          </p:nvSpPr>
          <p:spPr>
            <a:xfrm>
              <a:off x="7507440" y="5268960"/>
              <a:ext cx="29664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08880" y="5272560"/>
              <a:ext cx="2970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465200" y="5574240"/>
            <a:ext cx="1092240" cy="235440"/>
            <a:chOff x="1465200" y="5574240"/>
            <a:chExt cx="1092240" cy="235440"/>
          </a:xfrm>
        </p:grpSpPr>
        <p:sp>
          <p:nvSpPr>
            <p:cNvPr id="468" name=""/>
            <p:cNvSpPr/>
            <p:nvPr/>
          </p:nvSpPr>
          <p:spPr>
            <a:xfrm>
              <a:off x="1465200" y="5581800"/>
              <a:ext cx="1092240" cy="218880"/>
            </a:xfrm>
            <a:prstGeom prst="roundRect">
              <a:avLst>
                <a:gd name="adj" fmla="val 7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65200" y="5574240"/>
              <a:ext cx="10922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Modulation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073320" y="5587920"/>
            <a:ext cx="658800" cy="262080"/>
            <a:chOff x="3073320" y="5587920"/>
            <a:chExt cx="658800" cy="262080"/>
          </a:xfrm>
        </p:grpSpPr>
        <p:sp>
          <p:nvSpPr>
            <p:cNvPr id="471" name=""/>
            <p:cNvSpPr/>
            <p:nvPr/>
          </p:nvSpPr>
          <p:spPr>
            <a:xfrm>
              <a:off x="3073320" y="5587920"/>
              <a:ext cx="6588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73320" y="5604840"/>
              <a:ext cx="65880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1074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2GFSK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257800" y="5580360"/>
            <a:ext cx="660240" cy="294840"/>
            <a:chOff x="5257800" y="5580360"/>
            <a:chExt cx="660240" cy="294840"/>
          </a:xfrm>
        </p:grpSpPr>
        <p:sp>
          <p:nvSpPr>
            <p:cNvPr id="474" name=""/>
            <p:cNvSpPr/>
            <p:nvPr/>
          </p:nvSpPr>
          <p:spPr>
            <a:xfrm>
              <a:off x="5257800" y="5584680"/>
              <a:ext cx="660240" cy="287640"/>
            </a:xfrm>
            <a:prstGeom prst="roundRect">
              <a:avLst>
                <a:gd name="adj" fmla="val 5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57800" y="5580360"/>
              <a:ext cx="65880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2GFSK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4GFSK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756480" y="5571000"/>
            <a:ext cx="1677960" cy="294840"/>
            <a:chOff x="6756480" y="5571000"/>
            <a:chExt cx="1677960" cy="294840"/>
          </a:xfrm>
        </p:grpSpPr>
        <p:sp>
          <p:nvSpPr>
            <p:cNvPr id="477" name=""/>
            <p:cNvSpPr/>
            <p:nvPr/>
          </p:nvSpPr>
          <p:spPr>
            <a:xfrm>
              <a:off x="6756480" y="5572080"/>
              <a:ext cx="1676160" cy="290520"/>
            </a:xfrm>
            <a:prstGeom prst="roundRect">
              <a:avLst>
                <a:gd name="adj" fmla="val 5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57920" y="5571000"/>
              <a:ext cx="167652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FHSS(2GFSK,4GFSK)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DSSS(DBPSK,DQPSK)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6181560"/>
            <a:ext cx="2100240" cy="276480"/>
            <a:chOff x="457200" y="6181560"/>
            <a:chExt cx="2100240" cy="276480"/>
          </a:xfrm>
        </p:grpSpPr>
        <p:sp>
          <p:nvSpPr>
            <p:cNvPr id="480" name=""/>
            <p:cNvSpPr/>
            <p:nvPr/>
          </p:nvSpPr>
          <p:spPr>
            <a:xfrm>
              <a:off x="457200" y="6181560"/>
              <a:ext cx="2100240" cy="276480"/>
            </a:xfrm>
            <a:prstGeom prst="roundRect">
              <a:avLst>
                <a:gd name="adj" fmla="val 57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7200" y="6201360"/>
              <a:ext cx="21002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Time to Marke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557440" y="6156360"/>
            <a:ext cx="1846440" cy="331920"/>
            <a:chOff x="2557440" y="6156360"/>
            <a:chExt cx="1846440" cy="331920"/>
          </a:xfrm>
        </p:grpSpPr>
        <p:sp>
          <p:nvSpPr>
            <p:cNvPr id="483" name=""/>
            <p:cNvSpPr/>
            <p:nvPr/>
          </p:nvSpPr>
          <p:spPr>
            <a:xfrm>
              <a:off x="2557440" y="6156360"/>
              <a:ext cx="1846440" cy="331920"/>
            </a:xfrm>
            <a:prstGeom prst="roundRect">
              <a:avLst>
                <a:gd name="adj" fmla="val 47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57440" y="6206400"/>
              <a:ext cx="184644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1074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Q3, 2000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4403880" y="6181560"/>
            <a:ext cx="2350800" cy="257400"/>
            <a:chOff x="4403880" y="6181560"/>
            <a:chExt cx="2350800" cy="257400"/>
          </a:xfrm>
        </p:grpSpPr>
        <p:sp>
          <p:nvSpPr>
            <p:cNvPr id="486" name=""/>
            <p:cNvSpPr/>
            <p:nvPr/>
          </p:nvSpPr>
          <p:spPr>
            <a:xfrm>
              <a:off x="4403880" y="6181560"/>
              <a:ext cx="2350800" cy="257400"/>
            </a:xfrm>
            <a:prstGeom prst="roundRect">
              <a:avLst>
                <a:gd name="adj" fmla="val 61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03880" y="6195240"/>
              <a:ext cx="234936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1074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?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753240" y="6181560"/>
            <a:ext cx="1932120" cy="306720"/>
            <a:chOff x="6753240" y="6181560"/>
            <a:chExt cx="1932120" cy="306720"/>
          </a:xfrm>
        </p:grpSpPr>
        <p:sp>
          <p:nvSpPr>
            <p:cNvPr id="489" name=""/>
            <p:cNvSpPr/>
            <p:nvPr/>
          </p:nvSpPr>
          <p:spPr>
            <a:xfrm>
              <a:off x="6753240" y="6181560"/>
              <a:ext cx="1932120" cy="3067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53240" y="6219000"/>
              <a:ext cx="19321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1074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On Marke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Tecnolog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ecnologias de Softwa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astream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conhecimento de f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conhecimento de voz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roblem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O custo dos dispositivos computacionai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Largura de banda suficien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Necessidade de se ter consciência da informação que está armazena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tual necessidade de instalação dos softwa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Desaf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omputação mó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o efetivo de espaço intelige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ransparê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fra-estrutu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istribuiç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Foco na Aplic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168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"The real purpose for ubiquitous computing, of course, are the applications.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Mark Weis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08240" cy="38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plicaçõ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PARCTab Sys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esenvolvido pela XEROX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xplorar impactos e potencialidades num escritó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uncionalida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s portas devem abrir apenas para os usuários devidamente identific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 sala cumprimenta as pessoas pelo nome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 e Mús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ntegração com o dia-a-d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úsica on-demand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ob encomenda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úsica não mais como produto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 e Mús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nsumidores não irão atrás apenas da mús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Previews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cesso prioritario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onexão direta com o artis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dicionar valor a ob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oteir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otiv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ntrodução à Ubiqüida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biqüidade Computacion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biqüidade e Mús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 e Mús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Ninchos locais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úsica vai ser usada em praticamente tudo: revistas, propagandas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im da pirataria: legalidade vale mais a pena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rojetos de Mús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4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usicF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portal.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acm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.org/citation.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cfm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?id=289511&amp;dl=ACM&amp;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coll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=por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un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http://www.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medialabeurope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.org/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hc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/tuna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unA - Motiv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4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O walkman pode virar uma experiencia social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lguém pode se tornar uma estação de rádio móvel 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u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027080" y="1792440"/>
            <a:ext cx="719460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u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4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plicação móvel que permite usuários compartilhar música localmente através de dispositivos portateis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Permite synchronized peer-to-peer audio stream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u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976320" y="1981080"/>
            <a:ext cx="3209760" cy="41133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821120" y="1905120"/>
            <a:ext cx="37944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xibe uma lista de pessoas usando tunA dentro da área de alcance, dando acesso a profiles e lista de músic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ená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685800" y="2293920"/>
            <a:ext cx="3792600" cy="348624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821120" y="1905120"/>
            <a:ext cx="37944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nhecer as pessoas que andam todos os dias no mesmo onibus através do gosto musical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eferê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Website de Mark Wei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http://www.ubiq.com/hypertext/weiser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Website do PARCTA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http://sandbox.parc.xerox.com/parctab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http://www.ubiq.com/hypertext/weiser/UbiHome.htm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Motivação : Ubiqüida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biqüidade: Do latim </a:t>
            </a:r>
            <a:r>
              <a:rPr b="0" i="1" lang="en-GB" sz="3200" spc="-1" strike="noStrike">
                <a:solidFill>
                  <a:srgbClr val="40458c"/>
                </a:solidFill>
                <a:latin typeface="Tahoma"/>
              </a:rPr>
              <a:t>“ubiquu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O que está em todo lugar a toda h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x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nergia Elétri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oca-co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ternet 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 Computacion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Os </a:t>
            </a:r>
            <a:r>
              <a:rPr b="1" lang="en-GB" sz="2800" spc="-1" strike="noStrike">
                <a:solidFill>
                  <a:srgbClr val="40458c"/>
                </a:solidFill>
                <a:latin typeface="Tahoma"/>
              </a:rPr>
              <a:t>serviço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computacionais poderão ser usados em toda parte e a qualquer h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Jetson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”, “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Minority Report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Funcionamento dos serviços sem necessidade de conhecimento ou intervenção huma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m ambiente repleto de capacidade de computação e comunicação, sutilmente integrado com usuários human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 Computacional</a:t>
            </a:r>
            <a:br>
              <a:rPr sz="4400"/>
            </a:b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erceira on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ainFra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uitas pessoas compartilham um único comput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mputadores Pessoais (PC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ma pessoa com um comput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mputação Ubíqu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uitos computadores servindo uma pesso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79520"/>
            <a:ext cx="77724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rincipais Tendências Computacion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47676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 Computacion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equenos disposi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PDA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Laptop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relógios, anéis, etc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strição de recur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Potenci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Computaçã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Espaço de Armazenament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Usuários Move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Grupos Dinâm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572000" y="1905120"/>
            <a:ext cx="4568400" cy="4673160"/>
            <a:chOff x="4572000" y="1905120"/>
            <a:chExt cx="4568400" cy="4673160"/>
          </a:xfrm>
        </p:grpSpPr>
        <p:cxnSp>
          <p:nvCxnSpPr>
            <p:cNvPr id="223" name=""/>
            <p:cNvCxnSpPr>
              <a:stCxn id="224" idx="3"/>
            </p:cNvCxnSpPr>
            <p:nvPr/>
          </p:nvCxnSpPr>
          <p:spPr>
            <a:xfrm flipV="1">
              <a:off x="5257440" y="3516840"/>
              <a:ext cx="1295280" cy="88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pic>
          <p:nvPicPr>
            <p:cNvPr id="225" name="" descr=""/>
            <p:cNvPicPr/>
            <p:nvPr/>
          </p:nvPicPr>
          <p:blipFill>
            <a:blip r:embed="rId4"/>
            <a:stretch/>
          </p:blipFill>
          <p:spPr>
            <a:xfrm>
              <a:off x="4952520" y="1905120"/>
              <a:ext cx="685440" cy="63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7845480" y="2057040"/>
              <a:ext cx="68544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6"/>
            <a:stretch/>
          </p:blipFill>
          <p:spPr>
            <a:xfrm>
              <a:off x="4572000" y="4085640"/>
              <a:ext cx="685440" cy="63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7"/>
            <a:stretch/>
          </p:blipFill>
          <p:spPr>
            <a:xfrm>
              <a:off x="8454960" y="4416840"/>
              <a:ext cx="68544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8"/>
            <a:stretch/>
          </p:blipFill>
          <p:spPr>
            <a:xfrm>
              <a:off x="6399720" y="5940720"/>
              <a:ext cx="685440" cy="6375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0" name=""/>
            <p:cNvCxnSpPr>
              <a:stCxn id="225" idx="2"/>
            </p:cNvCxnSpPr>
            <p:nvPr/>
          </p:nvCxnSpPr>
          <p:spPr>
            <a:xfrm>
              <a:off x="5295600" y="2542320"/>
              <a:ext cx="1256760" cy="97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1" name=""/>
            <p:cNvCxnSpPr>
              <a:endCxn id="226" idx="2"/>
            </p:cNvCxnSpPr>
            <p:nvPr/>
          </p:nvCxnSpPr>
          <p:spPr>
            <a:xfrm flipV="1">
              <a:off x="7007400" y="2694960"/>
              <a:ext cx="1181160" cy="69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2" name=""/>
            <p:cNvCxnSpPr>
              <a:stCxn id="229" idx="0"/>
            </p:cNvCxnSpPr>
            <p:nvPr/>
          </p:nvCxnSpPr>
          <p:spPr>
            <a:xfrm flipV="1">
              <a:off x="6741000" y="4721040"/>
              <a:ext cx="724320" cy="121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 flipH="1" flipV="1">
              <a:off x="7765920" y="4566240"/>
              <a:ext cx="76788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927840" y="3727800"/>
              <a:ext cx="38700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9"/>
            <a:stretch/>
          </p:blipFill>
          <p:spPr>
            <a:xfrm>
              <a:off x="6476040" y="3094920"/>
              <a:ext cx="68544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0"/>
            <a:stretch/>
          </p:blipFill>
          <p:spPr>
            <a:xfrm>
              <a:off x="7161840" y="4085640"/>
              <a:ext cx="685440" cy="637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 Computacion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equenos disposi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PDA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Laptop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relógios, anéis, etc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strição de recur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Potenci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Computaçã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Espaço de Armazenament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Usuários Move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Grupos Dinâm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538520" y="1752480"/>
            <a:ext cx="4601880" cy="4721040"/>
            <a:chOff x="4538520" y="1752480"/>
            <a:chExt cx="4601880" cy="4721040"/>
          </a:xfrm>
        </p:grpSpPr>
        <p:pic>
          <p:nvPicPr>
            <p:cNvPr id="240" name="" descr=""/>
            <p:cNvPicPr/>
            <p:nvPr/>
          </p:nvPicPr>
          <p:blipFill>
            <a:blip r:embed="rId4"/>
            <a:stretch/>
          </p:blipFill>
          <p:spPr>
            <a:xfrm>
              <a:off x="8421480" y="426456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5"/>
            <a:stretch/>
          </p:blipFill>
          <p:spPr>
            <a:xfrm>
              <a:off x="8040960" y="1752480"/>
              <a:ext cx="718560" cy="83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2" name=""/>
            <p:cNvCxnSpPr/>
            <p:nvPr/>
          </p:nvCxnSpPr>
          <p:spPr>
            <a:xfrm>
              <a:off x="5186160" y="2313720"/>
              <a:ext cx="1256760" cy="97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3" name=""/>
            <p:cNvCxnSpPr/>
            <p:nvPr/>
          </p:nvCxnSpPr>
          <p:spPr>
            <a:xfrm flipV="1">
              <a:off x="6899400" y="2466360"/>
              <a:ext cx="1181160" cy="69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4" name=""/>
            <p:cNvCxnSpPr/>
            <p:nvPr/>
          </p:nvCxnSpPr>
          <p:spPr>
            <a:xfrm flipV="1">
              <a:off x="5148000" y="3288240"/>
              <a:ext cx="1295280" cy="88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5" name=""/>
            <p:cNvCxnSpPr/>
            <p:nvPr/>
          </p:nvCxnSpPr>
          <p:spPr>
            <a:xfrm flipV="1">
              <a:off x="6631560" y="4492440"/>
              <a:ext cx="724320" cy="121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6" name=""/>
            <p:cNvSpPr/>
            <p:nvPr/>
          </p:nvSpPr>
          <p:spPr>
            <a:xfrm flipH="1" flipV="1">
              <a:off x="7656480" y="4337640"/>
              <a:ext cx="76788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6818400" y="3499200"/>
              <a:ext cx="38700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6"/>
            <a:stretch/>
          </p:blipFill>
          <p:spPr>
            <a:xfrm>
              <a:off x="4614480" y="182844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7"/>
            <a:stretch/>
          </p:blipFill>
          <p:spPr>
            <a:xfrm>
              <a:off x="6290640" y="2742840"/>
              <a:ext cx="720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8"/>
            <a:stretch/>
          </p:blipFill>
          <p:spPr>
            <a:xfrm>
              <a:off x="7050600" y="365688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9"/>
            <a:stretch/>
          </p:blipFill>
          <p:spPr>
            <a:xfrm>
              <a:off x="6138000" y="563580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10"/>
            <a:stretch/>
          </p:blipFill>
          <p:spPr>
            <a:xfrm>
              <a:off x="4538520" y="3961800"/>
              <a:ext cx="718920" cy="839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 Computacion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04028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equenos disposi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PDA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Laptop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relógios, anéis, etc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strição de recur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Potenci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Computaçã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Espaço de Armazenament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Usuários Move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Grupos Dinâm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38520" y="1828800"/>
            <a:ext cx="4601880" cy="4721040"/>
            <a:chOff x="4538520" y="1828800"/>
            <a:chExt cx="4601880" cy="4721040"/>
          </a:xfrm>
        </p:grpSpPr>
        <p:pic>
          <p:nvPicPr>
            <p:cNvPr id="256" name="" descr=""/>
            <p:cNvPicPr/>
            <p:nvPr/>
          </p:nvPicPr>
          <p:blipFill>
            <a:blip r:embed="rId4"/>
            <a:stretch/>
          </p:blipFill>
          <p:spPr>
            <a:xfrm>
              <a:off x="8040960" y="1828800"/>
              <a:ext cx="7185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5"/>
            <a:stretch/>
          </p:blipFill>
          <p:spPr>
            <a:xfrm>
              <a:off x="4614480" y="190476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6"/>
            <a:stretch/>
          </p:blipFill>
          <p:spPr>
            <a:xfrm>
              <a:off x="6290640" y="2819160"/>
              <a:ext cx="720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7"/>
            <a:stretch/>
          </p:blipFill>
          <p:spPr>
            <a:xfrm>
              <a:off x="7050600" y="373320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8"/>
            <a:stretch/>
          </p:blipFill>
          <p:spPr>
            <a:xfrm>
              <a:off x="8421480" y="434232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9"/>
            <a:stretch/>
          </p:blipFill>
          <p:spPr>
            <a:xfrm>
              <a:off x="6138000" y="571212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0"/>
            <a:stretch/>
          </p:blipFill>
          <p:spPr>
            <a:xfrm>
              <a:off x="4538520" y="403632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3" name=""/>
            <p:cNvGrpSpPr/>
            <p:nvPr/>
          </p:nvGrpSpPr>
          <p:grpSpPr>
            <a:xfrm>
              <a:off x="5476320" y="2641320"/>
              <a:ext cx="604080" cy="632520"/>
              <a:chOff x="5476320" y="2641320"/>
              <a:chExt cx="604080" cy="632520"/>
            </a:xfrm>
          </p:grpSpPr>
          <p:sp>
            <p:nvSpPr>
              <p:cNvPr id="264" name=""/>
              <p:cNvSpPr/>
              <p:nvPr/>
            </p:nvSpPr>
            <p:spPr>
              <a:xfrm>
                <a:off x="5480640" y="2679120"/>
                <a:ext cx="579240" cy="592920"/>
              </a:xfrm>
              <a:custGeom>
                <a:avLst/>
                <a:gdLst/>
                <a:ahLst/>
                <a:rect l="l" t="t" r="r" b="b"/>
                <a:pathLst>
                  <a:path w="1616" h="1655">
                    <a:moveTo>
                      <a:pt x="1538" y="1170"/>
                    </a:moveTo>
                    <a:lnTo>
                      <a:pt x="951" y="426"/>
                    </a:lnTo>
                    <a:lnTo>
                      <a:pt x="1064" y="1020"/>
                    </a:lnTo>
                    <a:lnTo>
                      <a:pt x="390" y="220"/>
                    </a:lnTo>
                    <a:lnTo>
                      <a:pt x="493" y="534"/>
                    </a:lnTo>
                    <a:lnTo>
                      <a:pt x="0" y="0"/>
                    </a:lnTo>
                    <a:lnTo>
                      <a:pt x="554" y="777"/>
                    </a:lnTo>
                    <a:lnTo>
                      <a:pt x="551" y="583"/>
                    </a:lnTo>
                    <a:lnTo>
                      <a:pt x="1090" y="1234"/>
                    </a:lnTo>
                    <a:lnTo>
                      <a:pt x="1233" y="1456"/>
                    </a:lnTo>
                    <a:lnTo>
                      <a:pt x="1115" y="835"/>
                    </a:lnTo>
                    <a:lnTo>
                      <a:pt x="1615" y="1654"/>
                    </a:lnTo>
                    <a:lnTo>
                      <a:pt x="1538" y="1170"/>
                    </a:lnTo>
                    <a:lnTo>
                      <a:pt x="1538" y="1170"/>
                    </a:lnTo>
                    <a:lnTo>
                      <a:pt x="1538" y="1170"/>
                    </a:lnTo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76320" y="2641320"/>
                <a:ext cx="579240" cy="592920"/>
              </a:xfrm>
              <a:custGeom>
                <a:avLst/>
                <a:gdLst/>
                <a:ahLst/>
                <a:rect l="l" t="t" r="r" b="b"/>
                <a:pathLst>
                  <a:path w="1616" h="1655">
                    <a:moveTo>
                      <a:pt x="1536" y="1169"/>
                    </a:moveTo>
                    <a:lnTo>
                      <a:pt x="951" y="424"/>
                    </a:lnTo>
                    <a:lnTo>
                      <a:pt x="1063" y="1020"/>
                    </a:lnTo>
                    <a:lnTo>
                      <a:pt x="389" y="220"/>
                    </a:lnTo>
                    <a:lnTo>
                      <a:pt x="493" y="534"/>
                    </a:lnTo>
                    <a:lnTo>
                      <a:pt x="0" y="0"/>
                    </a:lnTo>
                    <a:lnTo>
                      <a:pt x="553" y="778"/>
                    </a:lnTo>
                    <a:lnTo>
                      <a:pt x="550" y="583"/>
                    </a:lnTo>
                    <a:lnTo>
                      <a:pt x="1089" y="1234"/>
                    </a:lnTo>
                    <a:lnTo>
                      <a:pt x="1233" y="1457"/>
                    </a:lnTo>
                    <a:lnTo>
                      <a:pt x="1115" y="834"/>
                    </a:lnTo>
                    <a:lnTo>
                      <a:pt x="1615" y="1654"/>
                    </a:lnTo>
                    <a:lnTo>
                      <a:pt x="1536" y="1169"/>
                    </a:lnTo>
                    <a:lnTo>
                      <a:pt x="1536" y="1169"/>
                    </a:lnTo>
                    <a:lnTo>
                      <a:pt x="1536" y="1169"/>
                    </a:lnTo>
                  </a:path>
                </a:pathLst>
              </a:cu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91800" y="2656800"/>
                <a:ext cx="580680" cy="506160"/>
              </a:xfrm>
              <a:custGeom>
                <a:avLst/>
                <a:gdLst/>
                <a:ahLst/>
                <a:rect l="l" t="t" r="r" b="b"/>
                <a:pathLst>
                  <a:path w="1619" h="1409">
                    <a:moveTo>
                      <a:pt x="1593" y="1188"/>
                    </a:moveTo>
                    <a:lnTo>
                      <a:pt x="990" y="423"/>
                    </a:lnTo>
                    <a:lnTo>
                      <a:pt x="1055" y="990"/>
                    </a:lnTo>
                    <a:lnTo>
                      <a:pt x="388" y="174"/>
                    </a:lnTo>
                    <a:lnTo>
                      <a:pt x="451" y="446"/>
                    </a:lnTo>
                    <a:lnTo>
                      <a:pt x="0" y="0"/>
                    </a:lnTo>
                    <a:lnTo>
                      <a:pt x="492" y="550"/>
                    </a:lnTo>
                    <a:lnTo>
                      <a:pt x="476" y="370"/>
                    </a:lnTo>
                    <a:lnTo>
                      <a:pt x="1084" y="1104"/>
                    </a:lnTo>
                    <a:lnTo>
                      <a:pt x="1053" y="561"/>
                    </a:lnTo>
                    <a:lnTo>
                      <a:pt x="1618" y="1408"/>
                    </a:lnTo>
                    <a:lnTo>
                      <a:pt x="1593" y="1188"/>
                    </a:lnTo>
                    <a:lnTo>
                      <a:pt x="1593" y="1188"/>
                    </a:lnTo>
                    <a:lnTo>
                      <a:pt x="1593" y="118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56600" y="2737800"/>
                <a:ext cx="523800" cy="536040"/>
              </a:xfrm>
              <a:custGeom>
                <a:avLst/>
                <a:gdLst/>
                <a:ahLst/>
                <a:rect l="l" t="t" r="r" b="b"/>
                <a:pathLst>
                  <a:path w="1461" h="1496">
                    <a:moveTo>
                      <a:pt x="1374" y="1253"/>
                    </a:moveTo>
                    <a:lnTo>
                      <a:pt x="950" y="581"/>
                    </a:lnTo>
                    <a:lnTo>
                      <a:pt x="1031" y="1116"/>
                    </a:lnTo>
                    <a:lnTo>
                      <a:pt x="368" y="311"/>
                    </a:lnTo>
                    <a:lnTo>
                      <a:pt x="358" y="517"/>
                    </a:lnTo>
                    <a:lnTo>
                      <a:pt x="0" y="0"/>
                    </a:lnTo>
                    <a:lnTo>
                      <a:pt x="367" y="639"/>
                    </a:lnTo>
                    <a:lnTo>
                      <a:pt x="407" y="443"/>
                    </a:lnTo>
                    <a:lnTo>
                      <a:pt x="1080" y="1263"/>
                    </a:lnTo>
                    <a:lnTo>
                      <a:pt x="1059" y="895"/>
                    </a:lnTo>
                    <a:lnTo>
                      <a:pt x="1460" y="1495"/>
                    </a:lnTo>
                    <a:lnTo>
                      <a:pt x="1374" y="1253"/>
                    </a:lnTo>
                    <a:lnTo>
                      <a:pt x="1374" y="1253"/>
                    </a:lnTo>
                    <a:lnTo>
                      <a:pt x="1374" y="125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058520" y="3128400"/>
              <a:ext cx="359640" cy="586440"/>
              <a:chOff x="7058520" y="3128400"/>
              <a:chExt cx="359640" cy="586440"/>
            </a:xfrm>
          </p:grpSpPr>
          <p:sp>
            <p:nvSpPr>
              <p:cNvPr id="269" name=""/>
              <p:cNvSpPr/>
              <p:nvPr/>
            </p:nvSpPr>
            <p:spPr>
              <a:xfrm>
                <a:off x="7058520" y="3157920"/>
                <a:ext cx="333000" cy="551880"/>
              </a:xfrm>
              <a:custGeom>
                <a:avLst/>
                <a:gdLst/>
                <a:ahLst/>
                <a:rect l="l" t="t" r="r" b="b"/>
                <a:pathLst>
                  <a:path w="936" h="1540">
                    <a:moveTo>
                      <a:pt x="935" y="1167"/>
                    </a:moveTo>
                    <a:lnTo>
                      <a:pt x="636" y="502"/>
                    </a:lnTo>
                    <a:lnTo>
                      <a:pt x="607" y="963"/>
                    </a:lnTo>
                    <a:lnTo>
                      <a:pt x="250" y="239"/>
                    </a:lnTo>
                    <a:lnTo>
                      <a:pt x="270" y="492"/>
                    </a:lnTo>
                    <a:lnTo>
                      <a:pt x="0" y="0"/>
                    </a:lnTo>
                    <a:lnTo>
                      <a:pt x="269" y="684"/>
                    </a:lnTo>
                    <a:lnTo>
                      <a:pt x="304" y="540"/>
                    </a:lnTo>
                    <a:lnTo>
                      <a:pt x="586" y="1126"/>
                    </a:lnTo>
                    <a:lnTo>
                      <a:pt x="651" y="1317"/>
                    </a:lnTo>
                    <a:lnTo>
                      <a:pt x="681" y="836"/>
                    </a:lnTo>
                    <a:lnTo>
                      <a:pt x="901" y="1539"/>
                    </a:lnTo>
                    <a:lnTo>
                      <a:pt x="935" y="1167"/>
                    </a:lnTo>
                    <a:lnTo>
                      <a:pt x="935" y="1167"/>
                    </a:lnTo>
                    <a:lnTo>
                      <a:pt x="935" y="1167"/>
                    </a:lnTo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61400" y="3128400"/>
                <a:ext cx="333000" cy="551880"/>
              </a:xfrm>
              <a:custGeom>
                <a:avLst/>
                <a:gdLst/>
                <a:ahLst/>
                <a:rect l="l" t="t" r="r" b="b"/>
                <a:pathLst>
                  <a:path w="936" h="1540">
                    <a:moveTo>
                      <a:pt x="935" y="1166"/>
                    </a:moveTo>
                    <a:lnTo>
                      <a:pt x="636" y="501"/>
                    </a:lnTo>
                    <a:lnTo>
                      <a:pt x="606" y="962"/>
                    </a:lnTo>
                    <a:lnTo>
                      <a:pt x="251" y="240"/>
                    </a:lnTo>
                    <a:lnTo>
                      <a:pt x="270" y="492"/>
                    </a:lnTo>
                    <a:lnTo>
                      <a:pt x="0" y="0"/>
                    </a:lnTo>
                    <a:lnTo>
                      <a:pt x="269" y="684"/>
                    </a:lnTo>
                    <a:lnTo>
                      <a:pt x="303" y="539"/>
                    </a:lnTo>
                    <a:lnTo>
                      <a:pt x="586" y="1126"/>
                    </a:lnTo>
                    <a:lnTo>
                      <a:pt x="652" y="1318"/>
                    </a:lnTo>
                    <a:lnTo>
                      <a:pt x="681" y="835"/>
                    </a:lnTo>
                    <a:lnTo>
                      <a:pt x="902" y="1539"/>
                    </a:lnTo>
                    <a:lnTo>
                      <a:pt x="935" y="1166"/>
                    </a:lnTo>
                    <a:lnTo>
                      <a:pt x="935" y="1166"/>
                    </a:lnTo>
                    <a:lnTo>
                      <a:pt x="935" y="1166"/>
                    </a:lnTo>
                  </a:path>
                </a:pathLst>
              </a:cu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2560" y="3142080"/>
                <a:ext cx="345600" cy="487080"/>
              </a:xfrm>
              <a:custGeom>
                <a:avLst/>
                <a:gdLst/>
                <a:ahLst/>
                <a:rect l="l" t="t" r="r" b="b"/>
                <a:pathLst>
                  <a:path w="970" h="1359">
                    <a:moveTo>
                      <a:pt x="969" y="1192"/>
                    </a:moveTo>
                    <a:lnTo>
                      <a:pt x="662" y="507"/>
                    </a:lnTo>
                    <a:lnTo>
                      <a:pt x="603" y="940"/>
                    </a:lnTo>
                    <a:lnTo>
                      <a:pt x="259" y="205"/>
                    </a:lnTo>
                    <a:lnTo>
                      <a:pt x="255" y="419"/>
                    </a:lnTo>
                    <a:lnTo>
                      <a:pt x="0" y="0"/>
                    </a:lnTo>
                    <a:lnTo>
                      <a:pt x="266" y="504"/>
                    </a:lnTo>
                    <a:lnTo>
                      <a:pt x="288" y="366"/>
                    </a:lnTo>
                    <a:lnTo>
                      <a:pt x="603" y="1028"/>
                    </a:lnTo>
                    <a:lnTo>
                      <a:pt x="684" y="621"/>
                    </a:lnTo>
                    <a:lnTo>
                      <a:pt x="948" y="1358"/>
                    </a:lnTo>
                    <a:lnTo>
                      <a:pt x="969" y="1192"/>
                    </a:lnTo>
                    <a:lnTo>
                      <a:pt x="969" y="1192"/>
                    </a:lnTo>
                    <a:lnTo>
                      <a:pt x="969" y="11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03880" y="3215160"/>
                <a:ext cx="290520" cy="499680"/>
              </a:xfrm>
              <a:custGeom>
                <a:avLst/>
                <a:gdLst/>
                <a:ahLst/>
                <a:rect l="l" t="t" r="r" b="b"/>
                <a:pathLst>
                  <a:path w="814" h="1394">
                    <a:moveTo>
                      <a:pt x="794" y="1197"/>
                    </a:moveTo>
                    <a:lnTo>
                      <a:pt x="602" y="616"/>
                    </a:lnTo>
                    <a:lnTo>
                      <a:pt x="562" y="1028"/>
                    </a:lnTo>
                    <a:lnTo>
                      <a:pt x="218" y="303"/>
                    </a:lnTo>
                    <a:lnTo>
                      <a:pt x="171" y="453"/>
                    </a:lnTo>
                    <a:lnTo>
                      <a:pt x="0" y="0"/>
                    </a:lnTo>
                    <a:lnTo>
                      <a:pt x="155" y="546"/>
                    </a:lnTo>
                    <a:lnTo>
                      <a:pt x="222" y="408"/>
                    </a:lnTo>
                    <a:lnTo>
                      <a:pt x="571" y="1146"/>
                    </a:lnTo>
                    <a:lnTo>
                      <a:pt x="625" y="872"/>
                    </a:lnTo>
                    <a:lnTo>
                      <a:pt x="813" y="1393"/>
                    </a:lnTo>
                    <a:lnTo>
                      <a:pt x="794" y="1197"/>
                    </a:lnTo>
                    <a:lnTo>
                      <a:pt x="794" y="1197"/>
                    </a:lnTo>
                    <a:lnTo>
                      <a:pt x="794" y="119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5558760" y="4237560"/>
              <a:ext cx="1045080" cy="296280"/>
              <a:chOff x="5558760" y="4237560"/>
              <a:chExt cx="1045080" cy="296280"/>
            </a:xfrm>
          </p:grpSpPr>
          <p:sp>
            <p:nvSpPr>
              <p:cNvPr id="274" name=""/>
              <p:cNvSpPr/>
              <p:nvPr/>
            </p:nvSpPr>
            <p:spPr>
              <a:xfrm>
                <a:off x="5569560" y="4237560"/>
                <a:ext cx="983520" cy="257400"/>
              </a:xfrm>
              <a:custGeom>
                <a:avLst/>
                <a:gdLst/>
                <a:ahLst/>
                <a:rect l="l" t="t" r="r" b="b"/>
                <a:pathLst>
                  <a:path w="2738" h="724">
                    <a:moveTo>
                      <a:pt x="655" y="723"/>
                    </a:moveTo>
                    <a:lnTo>
                      <a:pt x="1834" y="626"/>
                    </a:lnTo>
                    <a:lnTo>
                      <a:pt x="1024" y="373"/>
                    </a:lnTo>
                    <a:lnTo>
                      <a:pt x="2307" y="229"/>
                    </a:lnTo>
                    <a:lnTo>
                      <a:pt x="1864" y="135"/>
                    </a:lnTo>
                    <a:lnTo>
                      <a:pt x="2737" y="0"/>
                    </a:lnTo>
                    <a:lnTo>
                      <a:pt x="1527" y="45"/>
                    </a:lnTo>
                    <a:lnTo>
                      <a:pt x="1779" y="159"/>
                    </a:lnTo>
                    <a:lnTo>
                      <a:pt x="739" y="267"/>
                    </a:lnTo>
                    <a:lnTo>
                      <a:pt x="397" y="265"/>
                    </a:lnTo>
                    <a:lnTo>
                      <a:pt x="1245" y="532"/>
                    </a:lnTo>
                    <a:lnTo>
                      <a:pt x="0" y="502"/>
                    </a:lnTo>
                    <a:lnTo>
                      <a:pt x="655" y="723"/>
                    </a:lnTo>
                    <a:lnTo>
                      <a:pt x="655" y="723"/>
                    </a:lnTo>
                    <a:lnTo>
                      <a:pt x="655" y="723"/>
                    </a:lnTo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620320" y="4256280"/>
                <a:ext cx="983520" cy="257400"/>
              </a:xfrm>
              <a:custGeom>
                <a:avLst/>
                <a:gdLst/>
                <a:ahLst/>
                <a:rect l="l" t="t" r="r" b="b"/>
                <a:pathLst>
                  <a:path w="2738" h="723">
                    <a:moveTo>
                      <a:pt x="655" y="722"/>
                    </a:moveTo>
                    <a:lnTo>
                      <a:pt x="1834" y="628"/>
                    </a:lnTo>
                    <a:lnTo>
                      <a:pt x="1024" y="372"/>
                    </a:lnTo>
                    <a:lnTo>
                      <a:pt x="2308" y="229"/>
                    </a:lnTo>
                    <a:lnTo>
                      <a:pt x="1863" y="135"/>
                    </a:lnTo>
                    <a:lnTo>
                      <a:pt x="2737" y="0"/>
                    </a:lnTo>
                    <a:lnTo>
                      <a:pt x="1526" y="44"/>
                    </a:lnTo>
                    <a:lnTo>
                      <a:pt x="1780" y="159"/>
                    </a:lnTo>
                    <a:lnTo>
                      <a:pt x="738" y="268"/>
                    </a:lnTo>
                    <a:lnTo>
                      <a:pt x="397" y="266"/>
                    </a:lnTo>
                    <a:lnTo>
                      <a:pt x="1246" y="533"/>
                    </a:lnTo>
                    <a:lnTo>
                      <a:pt x="0" y="504"/>
                    </a:lnTo>
                    <a:lnTo>
                      <a:pt x="655" y="722"/>
                    </a:lnTo>
                    <a:lnTo>
                      <a:pt x="655" y="722"/>
                    </a:lnTo>
                    <a:lnTo>
                      <a:pt x="655" y="722"/>
                    </a:lnTo>
                  </a:path>
                </a:pathLst>
              </a:cu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09240" y="4264200"/>
                <a:ext cx="869760" cy="269640"/>
              </a:xfrm>
              <a:custGeom>
                <a:avLst/>
                <a:gdLst/>
                <a:ahLst/>
                <a:rect l="l" t="t" r="r" b="b"/>
                <a:pathLst>
                  <a:path w="2421" h="759">
                    <a:moveTo>
                      <a:pt x="294" y="758"/>
                    </a:moveTo>
                    <a:lnTo>
                      <a:pt x="1506" y="660"/>
                    </a:lnTo>
                    <a:lnTo>
                      <a:pt x="750" y="379"/>
                    </a:lnTo>
                    <a:lnTo>
                      <a:pt x="2051" y="253"/>
                    </a:lnTo>
                    <a:lnTo>
                      <a:pt x="1675" y="148"/>
                    </a:lnTo>
                    <a:lnTo>
                      <a:pt x="2420" y="0"/>
                    </a:lnTo>
                    <a:lnTo>
                      <a:pt x="1528" y="123"/>
                    </a:lnTo>
                    <a:lnTo>
                      <a:pt x="1764" y="216"/>
                    </a:lnTo>
                    <a:lnTo>
                      <a:pt x="592" y="338"/>
                    </a:lnTo>
                    <a:lnTo>
                      <a:pt x="1303" y="635"/>
                    </a:lnTo>
                    <a:lnTo>
                      <a:pt x="0" y="650"/>
                    </a:lnTo>
                    <a:lnTo>
                      <a:pt x="294" y="758"/>
                    </a:lnTo>
                    <a:lnTo>
                      <a:pt x="294" y="758"/>
                    </a:lnTo>
                    <a:lnTo>
                      <a:pt x="294" y="75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58760" y="4256280"/>
                <a:ext cx="889920" cy="205560"/>
              </a:xfrm>
              <a:custGeom>
                <a:avLst/>
                <a:gdLst/>
                <a:ahLst/>
                <a:rect l="l" t="t" r="r" b="b"/>
                <a:pathLst>
                  <a:path w="2478" h="578">
                    <a:moveTo>
                      <a:pt x="343" y="565"/>
                    </a:moveTo>
                    <a:lnTo>
                      <a:pt x="1372" y="577"/>
                    </a:lnTo>
                    <a:lnTo>
                      <a:pt x="650" y="330"/>
                    </a:lnTo>
                    <a:lnTo>
                      <a:pt x="1937" y="199"/>
                    </a:lnTo>
                    <a:lnTo>
                      <a:pt x="1675" y="65"/>
                    </a:lnTo>
                    <a:lnTo>
                      <a:pt x="2477" y="44"/>
                    </a:lnTo>
                    <a:lnTo>
                      <a:pt x="1513" y="0"/>
                    </a:lnTo>
                    <a:lnTo>
                      <a:pt x="1753" y="156"/>
                    </a:lnTo>
                    <a:lnTo>
                      <a:pt x="441" y="285"/>
                    </a:lnTo>
                    <a:lnTo>
                      <a:pt x="925" y="489"/>
                    </a:lnTo>
                    <a:lnTo>
                      <a:pt x="0" y="500"/>
                    </a:lnTo>
                    <a:lnTo>
                      <a:pt x="343" y="565"/>
                    </a:lnTo>
                    <a:lnTo>
                      <a:pt x="343" y="565"/>
                    </a:lnTo>
                    <a:lnTo>
                      <a:pt x="343" y="56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628320" y="4693320"/>
              <a:ext cx="510480" cy="713520"/>
              <a:chOff x="6628320" y="4693320"/>
              <a:chExt cx="510480" cy="713520"/>
            </a:xfrm>
          </p:grpSpPr>
          <p:sp>
            <p:nvSpPr>
              <p:cNvPr id="279" name=""/>
              <p:cNvSpPr/>
              <p:nvPr/>
            </p:nvSpPr>
            <p:spPr>
              <a:xfrm>
                <a:off x="6628320" y="4705560"/>
                <a:ext cx="472680" cy="682200"/>
              </a:xfrm>
              <a:custGeom>
                <a:avLst/>
                <a:gdLst/>
                <a:ahLst/>
                <a:rect l="l" t="t" r="r" b="b"/>
                <a:pathLst>
                  <a:path w="1324" h="1896">
                    <a:moveTo>
                      <a:pt x="462" y="1728"/>
                    </a:moveTo>
                    <a:lnTo>
                      <a:pt x="1083" y="1013"/>
                    </a:lnTo>
                    <a:lnTo>
                      <a:pt x="520" y="1234"/>
                    </a:lnTo>
                    <a:lnTo>
                      <a:pt x="1179" y="423"/>
                    </a:lnTo>
                    <a:lnTo>
                      <a:pt x="890" y="584"/>
                    </a:lnTo>
                    <a:lnTo>
                      <a:pt x="1323" y="0"/>
                    </a:lnTo>
                    <a:lnTo>
                      <a:pt x="663" y="689"/>
                    </a:lnTo>
                    <a:lnTo>
                      <a:pt x="853" y="650"/>
                    </a:lnTo>
                    <a:lnTo>
                      <a:pt x="315" y="1300"/>
                    </a:lnTo>
                    <a:lnTo>
                      <a:pt x="122" y="1482"/>
                    </a:lnTo>
                    <a:lnTo>
                      <a:pt x="713" y="1249"/>
                    </a:lnTo>
                    <a:lnTo>
                      <a:pt x="0" y="1895"/>
                    </a:lnTo>
                    <a:lnTo>
                      <a:pt x="462" y="1728"/>
                    </a:lnTo>
                    <a:lnTo>
                      <a:pt x="462" y="1728"/>
                    </a:lnTo>
                    <a:lnTo>
                      <a:pt x="462" y="1728"/>
                    </a:lnTo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666120" y="4693320"/>
                <a:ext cx="472680" cy="682200"/>
              </a:xfrm>
              <a:custGeom>
                <a:avLst/>
                <a:gdLst/>
                <a:ahLst/>
                <a:rect l="l" t="t" r="r" b="b"/>
                <a:pathLst>
                  <a:path w="1324" h="1896">
                    <a:moveTo>
                      <a:pt x="462" y="1728"/>
                    </a:moveTo>
                    <a:lnTo>
                      <a:pt x="1084" y="1012"/>
                    </a:lnTo>
                    <a:lnTo>
                      <a:pt x="521" y="1234"/>
                    </a:lnTo>
                    <a:lnTo>
                      <a:pt x="1180" y="422"/>
                    </a:lnTo>
                    <a:lnTo>
                      <a:pt x="890" y="584"/>
                    </a:lnTo>
                    <a:lnTo>
                      <a:pt x="1323" y="0"/>
                    </a:lnTo>
                    <a:lnTo>
                      <a:pt x="662" y="689"/>
                    </a:lnTo>
                    <a:lnTo>
                      <a:pt x="853" y="649"/>
                    </a:lnTo>
                    <a:lnTo>
                      <a:pt x="315" y="1298"/>
                    </a:lnTo>
                    <a:lnTo>
                      <a:pt x="122" y="1481"/>
                    </a:lnTo>
                    <a:lnTo>
                      <a:pt x="713" y="1249"/>
                    </a:lnTo>
                    <a:lnTo>
                      <a:pt x="0" y="1895"/>
                    </a:lnTo>
                    <a:lnTo>
                      <a:pt x="462" y="1728"/>
                    </a:lnTo>
                    <a:lnTo>
                      <a:pt x="462" y="1728"/>
                    </a:lnTo>
                    <a:lnTo>
                      <a:pt x="462" y="1728"/>
                    </a:lnTo>
                  </a:path>
                </a:pathLst>
              </a:cu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741720" y="4710240"/>
                <a:ext cx="385920" cy="666360"/>
              </a:xfrm>
              <a:custGeom>
                <a:avLst/>
                <a:gdLst/>
                <a:ahLst/>
                <a:rect l="l" t="t" r="r" b="b"/>
                <a:pathLst>
                  <a:path w="1081" h="1852">
                    <a:moveTo>
                      <a:pt x="210" y="1785"/>
                    </a:moveTo>
                    <a:lnTo>
                      <a:pt x="849" y="1049"/>
                    </a:lnTo>
                    <a:lnTo>
                      <a:pt x="305" y="1218"/>
                    </a:lnTo>
                    <a:lnTo>
                      <a:pt x="981" y="412"/>
                    </a:lnTo>
                    <a:lnTo>
                      <a:pt x="725" y="527"/>
                    </a:lnTo>
                    <a:lnTo>
                      <a:pt x="1080" y="0"/>
                    </a:lnTo>
                    <a:lnTo>
                      <a:pt x="631" y="586"/>
                    </a:lnTo>
                    <a:lnTo>
                      <a:pt x="804" y="537"/>
                    </a:lnTo>
                    <a:lnTo>
                      <a:pt x="198" y="1268"/>
                    </a:lnTo>
                    <a:lnTo>
                      <a:pt x="724" y="1137"/>
                    </a:lnTo>
                    <a:lnTo>
                      <a:pt x="0" y="1851"/>
                    </a:lnTo>
                    <a:lnTo>
                      <a:pt x="210" y="1785"/>
                    </a:lnTo>
                    <a:lnTo>
                      <a:pt x="210" y="1785"/>
                    </a:lnTo>
                    <a:lnTo>
                      <a:pt x="210" y="178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31200" y="4789800"/>
                <a:ext cx="428400" cy="617040"/>
              </a:xfrm>
              <a:custGeom>
                <a:avLst/>
                <a:gdLst/>
                <a:ahLst/>
                <a:rect l="l" t="t" r="r" b="b"/>
                <a:pathLst>
                  <a:path w="1199" h="1717">
                    <a:moveTo>
                      <a:pt x="221" y="1586"/>
                    </a:moveTo>
                    <a:lnTo>
                      <a:pt x="804" y="1042"/>
                    </a:lnTo>
                    <a:lnTo>
                      <a:pt x="293" y="1222"/>
                    </a:lnTo>
                    <a:lnTo>
                      <a:pt x="961" y="422"/>
                    </a:lnTo>
                    <a:lnTo>
                      <a:pt x="757" y="451"/>
                    </a:lnTo>
                    <a:lnTo>
                      <a:pt x="1198" y="0"/>
                    </a:lnTo>
                    <a:lnTo>
                      <a:pt x="638" y="482"/>
                    </a:lnTo>
                    <a:lnTo>
                      <a:pt x="839" y="484"/>
                    </a:lnTo>
                    <a:lnTo>
                      <a:pt x="157" y="1299"/>
                    </a:lnTo>
                    <a:lnTo>
                      <a:pt x="515" y="1209"/>
                    </a:lnTo>
                    <a:lnTo>
                      <a:pt x="0" y="1716"/>
                    </a:lnTo>
                    <a:lnTo>
                      <a:pt x="221" y="1586"/>
                    </a:lnTo>
                    <a:lnTo>
                      <a:pt x="221" y="1586"/>
                    </a:lnTo>
                    <a:lnTo>
                      <a:pt x="221" y="158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7250760" y="2238120"/>
              <a:ext cx="640440" cy="596160"/>
              <a:chOff x="7250760" y="2238120"/>
              <a:chExt cx="640440" cy="596160"/>
            </a:xfrm>
          </p:grpSpPr>
          <p:sp>
            <p:nvSpPr>
              <p:cNvPr id="284" name=""/>
              <p:cNvSpPr/>
              <p:nvPr/>
            </p:nvSpPr>
            <p:spPr>
              <a:xfrm>
                <a:off x="7251840" y="2242440"/>
                <a:ext cx="601200" cy="571320"/>
              </a:xfrm>
              <a:custGeom>
                <a:avLst/>
                <a:gdLst/>
                <a:ahLst/>
                <a:rect l="l" t="t" r="r" b="b"/>
                <a:pathLst>
                  <a:path w="1672" h="1591">
                    <a:moveTo>
                      <a:pt x="484" y="1519"/>
                    </a:moveTo>
                    <a:lnTo>
                      <a:pt x="1233" y="943"/>
                    </a:lnTo>
                    <a:lnTo>
                      <a:pt x="639" y="1048"/>
                    </a:lnTo>
                    <a:lnTo>
                      <a:pt x="1445" y="387"/>
                    </a:lnTo>
                    <a:lnTo>
                      <a:pt x="1131" y="486"/>
                    </a:lnTo>
                    <a:lnTo>
                      <a:pt x="1671" y="0"/>
                    </a:lnTo>
                    <a:lnTo>
                      <a:pt x="888" y="542"/>
                    </a:lnTo>
                    <a:lnTo>
                      <a:pt x="1082" y="542"/>
                    </a:lnTo>
                    <a:lnTo>
                      <a:pt x="427" y="1071"/>
                    </a:lnTo>
                    <a:lnTo>
                      <a:pt x="203" y="1209"/>
                    </a:lnTo>
                    <a:lnTo>
                      <a:pt x="824" y="1101"/>
                    </a:lnTo>
                    <a:lnTo>
                      <a:pt x="0" y="1590"/>
                    </a:lnTo>
                    <a:lnTo>
                      <a:pt x="484" y="1519"/>
                    </a:lnTo>
                    <a:lnTo>
                      <a:pt x="484" y="1519"/>
                    </a:lnTo>
                    <a:lnTo>
                      <a:pt x="484" y="1519"/>
                    </a:lnTo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90000" y="2238120"/>
                <a:ext cx="601200" cy="571320"/>
              </a:xfrm>
              <a:custGeom>
                <a:avLst/>
                <a:gdLst/>
                <a:ahLst/>
                <a:rect l="l" t="t" r="r" b="b"/>
                <a:pathLst>
                  <a:path w="1672" h="1591">
                    <a:moveTo>
                      <a:pt x="484" y="1518"/>
                    </a:moveTo>
                    <a:lnTo>
                      <a:pt x="1234" y="943"/>
                    </a:lnTo>
                    <a:lnTo>
                      <a:pt x="639" y="1047"/>
                    </a:lnTo>
                    <a:lnTo>
                      <a:pt x="1447" y="387"/>
                    </a:lnTo>
                    <a:lnTo>
                      <a:pt x="1131" y="487"/>
                    </a:lnTo>
                    <a:lnTo>
                      <a:pt x="1671" y="0"/>
                    </a:lnTo>
                    <a:lnTo>
                      <a:pt x="888" y="542"/>
                    </a:lnTo>
                    <a:lnTo>
                      <a:pt x="1081" y="541"/>
                    </a:lnTo>
                    <a:lnTo>
                      <a:pt x="426" y="1070"/>
                    </a:lnTo>
                    <a:lnTo>
                      <a:pt x="203" y="1209"/>
                    </a:lnTo>
                    <a:lnTo>
                      <a:pt x="823" y="1101"/>
                    </a:lnTo>
                    <a:lnTo>
                      <a:pt x="0" y="1590"/>
                    </a:lnTo>
                    <a:lnTo>
                      <a:pt x="484" y="1518"/>
                    </a:lnTo>
                    <a:lnTo>
                      <a:pt x="484" y="1518"/>
                    </a:lnTo>
                    <a:lnTo>
                      <a:pt x="484" y="1518"/>
                    </a:lnTo>
                  </a:path>
                </a:pathLst>
              </a:cu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363080" y="2253600"/>
                <a:ext cx="512280" cy="572760"/>
              </a:xfrm>
              <a:custGeom>
                <a:avLst/>
                <a:gdLst/>
                <a:ahLst/>
                <a:rect l="l" t="t" r="r" b="b"/>
                <a:pathLst>
                  <a:path w="1426" h="1595">
                    <a:moveTo>
                      <a:pt x="218" y="1572"/>
                    </a:moveTo>
                    <a:lnTo>
                      <a:pt x="988" y="980"/>
                    </a:lnTo>
                    <a:lnTo>
                      <a:pt x="423" y="1037"/>
                    </a:lnTo>
                    <a:lnTo>
                      <a:pt x="1246" y="384"/>
                    </a:lnTo>
                    <a:lnTo>
                      <a:pt x="973" y="445"/>
                    </a:lnTo>
                    <a:lnTo>
                      <a:pt x="1425" y="0"/>
                    </a:lnTo>
                    <a:lnTo>
                      <a:pt x="869" y="482"/>
                    </a:lnTo>
                    <a:lnTo>
                      <a:pt x="1049" y="469"/>
                    </a:lnTo>
                    <a:lnTo>
                      <a:pt x="310" y="1064"/>
                    </a:lnTo>
                    <a:lnTo>
                      <a:pt x="849" y="1041"/>
                    </a:lnTo>
                    <a:lnTo>
                      <a:pt x="0" y="1594"/>
                    </a:lnTo>
                    <a:lnTo>
                      <a:pt x="218" y="1572"/>
                    </a:lnTo>
                    <a:lnTo>
                      <a:pt x="218" y="1572"/>
                    </a:lnTo>
                    <a:lnTo>
                      <a:pt x="218" y="15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250760" y="2318760"/>
                <a:ext cx="543960" cy="515520"/>
              </a:xfrm>
              <a:custGeom>
                <a:avLst/>
                <a:gdLst/>
                <a:ahLst/>
                <a:rect l="l" t="t" r="r" b="b"/>
                <a:pathLst>
                  <a:path w="1511" h="1438">
                    <a:moveTo>
                      <a:pt x="241" y="1354"/>
                    </a:moveTo>
                    <a:lnTo>
                      <a:pt x="916" y="938"/>
                    </a:lnTo>
                    <a:lnTo>
                      <a:pt x="384" y="1012"/>
                    </a:lnTo>
                    <a:lnTo>
                      <a:pt x="1193" y="363"/>
                    </a:lnTo>
                    <a:lnTo>
                      <a:pt x="989" y="349"/>
                    </a:lnTo>
                    <a:lnTo>
                      <a:pt x="1510" y="0"/>
                    </a:lnTo>
                    <a:lnTo>
                      <a:pt x="867" y="357"/>
                    </a:lnTo>
                    <a:lnTo>
                      <a:pt x="1062" y="399"/>
                    </a:lnTo>
                    <a:lnTo>
                      <a:pt x="235" y="1059"/>
                    </a:lnTo>
                    <a:lnTo>
                      <a:pt x="603" y="1044"/>
                    </a:lnTo>
                    <a:lnTo>
                      <a:pt x="0" y="1437"/>
                    </a:lnTo>
                    <a:lnTo>
                      <a:pt x="241" y="1354"/>
                    </a:lnTo>
                    <a:lnTo>
                      <a:pt x="241" y="1354"/>
                    </a:lnTo>
                    <a:lnTo>
                      <a:pt x="241" y="135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7790040" y="4217040"/>
              <a:ext cx="697680" cy="529200"/>
              <a:chOff x="7790040" y="4217040"/>
              <a:chExt cx="697680" cy="529200"/>
            </a:xfrm>
          </p:grpSpPr>
          <p:sp>
            <p:nvSpPr>
              <p:cNvPr id="289" name=""/>
              <p:cNvSpPr/>
              <p:nvPr/>
            </p:nvSpPr>
            <p:spPr>
              <a:xfrm>
                <a:off x="7800840" y="4253040"/>
                <a:ext cx="666000" cy="493200"/>
              </a:xfrm>
              <a:custGeom>
                <a:avLst/>
                <a:gdLst/>
                <a:ahLst/>
                <a:rect l="l" t="t" r="r" b="b"/>
                <a:pathLst>
                  <a:path w="1858" h="1373">
                    <a:moveTo>
                      <a:pt x="1703" y="906"/>
                    </a:moveTo>
                    <a:lnTo>
                      <a:pt x="1006" y="268"/>
                    </a:lnTo>
                    <a:lnTo>
                      <a:pt x="1211" y="834"/>
                    </a:lnTo>
                    <a:lnTo>
                      <a:pt x="419" y="154"/>
                    </a:lnTo>
                    <a:lnTo>
                      <a:pt x="572" y="448"/>
                    </a:lnTo>
                    <a:lnTo>
                      <a:pt x="0" y="0"/>
                    </a:lnTo>
                    <a:lnTo>
                      <a:pt x="671" y="677"/>
                    </a:lnTo>
                    <a:lnTo>
                      <a:pt x="637" y="486"/>
                    </a:lnTo>
                    <a:lnTo>
                      <a:pt x="1271" y="1041"/>
                    </a:lnTo>
                    <a:lnTo>
                      <a:pt x="1447" y="1238"/>
                    </a:lnTo>
                    <a:lnTo>
                      <a:pt x="1232" y="644"/>
                    </a:lnTo>
                    <a:lnTo>
                      <a:pt x="1857" y="1372"/>
                    </a:lnTo>
                    <a:lnTo>
                      <a:pt x="1703" y="906"/>
                    </a:lnTo>
                    <a:lnTo>
                      <a:pt x="1703" y="906"/>
                    </a:lnTo>
                    <a:lnTo>
                      <a:pt x="1703" y="906"/>
                    </a:lnTo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90040" y="4217040"/>
                <a:ext cx="666000" cy="493200"/>
              </a:xfrm>
              <a:custGeom>
                <a:avLst/>
                <a:gdLst/>
                <a:ahLst/>
                <a:rect l="l" t="t" r="r" b="b"/>
                <a:pathLst>
                  <a:path w="1858" h="1372">
                    <a:moveTo>
                      <a:pt x="1702" y="906"/>
                    </a:moveTo>
                    <a:lnTo>
                      <a:pt x="1006" y="266"/>
                    </a:lnTo>
                    <a:lnTo>
                      <a:pt x="1211" y="834"/>
                    </a:lnTo>
                    <a:lnTo>
                      <a:pt x="419" y="153"/>
                    </a:lnTo>
                    <a:lnTo>
                      <a:pt x="572" y="447"/>
                    </a:lnTo>
                    <a:lnTo>
                      <a:pt x="0" y="0"/>
                    </a:lnTo>
                    <a:lnTo>
                      <a:pt x="670" y="677"/>
                    </a:lnTo>
                    <a:lnTo>
                      <a:pt x="636" y="486"/>
                    </a:lnTo>
                    <a:lnTo>
                      <a:pt x="1269" y="1040"/>
                    </a:lnTo>
                    <a:lnTo>
                      <a:pt x="1447" y="1238"/>
                    </a:lnTo>
                    <a:lnTo>
                      <a:pt x="1232" y="643"/>
                    </a:lnTo>
                    <a:lnTo>
                      <a:pt x="1857" y="1371"/>
                    </a:lnTo>
                    <a:lnTo>
                      <a:pt x="1702" y="906"/>
                    </a:lnTo>
                    <a:lnTo>
                      <a:pt x="1702" y="906"/>
                    </a:lnTo>
                    <a:lnTo>
                      <a:pt x="1702" y="906"/>
                    </a:lnTo>
                  </a:path>
                </a:pathLst>
              </a:cu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08760" y="4229280"/>
                <a:ext cx="653400" cy="406080"/>
              </a:xfrm>
              <a:custGeom>
                <a:avLst/>
                <a:gdLst/>
                <a:ahLst/>
                <a:rect l="l" t="t" r="r" b="b"/>
                <a:pathLst>
                  <a:path w="1822" h="1131">
                    <a:moveTo>
                      <a:pt x="1761" y="918"/>
                    </a:moveTo>
                    <a:lnTo>
                      <a:pt x="1044" y="261"/>
                    </a:lnTo>
                    <a:lnTo>
                      <a:pt x="1197" y="808"/>
                    </a:lnTo>
                    <a:lnTo>
                      <a:pt x="410" y="111"/>
                    </a:lnTo>
                    <a:lnTo>
                      <a:pt x="517" y="369"/>
                    </a:lnTo>
                    <a:lnTo>
                      <a:pt x="0" y="0"/>
                    </a:lnTo>
                    <a:lnTo>
                      <a:pt x="574" y="465"/>
                    </a:lnTo>
                    <a:lnTo>
                      <a:pt x="530" y="290"/>
                    </a:lnTo>
                    <a:lnTo>
                      <a:pt x="1244" y="915"/>
                    </a:lnTo>
                    <a:lnTo>
                      <a:pt x="1129" y="388"/>
                    </a:lnTo>
                    <a:lnTo>
                      <a:pt x="1821" y="1130"/>
                    </a:lnTo>
                    <a:lnTo>
                      <a:pt x="1761" y="918"/>
                    </a:lnTo>
                    <a:lnTo>
                      <a:pt x="1761" y="918"/>
                    </a:lnTo>
                    <a:lnTo>
                      <a:pt x="1761" y="9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885080" y="4297680"/>
                <a:ext cx="602640" cy="447120"/>
              </a:xfrm>
              <a:custGeom>
                <a:avLst/>
                <a:gdLst/>
                <a:ahLst/>
                <a:rect l="l" t="t" r="r" b="b"/>
                <a:pathLst>
                  <a:path w="1682" h="1245">
                    <a:moveTo>
                      <a:pt x="1558" y="1021"/>
                    </a:moveTo>
                    <a:lnTo>
                      <a:pt x="1030" y="424"/>
                    </a:lnTo>
                    <a:lnTo>
                      <a:pt x="1196" y="938"/>
                    </a:lnTo>
                    <a:lnTo>
                      <a:pt x="416" y="250"/>
                    </a:lnTo>
                    <a:lnTo>
                      <a:pt x="438" y="454"/>
                    </a:lnTo>
                    <a:lnTo>
                      <a:pt x="0" y="0"/>
                    </a:lnTo>
                    <a:lnTo>
                      <a:pt x="466" y="574"/>
                    </a:lnTo>
                    <a:lnTo>
                      <a:pt x="474" y="372"/>
                    </a:lnTo>
                    <a:lnTo>
                      <a:pt x="1268" y="1076"/>
                    </a:lnTo>
                    <a:lnTo>
                      <a:pt x="1189" y="715"/>
                    </a:lnTo>
                    <a:lnTo>
                      <a:pt x="1681" y="1244"/>
                    </a:lnTo>
                    <a:lnTo>
                      <a:pt x="1558" y="1021"/>
                    </a:lnTo>
                    <a:lnTo>
                      <a:pt x="1558" y="1021"/>
                    </a:lnTo>
                    <a:lnTo>
                      <a:pt x="1558" y="102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sg</cp:lastModifiedBy>
  <dcterms:modified xsi:type="dcterms:W3CDTF">2004-08-09T13:04:30Z</dcterms:modified>
  <cp:revision>17</cp:revision>
  <dc:subject/>
  <dc:title>Ubiqüidade</dc:title>
</cp:coreProperties>
</file>