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2B8-919F-4216-BCDD-3ABB099A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3DC7-09FA-49E7-817C-02CC4A47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109A-E862-464F-BBB9-04BCB99F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61DE-CA2B-44EC-949D-76FDE0BD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92AF-01D2-465D-93F6-7AB1DD9C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07A0-56F7-4291-A15A-3AD1EBF6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4EB6-2170-44A8-90EA-2BE4BF82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7012-0F7B-445C-A1DB-5AEB4744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9DDA-B7F2-431B-AE2F-E3614ED2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2D3D-DBF3-44F7-A153-B69AD0E2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0476-6A05-4069-BD2B-A6EFA19B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C22D-7C93-4AB5-937A-9E025A87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F712-4A30-4FFD-8017-17B1746E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2676-10B0-42A8-AD23-4205FCC4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6D04-A5FD-4ED4-A102-84DA07C0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CF42-8C6B-474F-B700-015804B4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ED40-3A21-4AA4-A051-472DFBC8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4771-A4E2-43ED-8BA5-EC582B04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7DD-7300-4789-81BC-A54768DD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0EC5-8337-47F5-98AF-714B7596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0EA-CD7C-4ECD-AF2F-92C365E3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C5E0-61EB-43FF-B5CF-52C1E381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06E-D666-424D-9BC4-066CBB80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AF5E-89F5-45BE-AA8E-96EFBF7D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C301-9DAC-4BDE-A25F-49C7835AA7BE}" type="slidenum"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B4C5-76EF-463A-8629-714B1634BD57}" type="slidenum">
              <a:rPr b="0" lang="pt-BR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windworld.com/emi/articles/soundeffects.htm" TargetMode="External"/><Relationship Id="rId2" Type="http://schemas.openxmlformats.org/officeDocument/2006/relationships/hyperlink" Target="http://www.windworld.com/emi/articles/soundeffects.htm" TargetMode="External"/><Relationship Id="rId3" Type="http://schemas.openxmlformats.org/officeDocument/2006/relationships/hyperlink" Target="http://www.windworld.com/emi/articles/soundeffects.htm" TargetMode="External"/><Relationship Id="rId4" Type="http://schemas.openxmlformats.org/officeDocument/2006/relationships/hyperlink" Target="http://www.windworld.com/emi/articles/soundeffects.htm" TargetMode="External"/><Relationship Id="rId5" Type="http://schemas.openxmlformats.org/officeDocument/2006/relationships/hyperlink" Target="http://www.windworld.com/emi/articles/soundeffects.htm" TargetMode="External"/><Relationship Id="rId6" Type="http://schemas.openxmlformats.org/officeDocument/2006/relationships/hyperlink" Target="http://www.windworld.com/emi/articles/soundeffects.htm" TargetMode="External"/><Relationship Id="rId7" Type="http://schemas.openxmlformats.org/officeDocument/2006/relationships/hyperlink" Target="http://www.windworld.com/emi/articles/soundeffects.htm" TargetMode="External"/><Relationship Id="rId8" Type="http://schemas.openxmlformats.org/officeDocument/2006/relationships/hyperlink" Target="http://www.windworld.com/emi/articles/soundeffects.htm" TargetMode="External"/><Relationship Id="rId9" Type="http://schemas.openxmlformats.org/officeDocument/2006/relationships/hyperlink" Target="http://www.windworld.com/emi/articles/soundeffects.htm" TargetMode="External"/><Relationship Id="rId10" Type="http://schemas.openxmlformats.org/officeDocument/2006/relationships/hyperlink" Target="http://www.windworld.com/emi/articles/soundeffects.htm" TargetMode="External"/><Relationship Id="rId11" Type="http://schemas.openxmlformats.org/officeDocument/2006/relationships/hyperlink" Target="http://www.windworld.com/emi/articles/soundeffects.htm" TargetMode="External"/><Relationship Id="rId12" Type="http://schemas.openxmlformats.org/officeDocument/2006/relationships/hyperlink" Target="http://www.windworld.com/emi/articles/soundeffects.htm" TargetMode="External"/><Relationship Id="rId13" Type="http://schemas.openxmlformats.org/officeDocument/2006/relationships/hyperlink" Target="http://www.cinemanet.com.br/etapasproducao.htm" TargetMode="External"/><Relationship Id="rId14" Type="http://schemas.openxmlformats.org/officeDocument/2006/relationships/hyperlink" Target="http://www.cinemanet.com.br/etapasproducao.htm" TargetMode="External"/><Relationship Id="rId15" Type="http://schemas.openxmlformats.org/officeDocument/2006/relationships/hyperlink" Target="http://www.cinemanet.com.br/etapasproducao.htm" TargetMode="External"/><Relationship Id="rId16" Type="http://schemas.openxmlformats.org/officeDocument/2006/relationships/hyperlink" Target="http://www.cinemanet.com.br/etapasproducao.htm" TargetMode="External"/><Relationship Id="rId17" Type="http://schemas.openxmlformats.org/officeDocument/2006/relationships/hyperlink" Target="http://www.cinemanet.com.br/etapasproducao.htm" TargetMode="External"/><Relationship Id="rId18" Type="http://schemas.openxmlformats.org/officeDocument/2006/relationships/hyperlink" Target="http://www.cinemanet.com.br/etapasproducao.htm" TargetMode="External"/><Relationship Id="rId19" Type="http://schemas.openxmlformats.org/officeDocument/2006/relationships/hyperlink" Target="http://www.cinemanet.com.br/etapasproducao.htm" TargetMode="External"/><Relationship Id="rId20" Type="http://schemas.openxmlformats.org/officeDocument/2006/relationships/hyperlink" Target="http://www.cinemanet.com.br/etapasproducao.htm" TargetMode="External"/><Relationship Id="rId21" Type="http://schemas.openxmlformats.org/officeDocument/2006/relationships/hyperlink" Target="http://www.cinemanet.com.br/etapasproducao.htm" TargetMode="External"/><Relationship Id="rId22" Type="http://schemas.openxmlformats.org/officeDocument/2006/relationships/hyperlink" Target="http://www.cinemanet.com.br/etapasproducao.htm" TargetMode="External"/><Relationship Id="rId23" Type="http://schemas.openxmlformats.org/officeDocument/2006/relationships/hyperlink" Target="http://www.filmsound.org/articles/horrorsound/horrorsound.htm" TargetMode="External"/><Relationship Id="rId24" Type="http://schemas.openxmlformats.org/officeDocument/2006/relationships/hyperlink" Target="http://www.filmsound.org/articles/horrorsound/horrorsound.htm" TargetMode="External"/><Relationship Id="rId25" Type="http://schemas.openxmlformats.org/officeDocument/2006/relationships/hyperlink" Target="http://www.filmsound.org/articles/horrorsound/horrorsound.htm" TargetMode="External"/><Relationship Id="rId26" Type="http://schemas.openxmlformats.org/officeDocument/2006/relationships/hyperlink" Target="http://www.filmsound.org/articles/horrorsound/horrorsound.htm" TargetMode="External"/><Relationship Id="rId27" Type="http://schemas.openxmlformats.org/officeDocument/2006/relationships/hyperlink" Target="http://www.filmsound.org/articles/horrorsound/horrorsound.htm" TargetMode="External"/><Relationship Id="rId28" Type="http://schemas.openxmlformats.org/officeDocument/2006/relationships/hyperlink" Target="http://www.filmsound.org/articles/horrorsound/horrorsound.htm" TargetMode="External"/><Relationship Id="rId29" Type="http://schemas.openxmlformats.org/officeDocument/2006/relationships/hyperlink" Target="http://www.filmsound.org/articles/horrorsound/horrorsound.htm" TargetMode="External"/><Relationship Id="rId30" Type="http://schemas.openxmlformats.org/officeDocument/2006/relationships/hyperlink" Target="http://www.filmsound.org/articles/horrorsound/horrorsound.htm" TargetMode="External"/><Relationship Id="rId31" Type="http://schemas.openxmlformats.org/officeDocument/2006/relationships/hyperlink" Target="http://www.filmsound.org/articles/horrorsound/horrorsound.htm" TargetMode="External"/><Relationship Id="rId32" Type="http://schemas.openxmlformats.org/officeDocument/2006/relationships/hyperlink" Target="http://www.filmsound.org/articles/horrorsound/horrorsound.htm" TargetMode="External"/><Relationship Id="rId33" Type="http://schemas.openxmlformats.org/officeDocument/2006/relationships/hyperlink" Target="http://www.filmsound.org/articles/horrorsound/horrorsound.htm" TargetMode="External"/><Relationship Id="rId34" Type="http://schemas.openxmlformats.org/officeDocument/2006/relationships/hyperlink" Target="http://www.filmsound.org/articles/horrorsound/horrorsound.htm" TargetMode="External"/><Relationship Id="rId35" Type="http://schemas.openxmlformats.org/officeDocument/2006/relationships/hyperlink" Target="http://encyclopedia.thefreedictionary.com/sound%20effect" TargetMode="External"/><Relationship Id="rId36" Type="http://schemas.openxmlformats.org/officeDocument/2006/relationships/hyperlink" Target="http://encyclopedia.thefreedictionary.com/sound%20effect" TargetMode="External"/><Relationship Id="rId37" Type="http://schemas.openxmlformats.org/officeDocument/2006/relationships/hyperlink" Target="http://encyclopedia.thefreedictionary.com/sound%20effect" TargetMode="External"/><Relationship Id="rId38" Type="http://schemas.openxmlformats.org/officeDocument/2006/relationships/hyperlink" Target="http://encyclopedia.thefreedictionary.com/sound%20effect" TargetMode="External"/><Relationship Id="rId39" Type="http://schemas.openxmlformats.org/officeDocument/2006/relationships/hyperlink" Target="http://encyclopedia.thefreedictionary.com/sound%20effect" TargetMode="External"/><Relationship Id="rId40" Type="http://schemas.openxmlformats.org/officeDocument/2006/relationships/hyperlink" Target="http://encyclopedia.thefreedictionary.com/sound%20effect" TargetMode="External"/><Relationship Id="rId41" Type="http://schemas.openxmlformats.org/officeDocument/2006/relationships/hyperlink" Target="http://encyclopedia.thefreedictionary.com/sound%20effect" TargetMode="External"/><Relationship Id="rId42" Type="http://schemas.openxmlformats.org/officeDocument/2006/relationships/hyperlink" Target="http://encyclopedia.thefreedictionary.com/sound%20effect" TargetMode="External"/><Relationship Id="rId43" Type="http://schemas.openxmlformats.org/officeDocument/2006/relationships/hyperlink" Target="http://encyclopedia.thefreedictionary.com/sound%20effect" TargetMode="External"/><Relationship Id="rId44" Type="http://schemas.openxmlformats.org/officeDocument/2006/relationships/hyperlink" Target="http://encyclopedia.thefreedictionary.com/sound%20effect" TargetMode="External"/><Relationship Id="rId45" Type="http://schemas.openxmlformats.org/officeDocument/2006/relationships/hyperlink" Target="http://encyclopedia.thefreedictionary.com/sound%20effect" TargetMode="External"/><Relationship Id="rId46" Type="http://schemas.openxmlformats.org/officeDocument/2006/relationships/hyperlink" Target="http://encyclopedia.thefreedictionary.com/sound%20effect" TargetMode="External"/><Relationship Id="rId47" Type="http://schemas.openxmlformats.org/officeDocument/2006/relationships/hyperlink" Target="http://encyclopedia.thefreedictionary.com/sound%20effect" TargetMode="External"/><Relationship Id="rId48" Type="http://schemas.openxmlformats.org/officeDocument/2006/relationships/hyperlink" Target="http://encyclopedia.thefreedictionary.com/sound%20effect" TargetMode="External"/><Relationship Id="rId49" Type="http://schemas.openxmlformats.org/officeDocument/2006/relationships/hyperlink" Target="http://www.wordiq.com/definition/Sound_film" TargetMode="External"/><Relationship Id="rId50" Type="http://schemas.openxmlformats.org/officeDocument/2006/relationships/hyperlink" Target="http://www.wordiq.com/definition/Sound_film" TargetMode="External"/><Relationship Id="rId51" Type="http://schemas.openxmlformats.org/officeDocument/2006/relationships/hyperlink" Target="http://www.wordiq.com/definition/Sound_film" TargetMode="External"/><Relationship Id="rId52" Type="http://schemas.openxmlformats.org/officeDocument/2006/relationships/hyperlink" Target="http://www.wordiq.com/definition/Sound_film" TargetMode="External"/><Relationship Id="rId53" Type="http://schemas.openxmlformats.org/officeDocument/2006/relationships/hyperlink" Target="http://www.wordiq.com/definition/Sound_film" TargetMode="External"/><Relationship Id="rId54" Type="http://schemas.openxmlformats.org/officeDocument/2006/relationships/hyperlink" Target="http://www.wordiq.com/definition/Sound_film" TargetMode="External"/><Relationship Id="rId55" Type="http://schemas.openxmlformats.org/officeDocument/2006/relationships/hyperlink" Target="http://www.wordiq.com/definition/Sound_film" TargetMode="External"/><Relationship Id="rId56" Type="http://schemas.openxmlformats.org/officeDocument/2006/relationships/hyperlink" Target="http://www.wordiq.com/definition/Sound_film" TargetMode="External"/><Relationship Id="rId57" Type="http://schemas.openxmlformats.org/officeDocument/2006/relationships/hyperlink" Target="http://www.wordiq.com/definition/Sound_film" TargetMode="External"/><Relationship Id="rId58" Type="http://schemas.openxmlformats.org/officeDocument/2006/relationships/hyperlink" Target="http://www.wordiq.com/definition/Sound_film" TargetMode="External"/><Relationship Id="rId59" Type="http://schemas.openxmlformats.org/officeDocument/2006/relationships/hyperlink" Target="http://www.music-center.com.br/midi_11.htm" TargetMode="External"/><Relationship Id="rId60" Type="http://schemas.openxmlformats.org/officeDocument/2006/relationships/hyperlink" Target="http://www.music-center.com.br/midi_11.htm" TargetMode="External"/><Relationship Id="rId61" Type="http://schemas.openxmlformats.org/officeDocument/2006/relationships/hyperlink" Target="http://www.music-center.com.br/midi_11.htm" TargetMode="External"/><Relationship Id="rId62" Type="http://schemas.openxmlformats.org/officeDocument/2006/relationships/hyperlink" Target="http://www.music-center.com.br/midi_11.htm" TargetMode="External"/><Relationship Id="rId63" Type="http://schemas.openxmlformats.org/officeDocument/2006/relationships/hyperlink" Target="http://www.music-center.com.br/midi_11.htm" TargetMode="External"/><Relationship Id="rId64" Type="http://schemas.openxmlformats.org/officeDocument/2006/relationships/hyperlink" Target="http://www.music-center.com.br/midi_11.htm" TargetMode="External"/><Relationship Id="rId65" Type="http://schemas.openxmlformats.org/officeDocument/2006/relationships/hyperlink" Target="http://www.music-center.com.br/midi_11.htm" TargetMode="External"/><Relationship Id="rId66" Type="http://schemas.openxmlformats.org/officeDocument/2006/relationships/hyperlink" Target="http://www.music-center.com.br/midi_11.htm" TargetMode="External"/><Relationship Id="rId67" Type="http://schemas.openxmlformats.org/officeDocument/2006/relationships/hyperlink" Target="http://www.music-center.com.br/midi_11.htm" TargetMode="External"/><Relationship Id="rId68" Type="http://schemas.openxmlformats.org/officeDocument/2006/relationships/hyperlink" Target="http://www.music-center.com.br/midi_11.htm" TargetMode="External"/><Relationship Id="rId69" Type="http://schemas.openxmlformats.org/officeDocument/2006/relationships/hyperlink" Target="http://www.music-center.com.br/midi_11.htm" TargetMode="External"/><Relationship Id="rId70" Type="http://schemas.openxmlformats.org/officeDocument/2006/relationships/hyperlink" Target="http://www.music-center.com.br/midi_11.htm" TargetMode="External"/><Relationship Id="rId71" Type="http://schemas.openxmlformats.org/officeDocument/2006/relationships/hyperlink" Target="http://www.sobiografias.hpg.ig.com.br/LeeDeFor.html" TargetMode="External"/><Relationship Id="rId72" Type="http://schemas.openxmlformats.org/officeDocument/2006/relationships/hyperlink" Target="http://www.sobiografias.hpg.ig.com.br/LeeDeFor.html" TargetMode="External"/><Relationship Id="rId73" Type="http://schemas.openxmlformats.org/officeDocument/2006/relationships/hyperlink" Target="http://www.sobiografias.hpg.ig.com.br/LeeDeFor.html" TargetMode="External"/><Relationship Id="rId74" Type="http://schemas.openxmlformats.org/officeDocument/2006/relationships/hyperlink" Target="http://www.sobiografias.hpg.ig.com.br/LeeDeFor.html" TargetMode="External"/><Relationship Id="rId75" Type="http://schemas.openxmlformats.org/officeDocument/2006/relationships/hyperlink" Target="http://www.sobiografias.hpg.ig.com.br/LeeDeFor.html" TargetMode="External"/><Relationship Id="rId76" Type="http://schemas.openxmlformats.org/officeDocument/2006/relationships/hyperlink" Target="http://www.sobiografias.hpg.ig.com.br/LeeDeFor.html" TargetMode="External"/><Relationship Id="rId77" Type="http://schemas.openxmlformats.org/officeDocument/2006/relationships/hyperlink" Target="http://www.sobiografias.hpg.ig.com.br/LeeDeFor.html" TargetMode="External"/><Relationship Id="rId78" Type="http://schemas.openxmlformats.org/officeDocument/2006/relationships/hyperlink" Target="http://www.sobiografias.hpg.ig.com.br/LeeDeFor.html" TargetMode="External"/><Relationship Id="rId79" Type="http://schemas.openxmlformats.org/officeDocument/2006/relationships/hyperlink" Target="http://www.sobiografias.hpg.ig.com.br/LeeDeFor.html" TargetMode="External"/><Relationship Id="rId80" Type="http://schemas.openxmlformats.org/officeDocument/2006/relationships/hyperlink" Target="http://www.sobiografias.hpg.ig.com.br/LeeDeFor.html" TargetMode="External"/><Relationship Id="rId81" Type="http://schemas.openxmlformats.org/officeDocument/2006/relationships/hyperlink" Target="http://www.sobiografias.hpg.ig.com.br/LeeDeFor.html" TargetMode="External"/><Relationship Id="rId82" Type="http://schemas.openxmlformats.org/officeDocument/2006/relationships/hyperlink" Target="http://www.sobiografias.hpg.ig.com.br/LeeDeFor.html" TargetMode="External"/><Relationship Id="rId83" Type="http://schemas.openxmlformats.org/officeDocument/2006/relationships/hyperlink" Target="http://www.sobiografias.hpg.ig.com.br/LeeDeFor.html" TargetMode="External"/><Relationship Id="rId84" Type="http://schemas.openxmlformats.org/officeDocument/2006/relationships/hyperlink" Target="http://www.sobiografias.hpg.ig.com.br/LeeDeFor.html" TargetMode="External"/><Relationship Id="rId85" Type="http://schemas.openxmlformats.org/officeDocument/2006/relationships/hyperlink" Target="http://jbonline.terra.com.br/jseculo/1906.html" TargetMode="External"/><Relationship Id="rId86" Type="http://schemas.openxmlformats.org/officeDocument/2006/relationships/hyperlink" Target="http://jbonline.terra.com.br/jseculo/1906.html" TargetMode="External"/><Relationship Id="rId87" Type="http://schemas.openxmlformats.org/officeDocument/2006/relationships/hyperlink" Target="http://jbonline.terra.com.br/jseculo/1906.html" TargetMode="External"/><Relationship Id="rId88" Type="http://schemas.openxmlformats.org/officeDocument/2006/relationships/hyperlink" Target="http://jbonline.terra.com.br/jseculo/1906.html" TargetMode="External"/><Relationship Id="rId89" Type="http://schemas.openxmlformats.org/officeDocument/2006/relationships/hyperlink" Target="http://jbonline.terra.com.br/jseculo/1906.html" TargetMode="External"/><Relationship Id="rId90" Type="http://schemas.openxmlformats.org/officeDocument/2006/relationships/hyperlink" Target="http://jbonline.terra.com.br/jseculo/1906.html" TargetMode="External"/><Relationship Id="rId91" Type="http://schemas.openxmlformats.org/officeDocument/2006/relationships/hyperlink" Target="http://jbonline.terra.com.br/jseculo/1906.html" TargetMode="External"/><Relationship Id="rId92" Type="http://schemas.openxmlformats.org/officeDocument/2006/relationships/hyperlink" Target="http://jbonline.terra.com.br/jseculo/1906.html" TargetMode="External"/><Relationship Id="rId93" Type="http://schemas.openxmlformats.org/officeDocument/2006/relationships/hyperlink" Target="http://www.dvdcybercafe.com.br/cin_001a.jsp?publicacaoID=159" TargetMode="External"/><Relationship Id="rId94" Type="http://schemas.openxmlformats.org/officeDocument/2006/relationships/hyperlink" Target="http://www.dvdcybercafe.com.br/cin_001a.jsp?publicacaoID=159" TargetMode="External"/><Relationship Id="rId95" Type="http://schemas.openxmlformats.org/officeDocument/2006/relationships/hyperlink" Target="http://www.dvdcybercafe.com.br/cin_001a.jsp?publicacaoID=159" TargetMode="External"/><Relationship Id="rId96" Type="http://schemas.openxmlformats.org/officeDocument/2006/relationships/hyperlink" Target="http://www.dvdcybercafe.com.br/cin_001a.jsp?publicacaoID=159" TargetMode="External"/><Relationship Id="rId97" Type="http://schemas.openxmlformats.org/officeDocument/2006/relationships/hyperlink" Target="http://www.dvdcybercafe.com.br/cin_001a.jsp?publicacaoID=159" TargetMode="External"/><Relationship Id="rId98" Type="http://schemas.openxmlformats.org/officeDocument/2006/relationships/hyperlink" Target="http://www.dvdcybercafe.com.br/cin_001a.jsp?publicacaoID=159" TargetMode="External"/><Relationship Id="rId99" Type="http://schemas.openxmlformats.org/officeDocument/2006/relationships/hyperlink" Target="http://www.dvdcybercafe.com.br/cin_001a.jsp?publicacaoID=159" TargetMode="External"/><Relationship Id="rId100" Type="http://schemas.openxmlformats.org/officeDocument/2006/relationships/hyperlink" Target="http://www.dvdcybercafe.com.br/cin_001a.jsp?publicacaoID=159" TargetMode="External"/><Relationship Id="rId101" Type="http://schemas.openxmlformats.org/officeDocument/2006/relationships/hyperlink" Target="http://www.dvdcybercafe.com.br/cin_001a.jsp?publicacaoID=159" TargetMode="External"/><Relationship Id="rId102" Type="http://schemas.openxmlformats.org/officeDocument/2006/relationships/hyperlink" Target="http://www.dvdcybercafe.com.br/cin_001a.jsp?publicacaoID=159" TargetMode="External"/><Relationship Id="rId103" Type="http://schemas.openxmlformats.org/officeDocument/2006/relationships/hyperlink" Target="http://www.dvdcybercafe.com.br/cin_001a.jsp?publicacaoID=159" TargetMode="External"/><Relationship Id="rId104" Type="http://schemas.openxmlformats.org/officeDocument/2006/relationships/hyperlink" Target="http://www.dvdcybercafe.com.br/cin_001a.jsp?publicacaoID=159" TargetMode="External"/><Relationship Id="rId105" Type="http://schemas.openxmlformats.org/officeDocument/2006/relationships/hyperlink" Target="http://www.dvdcybercafe.com.br/cin_001a.jsp?publicacaoID=159" TargetMode="External"/><Relationship Id="rId106" Type="http://schemas.openxmlformats.org/officeDocument/2006/relationships/hyperlink" Target="http://www.mnemocine.com.br/cinema/somtextos/trilha.htm" TargetMode="External"/><Relationship Id="rId107" Type="http://schemas.openxmlformats.org/officeDocument/2006/relationships/hyperlink" Target="http://www.mnemocine.com.br/cinema/somtextos/trilha.htm" TargetMode="External"/><Relationship Id="rId108" Type="http://schemas.openxmlformats.org/officeDocument/2006/relationships/hyperlink" Target="http://www.mnemocine.com.br/cinema/somtextos/trilha.htm" TargetMode="External"/><Relationship Id="rId109" Type="http://schemas.openxmlformats.org/officeDocument/2006/relationships/hyperlink" Target="http://www.mnemocine.com.br/cinema/somtextos/trilha.htm" TargetMode="External"/><Relationship Id="rId110" Type="http://schemas.openxmlformats.org/officeDocument/2006/relationships/hyperlink" Target="http://www.mnemocine.com.br/cinema/somtextos/trilha.htm" TargetMode="External"/><Relationship Id="rId111" Type="http://schemas.openxmlformats.org/officeDocument/2006/relationships/hyperlink" Target="http://www.mnemocine.com.br/cinema/somtextos/trilha.htm" TargetMode="External"/><Relationship Id="rId112" Type="http://schemas.openxmlformats.org/officeDocument/2006/relationships/hyperlink" Target="http://www.mnemocine.com.br/cinema/somtextos/trilha.htm" TargetMode="External"/><Relationship Id="rId113" Type="http://schemas.openxmlformats.org/officeDocument/2006/relationships/hyperlink" Target="http://www.mnemocine.com.br/cinema/somtextos/trilha.htm" TargetMode="External"/><Relationship Id="rId114" Type="http://schemas.openxmlformats.org/officeDocument/2006/relationships/hyperlink" Target="http://www.mnemocine.com.br/cinema/somtextos/trilha.htm" TargetMode="External"/><Relationship Id="rId115" Type="http://schemas.openxmlformats.org/officeDocument/2006/relationships/hyperlink" Target="http://www.mnemocine.com.br/cinema/somtextos/trilha.htm" TargetMode="External"/><Relationship Id="rId116" Type="http://schemas.openxmlformats.org/officeDocument/2006/relationships/hyperlink" Target="http://www.cineplayers.com/index_especiais_importancia_som.htm" TargetMode="External"/><Relationship Id="rId117" Type="http://schemas.openxmlformats.org/officeDocument/2006/relationships/hyperlink" Target="http://www.cineplayers.com/index_especiais_importancia_som.htm" TargetMode="External"/><Relationship Id="rId118" Type="http://schemas.openxmlformats.org/officeDocument/2006/relationships/hyperlink" Target="http://www.cineplayers.com/index_especiais_importancia_som.htm" TargetMode="External"/><Relationship Id="rId119" Type="http://schemas.openxmlformats.org/officeDocument/2006/relationships/hyperlink" Target="http://www.cineplayers.com/index_especiais_importancia_som.htm" TargetMode="External"/><Relationship Id="rId120" Type="http://schemas.openxmlformats.org/officeDocument/2006/relationships/hyperlink" Target="http://www.cineplayers.com/index_especiais_importancia_som.htm" TargetMode="External"/><Relationship Id="rId121" Type="http://schemas.openxmlformats.org/officeDocument/2006/relationships/hyperlink" Target="http://www.cineplayers.com/index_especiais_importancia_som.htm" TargetMode="External"/><Relationship Id="rId122" Type="http://schemas.openxmlformats.org/officeDocument/2006/relationships/hyperlink" Target="http://www.cineplayers.com/index_especiais_importancia_som.htm" TargetMode="External"/><Relationship Id="rId123" Type="http://schemas.openxmlformats.org/officeDocument/2006/relationships/hyperlink" Target="http://www.cineplayers.com/index_especiais_importancia_som.htm" TargetMode="External"/><Relationship Id="rId124" Type="http://schemas.openxmlformats.org/officeDocument/2006/relationships/hyperlink" Target="http://www.cineplayers.com/index_especiais_importancia_som.htm" TargetMode="External"/><Relationship Id="rId125" Type="http://schemas.openxmlformats.org/officeDocument/2006/relationships/hyperlink" Target="http://www.cineplayers.com/index_especiais_importancia_som.htm" TargetMode="External"/><Relationship Id="rId126" Type="http://schemas.openxmlformats.org/officeDocument/2006/relationships/hyperlink" Target="http://www.bocc.ubi.pt/pag/penafria_som_e_doc.html" TargetMode="External"/><Relationship Id="rId127" Type="http://schemas.openxmlformats.org/officeDocument/2006/relationships/hyperlink" Target="http://www.bocc.ubi.pt/pag/penafria_som_e_doc.html" TargetMode="External"/><Relationship Id="rId128" Type="http://schemas.openxmlformats.org/officeDocument/2006/relationships/hyperlink" Target="http://www.bocc.ubi.pt/pag/penafria_som_e_doc.html" TargetMode="External"/><Relationship Id="rId129" Type="http://schemas.openxmlformats.org/officeDocument/2006/relationships/hyperlink" Target="http://www.bocc.ubi.pt/pag/penafria_som_e_doc.html" TargetMode="External"/><Relationship Id="rId130" Type="http://schemas.openxmlformats.org/officeDocument/2006/relationships/hyperlink" Target="http://www.bocc.ubi.pt/pag/penafria_som_e_doc.html" TargetMode="External"/><Relationship Id="rId131" Type="http://schemas.openxmlformats.org/officeDocument/2006/relationships/hyperlink" Target="http://www.bocc.ubi.pt/pag/penafria_som_e_doc.html" TargetMode="External"/><Relationship Id="rId132" Type="http://schemas.openxmlformats.org/officeDocument/2006/relationships/hyperlink" Target="http://www.bocc.ubi.pt/pag/penafria_som_e_doc.html" TargetMode="External"/><Relationship Id="rId133" Type="http://schemas.openxmlformats.org/officeDocument/2006/relationships/hyperlink" Target="http://www.bocc.ubi.pt/pag/penafria_som_e_doc.html" TargetMode="External"/><Relationship Id="rId134" Type="http://schemas.openxmlformats.org/officeDocument/2006/relationships/hyperlink" Target="http://www.bocc.ubi.pt/pag/penafria_som_e_doc.html" TargetMode="External"/><Relationship Id="rId135" Type="http://schemas.openxmlformats.org/officeDocument/2006/relationships/hyperlink" Target="http://www.bocc.ubi.pt/pag/penafria_som_e_doc.html" TargetMode="External"/><Relationship Id="rId136" Type="http://schemas.openxmlformats.org/officeDocument/2006/relationships/hyperlink" Target="http://www.bocc.ubi.pt/pag/penafria_som_e_doc.html" TargetMode="External"/><Relationship Id="rId137" Type="http://schemas.openxmlformats.org/officeDocument/2006/relationships/hyperlink" Target="http://www.bocc.ubi.pt/pag/penafria_som_e_doc.html" TargetMode="External"/><Relationship Id="rId138" Type="http://schemas.openxmlformats.org/officeDocument/2006/relationships/hyperlink" Target="http://www.bocc.ubi.pt/pag/penafria_som_e_doc.html" TargetMode="External"/><Relationship Id="rId139" Type="http://schemas.openxmlformats.org/officeDocument/2006/relationships/hyperlink" Target="http://www.bocc.ubi.pt/pag/penafria_som_e_doc.html" TargetMode="External"/><Relationship Id="rId14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8f8f8"/>
                </a:solidFill>
                <a:latin typeface="Tahoma"/>
              </a:rPr>
              <a:t>Sonoplastia de Animações Gráfica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128760"/>
            <a:ext cx="6934320" cy="30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Emannuel Gomes Macêdo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Fernando Raposo da Camara Silva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Marília Litwak Nev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{egm, frcs, mln2}@cin.ufpe.b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Professor: Geber Ramalho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733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Verdana"/>
              </a:rPr>
              <a:t>A tarefa de incluir os efeitos sonoros e música inicia-se após a montagem do filme (edição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Verdana"/>
              </a:rPr>
              <a:t>Diálogos podem ou não ser gravados em tempo real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Verdana"/>
              </a:rPr>
              <a:t>Os sons são gravados antes, durante ou após as tomadas de imagem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Verdana"/>
              </a:rPr>
              <a:t>No acabamento final do filme (mixagem) obtém-se a equalização e sincronização audiovisual - imagem mais som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A Sonorização no Cine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Breve histórico - Cine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Verdana"/>
              </a:rPr>
              <a:t>Os primeiros filmes foram realizados sem som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Verdana"/>
              </a:rPr>
              <a:t>A projeção era acompanhada por pianistas, que improvisavam arranjos de músicas conhecidas conforme o andamento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Breve Histórico -  Cinema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Verdana"/>
              </a:rPr>
              <a:t>Nos primeiros filmes sonoros usava-se um gramofone para gravar o som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Verdana"/>
              </a:rPr>
              <a:t>Desde 1928, a gravação sonora por procedimentos ópticos substituiu a gravação e reprodução em discos (vitafone)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Verdana"/>
              </a:rPr>
              <a:t>A gravação direta na película denomina-se movietone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Efeitos sonoros em fil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Há uma classificação básica de elementos sonoros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- Hard Sounds Effects (exs.: disparo de arma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- Background (BG) Sounds Effec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- Foley Sounds Effec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- Design Sounds Effec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Jogos </a:t>
            </a:r>
            <a:r>
              <a:rPr b="0" i="1" lang="pt-BR" sz="3600" spc="-1" strike="noStrike">
                <a:solidFill>
                  <a:srgbClr val="ffffff"/>
                </a:solidFill>
                <a:latin typeface="Tahoma"/>
              </a:rPr>
              <a:t>(game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Essencialmente os mesmos efeitos utilizados nos filme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Um projeto de som em games envolve duas etapas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- Gravação dos sons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- Incorporação dos sons de acordo com a interação no ambiente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Diferença importante entre </a:t>
            </a:r>
            <a:r>
              <a:rPr b="0" i="1" lang="pt-BR" sz="3600" spc="-1" strike="noStrike">
                <a:solidFill>
                  <a:srgbClr val="ffffff"/>
                </a:solidFill>
                <a:latin typeface="Tahoma"/>
              </a:rPr>
              <a:t>games</a:t>
            </a: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 e cine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É muito difícil trabalhar o processo de sonorização da maneira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to-picture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 em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game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Isso pode acarretar sérios problemas, pois as amostras individuais não são geradas diretamente no contexto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i="1" lang="pt-BR" sz="3200" spc="-1" strike="noStrike">
                <a:solidFill>
                  <a:srgbClr val="f8f8f8"/>
                </a:solidFill>
                <a:latin typeface="Verdana"/>
              </a:rPr>
              <a:t>The audio must fit the visuals</a:t>
            </a:r>
            <a:r>
              <a:rPr b="0" lang="pt-BR" sz="3200" spc="-1" strike="noStrike">
                <a:solidFill>
                  <a:srgbClr val="f8f8f8"/>
                </a:solidFill>
                <a:latin typeface="Verdana"/>
              </a:rPr>
              <a:t>.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Algumas ferramentas usadas na sonorizaçã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Pro Tool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WaveFra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Geralmente as ferramentas sonoras são uma plataforma completa, envolvendo um conjunto de hardware e software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Tahoma"/>
              </a:rPr>
              <a:t>Pro Tools -  </a:t>
            </a: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“Photoshop” de s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Poderoso e premiado editor de Áudio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Possui uma versão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free 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limitad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Normalmente a versão completa é vendida acoplada a um hardware especia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Tahoma"/>
              </a:rPr>
              <a:t>Pro Tools </a:t>
            </a: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Considerado “um estúdio completo no computador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Gravação, Edição e Mixagem de son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Utilizada em vários filmes famosos, como “O Príncipe do Egito” (Disney), Matrix, dentre outro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Tahoma"/>
              </a:rPr>
              <a:t>WaveFra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Ambiente que proporciona gravação, edição, mixagem, organização e armazenamento de áudio, com a promessa de alta qualidade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Utilizado em pós-produções de áudio em animações gráfica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Introduçã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É quase que instintivo ao homem associar som à imagens e vice-versa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Historicamente, a associação entre música e imagem sempre fez parte do cotidiano das culturas mais diversa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Estudaremos nesta apresentação como se dá o processo de sonorização de animações gráficas, em especial filmes e </a:t>
            </a:r>
            <a:r>
              <a:rPr b="0" i="1" lang="pt-BR" sz="2800" spc="-1" strike="noStrike">
                <a:solidFill>
                  <a:srgbClr val="f8f8f8"/>
                </a:solidFill>
                <a:latin typeface="Tahoma"/>
              </a:rPr>
              <a:t>games</a:t>
            </a: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Estudos de Caso: Cine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LOTR: The Two Towers (2002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HULK (2003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73320" y="3124080"/>
            <a:ext cx="3417840" cy="3007800"/>
            <a:chOff x="1273320" y="3124080"/>
            <a:chExt cx="3417840" cy="3007800"/>
          </a:xfrm>
        </p:grpSpPr>
        <p:pic>
          <p:nvPicPr>
            <p:cNvPr id="152" name="lotr2" descr=""/>
            <p:cNvPicPr/>
            <p:nvPr/>
          </p:nvPicPr>
          <p:blipFill>
            <a:blip r:embed="rId1"/>
            <a:stretch/>
          </p:blipFill>
          <p:spPr>
            <a:xfrm>
              <a:off x="1409760" y="3124080"/>
              <a:ext cx="304776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273320" y="567216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8f8f8"/>
                  </a:solidFill>
                  <a:latin typeface="Tahoma"/>
                </a:rPr>
                <a:t>LOTR: The Two Towers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743360" y="3333600"/>
            <a:ext cx="3352680" cy="2436120"/>
            <a:chOff x="4743360" y="3333600"/>
            <a:chExt cx="3352680" cy="2436120"/>
          </a:xfrm>
        </p:grpSpPr>
        <p:pic>
          <p:nvPicPr>
            <p:cNvPr id="155" name="hulk1th" descr=""/>
            <p:cNvPicPr/>
            <p:nvPr/>
          </p:nvPicPr>
          <p:blipFill>
            <a:blip r:embed="rId2"/>
            <a:stretch/>
          </p:blipFill>
          <p:spPr>
            <a:xfrm>
              <a:off x="4743360" y="3333600"/>
              <a:ext cx="335268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823720" y="531000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8f8f8"/>
                  </a:solidFill>
                  <a:latin typeface="Tahoma"/>
                </a:rPr>
                <a:t>HULK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LOTR: The Two Tow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Vencedor do </a:t>
            </a:r>
            <a:r>
              <a:rPr b="0" i="1" lang="pt-BR" sz="2800" spc="-1" strike="noStrike">
                <a:solidFill>
                  <a:srgbClr val="f8f8f8"/>
                </a:solidFill>
                <a:latin typeface="Tahoma"/>
              </a:rPr>
              <a:t>Oscar 2003</a:t>
            </a: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 na categoria </a:t>
            </a:r>
            <a:r>
              <a:rPr b="0" i="1" lang="pt-BR" sz="2800" spc="-1" strike="noStrike">
                <a:solidFill>
                  <a:srgbClr val="f8f8f8"/>
                </a:solidFill>
                <a:latin typeface="Tahoma"/>
              </a:rPr>
              <a:t>Efeitos Sonoro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Verdana"/>
              </a:rPr>
              <a:t>Os efeitos de aúdio foram elaborados utilizando as descrições específicas dos livros de</a:t>
            </a:r>
            <a:r>
              <a:rPr b="0" i="1" lang="pt-BR" sz="2800" spc="-1" strike="noStrike">
                <a:solidFill>
                  <a:srgbClr val="f8f8f8"/>
                </a:solidFill>
                <a:latin typeface="Verdana"/>
              </a:rPr>
              <a:t> Tolkie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Foi utilizado um “time” de poderosas plataformas para a pós-edição: </a:t>
            </a:r>
            <a:r>
              <a:rPr b="0" i="1" lang="pt-BR" sz="2800" spc="-1" strike="noStrike">
                <a:solidFill>
                  <a:srgbClr val="f8f8f8"/>
                </a:solidFill>
                <a:latin typeface="Verdana"/>
              </a:rPr>
              <a:t>Euphonix System 5</a:t>
            </a:r>
            <a:r>
              <a:rPr b="0" lang="pt-BR" sz="2800" spc="-1" strike="noStrike">
                <a:solidFill>
                  <a:srgbClr val="f8f8f8"/>
                </a:solidFill>
                <a:latin typeface="Verdana"/>
              </a:rPr>
              <a:t>, </a:t>
            </a:r>
            <a:r>
              <a:rPr b="0" i="1" lang="pt-BR" sz="2800" spc="-1" strike="noStrike">
                <a:solidFill>
                  <a:srgbClr val="f8f8f8"/>
                </a:solidFill>
                <a:latin typeface="Verdana"/>
              </a:rPr>
              <a:t>Pro Tools</a:t>
            </a:r>
            <a:r>
              <a:rPr b="0" lang="pt-BR" sz="2800" spc="-1" strike="noStrike">
                <a:solidFill>
                  <a:srgbClr val="f8f8f8"/>
                </a:solidFill>
                <a:latin typeface="Verdana"/>
              </a:rPr>
              <a:t> e </a:t>
            </a:r>
            <a:r>
              <a:rPr b="0" i="1" lang="pt-BR" sz="2800" spc="-1" strike="noStrike">
                <a:solidFill>
                  <a:srgbClr val="f8f8f8"/>
                </a:solidFill>
                <a:latin typeface="Verdana"/>
              </a:rPr>
              <a:t>Tascam MMR8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HUL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Os efeitos mais originais do filme foram construídos e editados foram feitos utilizando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Pro Tool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Em algumas cenas como a cena da batalha no final, foram utilizados mais de 12 MMR8 (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  <a:ea typeface="Arial"/>
              </a:rPr>
              <a:t>Modular Multitrack Recorder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Estudos de Caso: </a:t>
            </a:r>
            <a:r>
              <a:rPr b="0" i="1" lang="pt-BR" sz="3600" spc="-1" strike="noStrike">
                <a:solidFill>
                  <a:srgbClr val="ffffff"/>
                </a:solidFill>
                <a:latin typeface="Tahoma"/>
              </a:rPr>
              <a:t>Ga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8984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Planescape: Tormen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LOTR: Two Tower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591080" y="3276720"/>
            <a:ext cx="3409560" cy="2665800"/>
            <a:chOff x="4591080" y="3276720"/>
            <a:chExt cx="3409560" cy="266580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4591080" y="3276720"/>
              <a:ext cx="3409560" cy="21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814280" y="548280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8f8f8"/>
                  </a:solidFill>
                  <a:latin typeface="Tahoma"/>
                </a:rPr>
                <a:t>LOTR: Two Towers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219320" y="3219480"/>
            <a:ext cx="3246120" cy="2702880"/>
            <a:chOff x="1219320" y="3219480"/>
            <a:chExt cx="3246120" cy="2702880"/>
          </a:xfrm>
        </p:grpSpPr>
        <p:pic>
          <p:nvPicPr>
            <p:cNvPr id="167" name="Planescape_Torment" descr=""/>
            <p:cNvPicPr/>
            <p:nvPr/>
          </p:nvPicPr>
          <p:blipFill>
            <a:blip r:embed="rId2"/>
            <a:stretch/>
          </p:blipFill>
          <p:spPr>
            <a:xfrm>
              <a:off x="1219320" y="3219480"/>
              <a:ext cx="30477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268640" y="5462640"/>
              <a:ext cx="31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8f8f8"/>
                  </a:solidFill>
                  <a:latin typeface="Tahoma"/>
                </a:rPr>
                <a:t>Planescape: Torment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Planescape: Tor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Uma equipe de 12 designers e engenheiros de áudio participou deste projeto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Aproximadamente 450 efeitos de ambiente em todo o jogo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Cada cenário é imerso em sons de fundo e do ambiente, que se modificam a cada mudança no tempo do “dia” (looping ambient sounds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Planetscape: Torment - Desenvolvimen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Uso do ambiente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Pro Tool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Mais de 1500 sons foram utilizados na pesquisa para criar bons efeito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Mixagem realizada na companhia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Interplay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, em </a:t>
            </a:r>
            <a:r>
              <a:rPr b="0" lang="pt-BR" sz="3200" spc="-1" strike="noStrike">
                <a:solidFill>
                  <a:srgbClr val="f8f8f8"/>
                </a:solidFill>
                <a:latin typeface="Arial"/>
                <a:ea typeface="Arial"/>
              </a:rPr>
              <a:t>Dolby Surround Sound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Arial"/>
                <a:ea typeface="Arial"/>
              </a:rPr>
              <a:t>Cada criatura do jogo possui características sonoras únicas.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LOTR: Two Towers Ga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Utilizou diversos efeitos sonoros, música e até mesmo vozes dos atores do próprio fil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Um dos pontos mais difíceis é a música, pois ao contrário dos filmes, a trilha sonora de games é interativa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A sonorização deste game é adaptativa, de acordo com a ação do jogo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LOTR: Two Towers Game – Desenvolvimento da Sonorizaçã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Toda a trilha sonora do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game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 foi editada no ambiente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Digital Performer 3.1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 rodando em computadores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MAC G4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Os processamento dos sons utilizou os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plug-ins 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RENAISSANCE EQUALIZER (EQ) e L1-ULTRAMAXIMIZE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Conclusõ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Arial"/>
              </a:rPr>
              <a:t>Vimos nesta apresentação os principais conceitos do processo de sonorização de animações gráficas, com foco especial no cinema e nos </a:t>
            </a:r>
            <a:r>
              <a:rPr b="0" i="1" lang="pt-BR" sz="3200" spc="-1" strike="noStrike">
                <a:solidFill>
                  <a:srgbClr val="ffffff"/>
                </a:solidFill>
                <a:latin typeface="Tahoma"/>
                <a:ea typeface="Arial"/>
              </a:rPr>
              <a:t>game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Arial"/>
              </a:rPr>
              <a:t>Algumas ferramentas famosas foram mostradas, bem como a exibição de estudos de caso de sucesso.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Conclusões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Arial"/>
              </a:rPr>
              <a:t>Os sons em animações gráficas fazem parte do clima direto na história, influenciando ou realçando os sentimentos que desejam ser passado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Arial"/>
              </a:rPr>
              <a:t>Porém não deve-se deixar que a obra musical seja tão grandiosa a ponto de obscurecer a obra visual, a história e os outros setores de uma animação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Arial"/>
              </a:rPr>
              <a:t>É preciso bastante bom senso e conhecimento do projeto em questão para realizar-se uma sonorização de qualidade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Uma visão psicológica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62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Por definição, o som é um fenômeno físico que se transmite sob a forma de ondas, usualmente, através do ar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Mas é, também, um fenômeno psicofísico, pois essas ondas estimulam o nervo auditivo e são percepcionadas pelo córtex do cérebro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Referênci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2"/>
              </a:rPr>
              <a:t>www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3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4"/>
              </a:rPr>
              <a:t>windworld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5"/>
              </a:rPr>
              <a:t>.com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6"/>
              </a:rPr>
              <a:t>emi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7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8"/>
              </a:rPr>
              <a:t>articles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9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0"/>
              </a:rPr>
              <a:t>soundeffects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1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2"/>
              </a:rPr>
              <a:t>htm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3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4"/>
              </a:rPr>
              <a:t>www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5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6"/>
              </a:rPr>
              <a:t>cinemanet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7"/>
              </a:rPr>
              <a:t>.com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8"/>
              </a:rPr>
              <a:t>br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9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20"/>
              </a:rPr>
              <a:t>etapasproducao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21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22"/>
              </a:rPr>
              <a:t>htm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23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24"/>
              </a:rPr>
              <a:t>www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25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26"/>
              </a:rPr>
              <a:t>filmsound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27"/>
              </a:rPr>
              <a:t>.org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28"/>
              </a:rPr>
              <a:t>articles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29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30"/>
              </a:rPr>
              <a:t>horrorsound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31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32"/>
              </a:rPr>
              <a:t>horrorsound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33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34"/>
              </a:rPr>
              <a:t>htm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35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36"/>
              </a:rPr>
              <a:t>encyclopedia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37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38"/>
              </a:rPr>
              <a:t>thefreedictionary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39"/>
              </a:rPr>
              <a:t>.com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40"/>
              </a:rPr>
              <a:t>sound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41"/>
              </a:rPr>
              <a:t>%20effect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42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43"/>
              </a:rPr>
              <a:t>encyclopedia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44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45"/>
              </a:rPr>
              <a:t>thefreedictionary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46"/>
              </a:rPr>
              <a:t>.com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47"/>
              </a:rPr>
              <a:t>sound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48"/>
              </a:rPr>
              <a:t>%20effect</a:t>
            </a: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 - glossário excelente sobre sonorização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49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50"/>
              </a:rPr>
              <a:t>www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51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52"/>
              </a:rPr>
              <a:t>wordiq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53"/>
              </a:rPr>
              <a:t>.com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54"/>
              </a:rPr>
              <a:t>definition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55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56"/>
              </a:rPr>
              <a:t>Sound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57"/>
              </a:rPr>
              <a:t>_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58"/>
              </a:rPr>
              <a:t>film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59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60"/>
              </a:rPr>
              <a:t>www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61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62"/>
              </a:rPr>
              <a:t>music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63"/>
              </a:rPr>
              <a:t>-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64"/>
              </a:rPr>
              <a:t>center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65"/>
              </a:rPr>
              <a:t>.com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66"/>
              </a:rPr>
              <a:t>br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67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68"/>
              </a:rPr>
              <a:t>midi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69"/>
              </a:rPr>
              <a:t>_11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70"/>
              </a:rPr>
              <a:t>htm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71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72"/>
              </a:rPr>
              <a:t>www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73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74"/>
              </a:rPr>
              <a:t>sobiografias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75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76"/>
              </a:rPr>
              <a:t>hpg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77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78"/>
              </a:rPr>
              <a:t>ig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79"/>
              </a:rPr>
              <a:t>.com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80"/>
              </a:rPr>
              <a:t>br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81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82"/>
              </a:rPr>
              <a:t>LeeDeFor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83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84"/>
              </a:rPr>
              <a:t>html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85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86"/>
              </a:rPr>
              <a:t>jbonline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87"/>
              </a:rPr>
              <a:t>.terra.com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88"/>
              </a:rPr>
              <a:t>br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89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90"/>
              </a:rPr>
              <a:t>jseculo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91"/>
              </a:rPr>
              <a:t>/1906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92"/>
              </a:rPr>
              <a:t>html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93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94"/>
              </a:rPr>
              <a:t>www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95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96"/>
              </a:rPr>
              <a:t>dvdcybercafe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97"/>
              </a:rPr>
              <a:t>.com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98"/>
              </a:rPr>
              <a:t>br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99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00"/>
              </a:rPr>
              <a:t>cin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01"/>
              </a:rPr>
              <a:t>_001a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02"/>
              </a:rPr>
              <a:t>jsp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03"/>
              </a:rPr>
              <a:t>?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04"/>
              </a:rPr>
              <a:t>publicacaoID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05"/>
              </a:rPr>
              <a:t>=159</a:t>
            </a: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 -  a origem do cinema falado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06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07"/>
              </a:rPr>
              <a:t>www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08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09"/>
              </a:rPr>
              <a:t>mnemocine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10"/>
              </a:rPr>
              <a:t>.com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11"/>
              </a:rPr>
              <a:t>br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12"/>
              </a:rPr>
              <a:t>/cinema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13"/>
              </a:rPr>
              <a:t>somtextos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14"/>
              </a:rPr>
              <a:t>/trilha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15"/>
              </a:rPr>
              <a:t>htm</a:t>
            </a: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 - análise dos efeitos da trilha sonora nas pessoa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16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17"/>
              </a:rPr>
              <a:t>www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18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19"/>
              </a:rPr>
              <a:t>cineplayers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20"/>
              </a:rPr>
              <a:t>.com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21"/>
              </a:rPr>
              <a:t>index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22"/>
              </a:rPr>
              <a:t>_especiais_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23"/>
              </a:rPr>
              <a:t>importancia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24"/>
              </a:rPr>
              <a:t>_som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25"/>
              </a:rPr>
              <a:t>htm</a:t>
            </a: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 - a importância do som no cinema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26"/>
              </a:rPr>
              <a:t>http:/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27"/>
              </a:rPr>
              <a:t>www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28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29"/>
              </a:rPr>
              <a:t>bocc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30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31"/>
              </a:rPr>
              <a:t>ubi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32"/>
              </a:rPr>
              <a:t>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33"/>
              </a:rPr>
              <a:t>pt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34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35"/>
              </a:rPr>
              <a:t>pag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36"/>
              </a:rPr>
              <a:t>/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37"/>
              </a:rPr>
              <a:t>penafria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38"/>
              </a:rPr>
              <a:t>_som_e_doc.</a:t>
            </a:r>
            <a:r>
              <a:rPr b="0" lang="pt-BR" sz="1800" spc="-1" strike="noStrike" u="sng">
                <a:solidFill>
                  <a:srgbClr val="00ffff"/>
                </a:solidFill>
                <a:uFillTx/>
                <a:latin typeface="Tahoma"/>
                <a:hlinkClick r:id="rId139"/>
              </a:rPr>
              <a:t>html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Referênci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http://www.gamasutra.com/features/19991220/clark_pfv.htm – o complicado processo de “casar” som e imagem  em </a:t>
            </a:r>
            <a:r>
              <a:rPr b="0" i="1" lang="pt-BR" sz="1800" spc="-1" strike="noStrike">
                <a:solidFill>
                  <a:srgbClr val="f8f8f8"/>
                </a:solidFill>
                <a:latin typeface="Tahoma"/>
              </a:rPr>
              <a:t>gam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http://www.filmsound.org/synctanks/ - processo de sonorização em film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http://www.mundorock.net/materias/coluna_henry/protools.html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http://www.digidesign.com/ptfree/ - site do Pro Tools </a:t>
            </a:r>
            <a:r>
              <a:rPr b="0" i="1" lang="pt-BR" sz="1800" spc="-1" strike="noStrike">
                <a:solidFill>
                  <a:srgbClr val="f8f8f8"/>
                </a:solidFill>
                <a:latin typeface="Tahoma"/>
              </a:rPr>
              <a:t>free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http://www.waves.com/  - site da empresa responsável pelos </a:t>
            </a:r>
            <a:r>
              <a:rPr b="0" i="1" lang="pt-BR" sz="1800" spc="-1" strike="noStrike">
                <a:solidFill>
                  <a:srgbClr val="f8f8f8"/>
                </a:solidFill>
                <a:latin typeface="Tahoma"/>
              </a:rPr>
              <a:t>plug-ins</a:t>
            </a: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 L1 e Renaissance EQ)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http://www.music4games.net/f_twotowers_stormfrontstudios.html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8f8f8"/>
                </a:solidFill>
                <a:latin typeface="Tahoma"/>
              </a:rPr>
              <a:t>http://www.filmsound.org/game-audio/audio.html - Making Of do jogo </a:t>
            </a:r>
            <a:r>
              <a:rPr b="0" i="1" lang="pt-BR" sz="1800" spc="-1" strike="noStrike">
                <a:solidFill>
                  <a:srgbClr val="f8f8f8"/>
                </a:solidFill>
                <a:latin typeface="Tahoma"/>
              </a:rPr>
              <a:t>Planescape: Torment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http://millimeter.com/mag/video_hulk/index.html#sidebar (hulk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http://mixonline.com/news/audio_sounds_behind_hulk/index.html (hulk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http://mixonline.com/mag/audio_two_tower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(lotr2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Uma visão psicológica...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3128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8f8f8"/>
                </a:solidFill>
                <a:latin typeface="Tahoma"/>
              </a:rPr>
              <a:t>O conjunto de sons de uma animação gráfica, se bem elaborado, colabora para a afinidade expectador-imagens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8f8f8"/>
                </a:solidFill>
                <a:latin typeface="Tahoma"/>
              </a:rPr>
              <a:t>Exemplo: “O Chamado (The Ring)” - EUA, 2002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770040" y="5407200"/>
            <a:ext cx="7561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8f8f8"/>
                </a:solidFill>
                <a:latin typeface="Tahoma"/>
              </a:rPr>
              <a:t>Porém uma sonorização inadequada quebra a interação entre a animação e quem a assiste!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8" name="chamado" descr=""/>
          <p:cNvPicPr/>
          <p:nvPr/>
        </p:nvPicPr>
        <p:blipFill>
          <a:blip r:embed="rId1"/>
          <a:stretch/>
        </p:blipFill>
        <p:spPr>
          <a:xfrm>
            <a:off x="3738600" y="3429000"/>
            <a:ext cx="1339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A Sonoplastia de Animações Gráf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A sonorização das animações gráficas é composta por três elementos: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- Diálogos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- Música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- Efeitos sonoro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Os três devem estar de acordo com o cenário no qual estão inseridos e em perfeito sincronismo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Diálog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São as falas dos personagens da animação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Músi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Compõe o que chamamos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trilha sonora 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 da animação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Arial"/>
              </a:rPr>
              <a:t>"O papel essencial da música é acentuar a emoção das imagens, é impressão sonora que reforça a impressão visual.“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0" lang="pt-BR" sz="3200" spc="-1" strike="noStrike">
                <a:solidFill>
                  <a:srgbClr val="f8f8f8"/>
                </a:solidFill>
                <a:latin typeface="Arial"/>
              </a:rPr>
              <a:t>Henri Colpi (compositor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Efeitos Sonor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Originados no teatro, Antiguidade Clássica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Também conhecidos como efeitos de áudio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São sons artificialmente criados, aprimorados ou processado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São usados em filmes, </a:t>
            </a:r>
            <a:r>
              <a:rPr b="0" i="1" lang="pt-BR" sz="3200" spc="-1" strike="noStrike">
                <a:solidFill>
                  <a:srgbClr val="f8f8f8"/>
                </a:solidFill>
                <a:latin typeface="Tahoma"/>
              </a:rPr>
              <a:t>games</a:t>
            </a:r>
            <a:r>
              <a:rPr b="0" lang="pt-BR" sz="3200" spc="-1" strike="noStrike">
                <a:solidFill>
                  <a:srgbClr val="f8f8f8"/>
                </a:solidFill>
                <a:latin typeface="Tahoma"/>
              </a:rPr>
              <a:t>, música e outras manifestações artísticas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Efeitos Sonoros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Os efeitos sonoros devem constituir o acompanhamento normal das imagens.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Sincronismo é imprescindível (ex.: chegada de um helicóptero sem o seu som característico e em seguida, com o som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11:17:59Z</dcterms:created>
  <dc:creator>mln2</dc:creator>
  <dc:description/>
  <dc:language>en-US</dc:language>
  <cp:lastModifiedBy>mln2</cp:lastModifiedBy>
  <dcterms:modified xsi:type="dcterms:W3CDTF">2004-08-20T12:59:33Z</dcterms:modified>
  <cp:revision>145</cp:revision>
  <dc:subject/>
  <dc:title>Sonoplastia de Animações Gráficas</dc:title>
</cp:coreProperties>
</file>