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03EE-4B6B-48E0-97EE-AF8FD91BB306}" type="slidenum">
              <a:rPr b="0" lang="pt-B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inar – Geralmente se aprende, vendo outros toca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m SSA ruim para jazz, pode excelen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 pag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lteração: “critério subjetivo”, “acesso consciente a todo process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9127-D807-4139-8C24-E22FC98B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26D-89AE-4F80-A066-F53187F6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EBF-3B8A-4315-A3E4-44278789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F01-6F31-41F8-8744-3B987454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6F19-A923-4E46-97B3-388E2091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495B-B3F9-4EDA-8A73-86C7B9F1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4216-D55E-4B03-AF6A-3A0569E1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375C-F95C-42A6-B4BB-871BE194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9FAD-2482-45BC-8021-29FC9843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6694-0256-4257-8784-E8593D9D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287B-F820-4666-8A8B-A1BA818E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3CB-35A0-4B18-8FB0-E73BBC8B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B706-43D8-42CF-BB1F-53507F52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9F55-9B53-4201-9BA2-0BAEADA4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BC63-6205-4A88-AB64-39B9E9BE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CF5A-DFB5-4DBB-8054-8627C75B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D415-CAEB-4D39-B2F4-5DB851CB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7ECB-66D9-453D-BA12-E66CBC95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9AA-8DB1-40E6-B3FB-607E4868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59F-A6DA-446A-A6BA-5EA934A6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9B2-AC1F-4ED8-A4B7-36C8489B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2B0-B3E0-40CA-864C-65FF165C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ECF-737C-4131-8D27-BD9F3E62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CB7-B522-4FD2-8641-F803F11A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13CC-B5C7-4A12-8D7A-FB37D3FDDC7A}" type="slidenum">
              <a:rPr b="0" lang="pt-B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914400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8C07-2057-48A4-B3F6-AA37B3B93938}" type="slidenum">
              <a:rPr b="0" lang="pt-B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9144000" cy="5382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it.rit.edu/~jab/GenJam.html" TargetMode="External"/><Relationship Id="rId5" Type="http://schemas.openxmlformats.org/officeDocument/2006/relationships/hyperlink" Target="http://www.it.rit.edu/~jab/GenJam.html" TargetMode="External"/><Relationship Id="rId6" Type="http://schemas.openxmlformats.org/officeDocument/2006/relationships/hyperlink" Target="http://www.it.rit.edu/~jab/GenJam.html" TargetMode="External"/><Relationship Id="rId7" Type="http://schemas.openxmlformats.org/officeDocument/2006/relationships/hyperlink" Target="http://www.it.rit.edu/~jab/GenJam.html" TargetMode="External"/><Relationship Id="rId8" Type="http://schemas.openxmlformats.org/officeDocument/2006/relationships/hyperlink" Target="http://www.it.rit.edu/~jab/GenJam.html" TargetMode="External"/><Relationship Id="rId9" Type="http://schemas.openxmlformats.org/officeDocument/2006/relationships/hyperlink" Target="http://www.it.rit.edu/~jab/GenJam.html" TargetMode="External"/><Relationship Id="rId10" Type="http://schemas.openxmlformats.org/officeDocument/2006/relationships/hyperlink" Target="http://www.it.rit.edu/~jab/GenJam.html" TargetMode="External"/><Relationship Id="rId11" Type="http://schemas.openxmlformats.org/officeDocument/2006/relationships/hyperlink" Target="http://www.it.rit.edu/~jab/GenJam.html" TargetMode="External"/><Relationship Id="rId12" Type="http://schemas.openxmlformats.org/officeDocument/2006/relationships/hyperlink" Target="http://www.it.rit.edu/~jab/GenJam.html" TargetMode="External"/><Relationship Id="rId13" Type="http://schemas.openxmlformats.org/officeDocument/2006/relationships/hyperlink" Target="http://www.it.rit.edu/~jab/GenJam.html" TargetMode="External"/><Relationship Id="rId14" Type="http://schemas.openxmlformats.org/officeDocument/2006/relationships/hyperlink" Target="http://www.it.rit.edu/~jab/GenJam.html" TargetMode="External"/><Relationship Id="rId15" Type="http://schemas.openxmlformats.org/officeDocument/2006/relationships/hyperlink" Target="http://www.it.rit.edu/~jab/GenJam.html" TargetMode="External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istemas de Acompanhamento Automát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Itapajé Takegum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Ricardo Oliveir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Rodrigo Bace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enetic Jam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Programa em tempo-real que produz frases a partir de uma anterior tocada por um ser huma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Ouve o que o ser humano toca (pela entrada MIDI), e usa seus operadores de mutação para produzir sua própria linha music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enJammer - Arquitetur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134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enetic Jam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2" name="" descr="Tuesday at the Clock"/>
          <p:cNvPicPr/>
          <p:nvPr/>
        </p:nvPicPr>
        <p:blipFill>
          <a:blip r:embed="rId1"/>
          <a:stretch/>
        </p:blipFill>
        <p:spPr>
          <a:xfrm>
            <a:off x="1763640" y="1916280"/>
            <a:ext cx="541044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ramá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Aplicação de regras para gera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Ritm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Seqüência de notas da melod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Seqüência de acor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Atribuição de probabilidade a cada regr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ramática – Ritm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00000" y="2133720"/>
          <a:ext cx="4114800" cy="34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3720"/>
                    <a:ext cx="4114800" cy="34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219640" y="2060640"/>
            <a:ext cx="31971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ramática – Melod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f – primeira no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d – repetir última no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s – próxima nota com intervalo pequen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0458c"/>
                </a:solidFill>
                <a:latin typeface="Tahoma"/>
              </a:rPr>
              <a:t>i – próxima nota com intervalo curt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981080"/>
          <a:ext cx="323856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323856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3733920" y="2057400"/>
          <a:ext cx="5145120" cy="307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057400"/>
                    <a:ext cx="51451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Gramática - Problem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Várias possibilidades descartadas (subgeneralizaçã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Várias possibilidades que não aconteceriam podem ser geradas (sobregeneralizaçã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euso de Fragmen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Recupera e adapta fragmentos musicais e encadeia-os para compor novas linhas melódicas, harmônicas ou rítmic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752480" y="3276720"/>
          <a:ext cx="5695920" cy="319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3276720"/>
                    <a:ext cx="5695920" cy="31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660066"/>
                </a:solidFill>
                <a:latin typeface="Tahoma"/>
              </a:rPr>
              <a:t>Reuso de Fragmentos - Questõ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Granularidade do fragmen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Atributos dos fragm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Recuperação de fragm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Adaptação de fragm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ImPa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Baseado na técnica de reuso de fragm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Gera acompanhamento para contra-baixo no estilo de Jaz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Utiliza como base, 256 linhas de fragm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oteir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Motiv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SA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Técnicas de implementação de SA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Programa Band in a bo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Cyber-Jo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SAA para estilo Bossa Nov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Inspirado no Impa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Jazz x Bossa Nov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Contra-Baixo x Violã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Fragmentos contendo padrões tocados por João Gilber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Band in a Bo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Programa de acompanhamento musical automát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Usuário define acordes e esti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Programa entra com o acompanhamento de baixo, guitarra, piano, percuss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Harmoniz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Band in a Bo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Solis e Melodist, as duas maiores inteligências do band in bo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Solist – gera solos profissionais, de qualidade sobre qualquer progressão de acor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Melodist – gera musicas a partir do zero com acordes, melodias, introdução e sol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Band in Box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2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Melodi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4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oloi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6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Band in a box x Jamm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Band-in-a-Box mais fácil de ser usado, funcionamento é mais intuitivo. O Jammer, mas seus arranjos parecem ser mais sofisticados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Jammer permite que você importe músicas em Standard MIDI File e recrie partes dela; ele permite também que você grave sua execução em qualquer trilha (o Band-in-a-Box só permite gravar na trilha melodia)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recurso de harmonização da melodia no Band-in-a-Box é muito bom. Mas o Jammer permite que você componha a música por partes (se um trecho não ficou bom, você pode mandar ele recriara somente aquele trecho)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mbos permitem que você crie novos estilos, além dos diversos que já vêm com o softwa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Referê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Geração Automática de Acompanhamento Rítmico para o violão: O estudo de caso Cyber-João – Márcio Leal de Melo Dah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Using Patterns to Generate Rhythmic Accompaniment fo Guitar – Márcio Dahia, </a:t>
            </a:r>
            <a:r>
              <a:rPr b="0" i="1" lang="pt-BR" sz="2400" spc="-1" strike="noStrike">
                <a:solidFill>
                  <a:srgbClr val="40458c"/>
                </a:solidFill>
                <a:latin typeface="Tahoma"/>
              </a:rPr>
              <a:t>et. 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GenJam Home Page - 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www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.it.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rit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.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edu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/~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jab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/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GenJam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.</a:t>
            </a:r>
            <a:r>
              <a:rPr b="0" lang="pt-BR" sz="24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Jazz Improvisation: A Theory at the Computational Level – P. N. Johnson-Lair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Intelligent Jazz Accompanist: A Real-Time System for Recognizing and Accompanying Musical Improvisations – Petri Toiviain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Band in a Box - http://www.pgmusic.com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Motiv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Composição de arranjos musica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Jog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Treinamen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Substituir um integrante do conjunto  (Zez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Ensin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Motiva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63640" y="1523880"/>
            <a:ext cx="5767560" cy="477360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2124000" y="1628640"/>
            <a:ext cx="5410440" cy="1657080"/>
            <a:chOff x="2124000" y="1628640"/>
            <a:chExt cx="5410440" cy="165708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2124000" y="2314440"/>
              <a:ext cx="10670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3495600" y="1933200"/>
              <a:ext cx="10670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4"/>
            <a:stretch/>
          </p:blipFill>
          <p:spPr>
            <a:xfrm>
              <a:off x="4486320" y="1628640"/>
              <a:ext cx="106668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5"/>
            <a:stretch/>
          </p:blipFill>
          <p:spPr>
            <a:xfrm>
              <a:off x="6467400" y="1704600"/>
              <a:ext cx="106704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"/>
          <p:cNvGrpSpPr/>
          <p:nvPr/>
        </p:nvGrpSpPr>
        <p:grpSpPr>
          <a:xfrm>
            <a:off x="3492360" y="2421000"/>
            <a:ext cx="3276720" cy="2038320"/>
            <a:chOff x="3492360" y="2421000"/>
            <a:chExt cx="3276720" cy="2038320"/>
          </a:xfrm>
        </p:grpSpPr>
        <p:pic>
          <p:nvPicPr>
            <p:cNvPr id="231" name="" descr=""/>
            <p:cNvPicPr/>
            <p:nvPr/>
          </p:nvPicPr>
          <p:blipFill>
            <a:blip r:embed="rId6"/>
            <a:stretch/>
          </p:blipFill>
          <p:spPr>
            <a:xfrm>
              <a:off x="3492360" y="3487680"/>
              <a:ext cx="10670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7"/>
            <a:stretch/>
          </p:blipFill>
          <p:spPr>
            <a:xfrm>
              <a:off x="4406760" y="2878200"/>
              <a:ext cx="10670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8"/>
            <a:stretch/>
          </p:blipFill>
          <p:spPr>
            <a:xfrm>
              <a:off x="5321160" y="2421000"/>
              <a:ext cx="10670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9"/>
            <a:stretch/>
          </p:blipFill>
          <p:spPr>
            <a:xfrm>
              <a:off x="5702400" y="3487680"/>
              <a:ext cx="1066680" cy="97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SAA - Definiçã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São programas que geram linhas musicais para diversos tipos de instrumentos em tempo real ou n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Pré-requisitos para um SA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Estilo music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Grade de acor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O que foi criado e tocado até o momento por ele próp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Percepção das outras linhas musicais em execução (músicos humanos ou nã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Dificul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O músico não tem acesso consciente a todo processo de criação music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A habilidade de improvisar parece vir das pontas dos dedos” (David Sudnow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ficuldade de passar para o computador os critérios subjetivos do músico (se divertir e fazer um som “massa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Área pouco explorada da computação music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SAA de tempo-re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Não há um critério objetivo para avaliar se uma música é bo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A - Técnic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goritmos Genéti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ramáti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uso de Fragm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Algoritmos Genét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Explora soluções não triviais e inesperad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Bom para sistemas que buscam resultados criativ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Utilizado na Improvis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Define operadores de mutaçã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458c"/>
                </a:solidFill>
                <a:latin typeface="Tahoma"/>
              </a:rPr>
              <a:t>Ex.: (Spector) REP, 8VA e EXTE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11:48:47Z</dcterms:created>
  <dc:creator>rsbgb</dc:creator>
  <dc:description/>
  <dc:language>en-US</dc:language>
  <cp:lastModifiedBy>ifst</cp:lastModifiedBy>
  <dcterms:modified xsi:type="dcterms:W3CDTF">2004-08-18T11:02:13Z</dcterms:modified>
  <cp:revision>22</cp:revision>
  <dc:subject/>
  <dc:title>Sistemas de Acompanhamento Automático</dc:title>
</cp:coreProperties>
</file>