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9.wmf" ContentType="image/x-wmf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356520"/>
            <a:ext cx="122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In - UF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280" y="6356520"/>
            <a:ext cx="504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acps3, icc2, jmmn, mscla, prsof}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64360" y="63644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02/08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penp2p.com/pub/a/p2p/2001/11/08/wed_photos2.html" TargetMode="External"/><Relationship Id="rId3" Type="http://schemas.openxmlformats.org/officeDocument/2006/relationships/hyperlink" Target="http://www.openp2p.com/pub/a/p2p/2001/11/08/wed_photos2.html" TargetMode="External"/><Relationship Id="rId4" Type="http://schemas.openxmlformats.org/officeDocument/2006/relationships/hyperlink" Target="http://www.openp2p.com/pub/a/p2p/2001/11/08/wed_photos2.html" TargetMode="External"/><Relationship Id="rId5" Type="http://schemas.openxmlformats.org/officeDocument/2006/relationships/hyperlink" Target="http://www.openp2p.com/pub/a/p2p/2001/11/08/wed_photos2.html" TargetMode="External"/><Relationship Id="rId6" Type="http://schemas.openxmlformats.org/officeDocument/2006/relationships/hyperlink" Target="http://www.openp2p.com/pub/a/p2p/2001/11/08/wed_photos2.html" TargetMode="External"/><Relationship Id="rId7" Type="http://schemas.openxmlformats.org/officeDocument/2006/relationships/hyperlink" Target="http://www.openp2p.com/pub/a/p2p/2001/11/08/wed_photos2.html" TargetMode="External"/><Relationship Id="rId8" Type="http://schemas.openxmlformats.org/officeDocument/2006/relationships/hyperlink" Target="http://www.openp2p.com/pub/a/p2p/2001/11/08/wed_photos2.html" TargetMode="Externa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D4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donkey2000.com/documentation/mftp.html" TargetMode="External"/><Relationship Id="rId2" Type="http://schemas.openxmlformats.org/officeDocument/2006/relationships/hyperlink" Target="http://www.edonkey2000.com/documentation/mftp.html" TargetMode="External"/><Relationship Id="rId3" Type="http://schemas.openxmlformats.org/officeDocument/2006/relationships/hyperlink" Target="http://www.edonkey2000.com/documentation/mftp.html" TargetMode="External"/><Relationship Id="rId4" Type="http://schemas.openxmlformats.org/officeDocument/2006/relationships/hyperlink" Target="http://www.edonkey2000.com/documentation/mftp.html" TargetMode="External"/><Relationship Id="rId5" Type="http://schemas.openxmlformats.org/officeDocument/2006/relationships/hyperlink" Target="http://www.edonkey2000.com/documentation/mftp.html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penp2p.com/pub/a/p2p/2002/03/07/pressplay.html" TargetMode="External"/><Relationship Id="rId2" Type="http://schemas.openxmlformats.org/officeDocument/2006/relationships/hyperlink" Target="http://www.apple.com/itunes/" TargetMode="External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psos-reid.com/" TargetMode="External"/><Relationship Id="rId2" Type="http://schemas.openxmlformats.org/officeDocument/2006/relationships/hyperlink" Target="http://www.ipsos-reid.com/" TargetMode="External"/><Relationship Id="rId3" Type="http://schemas.openxmlformats.org/officeDocument/2006/relationships/hyperlink" Target="http://www.ipsos-reid.com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ida.liu.se/conferences/p2p/p2p2003/presentations/Buragohain.pdf" TargetMode="External"/><Relationship Id="rId2" Type="http://schemas.openxmlformats.org/officeDocument/2006/relationships/hyperlink" Target="http://www.ida.liu.se/conferences/p2p/p2p2003/presentations/Buragohain.pdf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uc.berkeley.edu/courses/classes/E-124/Ethics%20in%20a%20Peer-to-Peer%20World.pdf" TargetMode="External"/><Relationship Id="rId2" Type="http://schemas.openxmlformats.org/officeDocument/2006/relationships/hyperlink" Target="http://www.nuc.berkeley.edu/courses/classes/E-124/Ethics%20in%20a%20Peer-to-Peer%20World.pdf" TargetMode="External"/><Relationship Id="rId3" Type="http://schemas.openxmlformats.org/officeDocument/2006/relationships/hyperlink" Target="http://freenet.sourceforge.net/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stat.com/" TargetMode="External"/><Relationship Id="rId2" Type="http://schemas.openxmlformats.org/officeDocument/2006/relationships/hyperlink" Target="http://www.instat.com/" TargetMode="External"/><Relationship Id="rId3" Type="http://schemas.openxmlformats.org/officeDocument/2006/relationships/hyperlink" Target="http://www.instat.com/" TargetMode="External"/><Relationship Id="rId4" Type="http://schemas.openxmlformats.org/officeDocument/2006/relationships/hyperlink" Target="http://www.download.com/3150-2166-0-1-5.html?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.cam.ac.uk/~rja14/#Peer-to-Peer" TargetMode="External"/><Relationship Id="rId2" Type="http://schemas.openxmlformats.org/officeDocument/2006/relationships/hyperlink" Target="http://www.cl.cam.ac.uk/~rja14/#Peer-to-Peer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4000" y="1699920"/>
            <a:ext cx="504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Distribuição p</a:t>
            </a:r>
            <a:r>
              <a:rPr b="1" lang="pt-BR" sz="4400" spc="-1" strike="noStrike">
                <a:solidFill>
                  <a:srgbClr val="9966ff"/>
                </a:solidFill>
                <a:latin typeface="Verdana"/>
              </a:rPr>
              <a:t>2</a:t>
            </a: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0920" y="3357720"/>
            <a:ext cx="5041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gusto César Pires Spinel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van Cordeiro Cardi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ulio Maravitch Maurício N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uro La-Salette C. Lima de Araú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ulo Roberto Santana Oliveira Fil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" descr="Bitzi Corp.'s Robert Kaye. Photo by Derrick Story."/>
          <p:cNvPicPr/>
          <p:nvPr/>
        </p:nvPicPr>
        <p:blipFill>
          <a:blip r:embed="rId1"/>
          <a:stretch/>
        </p:blipFill>
        <p:spPr>
          <a:xfrm>
            <a:off x="539640" y="1268280"/>
            <a:ext cx="3048120" cy="413388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2"/>
          </p:cNvPr>
          <p:cNvSpPr/>
          <p:nvPr/>
        </p:nvSpPr>
        <p:spPr>
          <a:xfrm>
            <a:off x="1002960" y="5300640"/>
            <a:ext cx="2139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66ff"/>
                </a:solidFill>
                <a:uFillTx/>
                <a:latin typeface="Verdana"/>
                <a:hlinkClick r:id="rId3"/>
              </a:rPr>
              <a:t>Robert</a:t>
            </a:r>
            <a:r>
              <a:rPr b="0" lang="en-US" sz="1400" spc="-1" strike="noStrike" u="sng">
                <a:solidFill>
                  <a:srgbClr val="9966ff"/>
                </a:solidFill>
                <a:uFillTx/>
                <a:latin typeface="Verdana"/>
                <a:hlinkClick r:id="rId4"/>
              </a:rPr>
              <a:t> Kaye</a:t>
            </a:r>
            <a:r>
              <a:rPr b="0" lang="en-US" sz="1400" spc="-1" strike="noStrike" u="sng">
                <a:solidFill>
                  <a:srgbClr val="9966ff"/>
                </a:solidFill>
                <a:uFillTx/>
                <a:latin typeface="Verdana"/>
                <a:hlinkClick r:id="rId5"/>
              </a:rPr>
              <a:t>, </a:t>
            </a:r>
            <a:r>
              <a:rPr b="0" lang="en-US" sz="1400" spc="-1" strike="noStrike" u="sng">
                <a:solidFill>
                  <a:srgbClr val="9966ff"/>
                </a:solidFill>
                <a:uFillTx/>
                <a:latin typeface="Verdana"/>
                <a:hlinkClick r:id="rId6"/>
              </a:rPr>
              <a:t>Bitzi</a:t>
            </a:r>
            <a:r>
              <a:rPr b="0" lang="en-US" sz="1400" spc="-1" strike="noStrike" u="sng">
                <a:solidFill>
                  <a:srgbClr val="9966ff"/>
                </a:solidFill>
                <a:uFillTx/>
                <a:latin typeface="Verdana"/>
                <a:hlinkClick r:id="rId7"/>
              </a:rPr>
              <a:t> Corp</a:t>
            </a:r>
            <a:r>
              <a:rPr b="0" lang="en-US" sz="1400" spc="-1" strike="noStrike" u="sng">
                <a:solidFill>
                  <a:srgbClr val="9966ff"/>
                </a:solidFill>
                <a:uFillTx/>
                <a:latin typeface="Verdana"/>
                <a:hlinkClick r:id="rId8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Napst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justiça decidiu pela ilegalidade do serviço em meados de 20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ransformou-se em um serviço p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comunidade de mantenedores de serviços p2p consideram que o napster foi o pior predecessor possí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artilhava apenas um tipo de arqu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nha alicerces em servidores centralizados, abrindo espaço para violação de copy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Gnutell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rquitetura completamente descentraliz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ara entrar na rede basta se conectar a pelo menos um de seus nó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o conhecer o primeiro nó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ebca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781760" y="0"/>
          <a:ext cx="1362240" cy="15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1760" y="0"/>
                    <a:ext cx="136224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Gnutell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ca por inund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es mandam suas requisições para o(s) nó(s) que estiverem conect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ós repassam requisições para seus vizinh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sições possuem um TTL especificando o número máximo de nós através do qual devem viaj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a vez encontrado o arquivo é estabelecida uma conexão direta entre as part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mais de um nó da rede possui o mesmo arquivo, pode-se maximizar a velocidade de download baixando partes diferentes dele ao mesmo tem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2133720"/>
            <a:ext cx="2776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Gnutell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vantag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ca por inundaçã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É len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re com a instabilidade da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ós da rede são computadores pessoais que se desconectam/conectam constantem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a muito tráfico (escalabilidad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ntag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se que impossível de ser impedida de funcion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existência de um servidor central. Enquanto existirem pelo menos dois nós na rede ela continuará a existi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Kaza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FastTrack Net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Kazaa, Grokster, iMe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Melhoramento sobre a rede Gnutella para evitar os problemas de escalabilida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roduz o conceito de </a:t>
            </a:r>
            <a:r>
              <a:rPr b="0" i="1" lang="pt-BR" sz="2800" spc="-1" strike="noStrike">
                <a:solidFill>
                  <a:srgbClr val="000000"/>
                </a:solidFill>
                <a:latin typeface="Verdana"/>
              </a:rPr>
              <a:t>super-n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Kaza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-n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ador com grande disponibilidade de recursos (rede e CPU) que tem a função de servidor de indexação para clientes mais lentos (nó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m que se conectam aos super-nós, os nós mandam para estes a lista de arquivos que desejam compartilh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33720" y="1828800"/>
            <a:ext cx="761760" cy="762120"/>
          </a:xfrm>
          <a:prstGeom prst="ellipse">
            <a:avLst/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e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2819520"/>
            <a:ext cx="761760" cy="761760"/>
          </a:xfrm>
          <a:prstGeom prst="ellipse">
            <a:avLst/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e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762120"/>
            <a:ext cx="762120" cy="761760"/>
          </a:xfrm>
          <a:prstGeom prst="ellipse">
            <a:avLst/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e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12952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523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828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5181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51055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5029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800600"/>
            <a:ext cx="457200" cy="457200"/>
          </a:xfrm>
          <a:prstGeom prst="ellipse">
            <a:avLst/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952880"/>
            <a:ext cx="457200" cy="457200"/>
          </a:xfrm>
          <a:prstGeom prst="ellipse">
            <a:avLst/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4648320"/>
            <a:ext cx="457200" cy="457200"/>
          </a:xfrm>
          <a:prstGeom prst="ellipse">
            <a:avLst/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3962520"/>
            <a:ext cx="457200" cy="457200"/>
          </a:xfrm>
          <a:prstGeom prst="ellipse">
            <a:avLst/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5" idx="1"/>
            <a:endCxn id="104" idx="6"/>
          </p:cNvCxnSpPr>
          <p:nvPr/>
        </p:nvCxnSpPr>
        <p:spPr>
          <a:xfrm flipH="1" flipV="1">
            <a:off x="2913840" y="2208960"/>
            <a:ext cx="1159560" cy="702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05" idx="0"/>
            <a:endCxn id="106" idx="4"/>
          </p:cNvCxnSpPr>
          <p:nvPr/>
        </p:nvCxnSpPr>
        <p:spPr>
          <a:xfrm flipV="1">
            <a:off x="4343400" y="1542240"/>
            <a:ext cx="76680" cy="1258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 flipV="1">
            <a:off x="4724280" y="2209320"/>
            <a:ext cx="15242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5" idx="1"/>
            <a:endCxn id="105" idx="5"/>
          </p:cNvCxnSpPr>
          <p:nvPr/>
        </p:nvCxnSpPr>
        <p:spPr>
          <a:xfrm flipH="1" flipV="1">
            <a:off x="4613040" y="3488760"/>
            <a:ext cx="1016640" cy="1207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4" idx="0"/>
            <a:endCxn id="105" idx="4"/>
          </p:cNvCxnSpPr>
          <p:nvPr/>
        </p:nvCxnSpPr>
        <p:spPr>
          <a:xfrm flipV="1">
            <a:off x="3886200" y="3600000"/>
            <a:ext cx="457920" cy="1334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3" idx="0"/>
            <a:endCxn id="105" idx="3"/>
          </p:cNvCxnSpPr>
          <p:nvPr/>
        </p:nvCxnSpPr>
        <p:spPr>
          <a:xfrm flipV="1">
            <a:off x="3123720" y="3488760"/>
            <a:ext cx="950040" cy="1292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 flipH="1" flipV="1">
            <a:off x="114300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590920" y="914400"/>
            <a:ext cx="1522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200400" y="761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48320" y="15192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990720"/>
            <a:ext cx="9903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erv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de lo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08000" y="1618560"/>
            <a:ext cx="2059560" cy="2391120"/>
            <a:chOff x="6408000" y="1618560"/>
            <a:chExt cx="2059560" cy="2391120"/>
          </a:xfrm>
        </p:grpSpPr>
        <p:cxnSp>
          <p:nvCxnSpPr>
            <p:cNvPr id="129" name=""/>
            <p:cNvCxnSpPr>
              <a:stCxn id="116" idx="7"/>
              <a:endCxn id="127" idx="2"/>
            </p:cNvCxnSpPr>
            <p:nvPr/>
          </p:nvCxnSpPr>
          <p:spPr>
            <a:xfrm flipV="1">
              <a:off x="6867360" y="1618560"/>
              <a:ext cx="563040" cy="239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130" name=""/>
            <p:cNvSpPr/>
            <p:nvPr/>
          </p:nvSpPr>
          <p:spPr>
            <a:xfrm flipV="1">
              <a:off x="6858000" y="2286000"/>
              <a:ext cx="152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467480" y="2743200"/>
              <a:ext cx="1526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92680" y="2209680"/>
              <a:ext cx="97488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Verdana"/>
                </a:rPr>
                <a:t>list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Verdana"/>
                </a:rPr>
                <a:t>Supernó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8000" y="2819520"/>
              <a:ext cx="599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Verdana"/>
                </a:rPr>
                <a:t>log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742640" y="3199680"/>
            <a:ext cx="2032920" cy="810000"/>
            <a:chOff x="4742640" y="3199680"/>
            <a:chExt cx="2032920" cy="810000"/>
          </a:xfrm>
        </p:grpSpPr>
        <p:cxnSp>
          <p:nvCxnSpPr>
            <p:cNvPr id="135" name=""/>
            <p:cNvCxnSpPr/>
            <p:nvPr/>
          </p:nvCxnSpPr>
          <p:spPr>
            <a:xfrm flipH="1" flipV="1">
              <a:off x="4742640" y="3199680"/>
              <a:ext cx="1801080" cy="810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6" name=""/>
            <p:cNvSpPr/>
            <p:nvPr/>
          </p:nvSpPr>
          <p:spPr>
            <a:xfrm flipH="1" flipV="1">
              <a:off x="5486040" y="335232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86000" y="3276720"/>
              <a:ext cx="889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consul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276360" y="2133720"/>
            <a:ext cx="1060920" cy="533160"/>
            <a:chOff x="3276360" y="2133720"/>
            <a:chExt cx="1060920" cy="533160"/>
          </a:xfrm>
        </p:grpSpPr>
        <p:sp>
          <p:nvSpPr>
            <p:cNvPr id="139" name=""/>
            <p:cNvSpPr/>
            <p:nvPr/>
          </p:nvSpPr>
          <p:spPr>
            <a:xfrm flipH="1" flipV="1">
              <a:off x="3276360" y="2286000"/>
              <a:ext cx="6094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47720" y="2133720"/>
              <a:ext cx="889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consul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971960" y="3678120"/>
            <a:ext cx="1352520" cy="513000"/>
            <a:chOff x="4971960" y="3678120"/>
            <a:chExt cx="1352520" cy="513000"/>
          </a:xfrm>
        </p:grpSpPr>
        <p:sp>
          <p:nvSpPr>
            <p:cNvPr id="142" name=""/>
            <p:cNvSpPr/>
            <p:nvPr/>
          </p:nvSpPr>
          <p:spPr>
            <a:xfrm>
              <a:off x="5715000" y="396252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71960" y="3678120"/>
              <a:ext cx="977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resul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mu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ecta a rede eDonk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a MFTP p/ transferir os arqu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ceito de clientes e servi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de descentraliz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lquer pessoa pode conectar um servidor à r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ransfere os arquivos compactados (zip) para economizar largura de ba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953480" y="0"/>
            <a:ext cx="11905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FTP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ownload do mesmo arquivo de forma concorrente a partir de diversas fo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m “downloader” se torna fonte para outros pares assim que possuir uma parte completa do arqu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s partes são porções de 9,28MB do arqu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FTP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Os pedaços são validados utilizando o algoritmo </a:t>
            </a:r>
            <a:r>
              <a:rPr b="0" lang="pt-BR" sz="3200" spc="-1" strike="noStrike" u="sng">
                <a:solidFill>
                  <a:srgbClr val="9966ff"/>
                </a:solidFill>
                <a:uFillTx/>
                <a:latin typeface="Verdana"/>
                <a:hlinkClick r:id="rId1"/>
              </a:rPr>
              <a:t>MD4</a:t>
            </a: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 e combinados para recriar o arquivo origi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ownloads de arquivos populares irão prover o melhor uso do MFTP e velocidades estatisticamente mais alt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371600"/>
            <a:ext cx="746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Quem nunca baixou MP3 que atire a primeira pedra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FTP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25320" y="2133720"/>
            <a:ext cx="2438280" cy="838080"/>
            <a:chOff x="625320" y="2133720"/>
            <a:chExt cx="2438280" cy="838080"/>
          </a:xfrm>
        </p:grpSpPr>
        <p:sp>
          <p:nvSpPr>
            <p:cNvPr id="153" name=""/>
            <p:cNvSpPr/>
            <p:nvPr/>
          </p:nvSpPr>
          <p:spPr>
            <a:xfrm>
              <a:off x="625320" y="2133720"/>
              <a:ext cx="2438280" cy="8380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1360" y="2219400"/>
              <a:ext cx="225324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Cliente 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arquivo 1 (abcdef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2133720"/>
            <a:ext cx="1981080" cy="838080"/>
            <a:chOff x="5029200" y="2133720"/>
            <a:chExt cx="1981080" cy="838080"/>
          </a:xfrm>
        </p:grpSpPr>
        <p:sp>
          <p:nvSpPr>
            <p:cNvPr id="156" name=""/>
            <p:cNvSpPr/>
            <p:nvPr/>
          </p:nvSpPr>
          <p:spPr>
            <a:xfrm>
              <a:off x="5029200" y="2133720"/>
              <a:ext cx="1981080" cy="8380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28560" y="2219400"/>
              <a:ext cx="176400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liente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quivo 1 (ab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905120" y="4419720"/>
            <a:ext cx="1981080" cy="838080"/>
            <a:chOff x="1905120" y="4419720"/>
            <a:chExt cx="1981080" cy="838080"/>
          </a:xfrm>
        </p:grpSpPr>
        <p:sp>
          <p:nvSpPr>
            <p:cNvPr id="159" name=""/>
            <p:cNvSpPr/>
            <p:nvPr/>
          </p:nvSpPr>
          <p:spPr>
            <a:xfrm>
              <a:off x="1905120" y="4419720"/>
              <a:ext cx="1981080" cy="8380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2360" y="4505400"/>
              <a:ext cx="166824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Cliente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arquivo 1 (g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553080" y="4419720"/>
            <a:ext cx="1981440" cy="838080"/>
            <a:chOff x="6553080" y="4419720"/>
            <a:chExt cx="1981440" cy="838080"/>
          </a:xfrm>
        </p:grpSpPr>
        <p:sp>
          <p:nvSpPr>
            <p:cNvPr id="162" name=""/>
            <p:cNvSpPr/>
            <p:nvPr/>
          </p:nvSpPr>
          <p:spPr>
            <a:xfrm>
              <a:off x="6553080" y="4419720"/>
              <a:ext cx="1981440" cy="8380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41080" y="4505400"/>
              <a:ext cx="138636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liente 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quivo 1 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2520" y="3003120"/>
            <a:ext cx="2352960" cy="1384560"/>
            <a:chOff x="542520" y="3003120"/>
            <a:chExt cx="2352960" cy="1384560"/>
          </a:xfrm>
        </p:grpSpPr>
        <p:cxnSp>
          <p:nvCxnSpPr>
            <p:cNvPr id="165" name=""/>
            <p:cNvCxnSpPr>
              <a:stCxn id="153" idx="2"/>
              <a:endCxn id="159" idx="0"/>
            </p:cNvCxnSpPr>
            <p:nvPr/>
          </p:nvCxnSpPr>
          <p:spPr>
            <a:xfrm>
              <a:off x="1844280" y="3003120"/>
              <a:ext cx="1051560" cy="138492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42520" y="3352680"/>
              <a:ext cx="1465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quivo 1 (f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8800" y="3733920"/>
              <a:ext cx="38088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917880" y="4838400"/>
            <a:ext cx="2603880" cy="759960"/>
            <a:chOff x="3917880" y="4838400"/>
            <a:chExt cx="2603880" cy="759960"/>
          </a:xfrm>
        </p:grpSpPr>
        <p:cxnSp>
          <p:nvCxnSpPr>
            <p:cNvPr id="169" name=""/>
            <p:cNvCxnSpPr>
              <a:stCxn id="159" idx="3"/>
              <a:endCxn id="162" idx="1"/>
            </p:cNvCxnSpPr>
            <p:nvPr/>
          </p:nvCxnSpPr>
          <p:spPr>
            <a:xfrm>
              <a:off x="3917880" y="4838400"/>
              <a:ext cx="2604240" cy="108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</a:ln>
          </p:spPr>
        </p:cxnSp>
        <p:sp>
          <p:nvSpPr>
            <p:cNvPr id="170" name=""/>
            <p:cNvSpPr/>
            <p:nvPr/>
          </p:nvSpPr>
          <p:spPr>
            <a:xfrm>
              <a:off x="4321440" y="5257800"/>
              <a:ext cx="1526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quivo 1 (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0600" y="5105520"/>
              <a:ext cx="6858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895120" y="2971800"/>
            <a:ext cx="3124800" cy="1415520"/>
            <a:chOff x="2895120" y="2971800"/>
            <a:chExt cx="3124800" cy="1415520"/>
          </a:xfrm>
        </p:grpSpPr>
        <p:cxnSp>
          <p:nvCxnSpPr>
            <p:cNvPr id="173" name=""/>
            <p:cNvCxnSpPr>
              <a:stCxn id="159" idx="0"/>
              <a:endCxn id="156" idx="2"/>
            </p:cNvCxnSpPr>
            <p:nvPr/>
          </p:nvCxnSpPr>
          <p:spPr>
            <a:xfrm flipV="1">
              <a:off x="2895120" y="3002760"/>
              <a:ext cx="3125160" cy="138492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</a:ln>
          </p:spPr>
        </p:cxnSp>
        <p:sp>
          <p:nvSpPr>
            <p:cNvPr id="174" name=""/>
            <p:cNvSpPr/>
            <p:nvPr/>
          </p:nvSpPr>
          <p:spPr>
            <a:xfrm>
              <a:off x="4170600" y="3886200"/>
              <a:ext cx="1526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quivo 1 (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5640" y="2971800"/>
              <a:ext cx="1514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quivo 1 (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876920" y="3580920"/>
              <a:ext cx="533160" cy="228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38480" y="3352680"/>
              <a:ext cx="533520" cy="228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066840" y="1828800"/>
            <a:ext cx="1967040" cy="725760"/>
            <a:chOff x="3066840" y="1828800"/>
            <a:chExt cx="1967040" cy="725760"/>
          </a:xfrm>
        </p:grpSpPr>
        <p:cxnSp>
          <p:nvCxnSpPr>
            <p:cNvPr id="179" name=""/>
            <p:cNvCxnSpPr>
              <a:stCxn id="154" idx="3"/>
              <a:endCxn id="157" idx="1"/>
            </p:cNvCxnSpPr>
            <p:nvPr/>
          </p:nvCxnSpPr>
          <p:spPr>
            <a:xfrm>
              <a:off x="3066840" y="2553840"/>
              <a:ext cx="1967400" cy="108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3283200" y="1828800"/>
              <a:ext cx="1526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quivo 1 (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33920" y="2286000"/>
              <a:ext cx="6858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669040" y="5791320"/>
            <a:ext cx="38044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9966ff"/>
                </a:solidFill>
                <a:uFillTx/>
                <a:latin typeface="Verdana"/>
                <a:hlinkClick r:id="rId1"/>
              </a:rPr>
              <a:t>Multisource</a:t>
            </a:r>
            <a:r>
              <a:rPr b="0" lang="pt-BR" sz="1800" spc="-1" strike="noStrike" u="sng">
                <a:solidFill>
                  <a:srgbClr val="9966ff"/>
                </a:solidFill>
                <a:uFillTx/>
                <a:latin typeface="Verdana"/>
                <a:hlinkClick r:id="rId2"/>
              </a:rPr>
              <a:t> File </a:t>
            </a:r>
            <a:r>
              <a:rPr b="0" lang="pt-BR" sz="1800" spc="-1" strike="noStrike" u="sng">
                <a:solidFill>
                  <a:srgbClr val="9966ff"/>
                </a:solidFill>
                <a:uFillTx/>
                <a:latin typeface="Verdana"/>
                <a:hlinkClick r:id="rId3"/>
              </a:rPr>
              <a:t>Transfer</a:t>
            </a:r>
            <a:r>
              <a:rPr b="0" lang="pt-BR" sz="1800" spc="-1" strike="noStrike" u="sng">
                <a:solidFill>
                  <a:srgbClr val="9966ff"/>
                </a:solidFill>
                <a:uFillTx/>
                <a:latin typeface="Verdana"/>
                <a:hlinkClick r:id="rId4"/>
              </a:rPr>
              <a:t> </a:t>
            </a:r>
            <a:r>
              <a:rPr b="0" lang="pt-BR" sz="1800" spc="-1" strike="noStrike" u="sng">
                <a:solidFill>
                  <a:srgbClr val="9966ff"/>
                </a:solidFill>
                <a:uFillTx/>
                <a:latin typeface="Verdana"/>
                <a:hlinkClick r:id="rId5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viços Pag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xemplos: </a:t>
            </a:r>
            <a:r>
              <a:rPr b="0" lang="pt-BR" sz="2800" spc="-1" strike="noStrike" u="sng">
                <a:solidFill>
                  <a:srgbClr val="9966ff"/>
                </a:solidFill>
                <a:uFillTx/>
                <a:latin typeface="Verdana"/>
                <a:hlinkClick r:id="rId1"/>
              </a:rPr>
              <a:t>PressPlay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t-BR" sz="2800" spc="-1" strike="noStrike" u="sng">
                <a:solidFill>
                  <a:srgbClr val="9966ff"/>
                </a:solidFill>
                <a:uFillTx/>
                <a:latin typeface="Verdana"/>
                <a:hlinkClick r:id="rId2"/>
              </a:rPr>
              <a:t>AppleMus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perados pelas suas proprietárias, as grandes gravador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suários pagam por música ou álb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BS00508_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viços Pag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lguns fornecedores permitem o download para uma única máquina e não permitem cópia para CD ou tocador externo (iPo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ecnologicamente similares à primeira geração (Naps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spectos Financeiros  Positiv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move músicas em mas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oa maneira de divulgação de novos artis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oa maneira de fãs provarem um álbum antes de comprá-lo” – Fred Durst, Limp Bizk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3165" t="0" r="0" b="0"/>
          <a:stretch/>
        </p:blipFill>
        <p:spPr>
          <a:xfrm>
            <a:off x="4788000" y="2060640"/>
            <a:ext cx="3817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spectos Financeiros Negativ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nte de renda perdi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stas não recebendo crédito por suas criaçõ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tamento da música como um bem de comércio ao invés de ar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spectos Financeiros  Negativ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rading of such information - whether it's music, videos, photos, or whatever - is, in effect, trafficking in stolen goods.” - Lars Ulrich, Metall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taqu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Numa tentativa de impedir a propagação de arquivos de seu disco American Life, Madonna criou e distribuiu milhares de arquivos ‘dummy’ (faixas com defeito, ou sem conteúdo algu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31669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tra-Ataqu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m resposta, sua homepage foi hackeada, e seus arquivos oferecidos de lá mesm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48320" y="2654280"/>
            <a:ext cx="38098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38080" y="285444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p2p é comunism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Aspectos Filosófic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unismo (Karl Mar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ma vez que toda propriedade é comunitária, p2p apenas favorece o compartilhamento dos b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48560" y="0"/>
          <a:ext cx="149544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8560" y="0"/>
                    <a:ext cx="149544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19% dos americanos com mais de 12 anos de idade já realizaram downloads de música utilizando p2p (2002, </a:t>
            </a:r>
            <a:r>
              <a:rPr b="0" lang="pt-BR" sz="2800" spc="-1" strike="noStrike" u="sng">
                <a:solidFill>
                  <a:srgbClr val="9966ff"/>
                </a:solidFill>
                <a:uFillTx/>
                <a:latin typeface="Verdana"/>
                <a:hlinkClick r:id="rId1"/>
              </a:rPr>
              <a:t>Ipsus</a:t>
            </a:r>
            <a:r>
              <a:rPr b="0" lang="pt-BR" sz="2800" spc="-1" strike="noStrike" u="sng">
                <a:solidFill>
                  <a:srgbClr val="9966ff"/>
                </a:solidFill>
                <a:uFillTx/>
                <a:latin typeface="Verdana"/>
                <a:hlinkClick r:id="rId2"/>
              </a:rPr>
              <a:t>-</a:t>
            </a:r>
            <a:r>
              <a:rPr b="0" lang="pt-BR" sz="2800" spc="-1" strike="noStrike" u="sng">
                <a:solidFill>
                  <a:srgbClr val="9966ff"/>
                </a:solidFill>
                <a:uFillTx/>
                <a:latin typeface="Verdana"/>
                <a:hlinkClick r:id="rId3"/>
              </a:rPr>
              <a:t>Reid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36% dos internautas adultos e 41% dos jovens e adolescentes já baixaram arquivos da web em MP3 ou formatos similares (2000, Angus Reid Group In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Aspectos Filosófic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038120" y="19051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ltruísm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ree Rider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25% dos usuários da gnutella são free riders (</a:t>
            </a:r>
            <a:r>
              <a:rPr b="0" lang="en-US" sz="2800" spc="-1" strike="noStrike" u="sng">
                <a:solidFill>
                  <a:srgbClr val="9966ff"/>
                </a:solidFill>
                <a:uFillTx/>
                <a:latin typeface="Verdana"/>
                <a:hlinkClick r:id="rId1"/>
              </a:rPr>
              <a:t>Buragohain</a:t>
            </a:r>
            <a:r>
              <a:rPr b="0" lang="en-US" sz="2800" spc="-1" strike="noStrike" u="sng">
                <a:solidFill>
                  <a:srgbClr val="9966ff"/>
                </a:solidFill>
                <a:uFillTx/>
                <a:latin typeface="Verdana"/>
                <a:hlinkClick r:id="rId2"/>
              </a:rPr>
              <a:t> et 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826920" y="1773360"/>
            <a:ext cx="30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Aspectos Filosófic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tarism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nologias p2p permitem aos usuários receber uma grande quantidade de utilidade a pequeno custo (produt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ato So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2p facilita o direito de perseguir a felicida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715000" y="1905120"/>
            <a:ext cx="3029040" cy="3998160"/>
            <a:chOff x="5715000" y="1905120"/>
            <a:chExt cx="3029040" cy="399816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5715000" y="1905120"/>
              <a:ext cx="30290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294240" y="5562720"/>
              <a:ext cx="19256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homas Hobb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Perspectivas Futuras (</a:t>
            </a:r>
            <a:r>
              <a:rPr b="0" lang="pt-BR" sz="4400" spc="-1" strike="noStrike" u="sng">
                <a:solidFill>
                  <a:srgbClr val="9966ff"/>
                </a:solidFill>
                <a:uFillTx/>
                <a:latin typeface="Verdana"/>
                <a:hlinkClick r:id="rId1"/>
              </a:rPr>
              <a:t>Nguyen</a:t>
            </a:r>
            <a:r>
              <a:rPr b="0" lang="pt-BR" sz="4400" spc="-1" strike="noStrike" u="sng">
                <a:solidFill>
                  <a:srgbClr val="9966ff"/>
                </a:solidFill>
                <a:uFillTx/>
                <a:latin typeface="Verdana"/>
                <a:hlinkClick r:id="rId2"/>
              </a:rPr>
              <a:t> et al</a:t>
            </a: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ff"/>
                </a:solidFill>
                <a:uFillTx/>
                <a:latin typeface="Verdana"/>
                <a:hlinkClick r:id="rId3"/>
              </a:rPr>
              <a:t>Free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ado em nós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ônimo e encript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The Freenet Project"/>
          <p:cNvPicPr/>
          <p:nvPr/>
        </p:nvPicPr>
        <p:blipFill>
          <a:blip r:embed="rId4"/>
          <a:stretch/>
        </p:blipFill>
        <p:spPr>
          <a:xfrm>
            <a:off x="2743200" y="2362320"/>
            <a:ext cx="473220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quivos codificados(hash) através da re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ssível rastrear arquivo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ação através de crypto-s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Perspectivas Futuras (Nguyen et al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P2P é uma ideologia, não uma tecnologia ou indúst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Na guerra conta o copyright, os sistemas descentralizados têm melhor chance de sobrevivênc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Necessita de um novo modelo baseado em incen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38080" y="243828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alguém entendeu alguma cois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rcado de tocadores de música digital irá crescer de 7,2 milhões em 2002 para cerca de 30 milhões em 2006! (</a:t>
            </a:r>
            <a:r>
              <a:rPr b="0" lang="pt-BR" sz="2800" spc="-1" strike="noStrike" u="sng">
                <a:solidFill>
                  <a:srgbClr val="9966ff"/>
                </a:solidFill>
                <a:uFillTx/>
                <a:latin typeface="Verdana"/>
                <a:hlinkClick r:id="rId1"/>
              </a:rPr>
              <a:t>In-</a:t>
            </a:r>
            <a:r>
              <a:rPr b="0" lang="pt-BR" sz="2800" spc="-1" strike="noStrike" u="sng">
                <a:solidFill>
                  <a:srgbClr val="9966ff"/>
                </a:solidFill>
                <a:uFillTx/>
                <a:latin typeface="Verdana"/>
                <a:hlinkClick r:id="rId2"/>
              </a:rPr>
              <a:t>Stat</a:t>
            </a:r>
            <a:r>
              <a:rPr b="0" lang="pt-BR" sz="2800" spc="-1" strike="noStrike" u="sng">
                <a:solidFill>
                  <a:srgbClr val="9966ff"/>
                </a:solidFill>
                <a:uFillTx/>
                <a:latin typeface="Verdana"/>
                <a:hlinkClick r:id="rId3"/>
              </a:rPr>
              <a:t>/MDR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ais 114 de softwares p2p para compartilhamento de música disponíveis para download gratuito (2004, </a:t>
            </a:r>
            <a:r>
              <a:rPr b="0" lang="pt-BR" sz="2800" spc="-1" strike="noStrike" u="sng">
                <a:solidFill>
                  <a:srgbClr val="9966ff"/>
                </a:solidFill>
                <a:uFillTx/>
                <a:latin typeface="Verdana"/>
                <a:hlinkClick r:id="rId4"/>
              </a:rPr>
              <a:t>download.com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2819160" cy="14860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6477120" y="533520"/>
            <a:ext cx="1523880" cy="1720800"/>
            <a:chOff x="6477120" y="533520"/>
            <a:chExt cx="1523880" cy="17208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6477120" y="533520"/>
              <a:ext cx="1523880" cy="14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Soulseek"/>
            <p:cNvPicPr/>
            <p:nvPr/>
          </p:nvPicPr>
          <p:blipFill>
            <a:blip r:embed="rId3"/>
            <a:stretch/>
          </p:blipFill>
          <p:spPr>
            <a:xfrm>
              <a:off x="6553080" y="1905120"/>
              <a:ext cx="1294920" cy="34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609480" y="1219320"/>
            <a:ext cx="1676520" cy="1817640"/>
            <a:chOff x="609480" y="1219320"/>
            <a:chExt cx="1676520" cy="18176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609480" y="1219320"/>
              <a:ext cx="1600200" cy="14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762120" y="2667240"/>
              <a:ext cx="1523880" cy="36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705720" y="3200400"/>
            <a:ext cx="15843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581280" y="3048120"/>
            <a:ext cx="1676520" cy="1295280"/>
            <a:chOff x="3581280" y="3048120"/>
            <a:chExt cx="1676520" cy="1295280"/>
          </a:xfrm>
        </p:grpSpPr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3581280" y="3048120"/>
              <a:ext cx="27540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8"/>
            <a:stretch/>
          </p:blipFill>
          <p:spPr>
            <a:xfrm>
              <a:off x="3889080" y="3048120"/>
              <a:ext cx="136872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228600" y="3505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4859280" y="5373720"/>
            <a:ext cx="3505320" cy="87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228600" y="304920"/>
            <a:ext cx="3200400" cy="627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2195640" y="4508640"/>
            <a:ext cx="16794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2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8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4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6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7080" y="2708280"/>
            <a:ext cx="23749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Eternity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9966ff"/>
                </a:solidFill>
                <a:uFillTx/>
                <a:latin typeface="Verdana"/>
                <a:hlinkClick r:id="rId1"/>
              </a:rPr>
              <a:t>Ross</a:t>
            </a:r>
            <a:r>
              <a:rPr b="0" lang="pt-BR" sz="1400" spc="-1" strike="noStrike" u="sng">
                <a:solidFill>
                  <a:srgbClr val="9966ff"/>
                </a:solidFill>
                <a:uFillTx/>
                <a:latin typeface="Verdana"/>
                <a:hlinkClick r:id="rId2"/>
              </a:rPr>
              <a:t> And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Prof Ross Anderson"/>
          <p:cNvPicPr/>
          <p:nvPr/>
        </p:nvPicPr>
        <p:blipFill>
          <a:blip r:embed="rId3"/>
          <a:stretch/>
        </p:blipFill>
        <p:spPr>
          <a:xfrm>
            <a:off x="684360" y="2060640"/>
            <a:ext cx="2374920" cy="1778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59120" y="4910040"/>
            <a:ext cx="183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43120" y="5270400"/>
            <a:ext cx="183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060640"/>
            <a:ext cx="5182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ter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exão direta entre p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de na qual cada nó tem capacidades e deveres equivalentes (webope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voluçã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Naps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Gnute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Kaza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Em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Serviços Pag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Napst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Precursor de todos os sistem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Criado por Shawn Fanning em meados de 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Atingiu a marca de 13,6 milhões de usuários em fevereiro de 20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775640" y="0"/>
            <a:ext cx="1368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Verdana"/>
              </a:rPr>
              <a:t>Naspt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ava servidores centrais para manter a relação de quem estava conectado e os arquivos oferec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"Falso p2p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236000" y="1052640"/>
            <a:ext cx="647640" cy="612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651640" y="2349360"/>
            <a:ext cx="728640" cy="86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728640" cy="86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667640" y="4437000"/>
            <a:ext cx="728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244000" y="2924280"/>
            <a:ext cx="728640" cy="863640"/>
          </a:xfrm>
          <a:prstGeom prst="rect">
            <a:avLst/>
          </a:prstGeom>
          <a:ln w="0">
            <a:noFill/>
          </a:ln>
        </p:spPr>
      </p:pic>
      <p:cxnSp>
        <p:nvCxnSpPr>
          <p:cNvPr id="83" name=""/>
          <p:cNvCxnSpPr>
            <a:stCxn id="79" idx="3"/>
            <a:endCxn id="78" idx="2"/>
          </p:cNvCxnSpPr>
          <p:nvPr/>
        </p:nvCxnSpPr>
        <p:spPr>
          <a:xfrm flipV="1">
            <a:off x="6380280" y="1665000"/>
            <a:ext cx="1180080" cy="111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0" idx="0"/>
            <a:endCxn id="78" idx="2"/>
          </p:cNvCxnSpPr>
          <p:nvPr/>
        </p:nvCxnSpPr>
        <p:spPr>
          <a:xfrm flipV="1">
            <a:off x="6232680" y="1665000"/>
            <a:ext cx="1327680" cy="241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0"/>
            <a:endCxn id="78" idx="2"/>
          </p:cNvCxnSpPr>
          <p:nvPr/>
        </p:nvCxnSpPr>
        <p:spPr>
          <a:xfrm flipH="1" flipV="1">
            <a:off x="7558920" y="1664640"/>
            <a:ext cx="1050120" cy="125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1" idx="0"/>
            <a:endCxn id="78" idx="2"/>
          </p:cNvCxnSpPr>
          <p:nvPr/>
        </p:nvCxnSpPr>
        <p:spPr>
          <a:xfrm flipH="1" flipV="1">
            <a:off x="7559280" y="1665000"/>
            <a:ext cx="473760" cy="27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0" idx="3"/>
            <a:endCxn id="81" idx="1"/>
          </p:cNvCxnSpPr>
          <p:nvPr/>
        </p:nvCxnSpPr>
        <p:spPr>
          <a:xfrm>
            <a:off x="6595560" y="4508280"/>
            <a:ext cx="1072440" cy="36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CS</cp:lastModifiedBy>
  <dcterms:modified xsi:type="dcterms:W3CDTF">2004-08-02T01:26:25Z</dcterms:modified>
  <cp:revision>53</cp:revision>
  <dc:subject/>
  <dc:title>Motivação</dc:title>
</cp:coreProperties>
</file>