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0718-B85D-4F18-950E-E6477495D14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á uma olhada mel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682F-2B28-4EE7-9D5E-DF67AD7D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D4E8-FB71-46A2-87E4-01113B9E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8523-EAC1-4C92-A298-BE2EB29D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FB3A-01AD-4377-8E44-58F83DEA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7C30-A7BD-4FF3-B915-538BFD40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8C78-A1B7-4650-A9B1-826965F4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FA27-1864-425A-9F44-85587230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054F-10D8-4BD2-9E3E-E7354D34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B40F-BC01-41B4-8309-64D83E4F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2C15-3521-4126-9470-6C5FB119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64E8-7006-4C39-A8C7-3AD5AA5B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72A5-C25F-4CCB-8F68-35719165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FDD5-09C7-4E78-9EE1-AE7A9394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2F79-01A2-49DA-ABCC-B2886028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BD02-F2F6-49BB-A03C-ED03A869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C81E-4B69-45B4-961D-3C49009B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79C8-7BDB-4179-8D7F-879FA892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E7E2-055D-4F74-B6A9-F28CA09D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207-4174-41C7-9244-DB5EB5CD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1B8A-80BA-4802-B35A-9ECC608B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4077-4E7E-421E-8C71-A713E4C2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A319-3CE2-46BD-833D-A6C2BA93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BF55-9DA0-4AA2-9E19-41822DD2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2448-8E8B-4AFF-B7E2-5840742A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{assc, ecgd, jjsn, tbas}@cin.ufpe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4362-EAC0-45EA-AD0B-93FC50360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6667560" y="6095880"/>
            <a:ext cx="1790640" cy="47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22F7-5EB7-4F4E-927A-DBC09E7596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eorgi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Georgia"/>
              </a:rPr>
              <a:t>MusicXML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114440" y="419112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eorgia"/>
              </a:rPr>
              <a:t>Andrino Coêlh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eorgia"/>
              </a:rPr>
              <a:t>Eduardo Dominoni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eorgia"/>
              </a:rPr>
              <a:t>Jayro Santo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eorgia"/>
              </a:rPr>
              <a:t>Thiago Arrai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eorgia"/>
              </a:rPr>
              <a:t>{assc, ecgd, jjsn, tbas}@cin.ufpe.b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uncionalidad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Indexação e Recuperação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Uso de semântica musica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ndexação facilitada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Roemer: Professional music typesetting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Next Modules: Gerador/Compositor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Pae2xml: Conversor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libMusicXML: Biblioteca pra manipulação de MusicXML em C/C++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Demonstração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onclusão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MusicXML é uma ótima idéia que precisa de maior divulgação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As funcionalidades de indexação e recuperação são interessantíssima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Necessita ainda de uma afirmação maior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[1] http://www.musicxml.org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http://www.musicmarkup.info/scope/markuplanguages.htm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http://xml.coverpages.org/xmlMusic.html#MusicXM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http://www.xenoage.com/mxmlplay/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http://utopia.poly.edu/~esmole01/MusicXML.htm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tivação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 que é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o que se propõe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uncionalidad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emonstração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nclusão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ferência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Potencial da publicação de partitura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eorgia"/>
              </a:rPr>
              <a:t>Pouca intercambialidad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eorgia"/>
              </a:rPr>
              <a:t>Partituras em PDF (!!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Formato aberto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MIDI é insuficient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O que é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"MusicXML is without question the most mature effort so far in using XML to encode music." - </a:t>
            </a:r>
            <a:r>
              <a:rPr b="0" i="1" lang="pt-BR" sz="3200" spc="-1" strike="noStrike">
                <a:solidFill>
                  <a:srgbClr val="000000"/>
                </a:solidFill>
                <a:latin typeface="Georgia"/>
              </a:rPr>
              <a:t>Darin Stewart [1]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O que é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Desenvolvido pela Recordare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eorgia"/>
              </a:rPr>
              <a:t>Um formato aberto, utilizável por diversas aplicaçõ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eorgia"/>
              </a:rPr>
              <a:t>Um tradutor universal para a notação popular da música Ocidenta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Baseada em MuseData e Hundrum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eorgia"/>
              </a:rPr>
              <a:t>Desenvolvidos em universidad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Uso aberto para portadores de </a:t>
            </a:r>
            <a:r>
              <a:rPr b="0" i="1" lang="pt-BR" sz="3200" spc="-1" strike="noStrike">
                <a:solidFill>
                  <a:srgbClr val="000000"/>
                </a:solidFill>
                <a:latin typeface="Georgia"/>
              </a:rPr>
              <a:t>royalty-free license</a:t>
            </a:r>
            <a:r>
              <a:rPr b="0" lang="pt-BR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Ao que se propõe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esma idéia do MIDI, porém resolve um problema diferent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rover formatos intercambiáveis para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taçã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áli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cuperaçã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plicações de performanc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ão substitui os formatos proprietário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Ao que se propõe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or que não utilizar soluções anteriores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IFF: formato gráfic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MDL: muito complex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DI: representação limitad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Ao que se propõe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05120" y="1828800"/>
          <a:ext cx="5648040" cy="37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28800"/>
                    <a:ext cx="5648040" cy="37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Funcionalidade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ndexação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usca (inclusive por padrões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cuperação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Validação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positores automático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5T22:10:29Z</dcterms:created>
  <dc:creator>Andrino S S Coêlho</dc:creator>
  <dc:description/>
  <dc:language>en-US</dc:language>
  <cp:lastModifiedBy>Eduardo</cp:lastModifiedBy>
  <dcterms:modified xsi:type="dcterms:W3CDTF">2004-08-17T01:02:48Z</dcterms:modified>
  <cp:revision>19</cp:revision>
  <dc:subject/>
  <dc:title>MusicXML</dc:title>
</cp:coreProperties>
</file>