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39D2-DB74-4F11-9F3E-2D3AB0B82E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percepção desse ruído depende do contexto. Pode passar despercebido nas vozes de pessoas numa multidão mas não em um concerto mu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338-6325-4C20-A966-22BB1FCB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147-B15A-4833-9548-DC7FBDFB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ED3-3E2A-4B21-BAF1-1B911732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DC2-50A1-48FE-9266-DC2EFC92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B8E-9BC2-4ABA-A75F-8AEDCAC0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2EB2-388F-43D4-B845-8CA244E7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2B4-C17E-48F4-A0A3-560CCD37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5A8-0FFF-4203-9617-1B08FB23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133-1A89-459F-88AD-5B0E3422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5A7-2B4C-4CE7-A623-35CFE7CD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138-4290-48D4-A6B7-0842F8D3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037-D9C8-4CB4-B5C2-837F62F3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emplo_desen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28F1-D4F7-4557-A633-482EE29AD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62320" y="6022800"/>
            <a:ext cx="145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Esteganografia e seguranç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exemplo_capa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eganografia e seguranç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373392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sciplina: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putação Mus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fessor: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ber Ramalh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quipe: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leber Chian, Helson de Araújo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rcus Seabra, Marilia Vera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arcísio Quiri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licações (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os legais e ilegai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s de dados aprimoradas, marcas d’água resistentes, rastreamento de documentos, autenticação de documentos, comunicações privada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audes e lavagem de dinheiro, comunicações criminais, roubo de propriedade intelectual, extorsão, disseminação de vírus, pedofilia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nça X priva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eganograf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veremo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bstituição de componentes redundantes e de ruí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-se usar esteganografia em muitos formatos (Ex.: .bmp, .doc, .gif, .jpeg, .mp3, .txt, .wav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dificando mensagens em texto, imagem e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eganograf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lgumas técn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ow-bit ou LSB enco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is fácil de esconder informação em  música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90920" y="3962520"/>
          <a:ext cx="417168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962520"/>
                    <a:ext cx="417168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863000" y="486576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ormação escondida aq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248520" y="4800600"/>
          <a:ext cx="38088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80060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ow-bit ou LSB encoding</a:t>
            </a: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vantagens e desvantage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ácil de incorpo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paz de esconder uma grande quantidade de inform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stante suscetível à perda de dados devido a ruído no c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lgumas técn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hase-enco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14400" y="3162240"/>
          <a:ext cx="758988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62240"/>
                    <a:ext cx="758988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313160" y="2666880"/>
          <a:ext cx="3353040" cy="312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13160" y="2666880"/>
                    <a:ext cx="335304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722600" y="2819520"/>
          <a:ext cx="1904760" cy="274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22600" y="2819520"/>
                    <a:ext cx="19047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782720" y="3352680"/>
            <a:ext cx="1616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vide o arquivo em várias seqüências de áu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65800" y="3232080"/>
            <a:ext cx="2819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bstitui a fase das seqüências por uma fase de referênc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criptação usando Transformada Discreta de Four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lgumas técn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hase-encoding</a:t>
            </a: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Vantagens e Desvantage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udiosos argumentam ser o melhor algoritmo em termos de taxa de ruído perceptível no s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onde menos informação do que o L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lgumas técn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pread spectr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difica o áudio por quase todo o spectrum de freqü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mite o áudio por diferentes freqü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lgumas técn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pread spectrum</a:t>
            </a: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vantagens e desvantage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Maneira mais segura de mandar mensagens escondidas de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introduzir ruído randô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criar a chance de perda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lgumas técn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IDI Hiding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quivos MID codificam quais notas são tocadas e com que for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ta Eventos podem armazenar qualquer tipo de informações, mas elas não são toc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ormação pode ser anexada a arquivos MIDI como Meta Ev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lgumas técn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IDI Hiding</a:t>
            </a:r>
            <a:br>
              <a:rPr sz="32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vantagens e desvantagens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Quantidade de dados que pode ser armazenada é teoricamente arbitr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lquer pré processamento nos meta eventos pode destruir a mensagem escondida sem destruir a própria mú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Algumas técn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rutura da Apresentaç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eganogr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gumas técn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cação 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tribuição, licenças e               direitos auto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cação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vimo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pt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ca na segurança da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egan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ura esconder a existência da própria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Marcação digital (Digital Watermarkin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oco na comprovação de autenticida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eganografia para manutenção de direitos autora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cultando informações + robust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Histó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ch e suas composi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obra "The Testament of Love", atribuída a Chaucer descobriu-se ser na verdade de Thomas U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á hoje... Digital Watermarking é usado, por exemplo, para garantir copyright de DVDs de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cação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cação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obust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istência a manipulações intencionais e não inten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tisticamente irremov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istência à inserção de múltiplas marc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nutenção de inteligib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cação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on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nidade de imersão de mar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oco de análise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áscara sens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ave: difusão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nidade de detecção e extração de mar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abilidade de detecção corr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abilidade de alarme f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cação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watermarking%20-%20esquema" descr=""/>
          <p:cNvPicPr/>
          <p:nvPr/>
        </p:nvPicPr>
        <p:blipFill>
          <a:blip r:embed="rId1"/>
          <a:stretch/>
        </p:blipFill>
        <p:spPr>
          <a:xfrm>
            <a:off x="1371600" y="2795760"/>
            <a:ext cx="6719760" cy="2614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quema g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cação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bitstream%20watermarking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6121440" cy="342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itstream Waterma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cação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CM%20watermarking" descr=""/>
          <p:cNvPicPr/>
          <p:nvPr/>
        </p:nvPicPr>
        <p:blipFill>
          <a:blip r:embed="rId1"/>
          <a:stretch/>
        </p:blipFill>
        <p:spPr>
          <a:xfrm>
            <a:off x="1219320" y="2631960"/>
            <a:ext cx="6400800" cy="2930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CM Waterma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arcação digi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torções e ata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ição de ruí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ltr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res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otação e escala (imag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dia estat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rcações múltip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home_logo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362320" cy="627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eativeCom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ode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C é possível para o detentor de conteúdo optar pelo grau de proteção que deseja conferir à sua o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rtisita pode optar entre autorizar o uso comercial ou o uso não-comercial de seu trabalho, bem como optar se permite ou não a realização de obras derivadas da s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ntagem : Flexi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cenças para dar mais liberdade aos au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mente só existe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ull copyright (ou é ou não é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4 tipos de licença, entr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pyright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ublic-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udio, Vídeo, Imagens, Texto e Int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ttp://www.creativecommon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home_logo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3623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Introduçã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ande disponibilidade de acesso a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de arquivos simples como texto, hipertexto até víde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ud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asão de priva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não permitido a informação confidencial e/ou restr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genharia de segurança de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m_CreativeCommons2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620120" cy="4038480"/>
          </a:xfrm>
          <a:prstGeom prst="rect">
            <a:avLst/>
          </a:prstGeom>
          <a:ln w="0">
            <a:noFill/>
          </a:ln>
        </p:spPr>
      </p:pic>
      <p:pic>
        <p:nvPicPr>
          <p:cNvPr id="132" name="home_logo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2362320" cy="627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home_logo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362320" cy="6271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878040" y="1917720"/>
            <a:ext cx="7640640" cy="4049640"/>
            <a:chOff x="878040" y="1917720"/>
            <a:chExt cx="7640640" cy="4049640"/>
          </a:xfrm>
        </p:grpSpPr>
        <p:pic>
          <p:nvPicPr>
            <p:cNvPr id="136" name="16" descr=""/>
            <p:cNvPicPr/>
            <p:nvPr/>
          </p:nvPicPr>
          <p:blipFill>
            <a:blip r:embed="rId2"/>
            <a:stretch/>
          </p:blipFill>
          <p:spPr>
            <a:xfrm>
              <a:off x="878040" y="1917720"/>
              <a:ext cx="7640640" cy="40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095880" y="2286000"/>
              <a:ext cx="1752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home_logo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362320" cy="6271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914400" y="1905120"/>
            <a:ext cx="7580160" cy="4047840"/>
            <a:chOff x="914400" y="1905120"/>
            <a:chExt cx="7580160" cy="4047840"/>
          </a:xfrm>
        </p:grpSpPr>
        <p:pic>
          <p:nvPicPr>
            <p:cNvPr id="141" name="5_by" descr=""/>
            <p:cNvPicPr/>
            <p:nvPr/>
          </p:nvPicPr>
          <p:blipFill>
            <a:blip r:embed="rId2"/>
            <a:stretch/>
          </p:blipFill>
          <p:spPr>
            <a:xfrm>
              <a:off x="914400" y="1905120"/>
              <a:ext cx="7580160" cy="40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204880" y="2708640"/>
              <a:ext cx="2001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01800" y="2851560"/>
              <a:ext cx="1501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home_logo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362320" cy="6271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895320" y="1903320"/>
            <a:ext cx="7621560" cy="4048200"/>
            <a:chOff x="895320" y="1903320"/>
            <a:chExt cx="7621560" cy="4048200"/>
          </a:xfrm>
        </p:grpSpPr>
        <p:pic>
          <p:nvPicPr>
            <p:cNvPr id="147" name="14" descr=""/>
            <p:cNvPicPr/>
            <p:nvPr/>
          </p:nvPicPr>
          <p:blipFill>
            <a:blip r:embed="rId2"/>
            <a:stretch/>
          </p:blipFill>
          <p:spPr>
            <a:xfrm>
              <a:off x="895320" y="1903320"/>
              <a:ext cx="7621560" cy="40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86040" y="2295360"/>
              <a:ext cx="3163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po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..produzir música criativa, democrática e livre das amarras do conceito criminoso e antipático de propriedade intelectual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Re:combo abre o conteúdo de suas músicas (seus loops e samples) bem como sua própria identidade para a criação de música criativa, dançante e transgressiv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tit_recomb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496040" cy="906480"/>
          </a:xfrm>
          <a:prstGeom prst="rect">
            <a:avLst/>
          </a:prstGeom>
          <a:ln w="0">
            <a:noFill/>
          </a:ln>
        </p:spPr>
      </p:pic>
      <p:pic>
        <p:nvPicPr>
          <p:cNvPr id="152" name="lg_recombo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749600" cy="1725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lquer pessoa pode fazer o download dos arquivos originais das mús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es arquivos podem ser remixados com softwares free, e depois podem ser enviadas de volta para publ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inda no nível de conc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possui ainda tecnologia que possibilite tais cont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tit_recomb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496040" cy="906480"/>
          </a:xfrm>
          <a:prstGeom prst="rect">
            <a:avLst/>
          </a:prstGeom>
          <a:ln w="0">
            <a:noFill/>
          </a:ln>
        </p:spPr>
      </p:pic>
      <p:pic>
        <p:nvPicPr>
          <p:cNvPr id="156" name="lg_recombo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749600" cy="1725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rmato de Áudio utilizado : Ogg Vorb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ior compac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lhor qu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atuito para desenvolve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tit_recomb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496040" cy="906480"/>
          </a:xfrm>
          <a:prstGeom prst="rect">
            <a:avLst/>
          </a:prstGeom>
          <a:ln w="0">
            <a:noFill/>
          </a:ln>
        </p:spPr>
      </p:pic>
      <p:pic>
        <p:nvPicPr>
          <p:cNvPr id="160" name="lg_recombo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749600" cy="17258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jeto Canto Liv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sendo estudado pelo Márcio Dahia (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sistema de distribuição arquivos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stro de clientes (identificação única com acesso por se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stro de arquivos 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 arquivo que trafegar na rede deve ser previamente cadastrad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usca de arquivos baseado nos meta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ownload (transferência em modo seguro - criptograf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nto fundamental : Segurança (Evitar Pirat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ado no CreativeCom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as Formas de Distribuição Se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ny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nder downloads de mú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o proprietário ATR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ple - iTunes Music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o proprietário AAC (iPo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á vendeu mais de 100 milhões de música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Pod + iTunes : Causando migração para plataforma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as Formas de Distribuição Se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iTunes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476760" cy="3505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gurança e comun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licações e protocolos que garant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gilo, integridade, autenticidade, não-repud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pt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sagens embaralhadas e ilegí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ende aos critérios básicos de segurança, mas não é resposta para todos os problem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utras Formas de Distribuição Se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SN Music Cl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o proprietário WMA (Windows Media Aud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cluem a proteção necessária (anti-cópi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ndo possuir até data de vencimento ou va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reitos autorais e remuneração de interpretes e au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ponível em uma grande variedade de aparel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formatos são diferentes, mas oferecem a mesma qualidade de som e o mesmo tamanho de arqu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Distribuição, licenças e direitos auto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heus Cabral de Araújo Gois "Uma Arquitetura Para Aplicações de Mascaramento de Informações em Imagens" Trabalho de Graduação - UF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arial"/>
              </a:rPr>
              <a:t>http://www.cin.ufpe.br/~tg/2002-2/mc.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ng, Xing “Watermarking on MP3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SC 586B Final Projec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ez-González, Fernando e Hernández, Juan “A Tutorial on Digital Watermarking” Universidad de V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gurança e comun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ptografia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xistência da mensagem é perceb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dá suporte a proteção de direitos auto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sso é um trabalho par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técnicas de Mascaramento de Informaçõ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gan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rcação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ncipal e mais antiga sub-área de Mascaramento de Informa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 grego “                                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te de comunicar de maneira que a existência dessa comunicação passe desaperceb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eganograf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esteganografia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36831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eganograf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exemplo1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943600" cy="2884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2680" y="1981080"/>
            <a:ext cx="17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534816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figura à direita serve de cobertura para transmitir a mensagem: “Minha senha do UNIX é: 123456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te qu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sse contexto, um ataque bem sucedido consiste em ser capaz de detectar a existência de uma mensagem escon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esteganografia é um suplemento a cript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eganograf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0" b="14490"/>
          <a:stretch/>
        </p:blipFill>
        <p:spPr>
          <a:xfrm>
            <a:off x="3581280" y="2819520"/>
            <a:ext cx="4724640" cy="3124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pouco da Hist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ra uma vez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Esteganograf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8:00:13Z</dcterms:created>
  <dc:creator>mecs</dc:creator>
  <dc:description/>
  <dc:language>en-US</dc:language>
  <cp:lastModifiedBy>tqf</cp:lastModifiedBy>
  <dcterms:modified xsi:type="dcterms:W3CDTF">2004-08-02T12:31:54Z</dcterms:modified>
  <cp:revision>45</cp:revision>
  <dc:subject/>
  <dc:title>Marcação digital</dc:title>
</cp:coreProperties>
</file>