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Bk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0CB-76ED-405F-8F17-69DFA25618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dos maiores instituto de pesquisa da Europa, sediado na Alema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ssui mais de 12mil cientistas e orçamento anual de mais de 1 bilhão de E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System G2 : servidores e ferramentas da RealNetworks que criam e servem conteúdo ao seu RealP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3898-4557-42EA-B081-303EF72F5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2796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D5DE-F520-4D18-A57E-5B23FA9C4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A793-1F43-4019-A389-63E5D91BE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CB2E-9B4D-4A5A-B052-DC17E224F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51AE-1617-42F4-92A5-8018D6841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9459-A847-4089-9260-4EACECCDD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41E3-8520-49F6-B09A-B788D5149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F2D7-0B96-4E26-8D23-89F76061C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2819-D88A-46FE-9043-6DA761628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A28D-49BE-497E-A4EF-34C496D8A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2D08-19FA-45BA-896C-3C24A48FC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E07-DC80-4FA7-87C9-05052D1B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4920" y="6480"/>
          <a:ext cx="9109080" cy="68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6480"/>
                    <a:ext cx="9109080" cy="68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1484280"/>
            <a:ext cx="8820000" cy="5373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1865160"/>
          <a:ext cx="8459640" cy="499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65160"/>
                    <a:ext cx="8459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Bk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vantGarde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1024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84720" y="63086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21360"/>
            <a:ext cx="1116000" cy="836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0" y="6199200"/>
          <a:ext cx="90000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199200"/>
                    <a:ext cx="900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-360" y="640080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6FA-C8B0-4D9F-9A3B-FDA188F9F003}" type="slidenum"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        </a:t>
            </a: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e Computação Musical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6000" y="6021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vantGarde Bk BT"/>
              </a:rPr>
              <a:t>Seminário de Computação Musical e Processamento de Som</a:t>
            </a:r>
            <a:endParaRPr b="0" lang="en-US" sz="16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1844640"/>
            <a:ext cx="30956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César F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Eduardo Oliv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Leonardo Gest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Rafael Corre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54DD-ADDB-4B2E-87C6-33789BEDF1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hilips e Sony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introduzem o formato de Audio Digital em CD e o CD-ROM com capacidade de 650Mbyt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ais de 1.000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82-8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20968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076A-9046-451D-A595-FB9B82EB9B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Formato DAT (Japão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Instituto Fraunhofer -&gt; MP3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ais de 10.000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 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8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EA9D-0E25-4271-98C9-D0BD9F94D3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US Robotics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Modem 14.4Kbp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Especificações do MPEG-1 e MP3 aprovad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1Milhão de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8DC6-5D66-4A37-89A7-C1CC3798D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etscape Navigator 1.0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VOSAIC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transmissão de áudio e vídeo em tempo real através d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 Audio 1.0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4-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FC37-1E77-451C-B9BA-2A2D475F7B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Encoding.com e MP3.com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icrosoft: Windows Media Playe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mond: MP3 Player portáti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: RealSystem G2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ntium II Xeon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450MHz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7-9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6F93-BE71-465F-93D5-8DB18942A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apste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 adquire Xing Technology (MPEG Streamming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: RealJukeBox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AudioGalaxy, Kazaa, MusicCity (p2p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opularização do Telefone Celula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9-2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2D5D-F68E-4D2B-9A49-EA60E951F3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3828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29724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BAD6-2EA8-42D8-930C-37BC8AE3C8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opularização” da banda larg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ADSL: 63 milhões no mund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Brasil: 1,5 milhão banda larg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20 milhões acesso a internet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0% dos internautas brasileiros costumam visitar páginas com conteúdo multimídia e rádios online</a:t>
            </a: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vantGarde Bk BT"/>
              </a:rPr>
              <a:t>Fonte: Ibop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Ratings</a:t>
            </a:r>
            <a:r>
              <a:rPr b="0" lang="pt-BR" sz="1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D9B8-AB1B-4B2E-A9FE-FC64E29CA7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Sites de comercialização de músic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vantGarde Bk BT"/>
              </a:rPr>
              <a:t>iTunes (acervo 700mil músicas / 100 milhões de faixas vendidas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vantGarde Bk BT"/>
              </a:rPr>
              <a:t>iMúsica (acordo com mais de 50 gravadoras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ádios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on-line “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rsonalizáveis”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62320" y="4800600"/>
          <a:ext cx="210492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800600"/>
                    <a:ext cx="210492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095880" y="5013360"/>
          <a:ext cx="232884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013360"/>
                    <a:ext cx="23288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5800" y="4665600"/>
          <a:ext cx="160020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65600"/>
                    <a:ext cx="16002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868320" y="5676840"/>
            <a:ext cx="141768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495680" y="4800600"/>
            <a:ext cx="1524240" cy="1485720"/>
            <a:chOff x="4495680" y="4800600"/>
            <a:chExt cx="1524240" cy="1485720"/>
          </a:xfrm>
        </p:grpSpPr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495680" y="4800600"/>
              <a:ext cx="1524240" cy="82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4495680" y="5622480"/>
              <a:ext cx="1524240" cy="6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0B27-072F-4B21-8C75-3FD25BF44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Tocadores de MP3 portáteis e para automóvei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169848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2440-0A37-4F59-949A-65F2423406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4120" y="1484280"/>
            <a:ext cx="8148600" cy="43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F3D9-DE27-4458-89DA-6DA527FEE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úmero de telefones Celulares maior do que o número de telefones fixo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elulares que compõem e tocam músicas mono e polifônica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332000" y="4724280"/>
          <a:ext cx="105732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724280"/>
                    <a:ext cx="10573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451640" y="4149720"/>
          <a:ext cx="90504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4149720"/>
                    <a:ext cx="9050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C206-9132-433D-8709-6C645C2B5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Transmissão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e som “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quase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rfeita” na web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(Chamadas Telefônicas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300720" y="1989000"/>
          <a:ext cx="207648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989000"/>
                    <a:ext cx="20764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276720" y="4941720"/>
          <a:ext cx="29509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941720"/>
                    <a:ext cx="29509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9970-7677-4871-8547-8FDCD38BF8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237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3077-2E25-4A66-96A2-5409C7428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Qosmio E15-AV101 notebook PC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Toshiba 4x1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DVD Player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Virtual Surround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3352680" cy="2847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Curt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1353-1418-4998-95C9-C8FE1FB01D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reative Common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Crédito] 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Uso Comercial]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Derivações]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     [Compartilhe Igual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Curt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0588-20C1-415F-96CE-602FB0D7A2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omposição de música pela Web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vantGarde Bk BT"/>
              </a:rPr>
              <a:t>[Real-Time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úsica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On Demand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sem mídias como CD ou DVD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Médi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9299-220A-4C5C-A788-D231362236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cin.ufpe.br/~music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Áudio na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music-center.com.br/internet.ht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Da Convergência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apagina.pt/arquivo/Artigo.asp?ID=264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A Casa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intel.com/portugues/personal/do_more/music/digital/index.ht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CBF3-2C16-446C-BBAD-AEB72CBAA0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Usina do 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usinadosom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Uma nova proteção aut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jc.uol.com.br/noticias/ler.php?codigo=68101&amp;canal=11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The Convergen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digital-convergence.org/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Nok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nokia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Sam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samsung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F6AF-0582-41D6-972E-A0DCA2F9F3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Sk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skype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Qosm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qosmio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1359-DB91-40B9-AC76-AE3AC5DB7C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apacidade da tecnologia digital unir produtos distintos, serviços e funcionalidades em um único produto / serviço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388620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7377-7B3B-449A-A7D4-91F08AD5E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1484280"/>
          <a:ext cx="395928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39592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3280" y="3860640"/>
          <a:ext cx="4141800" cy="24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860640"/>
                    <a:ext cx="414180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V="1">
            <a:off x="2411280" y="4076640"/>
            <a:ext cx="2159280" cy="1052640"/>
          </a:xfrm>
          <a:custGeom>
            <a:avLst/>
            <a:gdLst>
              <a:gd name="textAreaLeft" fmla="*/ 0 w 2159280"/>
              <a:gd name="textAreaRight" fmla="*/ 2159640 w 215928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C9F4-CDAE-4F9B-9398-02AE77F5D4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69091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Fusão de diferentes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meios de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O encontro de vários camin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2852640"/>
            <a:ext cx="3816360" cy="3606840"/>
            <a:chOff x="4572000" y="2852640"/>
            <a:chExt cx="3816360" cy="3606840"/>
          </a:xfrm>
        </p:grpSpPr>
        <p:sp>
          <p:nvSpPr>
            <p:cNvPr id="81" name=""/>
            <p:cNvSpPr/>
            <p:nvPr/>
          </p:nvSpPr>
          <p:spPr>
            <a:xfrm>
              <a:off x="4932360" y="3645000"/>
              <a:ext cx="165744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357720"/>
              <a:ext cx="3600360" cy="27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64000" y="4797360"/>
              <a:ext cx="180036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8000" y="3933720"/>
              <a:ext cx="15145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4572000" y="2852640"/>
            <a:ext cx="381636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2852640"/>
                      <a:ext cx="381636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03F7-3AC1-43D1-8AF8-51913D0AE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Serviços múltiplos através do mesmo mei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Interação entre diferentes serviços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vantGarde Bk BT"/>
              </a:rPr>
              <a:t>[Digitais e não-Digitais]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18AF-BE81-4EB3-8C9D-913FEB8EF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vantGarde Bk BT"/>
              </a:rPr>
              <a:t>A convergência digital visa não somente dar ao indivíduo o acesso ao mundo via informação, mas também dar ao mundo o acesso ao indivíduo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82D1-EC83-4C3A-A38B-CC011ADC3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7214" r="0" b="19590"/>
          <a:stretch/>
        </p:blipFill>
        <p:spPr>
          <a:xfrm>
            <a:off x="539640" y="1844640"/>
            <a:ext cx="7920000" cy="434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5520" y="617220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tand Samsung GITEX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D55D-C40D-4FA9-9A60-5E973B62E1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C90A-2E97-4FDA-BCFE-28789103D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r</cp:lastModifiedBy>
  <dcterms:modified xsi:type="dcterms:W3CDTF">2004-08-09T14:08:15Z</dcterms:modified>
  <cp:revision>65</cp:revision>
  <dc:subject/>
  <dc:title>PowerPoint Presentation</dc:title>
</cp:coreProperties>
</file>