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DA11-13A0-45F4-A77C-2614FDD0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F75C-98FF-443F-BB02-87B372CF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F145-3B44-402B-97A8-74EEA1453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1997-7586-42E7-A0B3-12539572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EEA1-B2BB-4F71-A213-E8DF4A1F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97CC-2208-4114-819A-E9C89205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2F74-93A9-4E3C-B23C-C9E479AA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67BC-5876-4E11-BD0E-CC0F5709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8ECE-964E-4491-AA14-7DB1007A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4E3E-ADBC-46F1-97E8-A588988C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17C8-FA41-419C-BE9B-8468CDB6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EDE4-185B-4E76-8639-117E346E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F450-3711-4984-812A-C34D17E3C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s.columbia.edu/~hgs/rtp/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Áudio sob Dem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ré Luiz de Sousa L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or Mesquita Barb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es José A. M. Jún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o Túlio C. F. Albuquer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ente Vieira Fil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avizar entrada com a utilização de bu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uffer Elás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do é pré-carre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verso ao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toc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37160" y="4184640"/>
            <a:ext cx="4038480" cy="900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43280" y="1889280"/>
            <a:ext cx="4038840" cy="1755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476360" y="5291280"/>
            <a:ext cx="55515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ei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3300"/>
                </a:solidFill>
                <a:latin typeface="Arial"/>
              </a:rPr>
              <a:t>Tecnolog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al Á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Protoc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J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bl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c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S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urce Reservation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arantir Q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ote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lasse de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erva de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role de Admiss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gendamento de pac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g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c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SVP, contin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lientes iniciam reser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serva pode ser person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ervas podem ter estilos difer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últiplo conteúdo em uma fo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 conteúdo, várias fo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oteadores usam “soft sta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ado é colocado em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ualizado periódic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48320" y="2914560"/>
            <a:ext cx="403848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c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al Time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ver redes ponto-a-ponto na camada de transporte para aplicações em tempo 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sualmente usa TCP ou U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garante QoS, diferente do RS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c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TCP – Real Time Control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nitora a entrega dos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calável para redes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ver feedback da qualidade, possivelmento com ident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TP envia os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TCP monitora a qualidade do env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ei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3300"/>
                </a:solidFill>
                <a:latin typeface="Arial"/>
              </a:rPr>
              <a:t>Tecnolog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al Á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toc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J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bl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nolo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J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ava Media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I para áudio, vídeo e outras mídias baseadas em 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licações e applets – tecnologia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matos suportados (AU, AVI, MIDI, MPEG, Quicktime, WAV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ptura áudio (microfone) e vídeo (camera) e armazena em formato supor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nsmite mídia em formato stream através da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nolo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JM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racterísticas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missão de áudio e vídeo em tempo real na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ádio e programas de televisão ao vivo (broadc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licação RTP e playback de biblioteca de áudio/vídeo sobre 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P Multicast e Uni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ão existe conexão na praia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o fazer o retorno ao servidor, interativ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es Celular ainda ca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dade do á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ssão da codifi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ssão U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á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cê gosta de ao acordar escutar o último repórter CBN. Depois colocando a meia você perde o comentário de Xexéu, então você clica num botão e ouve novamente... Pra tomar café você prefere escutar um jazz. Ao sair de casa continua a escutar a CBN no carro, exatamente de onde você parou pro café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s.columbia.edu/~hgs/rtp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on Bogue. “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Audio On Demand”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 Radio Academy, The Radio Festi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ernet Protocols for Multimedia. Scott Midkiff, Lecture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BD00028_" descr=""/>
          <p:cNvPicPr/>
          <p:nvPr/>
        </p:nvPicPr>
        <p:blipFill>
          <a:blip r:embed="rId1"/>
          <a:stretch/>
        </p:blipFill>
        <p:spPr>
          <a:xfrm>
            <a:off x="1627200" y="595440"/>
            <a:ext cx="553572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Áudio sob Dem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ré Luiz de Sousa L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or Mesquita Barb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es José A. M. Jún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o Túlio C. F. Albuquer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ente Vieira Fil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ei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3300"/>
                </a:solidFill>
                <a:latin typeface="Arial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cnolog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al Á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toc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J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bl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stemas Multimí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matos de arquivos multimí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quitetura de Serv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nda muito la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/O efi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Oper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vos tipos de 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rrupções velo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calonamento em tempo real (on-l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maze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istemas Multimídia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rmazen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pac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esso Ráp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atência baixa,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riação da latência baixa, j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Áudio sob Dem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042920" y="3141720"/>
            <a:ext cx="1368360" cy="1722240"/>
            <a:chOff x="1042920" y="3141720"/>
            <a:chExt cx="1368360" cy="1722240"/>
          </a:xfrm>
        </p:grpSpPr>
        <p:sp>
          <p:nvSpPr>
            <p:cNvPr id="53" name=""/>
            <p:cNvSpPr/>
            <p:nvPr/>
          </p:nvSpPr>
          <p:spPr>
            <a:xfrm>
              <a:off x="1258920" y="3141720"/>
              <a:ext cx="863640" cy="64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42920" y="4221360"/>
              <a:ext cx="13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nco de Conteú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03640" y="42210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012000" y="3860640"/>
            <a:ext cx="857160" cy="75276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6156360" y="2205000"/>
            <a:ext cx="1295280" cy="1224720"/>
            <a:chOff x="6156360" y="2205000"/>
            <a:chExt cx="1295280" cy="12247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156360" y="2205000"/>
              <a:ext cx="129528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227640" y="306144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203640" y="1700280"/>
            <a:ext cx="1365120" cy="2225880"/>
            <a:chOff x="3203640" y="1700280"/>
            <a:chExt cx="1365120" cy="222588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3272760" y="1700280"/>
              <a:ext cx="895320" cy="15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203640" y="3283560"/>
              <a:ext cx="136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Servidor We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 flipV="1">
            <a:off x="2195640" y="3068280"/>
            <a:ext cx="1008000" cy="64764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95640" y="3716280"/>
            <a:ext cx="936360" cy="122544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276640"/>
            <a:ext cx="208764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5940360" y="5661000"/>
            <a:ext cx="800280" cy="790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V="1">
            <a:off x="5003640" y="4221000"/>
            <a:ext cx="1008360" cy="64800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03640" y="4869000"/>
            <a:ext cx="1008360" cy="100800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003640" y="2924280"/>
            <a:ext cx="1297080" cy="194472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ei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3300"/>
                </a:solidFill>
                <a:latin typeface="Arial"/>
              </a:rPr>
              <a:t>Tecnolog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al Á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toc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J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bl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nolo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al A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ortante por seu pioneir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Áudio sob demanda em tempo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PEG 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T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al time streaming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coder, 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c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G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net Group Management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formações para roteadores montarem tabelas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648320" y="1849320"/>
            <a:ext cx="4038480" cy="858600"/>
            <a:chOff x="4648320" y="1849320"/>
            <a:chExt cx="4038480" cy="85860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4648320" y="2135160"/>
              <a:ext cx="4038480" cy="57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5219640" y="1849320"/>
              <a:ext cx="30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COTE 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4637160" y="3284640"/>
            <a:ext cx="4038480" cy="2517840"/>
            <a:chOff x="4637160" y="3284640"/>
            <a:chExt cx="4038480" cy="2517840"/>
          </a:xfrm>
        </p:grpSpPr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637160" y="3841920"/>
              <a:ext cx="4038480" cy="19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4781520" y="3284640"/>
              <a:ext cx="367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firmação periód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2T01:47:29Z</dcterms:created>
  <dc:creator>Túlio C.</dc:creator>
  <dc:description/>
  <dc:language>en-US</dc:language>
  <cp:lastModifiedBy>mtcfa</cp:lastModifiedBy>
  <dcterms:modified xsi:type="dcterms:W3CDTF">2004-08-02T12:50:01Z</dcterms:modified>
  <cp:revision>63</cp:revision>
  <dc:subject/>
  <dc:title>Áudio sob Demanda</dc:title>
</cp:coreProperties>
</file>