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AB3-1A52-49E2-8FBE-5DDB1F76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DF4-B66C-456D-87AA-4D00DD45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5C9-00D2-4182-89B4-C3213A5F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850-AF9F-4CEE-AC7E-5AA8B41C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FB39-1D93-4B9A-965F-AAC8132A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CB25-D32C-460B-8F60-BBCB821A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0DA2-F3FE-48C7-A0B8-C046151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804-8807-4714-B76C-2184088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D83F-998A-410C-9E1D-AEA33E6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7EEE-2DF7-4D6B-BB37-9AA63E56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BA46-923E-439B-BFFD-904AAD9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753-5AD0-4399-A057-E837E96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4DCC-4638-40A4-B240-943251E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0295-4A18-4ABD-A1B2-1F80CEF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34E4-6707-4080-A461-561E686C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5C2-FB1F-4E92-9645-F0BA16C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7393-DCE7-4DE4-9EAB-D0E3E4E4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CFC-D8F1-4A6A-806C-C61CC01C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EFC-2520-43C4-949F-7F29F160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CB8-27FD-4D35-B843-540B837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B6-D824-4526-BCBC-0325016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46E-E0D0-4191-9307-6116C5D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E9F-8D81-46AA-B283-F09B3C7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51D-4BBB-4F34-A009-EAB5A13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09D-C277-4857-BAF9-C345D304088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680-3E92-430D-B21B-0D23D7CDCC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nálise Harmôni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276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dro Henrique Luna de F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icardo Enrique Pereira Scho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tor Cavalcanti Da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n/UFPE  -  Ciência da Computaç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Musical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523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880" y="279072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362320" y="4847760"/>
            <a:ext cx="2867040" cy="1556280"/>
            <a:chOff x="2362320" y="4847760"/>
            <a:chExt cx="2867040" cy="1556280"/>
          </a:xfrm>
        </p:grpSpPr>
        <p:sp>
          <p:nvSpPr>
            <p:cNvPr id="124" name=""/>
            <p:cNvSpPr/>
            <p:nvPr/>
          </p:nvSpPr>
          <p:spPr>
            <a:xfrm>
              <a:off x="2805480" y="5578560"/>
              <a:ext cx="24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-Dominant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intermediá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362320" y="48477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38480" y="484776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F15-3837-4BE3-A437-07CEE42124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279396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638680" y="4775040"/>
            <a:ext cx="2133720" cy="1628640"/>
            <a:chOff x="5638680" y="4775040"/>
            <a:chExt cx="2133720" cy="1628640"/>
          </a:xfrm>
        </p:grpSpPr>
        <p:sp>
          <p:nvSpPr>
            <p:cNvPr id="132" name=""/>
            <p:cNvSpPr/>
            <p:nvPr/>
          </p:nvSpPr>
          <p:spPr>
            <a:xfrm>
              <a:off x="5762880" y="55782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omin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tensã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638680" y="477504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629400" y="477504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7AA-E912-4714-A784-7B7B101D4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b-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Dominant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sub-dominante--dominante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200400" cy="30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FC1-353C-4FBA-90CC-A5E081624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Tôn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dominante-tonica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786120" cy="316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927-48F5-494F-AB23-F27554364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b-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Tôn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sub-dominante-dominante-tonica" descr=""/>
          <p:cNvPicPr/>
          <p:nvPr/>
        </p:nvPicPr>
        <p:blipFill>
          <a:blip r:embed="rId2"/>
          <a:stretch/>
        </p:blipFill>
        <p:spPr>
          <a:xfrm>
            <a:off x="2590920" y="2225520"/>
            <a:ext cx="4114800" cy="323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EA2-71D5-4691-B69D-E776B977A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 que é Análise Harmônica Funcional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4D9-F5BC-4F07-ABE9-E79DF3F8A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Para quê serve a Análise Harmônica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si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is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 escalas u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harmoniz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ança na Harmonia de uma música, mantendo a melodi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n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u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5B9-DEFB-4F60-9255-D2895BEFFB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ssíveis Abordage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c Steed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Generative Grammar for Jazz Chord Sequenc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éia: Uma gramática que englobasse todo o B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m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m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B68-5F13-45CF-811B-628B9583A8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bordagem Escolhida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ferência e Propost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rançois Pach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õe a resolução do problema em três pas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ssificação dos Gaps (Lacun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918-49EE-46E4-A7A5-C4F7F33081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.: “Identifique um II-V Mai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todo (c1, c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c2 segue c1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1 é menor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1 não é meio-diminuto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2 é dominante 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intervalo é 4ª ju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ão é criado um chunk “II-V Mai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36D-1EAF-4E00-84BF-0E2845526F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itos de Harmo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que serve a Análise Harmô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íveis Abordag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rdagem Escolh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AB2-058F-48BD-9368-17F2926F8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6294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876920"/>
            <a:ext cx="1905120" cy="53316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12408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12408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495288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2057400" cy="53316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523880" y="56383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4864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63868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54860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5627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956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580920" y="55627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29528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8006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11480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CF5-7C18-41FC-A43F-DC5B315ED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cisões empír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“II-V Menor” é preferido a “V-I Mai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unks maiores têm preferê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EF4-01C0-4326-B9C2-E2EA4AA490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2448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952880"/>
            <a:ext cx="3200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312408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12408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95288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C7E-1E50-4C5E-9597-59FD60E58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000000"/>
                </a:solidFill>
                <a:latin typeface="Tahoma"/>
              </a:rPr>
              <a:t>Classificação dos Gap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acorde tiver um vizinho igual, im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vizinho estiver no mesmo campo harmônico, im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não, pode criar um chunk unitári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I Maior” ou “I Men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635-0567-4839-8A25-E923F0169D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000000"/>
                </a:solidFill>
                <a:latin typeface="Tahoma"/>
              </a:rPr>
              <a:t>Classificação dos Gap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24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029200"/>
            <a:ext cx="3200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320040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981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20040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02920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200400"/>
            <a:ext cx="914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981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FA2-8C35-4907-B4B2-5D1ED41EFB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rquitetura do Analisad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638320" y="3581280"/>
            <a:ext cx="762120" cy="0"/>
          </a:xfrm>
          <a:prstGeom prst="line">
            <a:avLst/>
          </a:prstGeom>
          <a:ln w="9360">
            <a:solidFill>
              <a:srgbClr val="99cc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068720"/>
            <a:ext cx="0" cy="76212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78200" y="4083120"/>
            <a:ext cx="0" cy="76176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73160" y="2757600"/>
            <a:ext cx="4680" cy="69984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2286000"/>
            <a:ext cx="190476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459240"/>
            <a:ext cx="190476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459240"/>
            <a:ext cx="190512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is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21400" y="4846680"/>
            <a:ext cx="1676520" cy="1219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Motor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fer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(Jeo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876920"/>
            <a:ext cx="1904760" cy="7617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ado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ída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19520" y="5257800"/>
            <a:ext cx="91440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2514600"/>
            <a:ext cx="91440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H="1">
            <a:off x="5638320" y="3886200"/>
            <a:ext cx="76212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4086360"/>
            <a:ext cx="0" cy="761760"/>
          </a:xfrm>
          <a:prstGeom prst="line">
            <a:avLst/>
          </a:prstGeom>
          <a:ln w="9360">
            <a:solidFill>
              <a:srgbClr val="99cc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E1F-9DF4-4878-B61B-DAE31A7A16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Obrigad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062-DC17-44B9-B249-5FC936F031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álise Harmôn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dro Henrique Luna de Farias &lt;phlf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icardo Enrique Pereira Scholz &lt;reps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tor Cavalcanti Dantas &lt;vcd2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715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n/UFPE  -  Ciência da Computaç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Musical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eito de Harmo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onia é a arte de usar notas simultâneas na mús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ecto vertical da mús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lavra harmonia vem do grego e significa junção ou amarr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nte: Wikip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653-75DC-43C6-B722-48661EDB1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eito de Harmo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lues For Alice (Charlie Park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BluesForAlice-Intro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772400" cy="30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02A-C8BF-4D55-BA04-3F91DA7F4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l do acorde em determinado contex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çõ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x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sã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á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CF6-1199-4DDC-BE32-23A310508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676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2743200"/>
            <a:ext cx="8305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3200"/>
            <a:ext cx="8305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1D5-C57F-4AD5-8CFE-A53511D29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raus-intro-colorido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2743200"/>
            <a:ext cx="8305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24C-B2B9-4AE8-A79A-9167007C3C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0880" y="279864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3AC-42A6-49F7-86CF-59BCBEBDA3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868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278280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28520" y="4764240"/>
            <a:ext cx="6424560" cy="1639800"/>
            <a:chOff x="128520" y="4764240"/>
            <a:chExt cx="6424560" cy="1639800"/>
          </a:xfrm>
        </p:grpSpPr>
        <p:sp>
          <p:nvSpPr>
            <p:cNvPr id="115" name=""/>
            <p:cNvSpPr/>
            <p:nvPr/>
          </p:nvSpPr>
          <p:spPr>
            <a:xfrm>
              <a:off x="128520" y="5578560"/>
              <a:ext cx="218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ô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relaxament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143000" y="4916160"/>
              <a:ext cx="76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43000" y="476424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143000" y="4764240"/>
              <a:ext cx="5410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0FE-3609-4AF1-8103-3D7EE0D95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19:56Z</dcterms:created>
  <dc:creator>Dantas</dc:creator>
  <dc:description/>
  <dc:language>en-US</dc:language>
  <cp:lastModifiedBy>Dantas</cp:lastModifiedBy>
  <dcterms:modified xsi:type="dcterms:W3CDTF">2004-08-18T10:28:34Z</dcterms:modified>
  <cp:revision>30</cp:revision>
  <dc:subject/>
  <dc:title>Análise Harmônica</dc:title>
</cp:coreProperties>
</file>