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9CFC-24C4-4315-853B-3FF9DE736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sical Exper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617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5640" y="4802040"/>
            <a:ext cx="617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5640" y="480204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48240" y="480204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72560" y="388620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59480" y="388620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5640" y="480204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72560" y="480204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59480" y="480204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856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285640" y="22856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5640" y="480204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56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48240" y="480204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5640" y="4802040"/>
            <a:ext cx="617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617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285640" y="4802040"/>
            <a:ext cx="617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5640" y="480204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48240" y="480204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72560" y="388620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59480" y="388620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285640" y="480204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72560" y="480204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59480" y="480204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5640" y="22856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5640" y="480204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48240" y="480204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5640" y="4802040"/>
            <a:ext cx="617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091440" cy="304560"/>
          </a:xfrm>
          <a:custGeom>
            <a:avLst/>
            <a:gdLst/>
            <a:ahLst/>
            <a:rect l="l" t="t" r="r" b="b"/>
            <a:pathLst>
              <a:path w="4224" h="192">
                <a:moveTo>
                  <a:pt x="0" y="96"/>
                </a:moveTo>
                <a:lnTo>
                  <a:pt x="3264" y="96"/>
                </a:lnTo>
                <a:lnTo>
                  <a:pt x="3360" y="0"/>
                </a:lnTo>
                <a:lnTo>
                  <a:pt x="4224" y="0"/>
                </a:lnTo>
                <a:lnTo>
                  <a:pt x="4224" y="192"/>
                </a:lnTo>
                <a:lnTo>
                  <a:pt x="0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070760" y="648504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utação Mu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0800000">
            <a:off x="52560" y="75960"/>
            <a:ext cx="9091440" cy="304560"/>
          </a:xfrm>
          <a:custGeom>
            <a:avLst/>
            <a:gdLst/>
            <a:ahLst/>
            <a:rect l="l" t="t" r="r" b="b"/>
            <a:pathLst>
              <a:path w="4224" h="192">
                <a:moveTo>
                  <a:pt x="0" y="96"/>
                </a:moveTo>
                <a:lnTo>
                  <a:pt x="3264" y="96"/>
                </a:lnTo>
                <a:lnTo>
                  <a:pt x="3360" y="0"/>
                </a:lnTo>
                <a:lnTo>
                  <a:pt x="4224" y="0"/>
                </a:lnTo>
                <a:lnTo>
                  <a:pt x="4224" y="192"/>
                </a:lnTo>
                <a:lnTo>
                  <a:pt x="0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fig" descr=""/>
          <p:cNvPicPr/>
          <p:nvPr/>
        </p:nvPicPr>
        <p:blipFill>
          <a:blip r:embed="rId2"/>
          <a:stretch/>
        </p:blipFill>
        <p:spPr>
          <a:xfrm>
            <a:off x="76320" y="5562720"/>
            <a:ext cx="512640" cy="1095120"/>
          </a:xfrm>
          <a:prstGeom prst="rect">
            <a:avLst/>
          </a:prstGeom>
          <a:ln w="0">
            <a:noFill/>
          </a:ln>
        </p:spPr>
      </p:pic>
      <p:pic>
        <p:nvPicPr>
          <p:cNvPr id="4" name="nota1" descr=""/>
          <p:cNvPicPr/>
          <p:nvPr/>
        </p:nvPicPr>
        <p:blipFill>
          <a:blip r:embed="rId3"/>
          <a:stretch/>
        </p:blipFill>
        <p:spPr>
          <a:xfrm>
            <a:off x="2743200" y="1565280"/>
            <a:ext cx="5105520" cy="4454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-198000" y="10620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5E7D-AD2C-4914-97FF-2236C7910D9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477120"/>
            <a:ext cx="9091440" cy="304560"/>
          </a:xfrm>
          <a:custGeom>
            <a:avLst/>
            <a:gdLst/>
            <a:ahLst/>
            <a:rect l="l" t="t" r="r" b="b"/>
            <a:pathLst>
              <a:path w="4224" h="192">
                <a:moveTo>
                  <a:pt x="0" y="96"/>
                </a:moveTo>
                <a:lnTo>
                  <a:pt x="3264" y="96"/>
                </a:lnTo>
                <a:lnTo>
                  <a:pt x="3360" y="0"/>
                </a:lnTo>
                <a:lnTo>
                  <a:pt x="4224" y="0"/>
                </a:lnTo>
                <a:lnTo>
                  <a:pt x="4224" y="192"/>
                </a:lnTo>
                <a:lnTo>
                  <a:pt x="0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70760" y="648504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utação Mu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fig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153828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0800000">
            <a:off x="52560" y="75600"/>
            <a:ext cx="9091440" cy="990360"/>
          </a:xfrm>
          <a:custGeom>
            <a:avLst/>
            <a:gdLst/>
            <a:ahLst/>
            <a:rect l="l" t="t" r="r" b="b"/>
            <a:pathLst>
              <a:path w="4224" h="192">
                <a:moveTo>
                  <a:pt x="0" y="96"/>
                </a:moveTo>
                <a:lnTo>
                  <a:pt x="3264" y="96"/>
                </a:lnTo>
                <a:lnTo>
                  <a:pt x="3360" y="0"/>
                </a:lnTo>
                <a:lnTo>
                  <a:pt x="4224" y="0"/>
                </a:lnTo>
                <a:lnTo>
                  <a:pt x="4224" y="192"/>
                </a:lnTo>
                <a:lnTo>
                  <a:pt x="0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152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quipe Blue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nota1" descr=""/>
          <p:cNvPicPr/>
          <p:nvPr/>
        </p:nvPicPr>
        <p:blipFill>
          <a:blip r:embed="rId3"/>
          <a:stretch/>
        </p:blipFill>
        <p:spPr>
          <a:xfrm>
            <a:off x="2743200" y="1565280"/>
            <a:ext cx="5105520" cy="4454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733920"/>
            <a:ext cx="57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3.jpe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image" Target="../media/image3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3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hyperlink" Target="http://www.cus.cam.ac.uk/~ssb22/project/dissertation.html#tth_chAp1" TargetMode="External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sonicartsnetwork.org/ARTICLES/article_robinson.html" TargetMode="External"/><Relationship Id="rId3" Type="http://schemas.openxmlformats.org/officeDocument/2006/relationships/hyperlink" Target="http://www.sonicartsnetwork.org/ARTICLES/article_robinson.htm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alanr.www.media.mit.edu/people/alanr/phdthesiprop/thesisprop.html" TargetMode="External"/><Relationship Id="rId6" Type="http://schemas.openxmlformats.org/officeDocument/2006/relationships/hyperlink" Target="http://alanr.www.media.mit.edu/people/alanr/phdthesiprop/thesisprop.html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-poleia.lip6.fr/~fdp/MusES.html" TargetMode="External"/><Relationship Id="rId9" Type="http://schemas.openxmlformats.org/officeDocument/2006/relationships/hyperlink" Target="http://www-poleia.lip6.fr/~fdp/MusES.html" TargetMode="External"/><Relationship Id="rId10" Type="http://schemas.openxmlformats.org/officeDocument/2006/relationships/image" Target="../media/image3.jpeg"/><Relationship Id="rId11" Type="http://schemas.openxmlformats.org/officeDocument/2006/relationships/hyperlink" Target="http://www.geocities.com/mundodemerlin/renascenca.htm" TargetMode="External"/><Relationship Id="rId12" Type="http://schemas.openxmlformats.org/officeDocument/2006/relationships/hyperlink" Target="http://www.geocities.com/mundodemerlin/renascenca.htm" TargetMode="External"/><Relationship Id="rId1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musical &amp; AP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56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inário de Computação Mus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1522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Bruno &amp; Erico &amp; Gustavo &amp; Luciano &amp; Re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to I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2856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ção Mus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Musica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ndo R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É uma experiência, não existe armazena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ú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rti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abla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ifr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rtituras+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 (conceit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49532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ndo Comput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Wave, PCM, Aiff, mp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inguagens de Sínte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ú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ID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IDI+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inguagens de Alto Ní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Computaciona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303720" y="5486400"/>
            <a:ext cx="5383080" cy="608040"/>
            <a:chOff x="3303720" y="5486400"/>
            <a:chExt cx="5383080" cy="608040"/>
          </a:xfrm>
        </p:grpSpPr>
        <p:sp>
          <p:nvSpPr>
            <p:cNvPr id="133" name=""/>
            <p:cNvSpPr/>
            <p:nvPr/>
          </p:nvSpPr>
          <p:spPr>
            <a:xfrm>
              <a:off x="3303720" y="5486400"/>
              <a:ext cx="2411280" cy="6080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46800" y="5486400"/>
              <a:ext cx="2340000" cy="6080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Wa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303720" y="4648320"/>
            <a:ext cx="5383080" cy="608040"/>
            <a:chOff x="3303720" y="4648320"/>
            <a:chExt cx="5383080" cy="608040"/>
          </a:xfrm>
        </p:grpSpPr>
        <p:sp>
          <p:nvSpPr>
            <p:cNvPr id="136" name=""/>
            <p:cNvSpPr/>
            <p:nvPr/>
          </p:nvSpPr>
          <p:spPr>
            <a:xfrm>
              <a:off x="3303720" y="4648320"/>
              <a:ext cx="2411280" cy="6080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PI de Manipul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(JavaSoun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46800" y="4648320"/>
              <a:ext cx="2340000" cy="6080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inguagens de Sínte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SOM-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303720" y="3809880"/>
            <a:ext cx="5383080" cy="608040"/>
            <a:chOff x="3303720" y="3809880"/>
            <a:chExt cx="5383080" cy="608040"/>
          </a:xfrm>
        </p:grpSpPr>
        <p:sp>
          <p:nvSpPr>
            <p:cNvPr id="139" name=""/>
            <p:cNvSpPr/>
            <p:nvPr/>
          </p:nvSpPr>
          <p:spPr>
            <a:xfrm>
              <a:off x="3303720" y="3809880"/>
              <a:ext cx="2411280" cy="6080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Representação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onhecimento (Mus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6800" y="3809880"/>
              <a:ext cx="2340000" cy="6080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nipulação Mu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via Wa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303720" y="2971800"/>
            <a:ext cx="2411280" cy="608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PA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5240" y="5486400"/>
            <a:ext cx="1601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m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5240" y="4649760"/>
            <a:ext cx="1601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st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5240" y="3809880"/>
            <a:ext cx="1601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guagen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o Ní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5240" y="2971800"/>
            <a:ext cx="1601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lic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23018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2133720"/>
            <a:ext cx="0" cy="426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230184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ú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Computaciona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ormas de representaçã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udio: 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presentação “Procedimental”: MID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oftwares editores de partitura e seqüenciadores (MIDI Extendid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inguagens específ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Áud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ostragem do comportamento das ondas sonoras ao longo do t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proveitamento de s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ag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rag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nhecimento de padrões mais difíc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o “matrici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Áud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ftwa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C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e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ound Fo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Wave labs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ID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sic Instrument Digital Interface”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oteiro (“log”) de como a máquina deve executar a mús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aproveitamento de s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ansposi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teração de and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teração de timb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ixagem, Filtragem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ID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conhecimento de padrões simplifi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ormato “vetoria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tring Match” + “Know How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oftwares/AP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Java Sound: M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he Jazz Guitarrist (play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Karaokê (.kar), SM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ftwares editores de partitura e seqüenciador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IDI Estendid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rmazenamento de posição e tempo de objetos music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ansi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ventos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cilidade na representação da música em 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IDI Estendid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aproveitamento de so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aproveitamento de objetos music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er Friendly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conhecimento de Padrõ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drões de objetos music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ssível comparação gráf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to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IDI Estendid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ftwa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dito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inale, Encore, Sibeliu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qüenciador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akewalk, Anvil, Protool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nguagens Específic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tativa de representar não a música, mas o conhecimento mus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tos de alto nível para representar tais conhecimen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ção entre objetos gera a mús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nguagens Específic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aproveitamento music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uso de conhecimentos music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deal para um “composito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conhecimento de Padrõ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drões representados pelos obje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oftwa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and in a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Jam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??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to II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2856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ção de Conhecimento Mus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o representar a músic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digma O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ção de alto nível do conhecimento mu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dade na implementação (materialização) de diferentes concei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nomia dos obje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ança e Deleg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u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stema desenvolvido na Univ. Paris V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. Pachet, G. Ramalho, P.-Y. Rolland, P. Roy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presenta o conhecimento musical e suas propriedades através do paradigma O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motiv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lataforma reutilizável em várias aplicações para representar, criar e manipular objetos musica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mplementado em Small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uanto ao temp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mpo possui papel importante na mús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os de repres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valo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empo de início + dur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nto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tas dispostas em uma linha temp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o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nsagens de contr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ão temporai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ão dependem do te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ramente conceitu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divis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ão dependentes de oitava: Conteúdo rela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a, Intervalo, Ac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entes de oitava: Freqüências específic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cala, Nota dependente de oitava, acorde dependente de oita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jeto Not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presenta a nota abstr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endida p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ta Natural: D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R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ta Altera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ta Sustenida: D#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Ré susten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ta Bemol: Db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Ré bem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ta Sustenida dobrada: D##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Ré sustenido dobrad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ta Bemol dobrada: Dbb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Ré bemol dobr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jeto Not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ribu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esso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en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m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T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2762280" y="1666800"/>
            <a:ext cx="61531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tiva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que representar músic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rvar conhecimento mu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nar mú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ronizar os mús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r e edit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a comput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produzi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presentar conhecimento mu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ri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jeto Interval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tribu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ip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Quantas notas serão enumera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: segunda, terça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mit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presentam a distância entre os semit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: 1 (Dó), 2(Dó#/Réb), 3(Ré)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semitons são restritos pelo ti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jeto Escal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ção de seqüência dentro de um grupo definido de sete intervalos, a partir de uma rai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ribu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iz: no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o: maior, menor, menor harmônica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ota Dependente de Oit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ficação da Freqüência da No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ribu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a: Dó, Ré, Mi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itava: 1,2,3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jeto Acor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junto de notas formado por uma estrutura aplicada sobre uma rai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tribu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aiz: No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rutura: 7M, dim5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7M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Dó+Mi+Sol+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dim5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Ré+Fá+Lá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corde Dependente de Oit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eção de notas dependentes específ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ribu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a de Notas dependentes de oit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: Acorde C3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tas (Dó3, Mi3, Sol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mporai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erialização dos conce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ito de Lap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o tempo como dois atribu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étodos para acesso e compar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etria com os Não Tempor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mporai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iferentes abordag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rientada à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bjetos temporais criados dinamicam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apso “fora” das notas – melhor modularid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emplo: MODE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rientada à anál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anipulação e reconhecimento de padrões loc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apso associado às notas – autonomia dos obje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emplo: PAC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mporai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tos Tempor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ção básica dos objetos que dependem do te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 Tempo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rde Tempo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lo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Silêncio Musical não possui  uma equivalência não temp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eção de Objetos Tempor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jetos Temporai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as Tempor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 Dependente de Esc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rdes Tempor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rde Dependente de Esc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lodi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ribu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mad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s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as (instâncias de Coleção de Objetos Tempora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Musical:Histór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ús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mpre existiu em diferentes povo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alta de forma de transcrição e perpetuaçã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récia (330 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imeiros a sistematizar o conceito de som e definir notas e escala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tas  baseadas no alfabeto greg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scalas divididas em mo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olio, locrio, jonico, dorico, frigio, lidio, mixoli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erança e Delega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classe definida a partir de uma cla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: Notas Temporais herdam de Objeto Tempo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do uma classe possui características de duas classes distintas o que faz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ança Múltip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rdar de muitos objetos + estratégia de resolução de confli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g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ter como atributo uma instância de outra classe + árvore de herança sim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erança e Delega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19810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1981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s Tempo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2666880"/>
            <a:ext cx="1905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tos Tempor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676520" y="4952880"/>
            <a:ext cx="2361960" cy="1371600"/>
            <a:chOff x="1676520" y="4952880"/>
            <a:chExt cx="2361960" cy="1371600"/>
          </a:xfrm>
        </p:grpSpPr>
        <p:sp>
          <p:nvSpPr>
            <p:cNvPr id="240" name=""/>
            <p:cNvSpPr/>
            <p:nvPr/>
          </p:nvSpPr>
          <p:spPr>
            <a:xfrm>
              <a:off x="1676520" y="4952880"/>
              <a:ext cx="9903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a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mpora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95480" y="5791320"/>
              <a:ext cx="11430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ord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mpora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362320" y="4190760"/>
            <a:ext cx="1143000" cy="1600200"/>
            <a:chOff x="2362320" y="4190760"/>
            <a:chExt cx="1143000" cy="1600200"/>
          </a:xfrm>
        </p:grpSpPr>
        <p:sp>
          <p:nvSpPr>
            <p:cNvPr id="243" name=""/>
            <p:cNvSpPr/>
            <p:nvPr/>
          </p:nvSpPr>
          <p:spPr>
            <a:xfrm flipV="1">
              <a:off x="2362320" y="4191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505320" y="41907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85800" y="3048120"/>
            <a:ext cx="3200400" cy="1218960"/>
            <a:chOff x="685800" y="3048120"/>
            <a:chExt cx="3200400" cy="1218960"/>
          </a:xfrm>
        </p:grpSpPr>
        <p:sp>
          <p:nvSpPr>
            <p:cNvPr id="246" name=""/>
            <p:cNvSpPr/>
            <p:nvPr/>
          </p:nvSpPr>
          <p:spPr>
            <a:xfrm>
              <a:off x="1752480" y="3886200"/>
              <a:ext cx="21337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etos de Deleg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819520" y="3048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5800" y="3886200"/>
              <a:ext cx="8380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lên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295280" y="3048120"/>
              <a:ext cx="457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257800" y="1981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s Não Tempo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362320" y="3885840"/>
            <a:ext cx="2743200" cy="1905480"/>
            <a:chOff x="2362320" y="3885840"/>
            <a:chExt cx="2743200" cy="1905480"/>
          </a:xfrm>
        </p:grpSpPr>
        <p:sp>
          <p:nvSpPr>
            <p:cNvPr id="252" name=""/>
            <p:cNvSpPr/>
            <p:nvPr/>
          </p:nvSpPr>
          <p:spPr>
            <a:xfrm flipV="1">
              <a:off x="2362320" y="3885840"/>
              <a:ext cx="2209680" cy="1066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505320" y="5257800"/>
              <a:ext cx="160020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495680" y="2743200"/>
            <a:ext cx="3581640" cy="2743200"/>
            <a:chOff x="4495680" y="2743200"/>
            <a:chExt cx="3581640" cy="2743200"/>
          </a:xfrm>
        </p:grpSpPr>
        <p:sp>
          <p:nvSpPr>
            <p:cNvPr id="255" name=""/>
            <p:cNvSpPr/>
            <p:nvPr/>
          </p:nvSpPr>
          <p:spPr>
            <a:xfrm>
              <a:off x="5562720" y="2743200"/>
              <a:ext cx="761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95680" y="3581280"/>
              <a:ext cx="19051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as Depend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05520" y="5181480"/>
              <a:ext cx="20574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ordes Depend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5200" y="3352680"/>
              <a:ext cx="7621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ca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10080" y="4267080"/>
              <a:ext cx="10670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or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019920" y="45716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CHET, FRANÇOIS; RAMALHO, GEBER; CARRIVE, JEAN.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Representing Temporal Musical Objects and Reasoning in the MusES System.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Journal of New Research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ol. 25 (1996), pp. 252-27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AMODT, AGNAR; PLAZA, ENRIC.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Case-Based Reasoning: Foundational Issues, Methodological Variations, and System Approache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 AI Communications. IOS Press, Vol. 7:1, pp 39-5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AMALHO, GEBER.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Pattern Reuse in Tonal Music Improvisation and Accompaniment System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BROWN, SILAS S.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A Representation and Conversion System for Musical Notation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hlinkClick r:id="rId5"/>
              </a:rPr>
              <a:t>http://www.cus.cam.ac.uk/~ssb22/project/dissertation.html#tth_chA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Referê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ONICS ARTS ARTICLE.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Composing with Computers by Martin Robinson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hlinkClick r:id="rId2"/>
              </a:rPr>
              <a:t>http://www.sonicartsnetwork.org/ARTICLES/article_robinson.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hlinkClick r:id="rId3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UTTENBERG, ALLAN.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Memory Representation and Deployment in Musical Thinking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 1994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hlinkClick r:id="rId5"/>
              </a:rPr>
              <a:t>http://alanr.www.media.mit.edu/people/alanr/phdthesiprop/thesisprop.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hlinkClick r:id="rId6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The MusES System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hlinkClick r:id="rId8"/>
              </a:rPr>
              <a:t>http://www-poleia.lip6.fr/~fdp/MusES.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hlinkClick r:id="rId9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O Mundo de Merlin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hlinkClick r:id="rId11"/>
              </a:rPr>
              <a:t>http://www.geocities.com/mundodemerlin/renascenca.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hlinkClick r:id="rId12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Referê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musical &amp; AP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2856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rigado 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plaus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3733920"/>
            <a:ext cx="57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8120" y="1522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Bruno &amp; Erico &amp; Gustavo &amp; Luciano &amp; Re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Musical:Histór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ção Greg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04840" y="3124080"/>
            <a:ext cx="69343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Musical:Histór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inal do Século 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imeiros manuscritos do cantoch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tação neumá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000160" y="3629160"/>
            <a:ext cx="501012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Musical:Histór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uido d´Arezzo (995 - 105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u nome às notas a partir do hino a São João Batis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Ut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queant laxi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Re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sonare fibr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Mi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ra gestor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Fa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muli tuor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So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lvi pollu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La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bii reatu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Sa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ncte loan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 o passar do tempo o Ut foi substituído pelo 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Musical:Histór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nglo-Saxônic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presentação alfabética: C, D, E, F, G, A, 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aúde (Século XV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presentação baseada numa correlação de cordas e linhas (Tablatura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Musical:Histór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tação atu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racterísticas extras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lissando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ns peculiares de cada instrument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06520" y="3848040"/>
            <a:ext cx="6305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5:24:51Z</dcterms:created>
  <dc:creator>est</dc:creator>
  <dc:description/>
  <dc:language>en-US</dc:language>
  <cp:lastModifiedBy>est</cp:lastModifiedBy>
  <dcterms:modified xsi:type="dcterms:W3CDTF">2002-09-14T17:43:22Z</dcterms:modified>
  <cp:revision>48</cp:revision>
  <dc:subject/>
  <dc:title>Representação musical &amp; API</dc:title>
</cp:coreProperties>
</file>