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camera.wav" ContentType="audio/x-wav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carbrake.wav" ContentType="audio/x-wav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937-3E0B-423B-B589-DCA430C4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0B6-8CDE-4EAA-8B47-9B23B251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9E4-36C0-47A8-9B48-155205C9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6B25-F1BB-47E0-91EC-C91630A4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3065-4159-4CC6-8E4F-31AE811D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5E20-4D71-4986-80C8-683828DF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B79B-5CFE-4E9D-8263-B8934682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FD62-316A-45AA-826C-E011DCF9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A2BE-1F91-4110-91AE-58EF7B1E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50C3-5AD2-415D-BBF2-45CBB062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7C7C-2BDD-40DD-BA05-486F990C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E1BC-A8BF-4202-84DA-A0281A18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CC33-FE64-4AC4-AB97-1B553F8F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820F-4A82-4B77-A478-E2C0B03B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6F4F-94E4-4CE3-8B39-26DE0B35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8C67-1E7D-48A5-A938-DBCC341E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1B37-6166-4253-96AB-43454131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E2FA-3A95-4A92-9785-CD204158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FA40-0566-4C86-B64E-40DE5986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E51-8E7A-4E3A-BB9D-E2B2F264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671-F004-4394-85F0-3EAB12A5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3167-DE83-464E-B30B-FE8CAC29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9A3-50BC-41D6-B097-725A1E9D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6359-53C2-41A5-831C-D792A74A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B81D-C9DC-4214-BD47-88B58A43D82B}" type="datetime">
              <a:rPr b="0" lang="en-US" sz="1400" spc="-1" strike="noStrike">
                <a:solidFill>
                  <a:srgbClr val="003366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6CD8-552B-4067-AA20-A51EA07D88EE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55627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8B92-1439-41AB-98FC-B3C0F2239AC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8C6B-6BD0-4E50-A738-8903613259C9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reve.xml" TargetMode="External"/><Relationship Id="rId2" Type="http://schemas.openxmlformats.org/officeDocument/2006/relationships/hyperlink" Target="file:///reve.xml" TargetMode="External"/><Relationship Id="rId3" Type="http://schemas.openxmlformats.org/officeDocument/2006/relationships/hyperlink" Target="file:///reve.mid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chord.xml" TargetMode="External"/><Relationship Id="rId2" Type="http://schemas.openxmlformats.org/officeDocument/2006/relationships/hyperlink" Target="file:///chord.xml" TargetMode="External"/><Relationship Id="rId3" Type="http://schemas.openxmlformats.org/officeDocument/2006/relationships/hyperlink" Target="file:///chord.xml" TargetMode="Externa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syllabic.xml" TargetMode="External"/><Relationship Id="rId2" Type="http://schemas.openxmlformats.org/officeDocument/2006/relationships/hyperlink" Target="file:///syllabic.xml" TargetMode="External"/><Relationship Id="rId3" Type="http://schemas.openxmlformats.org/officeDocument/2006/relationships/hyperlink" Target="file:///syllabic.xml" TargetMode="Externa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chopin20.mid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multipart.xml" TargetMode="External"/><Relationship Id="rId2" Type="http://schemas.openxmlformats.org/officeDocument/2006/relationships/hyperlink" Target="file:///multipart.xml" TargetMode="External"/><Relationship Id="rId3" Type="http://schemas.openxmlformats.org/officeDocument/2006/relationships/hyperlink" Target="file:///multipart.xml" TargetMode="External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musicxml.org/xml/midi/reve.mid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musicxml.org/xml/midi/reve.mid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musicxml.org/" TargetMode="External"/><Relationship Id="rId2" Type="http://schemas.openxmlformats.org/officeDocument/2006/relationships/hyperlink" Target="http://www.musicxml.org/" TargetMode="External"/><Relationship Id="rId3" Type="http://schemas.openxmlformats.org/officeDocument/2006/relationships/hyperlink" Target="http://www.musicxml.org/" TargetMode="External"/><Relationship Id="rId4" Type="http://schemas.openxmlformats.org/officeDocument/2006/relationships/hyperlink" Target="http://www.musicxml.org/" TargetMode="External"/><Relationship Id="rId5" Type="http://schemas.openxmlformats.org/officeDocument/2006/relationships/hyperlink" Target="http://www.musicxml.org/" TargetMode="External"/><Relationship Id="rId6" Type="http://schemas.openxmlformats.org/officeDocument/2006/relationships/hyperlink" Target="http://www.musicxml.org/" TargetMode="External"/><Relationship Id="rId7" Type="http://schemas.openxmlformats.org/officeDocument/2006/relationships/hyperlink" Target="http://www.musedata.org/" TargetMode="External"/><Relationship Id="rId8" Type="http://schemas.openxmlformats.org/officeDocument/2006/relationships/hyperlink" Target="http://www.musedata.org/" TargetMode="External"/><Relationship Id="rId9" Type="http://schemas.openxmlformats.org/officeDocument/2006/relationships/hyperlink" Target="http://www.musedata.org/" TargetMode="External"/><Relationship Id="rId10" Type="http://schemas.openxmlformats.org/officeDocument/2006/relationships/hyperlink" Target="http://www.musedata.org/" TargetMode="External"/><Relationship Id="rId11" Type="http://schemas.openxmlformats.org/officeDocument/2006/relationships/hyperlink" Target="http://www.musedata.org/" TargetMode="External"/><Relationship Id="rId12" Type="http://schemas.openxmlformats.org/officeDocument/2006/relationships/hyperlink" Target="http://dactyl.som.ohio-state.edu/Humdrum/" TargetMode="External"/><Relationship Id="rId13" Type="http://schemas.openxmlformats.org/officeDocument/2006/relationships/hyperlink" Target="http://dactyl.som.ohio-state.edu/Humdrum/" TargetMode="External"/><Relationship Id="rId14" Type="http://schemas.openxmlformats.org/officeDocument/2006/relationships/hyperlink" Target="http://dactyl.som.ohio-state.edu/Humdrum/" TargetMode="External"/><Relationship Id="rId15" Type="http://schemas.openxmlformats.org/officeDocument/2006/relationships/hyperlink" Target="http://dactyl.som.ohio-state.edu/Humdrum/" TargetMode="External"/><Relationship Id="rId16" Type="http://schemas.openxmlformats.org/officeDocument/2006/relationships/hyperlink" Target="http://dactyl.som.ohio-state.edu/Humdrum/" TargetMode="External"/><Relationship Id="rId17" Type="http://schemas.openxmlformats.org/officeDocument/2006/relationships/hyperlink" Target="http://dactyl.som.ohio-state.edu/Humdrum/" TargetMode="External"/><Relationship Id="rId18" Type="http://schemas.openxmlformats.org/officeDocument/2006/relationships/hyperlink" Target="http://dactyl.som.ohio-state.edu/Humdrum/" TargetMode="External"/><Relationship Id="rId19" Type="http://schemas.openxmlformats.org/officeDocument/2006/relationships/hyperlink" Target="http://dactyl.som.ohio-state.edu/Humdrum/" TargetMode="External"/><Relationship Id="rId20" Type="http://schemas.openxmlformats.org/officeDocument/2006/relationships/hyperlink" Target="http://www.ccarh.org/publications/books/cm/12/08/" TargetMode="External"/><Relationship Id="rId21" Type="http://schemas.openxmlformats.org/officeDocument/2006/relationships/hyperlink" Target="http://www.ccarh.org/publications/books/cm/12/08/" TargetMode="External"/><Relationship Id="rId22" Type="http://schemas.openxmlformats.org/officeDocument/2006/relationships/hyperlink" Target="http://www.ccarh.org/publications/books/cm/12/08/" TargetMode="External"/><Relationship Id="rId23" Type="http://schemas.openxmlformats.org/officeDocument/2006/relationships/hyperlink" Target="http://www.ccarh.org/publications/books/cm/12/08/" TargetMode="External"/><Relationship Id="rId24" Type="http://schemas.openxmlformats.org/officeDocument/2006/relationships/hyperlink" Target="http://www.ccarh.org/publications/books/cm/12/08/" TargetMode="External"/><Relationship Id="rId25" Type="http://schemas.openxmlformats.org/officeDocument/2006/relationships/hyperlink" Target="http://www.ccarh.org/publications/books/cm/12/08/" TargetMode="External"/><Relationship Id="rId26" Type="http://schemas.openxmlformats.org/officeDocument/2006/relationships/hyperlink" Target="http://www.ccarh.org/publications/books/cm/12/08/" TargetMode="External"/><Relationship Id="rId27" Type="http://schemas.openxmlformats.org/officeDocument/2006/relationships/hyperlink" Target="http://www.ccarh.org/publications/books/cm/12/08/" TargetMode="External"/><Relationship Id="rId28" Type="http://schemas.openxmlformats.org/officeDocument/2006/relationships/hyperlink" Target="http://www.ccarh.org/publications/books/cm/12/08/" TargetMode="External"/><Relationship Id="rId29" Type="http://schemas.openxmlformats.org/officeDocument/2006/relationships/hyperlink" Target="http://www.ccarh.org/publications/books/cm/12/08/" TargetMode="External"/><Relationship Id="rId30" Type="http://schemas.openxmlformats.org/officeDocument/2006/relationships/hyperlink" Target="http://music-ir.org/" TargetMode="External"/><Relationship Id="rId31" Type="http://schemas.openxmlformats.org/officeDocument/2006/relationships/hyperlink" Target="http://music-ir.org/" TargetMode="External"/><Relationship Id="rId32" Type="http://schemas.openxmlformats.org/officeDocument/2006/relationships/hyperlink" Target="http://music-ir.org/" TargetMode="External"/><Relationship Id="rId33" Type="http://schemas.openxmlformats.org/officeDocument/2006/relationships/hyperlink" Target="http://music-ir.org/" TargetMode="External"/><Relationship Id="rId34" Type="http://schemas.openxmlformats.org/officeDocument/2006/relationships/hyperlink" Target="http://music-ir.org/" TargetMode="External"/><Relationship Id="rId35" Type="http://schemas.openxmlformats.org/officeDocument/2006/relationships/hyperlink" Target="http://music-ir.org/" TargetMode="External"/><Relationship Id="rId3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MusicXM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4000" y="3068280"/>
            <a:ext cx="629604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Arial"/>
              </a:rPr>
              <a:t>Equipe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Douglas Mot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Luis André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Luiz Cláudi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Ricardo Nev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Ronaldo Boeir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39272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úsica Em Formato XM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</a:rPr>
              <a:t>Pars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Não há a necessidade de escrever um parser de baixo ní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xistem muitos parsers de XML a disposi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D1E-B0B3-4A8D-8F27-E980BE9F89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00FC8-4BF4-4B82-A182-3B03B0DB991A}" type="datetime1">
              <a:rPr lang="en-US"/>
              <a:t>07/29/26</a:t>
            </a:fld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otivaç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egundo Gino Robair,</a:t>
            </a:r>
            <a:r>
              <a:rPr b="0" i="1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um número de formatos de arquivos universais estão sendo desenvolvidos para permitir o intercâmbio de músicas pela internet mais facilmente. No campo da notação musical, o mais excitante é o MusicXML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B7D-9595-4060-884E-2AC9BE2DFD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DEE76-4B67-441E-B67F-72DC20B755C7}" type="datetime1">
              <a:rPr lang="en-US"/>
              <a:t>07/29/2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Representando Música Computacionalmen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77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uas formas principai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Áudio: gravação do som em si, como cds e MP3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imbólico: dados musicais fundamentais (pitches, rhythms) como em MID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é da forma simbólic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94A-5EBB-45C5-9A07-D5AFBDD6FA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A1F82-CE11-4F14-9861-81D75189B2CC}" type="datetime1">
              <a:rPr lang="en-US"/>
              <a:t>07/29/26</a:t>
            </a:fld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Necessidade De Um Novo Formato Musical Compartilha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Importância da publicação de notações musicais de forma amigável na intern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ada programa musical tem seu próprio format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úsicas são publicadas como imagens PDF, sem semântica music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IDI é um formato compartilhado porém apresenta algumas limitaçõ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70B7-9871-4CED-882E-21826D4794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36B69-4572-4198-8FE9-1CCAF1DB6190}" type="datetime1">
              <a:rPr lang="en-US"/>
              <a:t>07/29/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rimeiras Tentativas De Superar MID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NIF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Representa notação melhor do que MID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as é pior do que MIDI para aplicações de performance e análi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MD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ormato musical de propósito ge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specificação formal para a mús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uito complexo; Nunca foi implementado comercialm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EEB-4FEB-47DB-A317-2B7B34C03A2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CC121-1ED4-4991-B790-D6E1AD2D13C7}" type="datetime1">
              <a:rPr lang="en-US"/>
              <a:t>07/29/26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bordagem De MusicXM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Tentar fazer o mesmo que o MIDI (resolver o problema dos formatos proprietários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uporte para notação, análise e recuperação de informaçã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Representação textual e não binár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ar suporte ao compartilhamento de dados entre aplicação e não substituir formatos proprietários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058-46B4-4C68-9B7E-0C78986BF33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E7C36-7CAF-4E95-8645-324D4117A4CF}" type="datetime1">
              <a:rPr lang="en-US"/>
              <a:t>07/29/26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Como Obter Sucesso Onde Muitos Falha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tem uma vantagem “injusta”: </a:t>
            </a: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Baseado em dois formatos musicais acadêmicos poderoso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useData e Humdr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finição desenvolvida iterativamente com o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80B2-2D8B-4FD3-89AC-326905F2854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76D4A-096C-46B4-9C0F-CB308C9B62B0}" type="datetime1">
              <a:rPr lang="en-US"/>
              <a:t>07/29/26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 Está Funcionand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isponível sob licença sem royalty expedida pela W3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uportado por programas comerciais: Finale, SharpEye Music Reader, Dol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doção mais rápida de um formato desde MID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2C9-AE75-4DFE-ADEF-0ABE765CC1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7FD1E-9EB6-4139-9990-84E5C992034D}" type="datetime1">
              <a:rPr lang="en-US"/>
              <a:t>07/29/26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Intercâmbio Nos Softwares Ho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5543640" cy="2714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71640" y="495288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dutos em verde são suportados por software disponíveis para venda hoj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dutos em amarelo estão em desenvolvimento ou são protótipos de softwar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30E-B76C-45EE-A9CD-D0835095E1B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57607-C203-4DD8-B26E-F682CB083B1D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Liberdade De Escolha Para Os desenvolvedo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3008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ormatos anteriores limitam sua escolha de ferramenta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inale plug-ins requerem códigos C/C++ no windows e/ou ma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Humdrum requer conhecimento de Unix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erramentas do MuseData roda em um sistema especial (TenX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mprometimento entre formatos e ferramentas tem efeito negativo na produtividade do desenvolved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CC5-1D40-48A8-BA25-0BBB0D302D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45CA4-3DB5-4CA4-88C1-2B9982B350AA}" type="datetime1">
              <a:rPr lang="en-US"/>
              <a:t>07/29/26</a:t>
            </a:fld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Rotei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Visão geral de 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– um formato aberto para notação mus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mpatibilidade com MI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Notações básicas de Music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monstração prá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clus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2169-7B4A-4FA9-8E00-F00800307B6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1501C-8A74-4F9C-AB5D-AE3F1AE8AEC3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mbientes De Desenvolv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XML permite desenvolvimento em vários ambien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rogramas desenvolvidos e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Visual Basic usando MSXML parser no windows (Recordare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Java usando Xerces parser no Linux, mac OS X e no windows (Xemus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 não utiliza parser no windows (Visiv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FB3-A941-4BA2-B24D-B81AB8796B5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B9C2C-3212-4CA0-8345-E982A9B31BA1}" type="datetime1">
              <a:rPr lang="en-US"/>
              <a:t>07/29/26</a:t>
            </a:fld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Novos Tipos De Uso Da Mús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6705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isplays portáteis de músic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Inteligência artificial na músic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Recuperação de informação music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ncluir semântica quando for fazer uma busca de uma músi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726320" y="2438280"/>
            <a:ext cx="141768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CAE-1EED-410C-9E24-6886777443C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E6FEA-ABE9-4CC8-AB1D-D92719393B12}" type="datetime1">
              <a:rPr lang="en-US"/>
              <a:t>07/29/26</a:t>
            </a:fld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Compatibilidade Com MID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contém 2 tipos de dad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mo um trecho de música deve ser ouv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riando arquivo MIDI a partir de MusicX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mo um trecho de música deve ser vis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riando arquivo Finale a partir de MusicX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038-4E40-4D12-8AA7-F5FA574F35D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F726F-411D-4180-8157-4DE0E534377D}" type="datetime1">
              <a:rPr lang="en-US"/>
              <a:t>07/29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xemplo de Arquivo MusicXM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s quatro primeiras barras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"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Après un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 rêv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"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Gabriel Faur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reve2" descr="First four bars of Après un rêve by Fauré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429000"/>
            <a:ext cx="7304040" cy="24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671-9187-4C1C-B1F6-A6988FE3E8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EE3AD-D649-4B30-83F4-DFC0CA105FEF}" type="datetime1">
              <a:rPr lang="en-US"/>
              <a:t>07/29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tribu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 conversor Finale produziu os seguintes atribut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attributes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divisions&gt;12&lt;/divisions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key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fifths&gt;-3&lt;/fifths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mode&gt;minor&lt;/mode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key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time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beats&gt;3&lt;/beats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beat-type&gt;4&lt;/beat-type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time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attributes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4D1-0C9D-46D0-9119-EF9D9B87E6E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4E016-C668-480D-9882-66622EB4555F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divisions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urações musicais são normalmente citadas como frações: colcheia, semicolcheia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especifica o número de divisões por semicolcheia no início de uma pauta mus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specifica a duração das notas em termos dessas divisõ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A73C-0D8C-4DCB-A600-5D99A00D406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70F2A-3D5C-407D-B198-026D665F4753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key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elemento &lt;fifths&gt; especifica o número de bemóis ou sustenidos no elemento &lt;key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elemento &lt;mode&gt; indica a modo do elemento &lt;key&gt;: major ou min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503-0314-4DB6-B00B-0ACF0C1BF4B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2837A-F262-4E31-8CAD-34D707B6D918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time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representa de forma mais simples os elementos &lt;time&gt; padrõ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elemento &lt;beats&gt; representa o numerador do elemento &lt;time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elemento &lt;beat-time&gt; representa o denominador do elemento &lt;time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F7C-982F-47AB-A9F7-3976EC6CB6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FC891-3111-44E8-BDF5-341C0C8941DF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transpose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elemento &lt;transpose&gt; representa o que deve ser adicionado ao pitch escrito para se obter o som correto do pit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elemento &lt;chromatic&gt; representa o número de passos cromáticos a serem adicionados ao pitch escri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lementos &lt;diatonic&gt;, &lt;octave-change&gt; e &lt;double elements&gt; são opciona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175-C5D5-40FD-A76D-924D0F3ABFD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5612C-78EE-4854-8CDC-90D3D8165A9F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xemplo com &lt;transpose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ma pauta escrita para u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rumpete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-bemol deve ser escrita em C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ra um pian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oar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m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-bem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sta transposição é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m pass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iat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ô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ic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baix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C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r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)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 doi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half steps crom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c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baix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C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r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r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-bemo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transpos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diatonic&gt;-1&lt;/diatonic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chromatic&gt;-2&lt;/chromatic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transpos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7AD-408A-40A9-85C0-4D42F52E7CC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0FEC3-2022-4E0C-BE86-46716685A151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Arial"/>
              </a:rPr>
              <a:t>XML</a:t>
            </a:r>
            <a:br>
              <a:rPr sz="4000"/>
            </a:b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Visão Ge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3366"/>
                </a:solidFill>
                <a:latin typeface="Arial"/>
              </a:rPr>
              <a:t>Extensible Markup Language (XML) é linguagem de marcação de dados (meta-markup language) que provê um formato para descrever dados estruturados. Isso facilita declarações mais precisas do conteúdo e resultados mais significativos de busca através de múltiplas plataformas. O XML também permite o surgimento de uma nova geração de aplicações de manipulação e visualização de dados via interne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792-3BF7-4503-A003-8E42ECD53F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8ED18-A1BA-4E63-AD97-FFD959FF0303}" type="datetime1">
              <a:rPr lang="en-US"/>
              <a:t>07/29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it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m MIDI, é representado por um núme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m MusicXML, se divide em 3 part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 elemento &lt;step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(A,B,C,D,E,F,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m elemento opcional &lt;alter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(-1 para bemol, 1 para sustenid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m elemento &lt;octave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(4 para a oitava começando com C centra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4F3-3A1E-4B57-B222-F4D6282440A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EEEAE-A265-46A9-B2D0-6FF9E524CFCB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xemplo com &lt;pitch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note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pitch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step&gt;E&lt;/step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alter&gt;-1&lt;/alter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octave&gt;5&lt;/octave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/pitch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duration&gt;12&lt;/duration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tie type="start"/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lyric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syllabic&gt;end&lt;/syllabic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text&gt;meil&lt;/text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/lyric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/note&gt;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3B3-2304-418B-A3A4-9A2114C91E7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5C6CD-4AD3-45C1-9E13-531EBA84F842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rest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ara descansos, o elemento &lt;rest&gt; é usado no lugar do elemento &lt;pitch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emplo de descanso em ¾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not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rest/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duration&gt;36&lt;/duration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not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466A-4F45-4CA8-AB84-59E9CA2ED28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EB7A3-0654-4E30-B191-065B85CD9328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duration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Inteiro que representa a duração de uma nota em termos de divisões por semicolche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mo o semicolcheia do nosso exemplo tem 12 divisões, a duração dela é 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fusa do exemplo tem duração 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semínima do exemplo tem duração 4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D57F-308E-4BDE-B95E-2FFBD608539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281FE-95B0-4CB3-A108-90AF608E74A0}" type="datetime1">
              <a:rPr lang="en-US"/>
              <a:t>07/29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mento &lt;tie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parte sonora de uma nota ligada é indicada pelo elemento &lt;tie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Um elemento &lt;note&gt; pode ter até 2 elementos &lt;tie&gt;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tie type=“start”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tie type=“stop”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06B-8B7D-46E2-8F1E-74D5BBAC3F3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1C607-932D-4C38-9B06-C98C147F95A4}" type="datetime1">
              <a:rPr lang="en-US"/>
              <a:t>07/29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chord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ara tocar acordes, devemos indicar que uma nota deve começar ao mesmo tempo da nota anteri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Um elemento &lt;chord&gt; deve ser adicionado à nota logo após o início do elemento &lt;note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emplo: 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hord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.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B62-A4EA-492B-880B-E81DBC23CC2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F7D71-949F-41D0-AC4F-92ED1D050EB6}" type="datetime1">
              <a:rPr lang="en-US"/>
              <a:t>07/29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syllabic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usa um elemento opcional &lt;syllabic&gt; indicando como uma sílaba se encaixa numa palav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s valores de &lt;syllabic&gt; podem ser “single”, “begin”, “end” ou “middl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emplo: 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yllabic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.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E86-0EA9-4FDB-AC89-B0B24A4C5D0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00128-93DA-41BA-80E8-314A0BF01CD7}" type="datetime1">
              <a:rPr lang="en-US"/>
              <a:t>07/29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lyric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eparação por ver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&lt;lyric number=“1”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&lt;lyric number=“2”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inais de linha e de parágraf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&lt;end-line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&lt;end-paragraph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lementos para humming e laug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0ED9-46E3-42E5-98BE-D9FB6EF1314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F27AD-13BB-4787-8581-566315814626}" type="datetime1">
              <a:rPr lang="en-US"/>
              <a:t>07/29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úsica Multi-Pau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nquanto instrumentos de sopro só podem ser tocados uma nota por vez, alguns instrumentos podem ter várias pautas simultâne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partitura do piano tem uma pauta para cada mão, por exemp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439E-CADC-439C-9813-07CDE93AF49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2E641-C1AA-470A-AEEE-4EE7C8091276}" type="datetime1">
              <a:rPr lang="en-US"/>
              <a:t>07/29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xemplo de Multi-Pau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rimeira barr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 Prelude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or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deric Chopin, Op. 28, No. 20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chopin2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3505320"/>
            <a:ext cx="4480200" cy="28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9D65-89B9-49B2-87B0-3DEA2DA8A88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D5EEF-A4C6-4742-AA1E-43BCAECF5258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Arial"/>
              </a:rPr>
              <a:t>XML</a:t>
            </a:r>
            <a:br>
              <a:rPr sz="4000"/>
            </a:b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Visão Ge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XML permite a definição de um número infinito de tags. Enquanto no HTML, se as tags podem ser usadas para definir a formatação de caracteres e parágrafos, o XML provê um sistema para criar tags para dados estruturad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A25-5BEB-4509-B7FD-439FF0C94B1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18FCF-DC86-4549-8796-A54381340AA9}" type="datetime1">
              <a:rPr lang="en-US"/>
              <a:t>07/29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s &lt;forward&gt; e &lt;backup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ara representar pautas paralelas, precisamos mover o contador de duração de forma independente para cada pau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lementos &lt;forward&gt; e &lt;backup&gt; foram feitos para implementar Multi-Paut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emplo: 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multipart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.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705-E279-49C9-A1C1-C445BF6467D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E5CB7-0AAD-4B3E-8866-E0B4011D1308}" type="datetime1">
              <a:rPr lang="en-US"/>
              <a:t>07/29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Notação Musical vs. S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mo a notação de uma música é representada em MusicX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omo as cordas do piano são divididas entre as pauta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istinção entre elementos que representam o som da música versus o aspecto visual da mús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lementos da aparência musical, que são de grande uso para aplicações de notação musi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45B8-B6E4-4166-B2CE-3F27C6DBB51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6A959-C0C6-4048-A32B-D1BC4103D8B6}" type="datetime1">
              <a:rPr lang="en-US"/>
              <a:t>07/29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Notação Musical vs. S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xemplo "Après un rêve" de Gabriel Faur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reve2" descr="First four bars of Après un rêve by Fauré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971800"/>
            <a:ext cx="8839440" cy="293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A96-0263-4E15-9EC3-29630F5B998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BEA70-F25C-40EF-9660-F146EF6C8BFC}" type="datetime1">
              <a:rPr lang="en-US"/>
              <a:t>07/29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tribu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ta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staves&gt;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indica o número de paut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Exemplo: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2 pautas para pian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staves&gt;2&lt;/staves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943600" y="3657600"/>
            <a:ext cx="476280" cy="1247760"/>
            <a:chOff x="5943600" y="3657600"/>
            <a:chExt cx="476280" cy="1247760"/>
          </a:xfrm>
        </p:grpSpPr>
        <p:graphicFrame>
          <p:nvGraphicFramePr>
            <p:cNvPr id="189" name=""/>
            <p:cNvGraphicFramePr/>
            <p:nvPr/>
          </p:nvGraphicFramePr>
          <p:xfrm>
            <a:off x="5943600" y="3676680"/>
            <a:ext cx="209520" cy="122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43600" y="3676680"/>
                      <a:ext cx="209520" cy="122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"/>
            <p:cNvGraphicFramePr/>
            <p:nvPr/>
          </p:nvGraphicFramePr>
          <p:xfrm>
            <a:off x="6153120" y="3657600"/>
            <a:ext cx="133560" cy="1152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3120" y="3657600"/>
                      <a:ext cx="13356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"/>
            <p:cNvGraphicFramePr/>
            <p:nvPr/>
          </p:nvGraphicFramePr>
          <p:xfrm>
            <a:off x="6286680" y="3657600"/>
            <a:ext cx="133200" cy="1152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86680" y="3657600"/>
                      <a:ext cx="13320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8D7-FCB1-4DE8-A790-7FD12C358A7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F8D90-435E-4137-8F09-B6809BF59C9C}" type="datetime1">
              <a:rPr lang="en-US"/>
              <a:t>07/29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tribu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le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ndica clave para a pau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Atribu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numb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Número da pauta, se existe mais de uma pau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sign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Nota representada na pau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lin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Linha da pauta a partir do fu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6105-D5A4-4DD8-8236-425B626645B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EEB6A-58BF-4973-A301-B194C029DD7B}" type="datetime1">
              <a:rPr lang="en-US"/>
              <a:t>07/29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tribu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le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clef number="1"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sign&gt;G&lt;/sign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line&gt;2&lt;/line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/clef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clef number="2"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sign&gt;F&lt;/sign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line&gt;4&lt;/line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/clef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638680" y="3352680"/>
          <a:ext cx="78120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352680"/>
                    <a:ext cx="7812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5AEB-BF49-473D-9420-75F0619AF42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261EA-113B-4C95-9200-1A2E121F2C46}" type="datetime1">
              <a:rPr lang="en-US"/>
              <a:t>07/29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Sentidos Musica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ão usados para expressões que não estão ligadas a uma certa no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43000" y="3952800"/>
          <a:ext cx="617220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952800"/>
                    <a:ext cx="61722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752480" y="3876840"/>
            <a:ext cx="541044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4E48-8443-4F94-8496-1D7DF515BA2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87128-BA3E-4B31-97C1-C72AC4678C04}" type="datetime1">
              <a:rPr lang="en-US"/>
              <a:t>07/29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Sentidos Musica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dolc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aparecerá em acima da pauta, em itálico e um pouco antes da primeira no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&lt;direction placement="above"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&lt;direction-typ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&lt;words font-style="italic" relative-x="-12"&gt;dolce&lt;/words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&lt;/direction-typ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&lt;/direction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43000" y="2666880"/>
          <a:ext cx="617220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66880"/>
                    <a:ext cx="61722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895480" y="2590920"/>
            <a:ext cx="45720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478A-3A49-4DCC-A6C0-2F027D21855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C76F6-BCB7-4131-9694-087E1AC34A15}" type="datetime1">
              <a:rPr lang="en-US"/>
              <a:t>07/29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parência da no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Tipos de notas simból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type&gt;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indica o símbolo da duração da no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Semibreve, mínima, semínima, colcheia, semicolcheia, fusa, semifusa e quartifu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3" name="Image2" descr=""/>
          <p:cNvPicPr/>
          <p:nvPr/>
        </p:nvPicPr>
        <p:blipFill>
          <a:blip r:embed="rId1"/>
          <a:stretch/>
        </p:blipFill>
        <p:spPr>
          <a:xfrm>
            <a:off x="2438280" y="4572000"/>
            <a:ext cx="3429000" cy="642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109960" y="5295960"/>
            <a:ext cx="42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Monotype Corsiva"/>
              </a:rPr>
              <a:t>4     2     1   1/2  1/4  1/8  1/16  1/3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AB6-6DC8-424A-9785-DEE8F62584B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E5DB7-54A5-4FD4-A1C3-701FA1927E20}" type="datetime1">
              <a:rPr lang="en-US"/>
              <a:t>07/29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parência da no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Tupl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time-modification&gt;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é usado para facilitar o uso de tuple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baixo 3 notas ocupam o espaço de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time-modification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actual-notes&gt;3&lt;/actual-notes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normal-notes&gt;2&lt;/normal-notes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/time-modification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346-4E00-41DE-BD59-25B6FBEABDD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9F13B-BA51-4032-B3CE-2EBB6A2D4AF4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Arial"/>
              </a:rPr>
              <a:t>XML</a:t>
            </a:r>
            <a:br>
              <a:rPr sz="4000"/>
            </a:b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Visão Ge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4379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m elemento XML pode ter dados declarados como sendo taxas de preços, um título de livro ou qualquer outro tipo de elemento de dad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mo as tags XML são adotadas por intranets de organizações, e também via internet, há uma correspondente habilidade em manipular e procurar por dados independentemente das aplicações onde os quais são utilizad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264-B5A3-4C22-A2B1-FA3095DD04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FD5CB-30FE-44FE-B316-63A025919D7C}" type="datetime1">
              <a:rPr lang="en-US"/>
              <a:t>07/29/26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parência da no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t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entido da haste na no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stem&gt;up&lt;/stem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Bea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Ligação entre nota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beam number="1"&gt;begin&lt;/beam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172200" y="2819520"/>
          <a:ext cx="257040" cy="55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819520"/>
                    <a:ext cx="25704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310440" y="4648320"/>
          <a:ext cx="25704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10440" y="4648320"/>
                    <a:ext cx="25704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600960" y="4648320"/>
          <a:ext cx="257040" cy="55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0960" y="4648320"/>
                    <a:ext cx="25704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477120" y="4724280"/>
            <a:ext cx="30456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B6B-931E-4A55-A869-B21CF04DCEF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148EC-E505-45CE-81E7-740559B41032}" type="datetime1">
              <a:rPr lang="en-US"/>
              <a:t>07/29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úsica com múltiplas par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lementos para diferenciar o que ocorre na música com múltiplas par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voice&gt;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ssocia à pauta de vo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staff&gt;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eve ser usado sempre que possível, sobretudo nas partes de pi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D98-2407-43D5-A0E0-5567CFE8147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DF6F9-31D7-49D3-96EF-24924A148C02}" type="datetime1">
              <a:rPr lang="en-US"/>
              <a:t>07/29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úsica com múltiplas par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 nota abaixo aparecerá na pauta 2 de piano, juntamente com a pauta 1 da vo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not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voice&gt;1&lt;/voice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staff&gt;2&lt;/staff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/not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8540-BD07-4DEF-BAD4-A66F145C4C9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F1294-BF93-4BC0-BEED-A6C4446E648C}" type="datetime1">
              <a:rPr lang="en-US"/>
              <a:t>07/29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úsica com múltiplas par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reve2" descr="First four bars of Après un rêve by Fauré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666880"/>
            <a:ext cx="7304040" cy="2422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605480" y="2743200"/>
            <a:ext cx="34740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05480" y="4114800"/>
            <a:ext cx="34740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037-A21C-48B2-A213-303D27F926D2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41C67-4620-4E5D-AE5B-1BA5E5180785}" type="datetime1">
              <a:rPr lang="en-US"/>
              <a:t>07/29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612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rpEy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nverte imagem em notação de música computadorizad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lva arquivos MusicXM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B70-ED8F-44E3-9F1E-5D857621412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99F79-262F-4E52-B502-BF201C965B8B}" type="datetime1">
              <a:rPr lang="en-US"/>
              <a:t>07/29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612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aBaz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ê e escreve arquivos MusicXM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É um editor de tablatura de 10 trilhas e um tocador de MID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513-A5D8-4E63-9828-43946B8D07B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E3F1C-18FD-4000-A3CE-ACD1342CD92E}" type="datetime1">
              <a:rPr lang="en-US"/>
              <a:t>07/29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612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Guit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biente para guitarrista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oda em Linux, Solaris e FreeBS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porte básico a MusicXM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FDF-AFFC-48F5-971B-BB51755B8C74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4B91D-770D-4AEC-9353-1F36C30243A0}" type="datetime1">
              <a:rPr lang="en-US"/>
              <a:t>07/29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ireções Futu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estar e refinar MusicXML com aplicações de recuperação de informação e análi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doção contínua pelas aplicações musicais para ampliar o mercado de softwares musica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dronização, depois de uma maior experiência de implementação, especialmente em música popul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ssinaturas digitais XML para seguranç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tilização na educação music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C44-5EB6-4E4A-B679-CEE770E95F4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27FB3-B9EF-4F90-8E91-2FCC63D8ABBF}" type="datetime1">
              <a:rPr lang="en-US"/>
              <a:t>07/29/26</a:t>
            </a:fld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Referênc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://www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musicxml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org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http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://www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musedata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org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http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://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4"/>
              </a:rPr>
              <a:t>dactyl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5"/>
              </a:rPr>
              <a:t>.Som.Ohio-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6"/>
              </a:rPr>
              <a:t>state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7"/>
              </a:rPr>
              <a:t>.Edu/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8"/>
              </a:rPr>
              <a:t>Humdrum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9"/>
              </a:rPr>
              <a:t>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0"/>
              </a:rPr>
              <a:t>http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1"/>
              </a:rPr>
              <a:t>://www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2"/>
              </a:rPr>
              <a:t>ccarh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3"/>
              </a:rPr>
              <a:t>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4"/>
              </a:rPr>
              <a:t>org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5"/>
              </a:rPr>
              <a:t>/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6"/>
              </a:rPr>
              <a:t>publications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7"/>
              </a:rPr>
              <a:t>/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8"/>
              </a:rPr>
              <a:t>books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9"/>
              </a:rPr>
              <a:t>/cm/12/08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0"/>
              </a:rPr>
              <a:t>http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1"/>
              </a:rPr>
              <a:t>://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2"/>
              </a:rPr>
              <a:t>music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-ir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4"/>
              </a:rPr>
              <a:t>org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5"/>
              </a:rPr>
              <a:t>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E74-1870-4CFE-B975-6C603343359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8DA47-7232-4983-BE28-987E98EF656F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Arial"/>
              </a:rPr>
              <a:t>XML</a:t>
            </a:r>
            <a:br>
              <a:rPr sz="4000"/>
            </a:b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Visão Ge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925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Verdana"/>
              </a:rPr>
              <a:t>Esses dados podem ser distribuídos pela rede e apresentados em um browser como o Internet Explorer 5 de várias formas possíveis, ou então eles podem ser transferidos para outras aplicações para processamento futuro e/ou visualizaçã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5F7-9B27-4103-B719-568E4F99A6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E737F-FB5B-4976-A70E-EDB5062A3CBC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Arial"/>
              </a:rPr>
              <a:t>XML</a:t>
            </a:r>
            <a:br>
              <a:rPr sz="4000"/>
            </a:b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Visão Ge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xml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 xmlns:o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urn:schemas-microsoft-com:office:office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Courier New"/>
              </a:rPr>
              <a:t> 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o:MainFil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HRef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../license.htm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" /&gt;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Courier New"/>
              </a:rPr>
              <a:t> 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o:Fil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HRef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image001.jpg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" /&gt;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Courier New"/>
              </a:rPr>
              <a:t> 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o:Fil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HRef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image002.jpg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" /&gt;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Courier New"/>
              </a:rPr>
              <a:t> 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o:Fil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HRef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header.htm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" /&gt;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Courier New"/>
              </a:rPr>
              <a:t> 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o:Fil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HRef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filelist.xml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" /&gt;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Courier New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xml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C70-23DD-4254-AC69-6D214BA52E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98E66-488D-410A-B391-A79549AAE069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usicXML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finiçã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ormato compartilhado para notação, análise e recuperação de informaçõ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bjetiv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mpartilhamento de músicas entre diversos program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esenvolvido para criar método de publicação de partituras musicais na internet de forma amigáve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762-60A5-468F-B6DE-60ABCD2D8DD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E0D49-E8EA-429B-999F-1218208D5936}" type="datetime1">
              <a:rPr lang="en-US"/>
              <a:t>07/29/26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úsica Em Formato XM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mpartilhamento entre vários program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IDI: formato compartilhado mais conhecid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acilidade de manipulaçã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rquivo texto é muito mais fácil de manipular que um arquivo proprietário de um determinado progra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101-C3B4-437D-9957-8C618BF8D0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E9C80-0A41-453D-8294-8A1E0EFD8348}" type="datetime1">
              <a:rPr lang="en-US"/>
              <a:t>07/29/26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7T16:47:22Z</dcterms:created>
  <dc:creator>rmb</dc:creator>
  <dc:description/>
  <dc:language>en-US</dc:language>
  <cp:lastModifiedBy>rmb</cp:lastModifiedBy>
  <dcterms:modified xsi:type="dcterms:W3CDTF">2002-09-12T17:34:13Z</dcterms:modified>
  <cp:revision>223</cp:revision>
  <dc:subject/>
  <dc:title>The MIDI-Compatible Part of MusicXML</dc:title>
</cp:coreProperties>
</file>