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B239-E560-463F-AE9F-5B8F57A31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4308840"/>
            <a:ext cx="7620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1739B-215B-4F68-A7E4-E2309DB58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430884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42640" y="430884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6E67-1E79-479A-8165-A6EE25D08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14240" y="24379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90760" y="24379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43088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14240" y="43088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90760" y="43088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A297-E209-4C44-AB14-719B9A069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338C-B3E1-4A64-9351-F6A2C1197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A117-5DF6-4A0C-9BB3-A3D3AA91D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179A-152F-491D-96EB-2BFC9990D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6094-0AF9-4B20-8927-7C0BB01D6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765D-6506-406A-9E6E-DD17AFD58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30884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8FFE-8340-4B0E-8299-16E9F9108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42640" y="430884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1770B-64C5-49D6-B4D4-71F4AEEBA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8840"/>
            <a:ext cx="7620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9C28-DDE3-45B5-9EB4-C7FA2EFDB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www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" name="www" descr=""/>
          <p:cNvPicPr/>
          <p:nvPr/>
        </p:nvPicPr>
        <p:blipFill>
          <a:blip r:embed="rId3"/>
          <a:stretch/>
        </p:blipFill>
        <p:spPr>
          <a:xfrm>
            <a:off x="45720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" name="www" descr=""/>
          <p:cNvPicPr/>
          <p:nvPr/>
        </p:nvPicPr>
        <p:blipFill>
          <a:blip r:embed="rId4"/>
          <a:stretch/>
        </p:blipFill>
        <p:spPr>
          <a:xfrm>
            <a:off x="22860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" name="www" descr=""/>
          <p:cNvPicPr/>
          <p:nvPr/>
        </p:nvPicPr>
        <p:blipFill>
          <a:blip r:embed="rId5"/>
          <a:stretch/>
        </p:blipFill>
        <p:spPr>
          <a:xfrm>
            <a:off x="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" name="www" descr=""/>
          <p:cNvPicPr/>
          <p:nvPr/>
        </p:nvPicPr>
        <p:blipFill>
          <a:blip r:embed="rId6"/>
          <a:stretch/>
        </p:blipFill>
        <p:spPr>
          <a:xfrm>
            <a:off x="68580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" name="www" descr=""/>
          <p:cNvPicPr/>
          <p:nvPr/>
        </p:nvPicPr>
        <p:blipFill>
          <a:blip r:embed="rId7"/>
          <a:stretch/>
        </p:blipFill>
        <p:spPr>
          <a:xfrm>
            <a:off x="45720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" name="www" descr=""/>
          <p:cNvPicPr/>
          <p:nvPr/>
        </p:nvPicPr>
        <p:blipFill>
          <a:blip r:embed="rId8"/>
          <a:stretch/>
        </p:blipFill>
        <p:spPr>
          <a:xfrm>
            <a:off x="22860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www" descr=""/>
          <p:cNvPicPr/>
          <p:nvPr/>
        </p:nvPicPr>
        <p:blipFill>
          <a:blip r:embed="rId9"/>
          <a:stretch/>
        </p:blipFill>
        <p:spPr>
          <a:xfrm>
            <a:off x="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" name="www" descr=""/>
          <p:cNvPicPr/>
          <p:nvPr/>
        </p:nvPicPr>
        <p:blipFill>
          <a:blip r:embed="rId10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" name="www" descr=""/>
          <p:cNvPicPr/>
          <p:nvPr/>
        </p:nvPicPr>
        <p:blipFill>
          <a:blip r:embed="rId11"/>
          <a:stretch/>
        </p:blipFill>
        <p:spPr>
          <a:xfrm>
            <a:off x="4572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" name="www" descr=""/>
          <p:cNvPicPr/>
          <p:nvPr/>
        </p:nvPicPr>
        <p:blipFill>
          <a:blip r:embed="rId12"/>
          <a:stretch/>
        </p:blipFill>
        <p:spPr>
          <a:xfrm>
            <a:off x="2286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" name="www" descr=""/>
          <p:cNvPicPr/>
          <p:nvPr/>
        </p:nvPicPr>
        <p:blipFill>
          <a:blip r:embed="rId13"/>
          <a:stretch/>
        </p:blipFill>
        <p:spPr>
          <a:xfrm>
            <a:off x="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" name="cabo" descr=""/>
          <p:cNvPicPr/>
          <p:nvPr/>
        </p:nvPicPr>
        <p:blipFill>
          <a:blip r:embed="rId14"/>
          <a:stretch/>
        </p:blipFill>
        <p:spPr>
          <a:xfrm>
            <a:off x="228600" y="1371600"/>
            <a:ext cx="8001000" cy="247968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0D80-D83A-45E3-9CA6-A29D5B929A6D}" type="slidenum">
              <a:rPr b="0" lang="pt-B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14400" y="15238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namp.com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houtcast.com/download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houtcast.com/download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in.ufpe.br/~musica/cmps.html" TargetMode="External"/><Relationship Id="rId2" Type="http://schemas.openxmlformats.org/officeDocument/2006/relationships/hyperlink" Target="http://www.cin.ufpe.br/~musica/cmps.html" TargetMode="External"/><Relationship Id="rId3" Type="http://schemas.openxmlformats.org/officeDocument/2006/relationships/hyperlink" Target="http://www.cin.ufpe.br/~musica/cmps.html" TargetMode="External"/><Relationship Id="rId4" Type="http://schemas.openxmlformats.org/officeDocument/2006/relationships/hyperlink" Target="http://www.cin.ufpe.br/~musica/cmps.html" TargetMode="External"/><Relationship Id="rId5" Type="http://schemas.openxmlformats.org/officeDocument/2006/relationships/hyperlink" Target="http://www.cin.ufpe.br/~musica/cmps.html" TargetMode="External"/><Relationship Id="rId6" Type="http://schemas.openxmlformats.org/officeDocument/2006/relationships/hyperlink" Target="http://www.cin.ufpe.br/~musica/cmps.html" TargetMode="External"/><Relationship Id="rId7" Type="http://schemas.openxmlformats.org/officeDocument/2006/relationships/hyperlink" Target="http://www.cin.ufpe.br/~musica/cmps.html" TargetMode="External"/><Relationship Id="rId8" Type="http://schemas.openxmlformats.org/officeDocument/2006/relationships/hyperlink" Target="http://www.cin.ufpe.br/~musica/cmps.html" TargetMode="External"/><Relationship Id="rId9" Type="http://schemas.openxmlformats.org/officeDocument/2006/relationships/hyperlink" Target="http://www.cin.ufpe.br/~musica/cmps.html" TargetMode="External"/><Relationship Id="rId10" Type="http://schemas.openxmlformats.org/officeDocument/2006/relationships/hyperlink" Target="http://www.music-center.com.br/internet.htm" TargetMode="External"/><Relationship Id="rId11" Type="http://schemas.openxmlformats.org/officeDocument/2006/relationships/hyperlink" Target="http://www.music-center.com.br/internet.htm" TargetMode="External"/><Relationship Id="rId12" Type="http://schemas.openxmlformats.org/officeDocument/2006/relationships/hyperlink" Target="http://www.music-center.com.br/internet.htm" TargetMode="External"/><Relationship Id="rId13" Type="http://schemas.openxmlformats.org/officeDocument/2006/relationships/hyperlink" Target="http://www.music-center.com.br/internet.htm" TargetMode="External"/><Relationship Id="rId14" Type="http://schemas.openxmlformats.org/officeDocument/2006/relationships/hyperlink" Target="http://www.music-center.com.br/internet.htm" TargetMode="External"/><Relationship Id="rId15" Type="http://schemas.openxmlformats.org/officeDocument/2006/relationships/hyperlink" Target="http://www.music-center.com.br/internet.htm" TargetMode="External"/><Relationship Id="rId16" Type="http://schemas.openxmlformats.org/officeDocument/2006/relationships/hyperlink" Target="http://www.music-center.com.br/internet.htm" TargetMode="External"/><Relationship Id="rId17" Type="http://schemas.openxmlformats.org/officeDocument/2006/relationships/hyperlink" Target="http://www.music-center.com.br/internet.htm" TargetMode="External"/><Relationship Id="rId18" Type="http://schemas.openxmlformats.org/officeDocument/2006/relationships/hyperlink" Target="http://www.music-center.com.br/internet.htm" TargetMode="External"/><Relationship Id="rId19" Type="http://schemas.openxmlformats.org/officeDocument/2006/relationships/hyperlink" Target="http://www.viewz.com/aol/shoppingguide/musicguide.shtml" TargetMode="External"/><Relationship Id="rId2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winamp.com/" TargetMode="External"/><Relationship Id="rId2" Type="http://schemas.openxmlformats.org/officeDocument/2006/relationships/hyperlink" Target="http://www.shoutcast.com/" TargetMode="Externa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iis.fhg.de/amm/techinf/layer3/index.html#Slide 3" TargetMode="External"/><Relationship Id="rId2" Type="http://schemas.openxmlformats.org/officeDocument/2006/relationships/hyperlink" Target="http://www.iis.fhg.de/amm/techinf/layer3/index.html#Slide 3" TargetMode="External"/><Relationship Id="rId3" Type="http://schemas.openxmlformats.org/officeDocument/2006/relationships/hyperlink" Target="http://www.iis.fhg.de/amm/techinf/layer3/index.html#Slide 3" TargetMode="External"/><Relationship Id="rId4" Type="http://schemas.openxmlformats.org/officeDocument/2006/relationships/hyperlink" Target="http://www.iis.fhg.de/amm/techinf/layer3/index.html#Slide 3" TargetMode="External"/><Relationship Id="rId5" Type="http://schemas.openxmlformats.org/officeDocument/2006/relationships/hyperlink" Target="http://www.iis.fhg.de/amm/techinf/layer3/index.html#Slide 3" TargetMode="External"/><Relationship Id="rId6" Type="http://schemas.openxmlformats.org/officeDocument/2006/relationships/hyperlink" Target="http://www.iis.fhg.de/amm/techinf/layer3/index.html#Slide 3" TargetMode="External"/><Relationship Id="rId7" Type="http://schemas.openxmlformats.org/officeDocument/2006/relationships/hyperlink" Target="http://www.iis.fhg.de/amm/techinf/layer3/index.html#Slide 3" TargetMode="External"/><Relationship Id="rId8" Type="http://schemas.openxmlformats.org/officeDocument/2006/relationships/hyperlink" Target="http://www.iis.fhg.de/amm/techinf/layer3/index.html#Slide 3" TargetMode="External"/><Relationship Id="rId9" Type="http://schemas.openxmlformats.org/officeDocument/2006/relationships/hyperlink" Target="http://www.iis.fhg.de/amm/techinf/layer3/index.html#Slide 3" TargetMode="External"/><Relationship Id="rId10" Type="http://schemas.openxmlformats.org/officeDocument/2006/relationships/hyperlink" Target="http://www.iis.fhg.de/amm/techinf/layer3/index.html#Slide 3" TargetMode="External"/><Relationship Id="rId11" Type="http://schemas.openxmlformats.org/officeDocument/2006/relationships/hyperlink" Target="http://www.iis.fhg.de/amm/techinf/layer3/index.html#Slide 3" TargetMode="External"/><Relationship Id="rId12" Type="http://schemas.openxmlformats.org/officeDocument/2006/relationships/hyperlink" Target="http://www.iis.fhg.de/amm/techinf/layer3/index.html#Slide 3" TargetMode="External"/><Relationship Id="rId13" Type="http://schemas.openxmlformats.org/officeDocument/2006/relationships/hyperlink" Target="http://www.iis.fhg.de/amm/techinf/layer3/index.html#Slide 3" TargetMode="External"/><Relationship Id="rId14" Type="http://schemas.openxmlformats.org/officeDocument/2006/relationships/hyperlink" Target="http://www.iis.fhg.de/amm/techinf/layer3/index.html#Slide 3" TargetMode="External"/><Relationship Id="rId15" Type="http://schemas.openxmlformats.org/officeDocument/2006/relationships/hyperlink" Target="http://www.oreilly.com/catalog/mp3/chapter/ch02.html" TargetMode="External"/><Relationship Id="rId16" Type="http://schemas.openxmlformats.org/officeDocument/2006/relationships/hyperlink" Target="http://www.oreilly.com/catalog/mp3/chapter/ch02.html" TargetMode="External"/><Relationship Id="rId17" Type="http://schemas.openxmlformats.org/officeDocument/2006/relationships/hyperlink" Target="http://www.oreilly.com/catalog/mp3/chapter/ch02.html" TargetMode="External"/><Relationship Id="rId18" Type="http://schemas.openxmlformats.org/officeDocument/2006/relationships/hyperlink" Target="http://www.oreilly.com/catalog/mp3/chapter/ch02.html" TargetMode="External"/><Relationship Id="rId19" Type="http://schemas.openxmlformats.org/officeDocument/2006/relationships/hyperlink" Target="http://www.oreilly.com/catalog/mp3/chapter/ch02.html" TargetMode="External"/><Relationship Id="rId20" Type="http://schemas.openxmlformats.org/officeDocument/2006/relationships/hyperlink" Target="http://www.oreilly.com/catalog/mp3/chapter/ch02.html" TargetMode="External"/><Relationship Id="rId21" Type="http://schemas.openxmlformats.org/officeDocument/2006/relationships/hyperlink" Target="http://www.oreilly.com/catalog/mp3/chapter/ch02.html" TargetMode="External"/><Relationship Id="rId22" Type="http://schemas.openxmlformats.org/officeDocument/2006/relationships/hyperlink" Target="http://www.oreilly.com/catalog/mp3/chapter/ch02.html" TargetMode="External"/><Relationship Id="rId23" Type="http://schemas.openxmlformats.org/officeDocument/2006/relationships/hyperlink" Target="http://www.oreilly.com/catalog/mp3/chapter/ch02.html" TargetMode="External"/><Relationship Id="rId24" Type="http://schemas.openxmlformats.org/officeDocument/2006/relationships/hyperlink" Target="http://maccentral.macworld.com/news/9901/27.mp4.shtml" TargetMode="External"/><Relationship Id="rId25" Type="http://schemas.openxmlformats.org/officeDocument/2006/relationships/hyperlink" Target="http://maccentral.macworld.com/news/9901/27.mp4.shtml" TargetMode="External"/><Relationship Id="rId26" Type="http://schemas.openxmlformats.org/officeDocument/2006/relationships/hyperlink" Target="http://maccentral.macworld.com/news/9901/27.mp4.shtml" TargetMode="External"/><Relationship Id="rId27" Type="http://schemas.openxmlformats.org/officeDocument/2006/relationships/hyperlink" Target="http://maccentral.macworld.com/news/9901/27.mp4.shtml" TargetMode="External"/><Relationship Id="rId28" Type="http://schemas.openxmlformats.org/officeDocument/2006/relationships/hyperlink" Target="http://maccentral.macworld.com/news/9901/27.mp4.shtml" TargetMode="External"/><Relationship Id="rId29" Type="http://schemas.openxmlformats.org/officeDocument/2006/relationships/hyperlink" Target="http://maccentral.macworld.com/news/9901/27.mp4.shtml" TargetMode="External"/><Relationship Id="rId30" Type="http://schemas.openxmlformats.org/officeDocument/2006/relationships/hyperlink" Target="http://www.chaosgroup.org/corporate/media_release_item.asp?newsItemID=177" TargetMode="External"/><Relationship Id="rId31" Type="http://schemas.openxmlformats.org/officeDocument/2006/relationships/hyperlink" Target="http://www.chaosgroup.org/corporate/media_release_item.asp?newsItemID=177" TargetMode="External"/><Relationship Id="rId32" Type="http://schemas.openxmlformats.org/officeDocument/2006/relationships/hyperlink" Target="http://www.chaosgroup.org/corporate/media_release_item.asp?newsItemID=177" TargetMode="External"/><Relationship Id="rId33" Type="http://schemas.openxmlformats.org/officeDocument/2006/relationships/hyperlink" Target="http://www.chaosgroup.org/corporate/media_release_item.asp?newsItemID=177" TargetMode="External"/><Relationship Id="rId34" Type="http://schemas.openxmlformats.org/officeDocument/2006/relationships/hyperlink" Target="http://www.chaosgroup.org/corporate/media_release_item.asp?newsItemID=177" TargetMode="External"/><Relationship Id="rId3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Áudio na Internet e MP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Ivo Frazã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Tiago Bar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Rafael Dona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Rodrigo Bo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www" descr=""/>
          <p:cNvPicPr/>
          <p:nvPr/>
        </p:nvPicPr>
        <p:blipFill>
          <a:blip r:embed="rId1"/>
          <a:stretch/>
        </p:blipFill>
        <p:spPr>
          <a:xfrm>
            <a:off x="0" y="45165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www" descr=""/>
          <p:cNvPicPr/>
          <p:nvPr/>
        </p:nvPicPr>
        <p:blipFill>
          <a:blip r:embed="rId2"/>
          <a:stretch/>
        </p:blipFill>
        <p:spPr>
          <a:xfrm>
            <a:off x="2286000" y="4527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www" descr=""/>
          <p:cNvPicPr/>
          <p:nvPr/>
        </p:nvPicPr>
        <p:blipFill>
          <a:blip r:embed="rId3"/>
          <a:stretch/>
        </p:blipFill>
        <p:spPr>
          <a:xfrm>
            <a:off x="4572000" y="4527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www" descr=""/>
          <p:cNvPicPr/>
          <p:nvPr/>
        </p:nvPicPr>
        <p:blipFill>
          <a:blip r:embed="rId4"/>
          <a:stretch/>
        </p:blipFill>
        <p:spPr>
          <a:xfrm>
            <a:off x="6858000" y="4527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D69C-6DD9-42C9-888A-EA0E7433BD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Largura de Banda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mpactação e Codificação (representação alternativa) de d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lhor suporte de re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lhor suporte de sistemas operac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1AF6-133A-420D-8B8A-2DDF1DEA11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Largura de Band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mpactaçã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iminar redundâncias e otimizar forma de armazena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alAud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das primeiras propostas para a transmissão de sons em tempo-real  pela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endência das condições de transmissão dos d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rometimento significativo da qualidade do á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52DC-5080-42A5-8F68-C0BEB90031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Largura de Band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mpactaçã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P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oa compressão: até 11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x. 4 min de músic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40MB (PCM) e 3,5MB (MP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oa qualidade, pois as perdas são pouco significati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dificação não pode ser feita em tempo real, só a decodif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06F4-D4F9-42C6-96FF-FACAB07BD3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Largura de Band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ific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mazenar informação como notas musicais ao invés de ondas son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ão há controle de qualidade, pois depende do sintetizador do receptor (pouquíssima informação sobre forma de on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uca disponibilidade de conteú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tativa de melhorar em relação ao MIDI, com informações sobre timbre do instru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raso, devido ao processamento pesado exig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2708-5178-49EB-838B-48EA3EFEC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Atras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lhorar o suporte de sistemas operacio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oritmos especiais para aplicações de tempo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role de Admis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processo só é aceito para ser executado se houver recur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erva de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cursos exclusivos para aplicações em tempo re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mazenagem temporária (bufferização) dos dados “no cliente” atrasando o início da execução por alguns segun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3B6D-E012-4E1F-BDF9-76355FFB9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ções Conjunt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blema de b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forço na estrutura física (Cabos e Rote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ção de meios mais confiáveis (fibra-óti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blema de “latência” e jitt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prego de novos protocolos de rede e hard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6268-B644-4FCB-AEB3-1C1F6AF8DE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ções Conjunt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iciat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des A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ervas de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role de Admis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exões dedic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Pv6: suporte transmitir em tempo real dado que a banda, a latência e o jitter são conhec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231E-08F3-43F9-87FB-2438B33806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Stream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2243-3183-4449-A957-8B678B99BE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tream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Técnica de transferência de dados em um um fluxo (stream) contín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s dados são processados a medida que vão chegando no cliente, sem precisar esperar que o arquivo inteiro seja transmiti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tilizado para transmissões “ao vivo” ou para arquivos de mídia gran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BD1A-B4F0-4E8E-9F1A-E5C39173C1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treaming na We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ervidores fazem broadcast de streams de áudio na interne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houtcast, Launchcast, Windows Media Server, Iceca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lientes “sintonizam” os servidores e tocam as músicas a medida que estas são transmitid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Winamp, Sonique, Windows Media Player, XM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6670-5F2A-499B-8B7E-C01B2E36F9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Áudio na Internet: Problemas e Soluçõ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tre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P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1907-EBA6-4BD3-BD4C-1AD4D1E76A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houtcast e Winam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43000" y="2971800"/>
            <a:ext cx="6934320" cy="3534120"/>
            <a:chOff x="1143000" y="2971800"/>
            <a:chExt cx="6934320" cy="3534120"/>
          </a:xfrm>
        </p:grpSpPr>
        <p:sp>
          <p:nvSpPr>
            <p:cNvPr id="133" name=""/>
            <p:cNvSpPr/>
            <p:nvPr/>
          </p:nvSpPr>
          <p:spPr>
            <a:xfrm>
              <a:off x="1143000" y="3121200"/>
              <a:ext cx="1981080" cy="1261800"/>
            </a:xfrm>
            <a:prstGeom prst="flowChartDocument">
              <a:avLst/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Verdana"/>
                </a:rPr>
                <a:t>Win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6720" y="3193920"/>
              <a:ext cx="2743200" cy="1114560"/>
            </a:xfrm>
            <a:custGeom>
              <a:avLst/>
              <a:gdLst>
                <a:gd name="textAreaLeft" fmla="*/ 428400 w 2743200"/>
                <a:gd name="textAreaRight" fmla="*/ 2400480 w 2743200"/>
                <a:gd name="textAreaTop" fmla="*/ 278640 h 1114560"/>
                <a:gd name="textAreaBottom" fmla="*/ 835920 h 11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ffffff"/>
                  </a:solidFill>
                  <a:latin typeface="Verdana"/>
                </a:rPr>
                <a:t>Shoutcast plu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2200" y="2971800"/>
              <a:ext cx="1905120" cy="1486080"/>
            </a:xfrm>
            <a:prstGeom prst="flowChartPunchedCard">
              <a:avLst/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Verdana"/>
                </a:rPr>
                <a:t>Shoutc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Verdana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5320" y="4829040"/>
              <a:ext cx="2514600" cy="1409760"/>
            </a:xfrm>
            <a:prstGeom prst="irregularSeal1">
              <a:avLst/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Verdana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6248160" y="4605120"/>
              <a:ext cx="1447560" cy="13366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4921" y="2900"/>
                  </a:lnTo>
                  <a:lnTo>
                    <a:pt x="14921" y="0"/>
                  </a:lnTo>
                  <a:lnTo>
                    <a:pt x="21600" y="6079"/>
                  </a:lnTo>
                  <a:lnTo>
                    <a:pt x="14921" y="12158"/>
                  </a:lnTo>
                  <a:lnTo>
                    <a:pt x="14921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53680" y="445788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3680" y="549756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4829040"/>
              <a:ext cx="533520" cy="222480"/>
            </a:xfrm>
            <a:prstGeom prst="leftArrow">
              <a:avLst>
                <a:gd name="adj1" fmla="val 50000"/>
                <a:gd name="adj2" fmla="val 59951"/>
              </a:avLst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5867280"/>
              <a:ext cx="533520" cy="223920"/>
            </a:xfrm>
            <a:prstGeom prst="leftArrow">
              <a:avLst>
                <a:gd name="adj1" fmla="val 50000"/>
                <a:gd name="adj2" fmla="val 59566"/>
              </a:avLst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405C-7918-4FE5-8C3B-4A6DA1F244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Requisitos mínim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entium 200 Mhz com 64MB 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Windows, Winamp, Shoutcast plugin, Shoutcast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onexão com a Internet (velocidade ideal para 8 conexões a 24Kbps: 256 Kbp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5FD7-772E-4734-870B-E97044B464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asso 1: Instalando o MP3 Player (Winam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omo ainda não existe plugin do Shoutcast para o Winamp3, devemos instalar o Winamp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www.winamp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35EC-6702-440A-B322-DDE7626DEB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asso 2: Instalando o plugin do Shoutcast para o Winam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ste plugin enviará a saída do Winamp para o servidor de strea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www.shoutcast.com/down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lecione “Be a DJ”, baixe e instale o plugin para Win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5477-6102-438D-BBD0-38D244A4EE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asso 3: Instalando o Shoutcast Ser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 servidor de streaming que será responsável por transmitir o áud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www.shoutcast.com/down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lecione “Be a Server”, baixe e instale o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5400-F55C-479C-B132-DCA42557A4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asso 4: Configurando o Shoutcast Ser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lecione “Edit Config” na janela principal do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onfigu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axUser: máximo de usuá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assword: senha de conexão ao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Reinicie o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21B5-1D96-43E8-87D1-F0548C82DB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asso 5: Conectando o Winamp com o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o Winamp, abra a janela de “preferences” (Ctrl+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elecione “DSP Effect” na coluna da esquerda e “Shoutcast Source for Winamp” na coluna da dire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a janela que irá aparecer, configure o servidor e clique em “connec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gora é só escolher as músicas e comandar sua rádio on-lin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1B91-DBC3-4EF7-B8B8-1C7A7C26A3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Melhorando sua rád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O Winamp possui plugins para ligar microfone e plugins de mixer, conectando várias instâncias do Winam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ua imaginação é o limite! :-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34A9-3302-4C04-B634-0C18529B07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MP3 e MP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2908-0AD7-45E9-BAA2-43C6678151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Sub-Band 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étodo poderoso e geral de codificar sinais de áudi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cionado com o conceito do sistema auditivo human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déia do SBC é retirar informações que são mascarad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ado não é o mesmo que o sinal original, mas com a computação correta, o ouvido humano não consegue notar diferenç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áudio MPEG é o exemplo mais popular do SB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315D-0300-432D-9BE3-CD8F2481E0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Áudio na Intern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D2B7-F27D-4775-88A8-3A29F733C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squema do SBC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78600" y="2438280"/>
            <a:ext cx="8047080" cy="3535200"/>
            <a:chOff x="678600" y="2438280"/>
            <a:chExt cx="8047080" cy="3535200"/>
          </a:xfrm>
        </p:grpSpPr>
        <p:sp>
          <p:nvSpPr>
            <p:cNvPr id="162" name=""/>
            <p:cNvSpPr/>
            <p:nvPr/>
          </p:nvSpPr>
          <p:spPr>
            <a:xfrm>
              <a:off x="741240" y="2438280"/>
              <a:ext cx="145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Digital Audio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Signal (PC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0400" y="3125880"/>
              <a:ext cx="17168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Time/Frequency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77720" y="3125880"/>
              <a:ext cx="159336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Quantizer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13880" y="3125880"/>
              <a:ext cx="92448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Pa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0320" y="4087800"/>
              <a:ext cx="16268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Psychoacoustic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96120" y="5392800"/>
              <a:ext cx="12002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Unpa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46240" y="5530680"/>
              <a:ext cx="161496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Reco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28920" y="5392800"/>
              <a:ext cx="17168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Frequency/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38200" y="2644920"/>
              <a:ext cx="188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ISO/MPEG/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Bit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600" y="4843440"/>
              <a:ext cx="188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ISO/MPEG/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Bit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67320" y="4843440"/>
              <a:ext cx="145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Digital Audio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Signal (PC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6160" y="340056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54360" y="34005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70760" y="340056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29400" y="340056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6240" y="566748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7040" y="566748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16640" y="5667480"/>
              <a:ext cx="4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32880" y="566748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82760" y="4498920"/>
              <a:ext cx="26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27440" y="4292640"/>
              <a:ext cx="3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7440" y="3400560"/>
              <a:ext cx="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82760" y="3400560"/>
              <a:ext cx="0" cy="10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27600" y="373356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8B25-E742-48FA-B2E7-4D6785D229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dificação em Sub-band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figuraadal1-0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BCCC-2A6D-49A2-830F-061E2C0D505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antizaçã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figuraadal1-4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400800" cy="38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2EF1-7A1D-494D-B8DD-4FB5024D768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rquivos de áudio grandes. Ex: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o final da década de 80 (1988), a ISO criou o  Motion Pictures Expert Group (MPEG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rupo de estudo cujo objetiv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er um sistema de codificação e compressão arquivos de vídeo e áud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E062-C3BA-4984-A371-964D9EFE03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ter qualidade e diminuir tamanho dos arquiv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 MPEG produziu (Ex: MPEG-1, MPEG-2, etc...) e está produzindo atualmente outros padrões que se relacionam ao uso prático daqueles padrõ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2A83-8CA8-4A72-B914-8CF978DEB8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PE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PEG-1: Codificação a uma taxa de 1.5Mbps para áudio e víd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2 Mbps para vídeo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0.3 Mbps para o á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PEG suporta freqüências de amostragens PCM de 32, 44.1 e 48 KHz codificando-as numa taxa de 32 a 192Kbps por canal de áudio (depende do laye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9236-D2C0-4A77-946E-510DCD5771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ressão MPE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ipos de codificação para compressã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  Codificação percep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m perda de inform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2. Codificação Huff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m perda de inform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35EB-9527-473C-A254-B735AC5861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dificação Perceptu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9" name="ear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1714680" cy="2320920"/>
          </a:xfrm>
          <a:prstGeom prst="rect">
            <a:avLst/>
          </a:prstGeom>
          <a:ln w="0">
            <a:noFill/>
          </a:ln>
        </p:spPr>
      </p:pic>
      <p:pic>
        <p:nvPicPr>
          <p:cNvPr id="200" name="onda1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2114640" cy="822240"/>
          </a:xfrm>
          <a:prstGeom prst="rect">
            <a:avLst/>
          </a:prstGeom>
          <a:ln w="0">
            <a:noFill/>
          </a:ln>
        </p:spPr>
      </p:pic>
      <p:pic>
        <p:nvPicPr>
          <p:cNvPr id="201" name="onda2" descr=""/>
          <p:cNvPicPr/>
          <p:nvPr/>
        </p:nvPicPr>
        <p:blipFill>
          <a:blip r:embed="rId3"/>
          <a:stretch/>
        </p:blipFill>
        <p:spPr>
          <a:xfrm>
            <a:off x="5181480" y="3200400"/>
            <a:ext cx="211464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C746-0AD8-4319-8F67-62C6D24F68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sico-Acústic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psico-acústica modela o sistema auditivo huma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incipais fator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imiar auditiv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scar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multâneo 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mpo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9ECB-2F24-4D00-BEBD-14EE7804B9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ar auditiv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eve o menor nível ao qual o ouvido humano pode detectar um som a uma determinada freqüê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 codificador perceptual compara o sinal de entrada com o limiar de audição e descarta os sinais que estão abaixo do limi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9323-1A5B-40AD-9BF0-D6E4606C15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aminho do So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07000" y="2828880"/>
            <a:ext cx="1951200" cy="2639880"/>
            <a:chOff x="6507000" y="2828880"/>
            <a:chExt cx="1951200" cy="2639880"/>
          </a:xfrm>
        </p:grpSpPr>
        <p:sp>
          <p:nvSpPr>
            <p:cNvPr id="67" name=""/>
            <p:cNvSpPr/>
            <p:nvPr/>
          </p:nvSpPr>
          <p:spPr>
            <a:xfrm>
              <a:off x="6507000" y="2828880"/>
              <a:ext cx="1951200" cy="263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720" y="3036960"/>
              <a:ext cx="163008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oc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mediatam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68560" y="3732120"/>
              <a:ext cx="183132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Armazenar e/o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Tocar (down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77080" y="4775400"/>
              <a:ext cx="120960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nviar p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52640" y="4357080"/>
              <a:ext cx="259920" cy="347040"/>
            </a:xfrm>
            <a:prstGeom prst="downArrow">
              <a:avLst>
                <a:gd name="adj1" fmla="val 50000"/>
                <a:gd name="adj2" fmla="val 3338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686120" y="2967120"/>
            <a:ext cx="1625760" cy="2014560"/>
            <a:chOff x="4686120" y="2967120"/>
            <a:chExt cx="1625760" cy="2014560"/>
          </a:xfrm>
        </p:grpSpPr>
        <p:sp>
          <p:nvSpPr>
            <p:cNvPr id="73" name=""/>
            <p:cNvSpPr/>
            <p:nvPr/>
          </p:nvSpPr>
          <p:spPr>
            <a:xfrm>
              <a:off x="5007960" y="3174120"/>
              <a:ext cx="116820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Strea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31120" y="3661920"/>
              <a:ext cx="15386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ransferência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ia 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31120" y="4354920"/>
              <a:ext cx="15386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ransferênci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ia 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86120" y="2967120"/>
              <a:ext cx="1625760" cy="201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984960" y="2424240"/>
            <a:ext cx="1770120" cy="3646440"/>
            <a:chOff x="984960" y="2424240"/>
            <a:chExt cx="1770120" cy="3646440"/>
          </a:xfrm>
        </p:grpSpPr>
        <p:sp>
          <p:nvSpPr>
            <p:cNvPr id="78" name=""/>
            <p:cNvSpPr/>
            <p:nvPr/>
          </p:nvSpPr>
          <p:spPr>
            <a:xfrm>
              <a:off x="1143000" y="2702160"/>
              <a:ext cx="145188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rtista grav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 mús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72800" y="3670560"/>
              <a:ext cx="159660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versão A/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84960" y="4419000"/>
              <a:ext cx="177012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rmazen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360" y="2424240"/>
              <a:ext cx="1756440" cy="364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0480" y="5167080"/>
              <a:ext cx="919800" cy="82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ass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38440" y="4819680"/>
              <a:ext cx="260280" cy="277920"/>
            </a:xfrm>
            <a:prstGeom prst="downArrow">
              <a:avLst>
                <a:gd name="adj1" fmla="val 50000"/>
                <a:gd name="adj2" fmla="val 2669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8440" y="4055760"/>
              <a:ext cx="260280" cy="277560"/>
            </a:xfrm>
            <a:prstGeom prst="downArrow">
              <a:avLst>
                <a:gd name="adj1" fmla="val 50000"/>
                <a:gd name="adj2" fmla="val 266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38440" y="3291120"/>
              <a:ext cx="260280" cy="347400"/>
            </a:xfrm>
            <a:prstGeom prst="downArrow">
              <a:avLst>
                <a:gd name="adj1" fmla="val 50000"/>
                <a:gd name="adj2" fmla="val 3336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59280" y="3106800"/>
            <a:ext cx="1417680" cy="1458720"/>
            <a:chOff x="3059280" y="3106800"/>
            <a:chExt cx="1417680" cy="1458720"/>
          </a:xfrm>
        </p:grpSpPr>
        <p:sp>
          <p:nvSpPr>
            <p:cNvPr id="87" name=""/>
            <p:cNvSpPr/>
            <p:nvPr/>
          </p:nvSpPr>
          <p:spPr>
            <a:xfrm>
              <a:off x="3383640" y="3313440"/>
              <a:ext cx="84960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ei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1840" y="4080240"/>
              <a:ext cx="127512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d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59280" y="3106800"/>
              <a:ext cx="1365840" cy="145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11880" y="3731760"/>
              <a:ext cx="260280" cy="277560"/>
            </a:xfrm>
            <a:prstGeom prst="downArrow">
              <a:avLst>
                <a:gd name="adj1" fmla="val 50000"/>
                <a:gd name="adj2" fmla="val 266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248520" y="3276720"/>
            <a:ext cx="360360" cy="177840"/>
          </a:xfrm>
          <a:prstGeom prst="rightArrow">
            <a:avLst>
              <a:gd name="adj1" fmla="val 50000"/>
              <a:gd name="adj2" fmla="val 50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3886200"/>
            <a:ext cx="360360" cy="192240"/>
          </a:xfrm>
          <a:prstGeom prst="rightArrow">
            <a:avLst>
              <a:gd name="adj1" fmla="val 50000"/>
              <a:gd name="adj2" fmla="val 468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143000">
            <a:off x="6248160" y="4343400"/>
            <a:ext cx="436320" cy="146160"/>
          </a:xfrm>
          <a:prstGeom prst="rightArrow">
            <a:avLst>
              <a:gd name="adj1" fmla="val 50000"/>
              <a:gd name="adj2" fmla="val 746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11520" y="3559320"/>
            <a:ext cx="488880" cy="554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581280"/>
            <a:ext cx="428760" cy="584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16880" y="21337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57920" y="2759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15440" y="26193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93360" y="24811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D687-82FE-42A6-A305-256F209E87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ar auditivo (cont.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14400" y="2475000"/>
            <a:ext cx="7543800" cy="35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C60E-EB39-4D91-B12A-393081F6508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ascaramento Simultâne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presença física de um som não garante audibilid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presença de um som pode causar a não audibilidade de outros s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limiar de mascaramento descreve o nível onde um som é audív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9739-A0BF-426F-B783-3720C7B2A1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ascaramento Simultâne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0147-91D9-4B59-9262-AE72BEA51B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ascaramento Tempor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corre quanto tons são tocados próximo no tempo, mas não ao mesmo temp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m som pode mascarar outro que ocorre depois como também um que ocorra 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ascaramento simultâneo é mais forte que o mascaramento tempor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EDDE-4B77-491F-A8B6-1B43CDE067B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ascaramento Tempor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Grafico2-2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2392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98E9-13C2-4F53-8361-CD61A377159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Codificação de Huffm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da por David Huff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ada na probabilidade de ocorrência dos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ostras que acontecem com maior freqüência serão mapeadas para uma palavra de código de tamanho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decodificador contém o mapeamento inver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: código Mo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‘.’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“--..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 um sistema de prefixos não duplicados em que  palavras de códigos menores não podem pertencer ao começo de palavras de código mai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403F-4D3E-4766-9622-D9235E92B360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ressão de dad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se algoritmo não é adequado para música. Ele é usado para compressão junto com algoritmos perceptua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ua após a compressão perceptua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sponsável por cerca de 20% da compact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plementa a compactação perceptu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rande polifonia = Muito Mascaramento, Pouca repeti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ns puros = Pouco Mascaramento, Muita repeti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FA23-127C-4635-B0DF-B12617DB88D2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PEG – So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vidido em três camadas (layer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yer 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enos sofistic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axa de dados ~192 Kbps/ca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ps DCC (PAS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yer 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aseado no Layer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is complex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axa de dados 96-128 Kbps/ca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IIA (joint-stereo): 128 e 192 Kbps (par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ureka 147 DAB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4C09-0728-464F-BFE3-548A9E155F0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PEG - Layer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yer I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Mais sofisticad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a de dados ~ 64Kbps/cana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ido pelo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raunhofer Instit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enas os decoders são especificado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á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iberdade na implementação d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der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D899-73D0-464E-B3C0-08CA5C8735E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visão em Sub-bandas(cont.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5" name="figuraadal1-3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70536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A784-2E99-4EF6-8E8F-61599AA2EAD9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Onde está o problema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 exig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licações musicais e sonoras exigem alta performance da transmissão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ecanismos especiais de recuperação de inform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fra-estrutura e tecnologia ainda inadequ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fra-estrutura atual de rede e sistemas operacionais não responde satisfatoriamente à 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oluções para recuperação de informação sonora não estão desenvolvidas de forma satisfató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16E5-A836-4681-8A56-9881FFC86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-band 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e fa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oder não possui modelo psico-acústic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 bit rate x Constant bi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t poo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336E-7B93-4696-9D43-652A98310D0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P3 En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P3En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riginal encoder from the Fraunhofer Institu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ME (Lame Ain’t a Mp3 Encod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tent free audio compression codec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ingMP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ido com a Real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A068-6614-45AA-806F-30D3717123A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en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raunhofer 1989 Alemanha e 1996 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SO Encoder: Liv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coders gratis: Liv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coders vendidos: US$ 1,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ardware decoders: US$ 2,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ftware encoders US$ 25,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usica vendida: US$ 0,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A526-50D5-41A9-8F61-278E5FD3653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ros Format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% mais compressão a taxas altas (C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AC (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dvanced Audio Cod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 canais de aud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ido por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raunhofer , Dolb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AT&amp;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ificação mais eficient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0% menos dados, com qualidade melh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B10C-E957-4819-97FE-544528D67A0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ros Format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inVQ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ransform-domain Weighted Interleave Vector Quan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TT Human Interface Laboratories (Jap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dade e compressão equivalente a M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s CPU para codificar e decodifi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olby AC-3 (Audio Code number 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porta 5 canais de Á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nos cinemas (640 Kb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no sistema TH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em laserdiscs e  DVDs (384 Kbp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12D7-F9E4-48C4-BFAC-0F2A514B02C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ros Format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g Vorb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ido pela 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Xiphophorus comp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talmente patent-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as de 16 a 128 Kbps/canal (VBR ou CB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C4AB-0766-437C-AEE5-ED114D24411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P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formato de audio MP4 é um arquivo executável de musica criado pela Global Music Outlet (GMO) em 06/07/1999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requer tocador de instalação do usuário como um Winamp, Windows Media Player, etc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do para legalizar a distribuição de arquivos de música MP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em uma ótima qualidade digital, além de mostrar mensagens de texto, capa do albúm do artista e links do produto em quest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56DF-F790-4734-BDAF-FB295FCDD91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Vantagens do MP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lidade de som muito boa com tamanho de arquivo menor que o MP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layer já está incluído no arquivo de áudi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as as músicas são distribuídas somente com permissão dos produtor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passar MP4 é gratuito, entretanto cada MP4 contém um link direto para o artista da música ou copyright avisando do repas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E319-8C09-43AB-9AB8-87545C0B67F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Vantagens do MP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mples de anexar e enviar junto com o  emai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i marca-d’água da Solana Technology que permite a execução mesmo em broadcast nas rádios AM/F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i um gráfico colorido, web links e mensagens de tex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i um gerenciador de música que permite compilar o arquivo sem limi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BE1F-8529-4725-BA45-82E332075C5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P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figurações mínim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cessador Pentium 133 Mh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und Card 16 bi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stema Operacional Window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rquivo não é compatível para Macintosh 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76C4-A2BE-4E1E-B412-BFF74B5CA1D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Problemas decorren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blema 1: Largura de band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dio com qualidade de C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anais de 16bits e taxa de amostragem de 44.1k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rgura de banda necessária:  1411.2 Kb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udio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com qualidade de DV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2 canais de 24 bits e taxa de amostragem de 96 k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rgura de banda necessária:  4608.0 Kb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6819-5DC1-41C8-AFBB-59FFECF6F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putação Musical e Processamento do So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://www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3"/>
              </a:rPr>
              <a:t>cin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4"/>
              </a:rPr>
              <a:t>.ufpe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5"/>
              </a:rPr>
              <a:t>br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6"/>
              </a:rPr>
              <a:t>/~musica/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7"/>
              </a:rPr>
              <a:t>cmps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8"/>
              </a:rPr>
              <a:t>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9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udio na Interne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0"/>
              </a:rPr>
              <a:t>http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1"/>
              </a:rPr>
              <a:t>://www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2"/>
              </a:rPr>
              <a:t>music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3"/>
              </a:rPr>
              <a:t>-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4"/>
              </a:rPr>
              <a:t>center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5"/>
              </a:rPr>
              <a:t>.com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6"/>
              </a:rPr>
              <a:t>br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7"/>
              </a:rPr>
              <a:t>/internet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8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usic formats and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9"/>
              </a:rPr>
              <a:t>http://www.viewz.com/aol/shoppingguide/musicguide.shtm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163C-A128-43E8-8CDA-063791346E5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raunhofer Institute'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ttp://www.iis.fhg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inam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www.winamp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houtC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http://www.shoutcast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374A-AF21-4618-88AC-45884566939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://www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3"/>
              </a:rPr>
              <a:t>iis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4"/>
              </a:rPr>
              <a:t>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5"/>
              </a:rPr>
              <a:t>fhg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6"/>
              </a:rPr>
              <a:t>.de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7"/>
              </a:rPr>
              <a:t>amm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8"/>
              </a:rPr>
              <a:t>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9"/>
              </a:rPr>
              <a:t>techinf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0"/>
              </a:rPr>
              <a:t>/layer3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1"/>
              </a:rPr>
              <a:t>index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2"/>
              </a:rPr>
              <a:t>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3"/>
              </a:rPr>
              <a:t>html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4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5"/>
              </a:rPr>
              <a:t>http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6"/>
              </a:rPr>
              <a:t>://www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7"/>
              </a:rPr>
              <a:t>oreilly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8"/>
              </a:rPr>
              <a:t>.com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9"/>
              </a:rPr>
              <a:t>catalog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0"/>
              </a:rPr>
              <a:t>/mp3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1"/>
              </a:rPr>
              <a:t>chapter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2"/>
              </a:rPr>
              <a:t>/ch02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3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P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4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5"/>
              </a:rPr>
              <a:t>maccentral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6"/>
              </a:rPr>
              <a:t>.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7"/>
              </a:rPr>
              <a:t>macworld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8"/>
              </a:rPr>
              <a:t>.com/news/9901/27.mp4.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9"/>
              </a:rPr>
              <a:t>s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0"/>
              </a:rPr>
              <a:t>http://www.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1"/>
              </a:rPr>
              <a:t>chaosgroup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2"/>
              </a:rPr>
              <a:t>.org/corporate/media_release_item.asp?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3"/>
              </a:rPr>
              <a:t>newsItemID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4"/>
              </a:rPr>
              <a:t>=17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b-band co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www.otolith.com/pub/u/howitt/sbc.tutorial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02BF-F23A-4239-A88F-5BF31AF9B4A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Verdana"/>
              </a:rPr>
              <a:t>FI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85A0-256C-4E00-9087-C5358273D22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Problemas decorren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blema 2: Atra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tência” - diferença entre tempo de saída e chegada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Jitter - variação de atr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rupções na mús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mpossibilidade de interatividad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em Vídeo Conferência, um atraso de 1s é tolerável, enquanto em música - atraso de 1s é inaceitáv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60F3-C941-46E7-9FBA-91D527E9B3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Problemas decorren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a 3: som é difícil de ser indexado e recuper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o fazer busca por peças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harmonia modern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cada por orquestra de câma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uma sonoridade do tipo 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de tem um solo de saxofo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ja melodia é mais ou menos esta (assobio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01BD-6ADC-4E23-8623-8C9897E3D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Infra-estrutur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blemas da infra-estrutura a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locidade e banda de transmis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odems: 56Kbps, Cable Modems: 1,5Mbps (1411.2Kbps desejad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esmo que desse para enviar,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ri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conqestion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ocolos de Re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jetados para troca de informação textual e transferência de arquivos. Não otimizados para grande quantidade de d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stemas operacion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portam um número qualquer de tarefas sem preocupação com a qualidade do serviço oferecido (Q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D363-8741-4D36-8CA0-079D2520CF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22:24:24Z</dcterms:created>
  <dc:creator>Bilbo Baggins</dc:creator>
  <dc:description/>
  <dc:language>en-US</dc:language>
  <cp:lastModifiedBy>RDAL</cp:lastModifiedBy>
  <dcterms:modified xsi:type="dcterms:W3CDTF">2002-09-04T18:58:22Z</dcterms:modified>
  <cp:revision>44</cp:revision>
  <dc:subject/>
  <dc:title>Audio Streaming</dc:title>
</cp:coreProperties>
</file>