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342-94F7-4577-B7BA-FD48E349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821-4014-4618-BCF9-FCEFBA0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9E4-CD0E-4C65-A572-F66018D1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E01-F1A8-462C-B3C8-52B5CEC7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31F8-7A86-42DD-BAE5-DE9E4291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C378-6823-4B2B-814E-32FED5E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28FA-FDA4-4F5B-8A0E-E00D26A6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3975-E1CF-4EB6-8106-D48B80A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415-097B-47CD-B5C5-33652B3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9D4-B8ED-4DD6-BF3B-EA359C7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5982-856F-4910-B684-3CB5145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9F5-E91F-4913-AE8A-2C2685E6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1CE3-D5E2-4E57-B02C-B5DDE93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C61-35C2-47F0-97EA-A1CBB9A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5958-161F-4E24-87B5-846F32E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A622-76B4-425E-AB68-4FEDF53E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543-1D79-4C4F-B675-A578D473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469-E5EE-407E-B1A7-7C58372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155-CC9B-42EF-869B-30719C8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418-B552-4A6C-AC65-F9CB0AE7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CF0-794F-4110-B865-5709F293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463-93FB-4215-AF52-86AC340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879-767E-4928-A224-990DB49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97E-62F6-4304-8881-AFFDE58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BB3-EA1E-45AB-A04E-0F513DDA5F44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3471-E6DD-4575-A6CD-E434A324257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9A61-6176-4853-BF73-B4DC6B854127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0E25-9E2B-460D-A56E-0A20BE68A69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Bruno Ab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uno Abr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eno Spind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gor Azev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ulo Gonça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33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ção musical e processamento de S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57560" y="1523880"/>
            <a:ext cx="3166920" cy="229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4568"/>
                    </a:gs>
                    <a:gs pos="100000">
                      <a:srgbClr val="151521"/>
                    </a:gs>
                  </a:gsLst>
                  <a:lin ang="5400000"/>
                </a:gradFill>
                <a:latin typeface="Impact"/>
              </a:rPr>
              <a:t>MP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4568"/>
                  </a:gs>
                  <a:gs pos="100000">
                    <a:srgbClr val="1515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ar1" descr=""/>
          <p:cNvPicPr/>
          <p:nvPr/>
        </p:nvPicPr>
        <p:blipFill>
          <a:blip r:embed="rId1"/>
          <a:stretch/>
        </p:blipFill>
        <p:spPr>
          <a:xfrm>
            <a:off x="685800" y="1558800"/>
            <a:ext cx="7924680" cy="4918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 Por que ocorr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93F-5849-4D67-B122-3BD71C780CC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89E31-14BC-47DE-A109-951D4E541B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Tempora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corre quanto tons são tocados próximo no tempo, mas não ao mesmo t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 mascarar outro que ocorre depo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e mascarar outro que ocorre antes (!!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scaramento simultâneo é mais forte que o mascaramento temp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70C-01F5-4F2B-BB60-4E95EBFF53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4D906-3324-482B-9995-C0595553C9B2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Temporal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Grafico2-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454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62E-D539-4C2E-8410-DA0091B66D8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E6BB5-9F3B-4306-B3D9-443D5678F9D3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Mascaramento Temporal </a:t>
            </a:r>
            <a:br>
              <a:rPr sz="2800"/>
            </a:b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br>
              <a:rPr sz="2800"/>
            </a:b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Simultane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grafico3-3" descr=""/>
          <p:cNvPicPr/>
          <p:nvPr/>
        </p:nvPicPr>
        <p:blipFill>
          <a:blip r:embed="rId1"/>
          <a:stretch/>
        </p:blipFill>
        <p:spPr>
          <a:xfrm>
            <a:off x="3205080" y="685800"/>
            <a:ext cx="52736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47F-DAF7-420B-B6A5-B3345C1B58D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A507-5DA5-4A79-8092-9928D2F1E757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Codificação de Huffm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da por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David Huff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seada na probabilidade de ocorrência dos 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ostras que acontecem com maior freqüência serão mapeadas para uma palavra de código me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decodificador contém o mapeamento in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: código M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  </a:t>
            </a:r>
            <a:r>
              <a:rPr b="1" i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 ‘.’ 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1" i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“--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a um sistema de prefixos não duplicados em que  palavras de códigos não podem pertencer ao começo de palavras de código gran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3C8-4024-4ECF-B7EC-185084B385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1645C-0549-4F72-B4C2-0CBAF2DBB650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Compressão de dad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se algoritmo não é adequado para música. Ele é usado para compressão junto com algoritmos perceptu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 após a compressão perceptu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ponsável por cerca de 20% da compact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lementa a compactação perceptu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de polifonia = Muito Mascaramento, Pouca repeti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ns puros = Pouco Mascaramento, Muita repeti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DCB-8368-4746-B0E1-12057817EB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8F3C0-4EBC-4DC6-AE48-0688CC45F802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 – S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vidido em três camadas (layers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yer 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nos sofisticad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xa de dados ~192 Kbps/ca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ilps DCC (PAS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yer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aseado no Layer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ais complex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xa de dados 96-128 Kbps/ca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yer IIA (joint-stereo): 128 e 192 Kbps (pa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ureka 147 DAB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7C5-6C13-4BB3-B0AC-4B958B42A5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9A41-2C0C-40A2-AB0E-A938B683A8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 - Layer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Mais sofistica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 de dados ~ 64Kbps/can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elo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raunhofer Instit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enas os decoders são especificad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berdade na implementação d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de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F43-7309-4F3A-B864-D65D857343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6B20-0A8F-403B-A9E3-39A27E5490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dificação em Sub-band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figuraadal1-0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49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329-921F-4012-95CA-76E0FE0FD3F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C79B-48F5-4CC6-B597-CE4352976E40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ivisão em Sub-bandas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figuraadal1-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67480" cy="50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57A-F0E3-462D-B3E7-340C4CFCC3F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A4909-BDDA-448E-BCEC-7BD867C08CB7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Histór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 final da década de 80, a ISO estabeleceu o Motion Pictures Expert Group (MPE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ivo: desenvolver um sistema de codificação de vídeo e áudio digit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inalizado em Novembro de 199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O/MPEG-1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deo, Audio e Video e A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ídeo CD, CD-ROM, Vídeo, Videogam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380-E8F5-4D12-9513-588EE7EE6E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62E03-5A96-4375-A5E7-02003DF8240F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Quantizaçã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figuraadal1-4" descr=""/>
          <p:cNvPicPr/>
          <p:nvPr/>
        </p:nvPicPr>
        <p:blipFill>
          <a:blip r:embed="rId1"/>
          <a:stretch/>
        </p:blipFill>
        <p:spPr>
          <a:xfrm>
            <a:off x="533520" y="1015920"/>
            <a:ext cx="807696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9E1-8145-402D-820D-EEB2EE830EB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3B79C-F9CB-442E-8966-7B13DE7FE25E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-band co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 fa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oder não possui modelo psico-acú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bit rate x Constant bi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 poo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CF3-EE29-4A47-A903-516C7356E4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CD24-1A39-414E-A549-72E0C727A6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3 Enco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3E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iginal encoder from the Fraunhofer Institut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ame Ain’t a Mp3 Enco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tent free audio compression code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ingMP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ido com a Re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38C-E073-4BDF-BAD0-89803ABDE8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EE96F-62AC-4AE5-8DEB-D2BDD14BE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t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unhofer 1989 Alemanha e 1996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O Encoder: L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coders gratis: L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coders vendidos: US$ 1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ardware decoders: US$ 2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ftware encoders US$ 25,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usica vendida: US$ 0,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8F0-40BE-46F7-BD0E-46D32B9CCA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9A2F2-CFFC-4B9B-BEEA-B19C9BA83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% mais compressão a taxas altas (C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AC (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Advanced Audio Cod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8 canais de au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or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Fraunhofer , Dol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 AT&amp;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dificação mais eficient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 menos dados, com qualidade melh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135-5B17-491F-878C-B0AA4AAC19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ABDA9-E463-4F07-B3EA-9711381621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inVQ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ransform-domain Weighted Interleave Vector Quant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TT Human Interface Laboratories (Jap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dade e compressão equivalnte a MP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s CPU para codificar e decodific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lby AC-3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(Audio Code number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uporta5 canais de A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nos cinemas (640 kb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no sistema TH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do em laserdiscs e  DVDs (384 kbp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846-D02C-44A8-87FB-C51D3D7481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E0BF-8F3C-4856-A4DE-3D030A9B9B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ros Forma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gg Vorb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nvolvido pela “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Xiphophorus compa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mente patent-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as de 16 a 128 Kbps/canal (VBR ou CB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DD6-0094-4048-84BE-E35A27C388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4E62D-8F34-460A-8ABB-0DE963397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3P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815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volvido pela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unhofer In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sma qualidade / metade da taxa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atível com players exist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DAB-DF25-4CD1-AE83-3DB03489F2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FEF0C-D884-41CA-859D-71447DE3C5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encias On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oving Pictures Entertainment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cselt.it/mpe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raunhofer Institute'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iis.fhg.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he LAME en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sulaco.org/m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Xing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xingtech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he Xiphophorus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xiph.or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ol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dolby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TT Human Interface Laborator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ntt.co.j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Windos Media A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www.microsoft.com/windows/windowsmedia/en/WM8/audio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121-D532-486D-A98E-C6EB7D9C4E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62B4A-F0DE-448D-BA84-2BA84D827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P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dificação de áudio e vídeo a uma taxa de  1.41 Mbps; (padrão dos CD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ção de Áudio é derivada do MUSIC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tiliza para compres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ificação perceptua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 per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dificação  Huffm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 perd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DEE-6338-454A-A9A7-8EA1FB2B1D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9F723-E57A-49DF-A73C-764B7BC89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dificação Percep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EN00349_" descr=""/>
          <p:cNvPicPr/>
          <p:nvPr/>
        </p:nvPicPr>
        <p:blipFill>
          <a:blip r:embed="rId1"/>
          <a:stretch/>
        </p:blipFill>
        <p:spPr>
          <a:xfrm>
            <a:off x="0" y="2590920"/>
            <a:ext cx="2438280" cy="1376280"/>
          </a:xfrm>
          <a:prstGeom prst="rect">
            <a:avLst/>
          </a:prstGeom>
          <a:ln w="0">
            <a:noFill/>
          </a:ln>
        </p:spPr>
      </p:pic>
      <p:pic>
        <p:nvPicPr>
          <p:cNvPr id="102" name="PE01753_" descr=""/>
          <p:cNvPicPr/>
          <p:nvPr/>
        </p:nvPicPr>
        <p:blipFill>
          <a:blip r:embed="rId2"/>
          <a:stretch/>
        </p:blipFill>
        <p:spPr>
          <a:xfrm>
            <a:off x="4056120" y="2895480"/>
            <a:ext cx="158256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91320" y="1600200"/>
            <a:ext cx="3276360" cy="1600200"/>
          </a:xfrm>
          <a:prstGeom prst="cloudCallout">
            <a:avLst>
              <a:gd name="adj1" fmla="val -56444"/>
              <a:gd name="adj2" fmla="val 623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866960"/>
            <a:ext cx="2209680" cy="1003320"/>
          </a:xfrm>
          <a:custGeom>
            <a:avLst/>
            <a:gdLst/>
            <a:ahLst/>
            <a:rect l="l" t="t" r="r" b="b"/>
            <a:pathLst>
              <a:path w="1392" h="632">
                <a:moveTo>
                  <a:pt x="0" y="552"/>
                </a:moveTo>
                <a:cubicBezTo>
                  <a:pt x="56" y="344"/>
                  <a:pt x="112" y="136"/>
                  <a:pt x="144" y="120"/>
                </a:cubicBezTo>
                <a:cubicBezTo>
                  <a:pt x="176" y="104"/>
                  <a:pt x="152" y="472"/>
                  <a:pt x="192" y="456"/>
                </a:cubicBezTo>
                <a:cubicBezTo>
                  <a:pt x="232" y="440"/>
                  <a:pt x="352" y="0"/>
                  <a:pt x="384" y="24"/>
                </a:cubicBezTo>
                <a:cubicBezTo>
                  <a:pt x="416" y="48"/>
                  <a:pt x="352" y="568"/>
                  <a:pt x="384" y="600"/>
                </a:cubicBezTo>
                <a:cubicBezTo>
                  <a:pt x="416" y="632"/>
                  <a:pt x="536" y="240"/>
                  <a:pt x="576" y="216"/>
                </a:cubicBezTo>
                <a:cubicBezTo>
                  <a:pt x="616" y="192"/>
                  <a:pt x="576" y="472"/>
                  <a:pt x="624" y="456"/>
                </a:cubicBezTo>
                <a:cubicBezTo>
                  <a:pt x="672" y="440"/>
                  <a:pt x="816" y="112"/>
                  <a:pt x="864" y="120"/>
                </a:cubicBezTo>
                <a:cubicBezTo>
                  <a:pt x="912" y="128"/>
                  <a:pt x="880" y="504"/>
                  <a:pt x="912" y="504"/>
                </a:cubicBezTo>
                <a:cubicBezTo>
                  <a:pt x="944" y="504"/>
                  <a:pt x="1024" y="136"/>
                  <a:pt x="1056" y="120"/>
                </a:cubicBezTo>
                <a:cubicBezTo>
                  <a:pt x="1088" y="104"/>
                  <a:pt x="1048" y="424"/>
                  <a:pt x="1104" y="408"/>
                </a:cubicBezTo>
                <a:cubicBezTo>
                  <a:pt x="1160" y="392"/>
                  <a:pt x="1276" y="208"/>
                  <a:pt x="1392" y="24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1943280"/>
            <a:ext cx="1676520" cy="2501640"/>
          </a:xfrm>
          <a:custGeom>
            <a:avLst/>
            <a:gdLst/>
            <a:ahLst/>
            <a:rect l="l" t="t" r="r" b="b"/>
            <a:pathLst>
              <a:path w="1056" h="1576">
                <a:moveTo>
                  <a:pt x="0" y="984"/>
                </a:moveTo>
                <a:cubicBezTo>
                  <a:pt x="56" y="492"/>
                  <a:pt x="112" y="0"/>
                  <a:pt x="144" y="24"/>
                </a:cubicBezTo>
                <a:cubicBezTo>
                  <a:pt x="176" y="48"/>
                  <a:pt x="168" y="1008"/>
                  <a:pt x="192" y="1128"/>
                </a:cubicBezTo>
                <a:cubicBezTo>
                  <a:pt x="216" y="1248"/>
                  <a:pt x="272" y="712"/>
                  <a:pt x="288" y="744"/>
                </a:cubicBezTo>
                <a:cubicBezTo>
                  <a:pt x="304" y="776"/>
                  <a:pt x="272" y="1400"/>
                  <a:pt x="288" y="1320"/>
                </a:cubicBezTo>
                <a:cubicBezTo>
                  <a:pt x="304" y="1240"/>
                  <a:pt x="360" y="240"/>
                  <a:pt x="384" y="264"/>
                </a:cubicBezTo>
                <a:cubicBezTo>
                  <a:pt x="408" y="288"/>
                  <a:pt x="400" y="1352"/>
                  <a:pt x="432" y="1464"/>
                </a:cubicBezTo>
                <a:cubicBezTo>
                  <a:pt x="464" y="1576"/>
                  <a:pt x="544" y="928"/>
                  <a:pt x="576" y="936"/>
                </a:cubicBezTo>
                <a:cubicBezTo>
                  <a:pt x="608" y="944"/>
                  <a:pt x="600" y="1568"/>
                  <a:pt x="624" y="1512"/>
                </a:cubicBezTo>
                <a:cubicBezTo>
                  <a:pt x="648" y="1456"/>
                  <a:pt x="704" y="656"/>
                  <a:pt x="720" y="600"/>
                </a:cubicBezTo>
                <a:cubicBezTo>
                  <a:pt x="736" y="544"/>
                  <a:pt x="696" y="1136"/>
                  <a:pt x="720" y="1176"/>
                </a:cubicBezTo>
                <a:cubicBezTo>
                  <a:pt x="744" y="1216"/>
                  <a:pt x="840" y="848"/>
                  <a:pt x="864" y="840"/>
                </a:cubicBezTo>
                <a:cubicBezTo>
                  <a:pt x="888" y="832"/>
                  <a:pt x="856" y="1120"/>
                  <a:pt x="864" y="1128"/>
                </a:cubicBezTo>
                <a:cubicBezTo>
                  <a:pt x="872" y="1136"/>
                  <a:pt x="904" y="872"/>
                  <a:pt x="912" y="888"/>
                </a:cubicBezTo>
                <a:cubicBezTo>
                  <a:pt x="920" y="904"/>
                  <a:pt x="888" y="1200"/>
                  <a:pt x="912" y="1224"/>
                </a:cubicBezTo>
                <a:cubicBezTo>
                  <a:pt x="936" y="1248"/>
                  <a:pt x="996" y="1140"/>
                  <a:pt x="1056" y="1032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79D-BE8B-4831-AF9C-F3264A0F160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C34CE-17E3-4767-A4E6-565D5539BB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Psico-acús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sico-acústica modela o sistema auditivo huma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ncipais fato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miar aud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scar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multân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B94-5F7A-4FA0-8F7F-CCC6311909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75EC5-3AE6-41BB-B87E-B46432FDFCF3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Limiar auditiv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creve o menor nível ao qual o ouvido pode detectar um tom a uma determinada freqüê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codificador perceptual compara o sinal de entrada com o limiar de audição e descarta os sinais que estão abaixo do limi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CF3-36B7-4230-B12E-CBCD6F1E28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BA78-EEDC-4E2F-8EC5-60CDFD5DC5F2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Limiar auditiv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MP3_020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958-4B09-4451-A075-AC8C931479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7E121-7D6A-463D-9CAA-100848478198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Simultâne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presença física de um som não garante audibilidad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presença de um som pode causar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ão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dibilidade de outr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n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limiar de mascaramento descreve o nível onde um som é audí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7A9-6110-4D58-856F-BD81B5C154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B4AA6-4F42-412D-9878-4DDA91EE14A8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Mascaramento Simultâne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grafico1-1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CB1-BFE2-4471-B5ED-CC6CC5FA85E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4F08F-A5B8-45DF-AF82-FC43EBCC4D5C}" type="datetime1">
              <a:rPr lang="en-US"/>
              <a:t>07/29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6T13:17:25Z</dcterms:created>
  <dc:creator>cesar</dc:creator>
  <dc:description/>
  <dc:language>en-US</dc:language>
  <cp:lastModifiedBy>bacm</cp:lastModifiedBy>
  <dcterms:modified xsi:type="dcterms:W3CDTF">2001-05-18T12:55:28Z</dcterms:modified>
  <cp:revision>142</cp:revision>
  <dc:subject/>
  <dc:title>A História do MP3</dc:title>
</cp:coreProperties>
</file>