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E4F-B06A-42EA-B21A-31F765D8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379-6A8A-4A25-8129-CB779CCA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667-17A2-4824-BA8C-EFC75A47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2E7-4BC0-4FAE-AA59-97D24DD6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87A-B53A-41D7-B404-7B411D9D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7063-537C-4AFF-9BA7-EA17F070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621E-D9F2-4AF5-9E43-346F248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DD0-B2DB-4BBE-9137-69FAC03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A4CC-F6DA-4F4F-94FE-ED4A2802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95840"/>
            <a:ext cx="7772400" cy="10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FE11-9352-4B89-B443-BB2342C5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0B9-54B4-4522-B24C-17484CFB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E00-99CF-4C10-88B5-3FEB0F37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3F3A-0EF4-4861-B151-A24C085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F0BF-9376-45B2-A120-4E2B1D1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BABE-99BA-4F64-BFC7-767CDA45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08EA-92A4-4121-A0B4-9EE6B3CF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1328-B092-44E6-878F-F25E34FB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86B-A33E-4535-9E64-890C76EA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7D3-55B6-4575-8EA1-F13B5A1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2E8-C57C-4F68-B1CE-00D6D8F5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95840"/>
            <a:ext cx="7772400" cy="10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F86-D91B-4D80-96F6-1302589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F31-6BF9-4A44-9F8D-8717197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A06-1FDF-408C-BD10-3404372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BD9-5470-4D49-B722-8AFBF89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9B8E-7735-4E21-92EE-1F08208A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C91-1241-4EC9-A06E-799C8BCAC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usic-center.com.br/internet.htm" TargetMode="External"/><Relationship Id="rId2" Type="http://schemas.openxmlformats.org/officeDocument/2006/relationships/hyperlink" Target="http://www.music-center.com.br/internet.htm" TargetMode="External"/><Relationship Id="rId3" Type="http://schemas.openxmlformats.org/officeDocument/2006/relationships/hyperlink" Target="http://hotwired.lycos.com/webmonkey/00/45/index3a.html" TargetMode="External"/><Relationship Id="rId4" Type="http://schemas.openxmlformats.org/officeDocument/2006/relationships/hyperlink" Target="http://hotwired.lycos.com/webmonkey/00/45/index3a.html" TargetMode="External"/><Relationship Id="rId5" Type="http://schemas.openxmlformats.org/officeDocument/2006/relationships/hyperlink" Target="http://www.openhere.com/music/sound-files/mp3/streaming-mp3/" TargetMode="External"/><Relationship Id="rId6" Type="http://schemas.openxmlformats.org/officeDocument/2006/relationships/hyperlink" Target="http://www.uvb.br/portal/acontece/textos/tecnologia/radio.htm" TargetMode="External"/><Relationship Id="rId7" Type="http://schemas.openxmlformats.org/officeDocument/2006/relationships/hyperlink" Target="http://www.uvb.br/portal/acontece/textos/tecnologia/radio.htm" TargetMode="External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003366"/>
                </a:solidFill>
                <a:latin typeface="Times New Roman"/>
              </a:rPr>
              <a:t>Áudio na Interne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uciana Angela Tason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elson Ferreira Jú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Compac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nar redundâncias e otimizar forma de 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as primeiras propostas para a transmissão de sons em tempo-real  pela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mprometimento significativo da qualidade do áud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pendência das condições de transmissão dos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a compressão: até 1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. 4 min de músic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40MB (PCM) e 3,5MB (MP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a qualidade, pois as perdas são pouco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dificação não pode ser feita em tempo real, só a decod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Codific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azenar informação como notas musicais ao invés de ondas son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há controle de qualidade, pois depende do sintetizador do receptor (pouquíssima informação sobre forma de o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ca disponibilidade de conteú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ativa de melhorar em relação ao MIDI, com informações sobre timbre do instr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aso, devido ao processamento pesado exig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Soluções: Atra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suporte de sistema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s especiais para aplicações de tempo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sso só é aceito para ser executado se houver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rsos exclusivos para aplicações em t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mazenagem temporária (bufferização) dos dados “no cliente” atrasando o início da execução por alguns segun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ream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ficar um arquivo a medida que ele está sendo rece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ções que envolvem “conteúdo vivo” ou arquivos de mídia gra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liente Web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wnload do arquivo e redirecionar para um de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r a decodificar depois de algum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em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Abrir um socket para um host re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Usar o HTTP para requisitar um arqu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Direcionar a entrada para o decodific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Cliente We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ectar ao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  my $proto = getprotobyname('tcp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3  socket(SOCK, PF_INET, SOCK_STREAM, $pro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  print "Looking up $host..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 my $sin = sockaddr_in($port, inet_aton($hos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 print "Connecting to $host:$port..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 connect(SOCK, $sin) || die "Connect failed: $!\n"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Cliente We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quisição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3  print "Requesting $file..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 print SOCK "GET $file HTTP/1.0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  print SOCK "Accept: */*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 print SOCK "User-Agent: webamp $version\n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7  print "Waiting for reply..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8  my $header = &lt;SOCK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 print "$header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 exit unless($header=~m/200|OK/)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Cliente We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direcionar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7  my $conten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8  open(HANDLER, "|$handler") or die "Cannot pipe input to $handler: $!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9  print "Redirecting HTTP filestream to $handler..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  while(read(SOCK, $content, 51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2          print HANDLER $cont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  close SO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Rádio n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iar sua própria estação, com seu estilo próprio e seus artistas favori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colher entre centenas de canais que não deixam de fora nem as preferências mais excên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mato dos arquivos de música deve ser o mais popular po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sponibilizando sua Rád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dor: software para difundir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houtcast, Launchcast (Wind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cecast (Un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: Player m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nique, Winamp (Wind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XMMS (Lin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blemas versus 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rea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nibilizando sua rá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ando Rádios 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fe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sponibilizando sua Rád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s no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idade de ouvintes simultâne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e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figurar Winamp player para ser 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tar arquivos mp3 a serem disponibi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ulgar URL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my.computer.com:8000/listen.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ando Rádios MP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4668" r="1998" b="2003"/>
          <a:stretch/>
        </p:blipFill>
        <p:spPr>
          <a:xfrm>
            <a:off x="1104840" y="1467000"/>
            <a:ext cx="3962520" cy="2830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4668" r="1998" b="0"/>
          <a:stretch/>
        </p:blipFill>
        <p:spPr>
          <a:xfrm>
            <a:off x="5219640" y="1695600"/>
            <a:ext cx="3733920" cy="2724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0" t="4668" r="1998" b="0"/>
          <a:stretch/>
        </p:blipFill>
        <p:spPr>
          <a:xfrm>
            <a:off x="3619440" y="3753000"/>
            <a:ext cx="3733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Usina do So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Pion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Alto grau de person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nologia:  Windows Media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ções pron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3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cervo music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100.000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 mús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ge views:  34 mil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Rádio Clic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Parte do site Glob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Médio grau de person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nologia: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lash e RealP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ções pron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cervo music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000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 mú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Visual atra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Notas para as mú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Rádio U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ão permi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a criação de rádios pesso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nologia: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Media Playe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 P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ções pron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7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cervo music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0.000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 músic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</a:t>
            </a: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ê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ci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udio na Interne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music-center.com.br/internet.</a:t>
            </a: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reaming audio tutorial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hotwired.lycos.com/webmonkey/00/45/index3a.</a:t>
            </a: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b client for mp3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http://www.openhere.com/music/sound-files/mp3/streaming-mp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rações entre rá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http://www.uvb.br/portal/acontece/textos/tecnologia/radio.</a:t>
            </a:r>
            <a:r>
              <a:rPr b="0" lang="pt-BR" sz="1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003366"/>
                </a:solidFill>
                <a:latin typeface="Times New Roman"/>
              </a:rPr>
              <a:t>Áudio na Interne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Caminho do So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71600" y="870120"/>
            <a:ext cx="7643880" cy="5721120"/>
            <a:chOff x="1371600" y="870120"/>
            <a:chExt cx="7643880" cy="5721120"/>
          </a:xfrm>
        </p:grpSpPr>
        <p:sp>
          <p:nvSpPr>
            <p:cNvPr id="134" name=""/>
            <p:cNvSpPr/>
            <p:nvPr/>
          </p:nvSpPr>
          <p:spPr>
            <a:xfrm>
              <a:off x="1523880" y="1403280"/>
              <a:ext cx="160020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rtista gr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 mús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2733840"/>
              <a:ext cx="182880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Captura da mús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Conversão 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4146480"/>
              <a:ext cx="182880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rmazen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8480" y="5753160"/>
              <a:ext cx="914400" cy="838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Disc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C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Cass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5746680"/>
              <a:ext cx="144792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Lei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5746680"/>
              <a:ext cx="160020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Cod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22417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960" y="36133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81160" y="50594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19520" y="59752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520" y="59752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5060880"/>
              <a:ext cx="485640" cy="609840"/>
            </a:xfrm>
            <a:prstGeom prst="upArrow">
              <a:avLst>
                <a:gd name="adj1" fmla="val 50000"/>
                <a:gd name="adj2" fmla="val 31394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700000">
              <a:off x="7398720" y="4977000"/>
              <a:ext cx="486000" cy="654120"/>
            </a:xfrm>
            <a:prstGeom prst="upArrow">
              <a:avLst>
                <a:gd name="adj1" fmla="val 50000"/>
                <a:gd name="adj2" fmla="val 3364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08320" y="4064040"/>
              <a:ext cx="160020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66"/>
                  </a:solidFill>
                  <a:latin typeface="Arial"/>
                </a:rPr>
                <a:t>St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95720" y="2317680"/>
              <a:ext cx="160020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Toc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imediata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3308400"/>
              <a:ext cx="485640" cy="609480"/>
            </a:xfrm>
            <a:prstGeom prst="upArrow">
              <a:avLst>
                <a:gd name="adj1" fmla="val 50000"/>
                <a:gd name="adj2" fmla="val 31375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8900000">
              <a:off x="5333760" y="5060520"/>
              <a:ext cx="485640" cy="6858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67560" y="4070520"/>
              <a:ext cx="14479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Transfer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via 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42080" y="4065480"/>
              <a:ext cx="160020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66"/>
                  </a:solidFill>
                  <a:latin typeface="Arial"/>
                </a:rPr>
                <a:t>Transfer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Times New Roman"/>
                </a:rPr>
                <a:t>via 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15280" y="2317680"/>
              <a:ext cx="160020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66"/>
                  </a:solidFill>
                  <a:latin typeface="Arial"/>
                </a:rPr>
                <a:t>Armazenar e/o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66"/>
                  </a:solidFill>
                  <a:latin typeface="Arial"/>
                </a:rPr>
                <a:t>tocar Down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15280" y="870120"/>
              <a:ext cx="160020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66"/>
                  </a:solidFill>
                  <a:latin typeface="Arial"/>
                </a:rPr>
                <a:t>Enviar via e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8900000">
              <a:off x="7734240" y="3231720"/>
              <a:ext cx="486000" cy="685800"/>
            </a:xfrm>
            <a:prstGeom prst="upArrow">
              <a:avLst>
                <a:gd name="adj1" fmla="val 50000"/>
                <a:gd name="adj2" fmla="val 3527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700000">
              <a:off x="6522840" y="3223800"/>
              <a:ext cx="485640" cy="654120"/>
            </a:xfrm>
            <a:prstGeom prst="upArrow">
              <a:avLst>
                <a:gd name="adj1" fmla="val 50000"/>
                <a:gd name="adj2" fmla="val 33673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24760" y="1784520"/>
              <a:ext cx="48564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Problema Cent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ex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icações musicais e sonoras exigem alta performance da transmissã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canismos especiais de recuperação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ra-estrutura e tecnologia ainda inadequ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ra-estrutura atual de rede e sistemas operacionais não responde satisfatoriamente à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luções para recuperação de informação sonora são incip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Problemas decorr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1: Largura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dio com qualidade de C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nais de 16bits e taxa de amostragem de 44.1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e banda necessária:  1411.2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Áudio com qualidade de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 canais de 24 bits e taxa de amostragem de 96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Problemas decorr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2: Atr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tência - diferença entre tempo de saída e chegada dos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itter - variação de at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rupções na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ssibilidade de interatividade (em vídeo Conferência, um atraso de 1s é tolerável, enquanto em música - atraso de 1s é inaceitá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Problemas decorr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3: som é difícil de ser indexado e recup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fazer busca por peças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harmonia moder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ada por orquestra de câma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uma sonoridade do tipo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 tem um solo de saxof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ja melodia é mais ou menos esta (assobio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Ainda sobre infra-estru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da infra-estrutura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locidade e banda de transmi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ns: 56Kbps, Cable Modens: 1,5Mbps (1411.2Kbps desej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smo que desse para enviar,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der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gesti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toco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ados para troca de informação textual e transferência de arquivos. Não otimizados para grande quantidade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oper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portam um número qualquer de tarefas sem preocupação com a qualidade do serviço oferecido (Q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66"/>
                </a:solidFill>
                <a:latin typeface="Times New Roman"/>
              </a:rPr>
              <a:t>Soluções: Largura de Banda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ctação e Codificação (representação alternativa)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 suporte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 suporte de sistema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3:50:38Z</dcterms:created>
  <dc:creator>lat</dc:creator>
  <dc:description/>
  <dc:language>en-US</dc:language>
  <cp:lastModifiedBy>NT</cp:lastModifiedBy>
  <dcterms:modified xsi:type="dcterms:W3CDTF">2001-05-18T00:33:10Z</dcterms:modified>
  <cp:revision>24</cp:revision>
  <dc:subject/>
  <dc:title>Rádio MP3</dc:title>
</cp:coreProperties>
</file>