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2DB-EBCA-4926-B179-A6639D05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17D-0727-4810-BA28-8A103303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596-33DE-40E4-9970-AE83820A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341-C3BD-47BB-BCB5-87A33AC3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726F-1DD9-44DF-A3F0-4B481619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6EB3-7374-44DD-97AA-B71DB08A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A06E-3750-4CF3-B16D-79E56199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FC38-F8CE-430B-8CA7-A5B57AA5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D913-C848-48E6-B0C2-B292DD9F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1B62-577C-404E-AD43-135F579E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491F-B6C3-473F-8F98-F98AEAD0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47F-A41F-4714-A7A0-D99B9FB5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810A-F3AC-475C-88C0-B4CCE0D2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16EF-1093-4102-BED9-2A917669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56EC-C681-4682-A2E5-0E14D571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DAEA-8AA3-4AF8-ADE3-6E024ABE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25CF-1521-4DB1-BB77-5640DE9E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CBC-56A7-4346-9DDA-A374268E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727-BD47-45F4-83A6-02045E46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D1F-E57E-405B-B69F-7AC7C0D1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46A-9274-40E3-B981-8AED2A31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01F-F911-4573-BE48-2A07A4D4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1E6-9129-4CE3-896A-D1B958C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349-B7BC-4946-A2A5-DAA9382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CB00-8BDA-43D7-A8E4-36B74501F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2FFF-89AB-41E0-9123-ABFBB0D1B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ulo Abadie Gu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rcone Pereira de Alme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algoritmo do bal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kens são produzidos perio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cotes são armazenados em um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pacote só prossegue se há um token para ser consum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lema: memória, processament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ar uma máquina apenas para modelagem de tráfego d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 ser resolvido pelo cliente através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 dados são armazenados e exib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tocolos para 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l Time Streaming Protocol (RT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role remoto via r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abelecer e controlar fluxos de mídias contín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depende da natureza do transporte (udp, 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ource Reservation Setup Protocol (RSV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ursos reservados em cada nó da rota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rientado a conex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lientes requisitam serviços c/ qualidade mínima para aplicações particulares à r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ublicando mú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ol Edit, Real Audio player / enc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avar um wave; sub-amostrar ; codif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s .ra ou .rm =&gt; mídia para down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ram =&gt; arquivo texto par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enas a lista das músicas a serem ou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ágina, o link para o arquivo .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:  http://jimhartley.com/ratutor.htm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ervi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 Audio SD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Kit de desenvolvimento para Real Audio (RealSystem G2 SD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realnetworks.com/devzone/tools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204.236.5.3/rma/g1/rsg2sdk_r4.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204.236.5.3/rma/g1/rsg2sdk_r4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204.236.5.3/rma/g1/rsg2sdk_r4.sit.hq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cin.ufpe.br/~musica/real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l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jimhartley.com/ratuto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service.real.com/help/library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204.236.5.3/rma/g1/rsg2sdk_r4.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reelradio.com/rainf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ultimí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cis.ohio-state.edu/~jain/refs/ mul_refs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home.sprynet.com/~cbagwell/audi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rnet e Stream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TSP e RSV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ietf.org/rfc/rfc2326.txt?number=2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ietf.org/rfc/rfc2205.txt?number=22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rew Tannembaum - Compute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library.ubc.ca/spcoll/ubc_arch/blaeser/avmai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padrão Real Au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p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udio em r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tocolos para stre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sponibilizando mú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rv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envolvimento para Real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gressive Networks: 19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alAudio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alAudio 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o. Real Player: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uários: aumento acima de 200.000 por dia, desde o início de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lJukeBox: maio de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is de 34 milhões de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ualmente: &gt; 85% da mídia em temp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 Audio - 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ntag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esso instantâneo à mídia (vs.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ser executado em qualquer plata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a taxa de compre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quivos de tamanho relativamente pequeno (comparados a arquivo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wav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porte atualmente muito b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ntativa de proteção a direitos auto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ocupa espaço em disco do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se adaptar à largura de banda atual para evitar interrupções na transmi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 Audio - 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vantag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rmato proprietário: ferramentas específicas (necessita de um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edito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necessitar de um servidor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próprio, à medida que a largura de banda necessária à reprodução au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lidade do som não tão b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ome/depende do acesso à rede: dados têm que chegar a tempo e em or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nte: http://www.library.ubc.ca/spcoll/ ubc_arch/blaeser/avmain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treaming Media is a method of making audio, video and other multimedia available in real-time over the Internet or corporate intranets, with no download wait and no file to take up space on your hard dis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mular um fluxo contínuo de algum tipo de mídia temporal (som, vídeo, etc.) sobre uma rede que suporta apenas transporte via chaveamento de pac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- Questõ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ote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aso/perda de pacotes / conten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jitte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h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argura de b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roadcast e multi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dificação - envio - decod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um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hack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 um desaf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 anos atrás isso era literalmente impossí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istemas de Tempo R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mpo real != ráp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lquer sistema com restrições de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aso normalmente associado a falha crítica e/ou catastrófica (inutilidade/desast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tempo em que o processamento é executado importa e m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mpo mínimo/máximo aceitá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nsmissão de dados: consist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nsmissão de mídias: constâ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istemas de Tempo R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oft real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haver certa tolerância a atr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ser melhor descartar do que retransmi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Hard real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rasos não são tol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ação do atraso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jitte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otas, tráfego e carga da rede leva a vari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ídias são muito mais sensíveis a variações do que a perda de dados ou mesmo de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áfego pode ser modelado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traffic shapping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8T14:26:07Z</dcterms:created>
  <dc:creator>pag</dc:creator>
  <dc:description/>
  <dc:language>en-US</dc:language>
  <cp:lastModifiedBy>Paulinho</cp:lastModifiedBy>
  <dcterms:modified xsi:type="dcterms:W3CDTF">2000-05-28T20:43:48Z</dcterms:modified>
  <cp:revision>109</cp:revision>
  <dc:subject/>
  <dc:title>Real Audio e streaming na internet</dc:title>
</cp:coreProperties>
</file>