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D7F-9DD4-4B28-8902-B6707490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DDA-976C-4737-9EDA-3CFC039C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7B3-F33A-4293-B995-C005C818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2F2-CD9E-40D5-AB72-1682D7EC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A01E-C9AB-4B98-BA4E-2055E2D2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B91F-F329-4A54-B4A9-576ACBD9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E41E-9EF2-4F76-8DEC-ECDEBEEF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C4CA-C71C-42B6-A5F6-1C71AC6C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22E7-289A-439E-B515-EA3E371B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DEF2-AC9B-482D-A28D-EC2FD5E9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CED9-B93C-47ED-8717-37EAEC08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777-D18A-4EE0-BDE2-08D9546B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A5A1-92E6-4313-A412-80F5B09B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EDF0-0C21-46E0-B639-5A1853B6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2C32-C9D0-4FC8-B533-0BBB5FB4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3404-FDA4-4B72-A318-D4EB2E92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11FB-402E-4A06-8BB3-1CEDC70B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C02-B230-421C-984F-843D0BCF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D6A-0B21-45F4-B337-BA2D6CE5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F8B-E197-4AC0-90D0-9492F65F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436-C767-468C-B892-0752F502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EC4-D376-48F2-BC32-B4041824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1685-6F60-4578-9791-B92E3235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F0C-C2D0-4A3B-A4BA-780DF3BA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E11C-8D76-4D8B-AECA-279DDFE67C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34BA-89E9-4FDF-821B-2AF7D5D0BF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@talk-web.html" TargetMode="External"/><Relationship Id="rId2" Type="http://schemas.openxmlformats.org/officeDocument/2006/relationships/hyperlink" Target="file:///@talk-web.html" TargetMode="External"/><Relationship Id="rId3" Type="http://schemas.openxmlformats.org/officeDocument/2006/relationships/hyperlink" Target="file:///@talk-web.html" TargetMode="External"/><Relationship Id="rId4" Type="http://schemas.openxmlformats.org/officeDocument/2006/relationships/hyperlink" Target="file:///@talk-web.html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sical Information Retrieval e Bibliotecas Virtua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örje Karlsson(bffk@radix.co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ciano Barbosa(lab@radix.co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iano Cravo(mctn@radix.co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ago Santos(tlvls@radix.co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107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Não baseado</a:t>
            </a:r>
            <a:r>
              <a:rPr b="0" lang="en-US" sz="4000" spc="-1" strike="noStrike" u="sng">
                <a:solidFill>
                  <a:srgbClr val="996633"/>
                </a:solidFill>
                <a:uFillTx/>
                <a:latin typeface="Arial Black"/>
                <a:hlinkClick r:id="rId2"/>
              </a:rPr>
              <a:t> em</a:t>
            </a:r>
            <a:r>
              <a:rPr b="0" lang="en-US" sz="4000" spc="-1" strike="noStrike" u="sng">
                <a:solidFill>
                  <a:srgbClr val="996633"/>
                </a:solidFill>
                <a:uFillTx/>
                <a:latin typeface="Arial Black"/>
                <a:hlinkClick r:id="rId3"/>
              </a:rPr>
              <a:t> conteúdo</a:t>
            </a:r>
            <a:r>
              <a:rPr b="0" lang="en-US" sz="4000" spc="-1" strike="noStrike" u="sng">
                <a:solidFill>
                  <a:srgbClr val="996633"/>
                </a:solidFill>
                <a:uFillTx/>
                <a:latin typeface="Arial Black"/>
                <a:hlinkClick r:id="rId4"/>
              </a:rPr>
              <a:t> music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radix" descr=""/>
          <p:cNvPicPr/>
          <p:nvPr/>
        </p:nvPicPr>
        <p:blipFill>
          <a:blip r:embed="rId5"/>
          <a:stretch/>
        </p:blipFill>
        <p:spPr>
          <a:xfrm>
            <a:off x="1066680" y="1371600"/>
            <a:ext cx="784872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USI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presentação baseada em pitch relativo e intervalo de tem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-grams (fuzzy retriev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IDI como interface de entrada e consul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cuperação baseada em conteú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cepção da mús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eira pela qual usuários lembram-se de mús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cas através de perguntas com base nessas lembranç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ries by hum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cas feitas através de u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u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cuperação baseada em conteú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tou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 uma música é mais facilmente lembrado que a melodia ex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ur é o “formato” da melodia, baseado na mudança d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itc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ra cima (U), para baixo (D) e na sua repetição (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: _RRD URRD (da 5º Sinfonia de Beethov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dexaçã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iculdade em extrair a melodia de músicas polifônic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incão entre melodia e acompanhamento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igure and Grou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umente, as notas altas definem a melodia, porém se as notas altas forem monótonas e as mais baixas forem mais interessantes, então estas irão compor a Fig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elodia pode variar de instru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dex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ção de melodia em arquivos MID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ção dos eventos em um único Stream, sobrepondo notas simultâneas até ser monofôn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amento separado de cada canal MIDI pelo algoritmo acima. A canal com maior média de altura irá compor a melod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notas altas de todos os canais são escolhidas, e o canal com a maior entropia é selecion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urísticas para dividir canais em par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cuper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ós extrair o contour de músicas e mapeá-las para o vocabulário (D,U,R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r casamento de padão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 busc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uzzy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e permite err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.:(texto/padrã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ablanca / sbbla (erro por transposiçã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ablanca / s bla (erro por dropou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ablanca / saabla (erro por duplicaçã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cuper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o de algoritmos d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tring Match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processamento das buscas na base de d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do uma consulta, o banco retorna uma lista ordenada das melhores respostas (baseada em tolerância de err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cuperação baseada em conteú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fig001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426708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DI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ódulo Indexador: análise lexica de arquivos MIDI e contrução de um índ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Índice baseado em distribuição espacial (R-Tr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ódulo de Consulta através de pitch e duraç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tiv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scimento das coleções de audi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iculdade de consultar bases exist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conhecimento de padrões (melodias musicais, etc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squisa multimí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Bibliotecas Virtua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otiv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olume de informações muito grand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ecessidade de buscas especializada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artilhamento e disponibilização em larga escala de recurs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que sã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ão sistemas, não necessariamente computacionais, que têm como objetivo catalogar, e disponibilizar um acervo de dados sobre informações musicais em diversos formatos de maneira organizada e objet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cessibilid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úbl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stemas gratuitos sem objetivos comercias que visam a divulgação da “cultura musical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s3m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iv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rviços só estão disponíveis para um grupo limitado de usuá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dlib.indiana.edu/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lacionam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unidades virtu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ormam uma base de usuários que se encarregarão de manter o dados sempre atualizados e disponíveis, com auxílio mínimo dos cria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iciativas institucion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ntados por instituições, tipicamente universidades, que os utilizam como estudo de caso e divulgação de pesqui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Beneficia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úblico com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e deseja encontrar dados sobre os mais diversos tipos de mús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: MP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pecial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e podem dispor de fontes espcializadas sobre os mais diferentes assun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: Música Medieva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rganização dos da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ipo de busca utilizada,  que reflete diretamente no conjunto de dados trat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usca com entradas do tipo multimí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usca tex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calidade dos da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esentes no próprio s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s3m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nteiros para arquivos espalhados na re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vl-music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studos de cas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udos de ca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I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apster(MP3 commun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http://www.napster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umd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dactyl.som.ohio-state.edu/Humdru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486400" y="3809880"/>
          <a:ext cx="281952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809880"/>
                    <a:ext cx="281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apster (MP3 community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liente/Servid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uarios se conectam e controlam a visibilidade de seus arqu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1. Efetua o logi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2. Envia sua lista de arquivos para o servido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3. Tem a disposição todas as outras listas de arquivos dos demais clientes através de consultas ao servid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usical Information Retriev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dicionalmente usa meta-d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ormação representada em linguagens especiais para representar mús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mbos não representam a essência da mús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sas informações nem sempre são disponíveis/acessív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pster (cont.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4191120"/>
            <a:ext cx="817884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estões juríd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dústria fonográf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: Metall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120" y="1672200"/>
            <a:ext cx="4952880" cy="2946600"/>
            <a:chOff x="762120" y="1672200"/>
            <a:chExt cx="4952880" cy="2946600"/>
          </a:xfrm>
        </p:grpSpPr>
        <p:grpSp>
          <p:nvGrpSpPr>
            <p:cNvPr id="148" name=""/>
            <p:cNvGrpSpPr/>
            <p:nvPr/>
          </p:nvGrpSpPr>
          <p:grpSpPr>
            <a:xfrm>
              <a:off x="2108160" y="2057040"/>
              <a:ext cx="1805040" cy="612000"/>
              <a:chOff x="2108160" y="2057040"/>
              <a:chExt cx="1805040" cy="612000"/>
            </a:xfrm>
          </p:grpSpPr>
          <p:sp>
            <p:nvSpPr>
              <p:cNvPr id="149" name=""/>
              <p:cNvSpPr/>
              <p:nvPr/>
            </p:nvSpPr>
            <p:spPr>
              <a:xfrm>
                <a:off x="2108160" y="2057040"/>
                <a:ext cx="1600200" cy="612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84120" y="2157840"/>
                <a:ext cx="172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apster Serv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762120" y="3504960"/>
              <a:ext cx="762120" cy="532800"/>
              <a:chOff x="762120" y="3504960"/>
              <a:chExt cx="762120" cy="532800"/>
            </a:xfrm>
          </p:grpSpPr>
          <p:sp>
            <p:nvSpPr>
              <p:cNvPr id="152" name=""/>
              <p:cNvSpPr/>
              <p:nvPr/>
            </p:nvSpPr>
            <p:spPr>
              <a:xfrm>
                <a:off x="762120" y="3504960"/>
                <a:ext cx="762120" cy="532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4280" y="3604680"/>
                <a:ext cx="6429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lient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1650960" y="4038480"/>
              <a:ext cx="863280" cy="504000"/>
              <a:chOff x="1650960" y="4038480"/>
              <a:chExt cx="863280" cy="504000"/>
            </a:xfrm>
          </p:grpSpPr>
          <p:sp>
            <p:nvSpPr>
              <p:cNvPr id="155" name=""/>
              <p:cNvSpPr/>
              <p:nvPr/>
            </p:nvSpPr>
            <p:spPr>
              <a:xfrm>
                <a:off x="1650960" y="4038480"/>
                <a:ext cx="863280" cy="504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755360" y="4132800"/>
                <a:ext cx="7282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lient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86200" y="3657240"/>
              <a:ext cx="863280" cy="504360"/>
              <a:chOff x="3886200" y="3657240"/>
              <a:chExt cx="863280" cy="504360"/>
            </a:xfrm>
          </p:grpSpPr>
          <p:sp>
            <p:nvSpPr>
              <p:cNvPr id="158" name=""/>
              <p:cNvSpPr/>
              <p:nvPr/>
            </p:nvSpPr>
            <p:spPr>
              <a:xfrm>
                <a:off x="3886200" y="3657240"/>
                <a:ext cx="863280" cy="504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90600" y="3751560"/>
                <a:ext cx="7282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lient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3505320" y="388440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1440" y="2818080"/>
              <a:ext cx="100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n / Lis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14800" y="1672200"/>
              <a:ext cx="1600200" cy="1666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 de dado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1: i1, i3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2: i12, i20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3: i19, i221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N: i1, i11, 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641680" y="4114440"/>
              <a:ext cx="863280" cy="504360"/>
              <a:chOff x="2641680" y="4114440"/>
              <a:chExt cx="863280" cy="504360"/>
            </a:xfrm>
          </p:grpSpPr>
          <p:sp>
            <p:nvSpPr>
              <p:cNvPr id="164" name=""/>
              <p:cNvSpPr/>
              <p:nvPr/>
            </p:nvSpPr>
            <p:spPr>
              <a:xfrm>
                <a:off x="2641680" y="4114440"/>
                <a:ext cx="863280" cy="504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746080" y="4208760"/>
                <a:ext cx="7282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lient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2057400" y="3031920"/>
              <a:ext cx="825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ntei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08360" y="243828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200400" y="2666880"/>
              <a:ext cx="0" cy="144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8120" y="2666880"/>
              <a:ext cx="0" cy="144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3352680" y="2666880"/>
              <a:ext cx="60948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2590560"/>
              <a:ext cx="60948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371600" y="2590200"/>
              <a:ext cx="9144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428840" y="2609640"/>
              <a:ext cx="9907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867280" y="175248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de busca sobre informações de arquivos M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undr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meira versão pública em 199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junto de ferramentas de software de finalidade geral para ajudar pesquisadores em música para responder questões científ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cionalid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acterizar a similaridade entre vários tipos de  informação (padrões) de acordo com os critérios de similaridade definidos pelo usuá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ucas manipulações acúst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úbl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quer pessoa que deseja encontrar informações sobre a organização de uma mús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istas de música, etno-musicologistas, psico-musicologistas, lingüis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ão é muito usado por compositores e sim para estudá-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ntax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a gramática para representar informação simbólica seqüencial usando dados em ASC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á uma sintaxe pré-definid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e representar todos os tipos de informaçã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olki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junto com mais de 70 ferramentas de software inter-relaciona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çõ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ca de padr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ific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turar d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ry by Humming -- Musical Information Retrieval in Audio Databases. Asif Ghias et al. Cornell University. SIGIR 1995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on of Music for Melody Matching. Alexandra L. Uidenbogerd. Melbourne University. SIGIR 1998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IZ: Content-based indexing and retrieving MIDI files. Maria C. R. Cavalcanti et al. UFRJ. Journal of Brazilian Computer Society, 199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ic Retrieval as Text Retrieval: Simple Yet Effective. J. Stephen Downie. University of Illinois. SIGIR 199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IR, A Retrieval Model for Music. Pekka Salosaari, Kalervo Järvelin. University of Tempere. Research Not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lligent Multimedia Information Retrieval, Cap. 6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IC IR 2000: International Symposium on Music Information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ciir.cs.umass.edu/music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usical Information Retriev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usuário pode pensar numa melodia e não conhecer mais dados da mús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IDI e outros formatos digitais são cada vez mais comuns pra armazenar/transferir mús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teúdo musical não é tão acessível quanto textos através de palav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úsica não se refere diretamente a nada que possa ser facilmente descrito em linguagem nat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usical Information Retriev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tém elementos como melodia, harmonia e ritmo que podem ser representados formalmente e manipul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ambém contém tensão, expectation, feeling que não são formalmente represen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ificuldades de descrever uma música (simile,acoustic/perceptual attributes, subjective attributes, onomatopé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aracterísticas desejáv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apturar representativ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racterísticas úteis e memorizáveis do ponto de vista do usuá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cuperar documentos ricos, mas esconder a riqueza das partituras e interpre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seado em uma forma de representação musical bem difundi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exact retrie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presentação e matc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ti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tructural genera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presentação não explícita (aberta a interpretaçã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em todos enten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pectrogra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presentam pitch, length, timbre e velo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ão têm structural gener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MDL-ISO-199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tandard music description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usic retrieval as text retriev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niversity of Illino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lodias monotônicas representadas como n-grams de interva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sidera n-grams como palav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a técnicas de text 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MI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aint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5181480" cy="384120"/>
          </a:xfrm>
          <a:prstGeom prst="rect">
            <a:avLst/>
          </a:prstGeom>
          <a:ln w="0">
            <a:noFill/>
          </a:ln>
        </p:spPr>
      </p:pic>
      <p:pic>
        <p:nvPicPr>
          <p:cNvPr id="101" name="smile" descr=""/>
          <p:cNvPicPr/>
          <p:nvPr/>
        </p:nvPicPr>
        <p:blipFill>
          <a:blip r:embed="rId2"/>
          <a:stretch/>
        </p:blipFill>
        <p:spPr>
          <a:xfrm>
            <a:off x="3232080" y="609480"/>
            <a:ext cx="5410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18:45:59Z</dcterms:created>
  <dc:creator>Mariano Cravo Teixeira Neto</dc:creator>
  <dc:description/>
  <dc:language>en-US</dc:language>
  <cp:lastModifiedBy>Mariano Cravo Teixeira Neto</cp:lastModifiedBy>
  <dcterms:modified xsi:type="dcterms:W3CDTF">2000-05-24T03:40:46Z</dcterms:modified>
  <cp:revision>12</cp:revision>
  <dc:subject/>
  <dc:title>Information Retrieval e Bibliotecas Musicais</dc:title>
</cp:coreProperties>
</file>