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2E0A-7E8C-4D90-878E-8AC9FEBA7F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5760-2354-4432-B3D0-9B29715A36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A82A-6838-4E65-B9D7-FC17AC4AFD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220F-330B-4A66-BDCD-62005A8ED6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9B72-75B2-469E-A5FF-0DF63CF072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1CC0-B50D-4649-8A7D-B8FE39DC03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87BA-833C-4EBD-9DFC-B3066D2DC3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A5CA-151C-4F91-BBD9-0819C9A015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7420-C0BC-437C-BAEB-622E3F028A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18C8-5F91-423D-9080-77D5F98E8F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CA9C-DE53-4A49-B6D9-4256EC223F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765F-F2FF-4B16-9F55-2D0157023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4896-A316-4D2A-AA7F-CDC2C2145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erfaces Musicais e Novos Instrument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rlos Alberi M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peando Dados a Partir do Dispositivo de Entra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a grande variedade de gestos pode ser usado como parâmetros para o s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essidade de avaliar os gestos realiz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ortunidade de processar o s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l M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Digital Bat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stões luminosos cujos movimentos são lidos por um sensor infravermel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âmetros lidos são: posição, orientação, aceleração e pressão imposta no bast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Digital Bat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52578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m vídeo MPEG com uma demonstração pode ser encontrado em: http://www.media.mit.edu/~marri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aton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4414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uv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ores para capturar movimentos como mudança de posição dos dedos, da mão e velocidade de desloc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e ainda perceber o t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dataglove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3368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trole de Estruturas Musicais usando luv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rtigo publicado por Paul Modler que descreve o processo de transformação de gestos da mão em sons com o uso de lu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sistema Gera uma interface em VRML que mostra os movimentos da mão e sua interação com outros ob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Controle de Estruturas Musicais usando luv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o de redes neurais para reconhecer movi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conhecimento de gestos como: Pequenas translações, posições está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lauta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flute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3429000" cy="2965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76560" y="213336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ores na superfície, onde os dedos tocam e na extremidade para capturar a pressão do 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ídeo Harp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fície com sensores que percebem os momento dos de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eamento semelhante ao da harp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00200" y="1752480"/>
          <a:ext cx="2819520" cy="46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752480"/>
                    <a:ext cx="28195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TMID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ado com um son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ê a distância entre a fonte e o instru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aída M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bat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31752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Jaqueta conduto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queta com sensores que lê os movimento do usu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ado para solucionar problemas na percepção e mapeamento do ge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ta fazer uma ligação coerente entre gesto e s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Therem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ado em 19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ra tocado movendo-se as mãos nas proximidades das ante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iro instrumento musical a ser tocado sem contado dir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mão direita controlava a frequência e a direita, a amplitude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theremin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29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Jaqueta conduto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jack" descr=""/>
          <p:cNvPicPr/>
          <p:nvPr/>
        </p:nvPicPr>
        <p:blipFill>
          <a:blip r:embed="rId2"/>
          <a:stretch/>
        </p:blipFill>
        <p:spPr>
          <a:xfrm>
            <a:off x="2362320" y="2209680"/>
            <a:ext cx="55753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strumentos Virtu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iado por Axel G. E. Mulder com intuito de representar as múltiplas dimensões da mús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objeto virtual é manipulado pela mão e os parâmetros são transformados em s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mão humana atende perfeitamente o requisitos por poder realizar movimentos multidimensionais em detrimento de outros dispositivos: joysticks, mouses, etc..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olha de Borrach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05160" y="2209320"/>
            <a:ext cx="3733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om é mapeado a partir da rotação do objeto ou toque na superfí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sheet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35816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lão de Borrach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om é gerado a partir da movimentação dos pontos da superfície que são toc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balloon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354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oads, Curtis. The Computer Music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letronic Music: new ways to play. IEEE Spectrum, Dezembro,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nais do XVIII CSBC - V SBC&amp;M. Volume III.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ágina pessoal Tereza Martin: http://www.media.mit.edu/~marrin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erface music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eira entre gestos e 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os convencionais são as mais antigas interfaces music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sta musical a estímu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erfaces Eletrônic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sta elétrica ao estímu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os limitações em relação ao instrumento acú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ilidade de manipular a respo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elo de Um Dispositivo de Entra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490040" y="4572000"/>
            <a:ext cx="132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70400" y="4587840"/>
            <a:ext cx="1657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30840" y="4572000"/>
            <a:ext cx="10022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8720" y="2666880"/>
            <a:ext cx="1626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ím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4876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4876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31800" y="4038480"/>
            <a:ext cx="151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s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4000" y="48769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41148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ção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5105520"/>
            <a:ext cx="1295280" cy="164880"/>
          </a:xfrm>
          <a:custGeom>
            <a:avLst/>
            <a:gdLst/>
            <a:ahLst/>
            <a:rect l="l" t="t" r="r" b="b"/>
            <a:pathLst>
              <a:path w="816" h="104">
                <a:moveTo>
                  <a:pt x="0" y="48"/>
                </a:moveTo>
                <a:cubicBezTo>
                  <a:pt x="8" y="76"/>
                  <a:pt x="16" y="104"/>
                  <a:pt x="48" y="96"/>
                </a:cubicBezTo>
                <a:cubicBezTo>
                  <a:pt x="80" y="88"/>
                  <a:pt x="152" y="0"/>
                  <a:pt x="192" y="0"/>
                </a:cubicBezTo>
                <a:cubicBezTo>
                  <a:pt x="232" y="0"/>
                  <a:pt x="256" y="96"/>
                  <a:pt x="288" y="96"/>
                </a:cubicBezTo>
                <a:cubicBezTo>
                  <a:pt x="320" y="96"/>
                  <a:pt x="344" y="0"/>
                  <a:pt x="384" y="0"/>
                </a:cubicBezTo>
                <a:cubicBezTo>
                  <a:pt x="424" y="0"/>
                  <a:pt x="488" y="96"/>
                  <a:pt x="528" y="96"/>
                </a:cubicBezTo>
                <a:cubicBezTo>
                  <a:pt x="568" y="96"/>
                  <a:pt x="584" y="0"/>
                  <a:pt x="624" y="0"/>
                </a:cubicBezTo>
                <a:cubicBezTo>
                  <a:pt x="664" y="0"/>
                  <a:pt x="736" y="88"/>
                  <a:pt x="768" y="96"/>
                </a:cubicBezTo>
                <a:cubicBezTo>
                  <a:pt x="800" y="104"/>
                  <a:pt x="808" y="76"/>
                  <a:pt x="81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spositivos de Entrada: Tradicionais X Inovado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dicion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aseados em instrumentos já exist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ssui uma técnica de manipulação já estud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ova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elhor aproveitamento do  poder do sintetiz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ssibilidade de ter um maior grau de liber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rgonom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a ergonomia pode aumentar o aproveitamento do disposi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anho deve ser compatível com o se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são também é conseqüênci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ecisã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oa precisão captura melhor nuances da interpret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ventos mais complexos que “nota ativada” e “nota desativada” precisam ser captu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Força que a nota é acion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instrumentos necessitam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uma precisão ma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ercepção do gest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m alguns casos a captura do gesto não é triv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tilização de complexos algoritmos na decisão de quais gestos são relev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módulo de percepção podem variar bastante de um instrumento para o out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Sensor infravermelho, de toqu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23:46:36Z</dcterms:created>
  <dc:creator>Diario de Pernambuco S/A</dc:creator>
  <dc:description/>
  <dc:language>en-US</dc:language>
  <cp:lastModifiedBy>casm</cp:lastModifiedBy>
  <dcterms:modified xsi:type="dcterms:W3CDTF">2000-05-26T12:50:40Z</dcterms:modified>
  <cp:revision>22</cp:revision>
  <dc:subject/>
  <dc:title>Interfaces Musicais e Novos Instrumentos</dc:title>
</cp:coreProperties>
</file>