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C448-A8FA-41C1-9CC1-85F0D363893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ar de Casamento de Padr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10F-0A60-4C91-B76F-9CF7CB8D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9E5-2075-4CFC-96F7-31A2E0E6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92F-BD3A-4302-815A-3AEADCB5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E1E-5AF2-4F16-9FC9-6E3FD0A1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92F-E733-43AE-B4FD-62A04DD5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9B9-EBEF-4F6E-A8DC-6BCB675B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8C3-5EDC-417F-9DD1-271635EA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173-40F5-4C7F-BE7E-A289E9DC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543-1F77-4B16-B887-4379AA04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4E3-2F00-4FE9-A86D-A2210197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4A4-2344-4374-BD68-08303BFB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5B4-E1C0-41C4-98B5-F90BE869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10440" y="6539040"/>
            <a:ext cx="74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66"/>
                </a:solidFill>
                <a:latin typeface="Arial"/>
              </a:rPr>
              <a:t>Paradigmas de Linguagens de Programação – Mestrado em Ciência da Computação – CIn/UFPE – 2004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36360" y="1127160"/>
            <a:ext cx="8712000" cy="7128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43800" y="6149880"/>
            <a:ext cx="592200" cy="592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386920" y="6118200"/>
            <a:ext cx="620640" cy="59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471E-1CBC-45F9-AF90-0A3C6C640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000066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1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1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1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1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00360" y="105264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0" y="3962520"/>
            <a:ext cx="6228720" cy="1794600"/>
            <a:chOff x="2556000" y="3962520"/>
            <a:chExt cx="6228720" cy="1794600"/>
          </a:xfrm>
        </p:grpSpPr>
        <p:sp>
          <p:nvSpPr>
            <p:cNvPr id="92" name=""/>
            <p:cNvSpPr/>
            <p:nvPr/>
          </p:nvSpPr>
          <p:spPr>
            <a:xfrm>
              <a:off x="2557800" y="3962520"/>
              <a:ext cx="62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66"/>
                  </a:solidFill>
                  <a:latin typeface="Trebuchet MS"/>
                </a:rPr>
                <a:t>Extensão do </a:t>
              </a:r>
              <a:r>
                <a:rPr b="1" i="1" lang="pt-BR" sz="2800" spc="-1" strike="noStrike">
                  <a:solidFill>
                    <a:srgbClr val="000066"/>
                  </a:solidFill>
                  <a:latin typeface="Trebuchet MS"/>
                </a:rPr>
                <a:t>framework</a:t>
              </a:r>
              <a:r>
                <a:rPr b="1" lang="pt-BR" sz="2800" spc="-1" strike="noStrike">
                  <a:solidFill>
                    <a:srgbClr val="000066"/>
                  </a:solidFill>
                  <a:latin typeface="Trebuchet MS"/>
                </a:rPr>
                <a:t> 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6000" y="4378320"/>
              <a:ext cx="622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rebuchet MS"/>
                </a:rPr>
                <a:t>linguagens com compilação para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56000" y="4809960"/>
              <a:ext cx="622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66"/>
                  </a:solidFill>
                  <a:latin typeface="Trebuchet MS"/>
                </a:rPr>
                <a:t>Plataforma .NET através de Hask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290000" y="5532480"/>
            <a:ext cx="1879560" cy="706320"/>
            <a:chOff x="7290000" y="5532480"/>
            <a:chExt cx="1879560" cy="706320"/>
          </a:xfrm>
        </p:grpSpPr>
        <p:sp>
          <p:nvSpPr>
            <p:cNvPr id="96" name=""/>
            <p:cNvSpPr/>
            <p:nvPr/>
          </p:nvSpPr>
          <p:spPr>
            <a:xfrm>
              <a:off x="7290000" y="5535720"/>
              <a:ext cx="18601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000" spc="-1" strike="noStrike">
                  <a:solidFill>
                    <a:srgbClr val="000066"/>
                  </a:solidFill>
                  <a:latin typeface="Trebuchet MS"/>
                </a:rPr>
                <a:t>André Wilson B. Fur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000" spc="-1" strike="noStrike">
                  <a:solidFill>
                    <a:srgbClr val="000066"/>
                  </a:solidFill>
                  <a:latin typeface="Trebuchet MS"/>
                </a:rPr>
                <a:t>Gustado Danzi de Andra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000" spc="-1" strike="noStrike">
                  <a:solidFill>
                    <a:srgbClr val="000066"/>
                  </a:solidFill>
                  <a:latin typeface="Trebuchet MS"/>
                </a:rPr>
                <a:t>Monique Louise B. Montei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000" spc="-1" strike="noStrike">
                  <a:solidFill>
                    <a:srgbClr val="000066"/>
                  </a:solidFill>
                  <a:latin typeface="Trebuchet MS"/>
                </a:rPr>
                <a:t>{awbf,gda,mlbm}@cin.ufpe.b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380360" y="5532480"/>
              <a:ext cx="1789200" cy="144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042920" y="3997440"/>
            <a:ext cx="1368000" cy="1314000"/>
            <a:chOff x="1042920" y="3997440"/>
            <a:chExt cx="1368000" cy="1314000"/>
          </a:xfrm>
        </p:grpSpPr>
        <p:sp>
          <p:nvSpPr>
            <p:cNvPr id="99" name=""/>
            <p:cNvSpPr/>
            <p:nvPr/>
          </p:nvSpPr>
          <p:spPr>
            <a:xfrm>
              <a:off x="1163520" y="4064040"/>
              <a:ext cx="1247400" cy="12474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042920" y="3997440"/>
              <a:ext cx="1307880" cy="125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Arial Black"/>
              </a:rPr>
              <a:t>Proposta</a:t>
            </a: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3152520"/>
            <a:ext cx="82296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“ </a:t>
            </a: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Implementação de parte das linguagens usando outros padrões/plataformas ”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3" name=""/>
          <p:cNvSpPr/>
          <p:nvPr/>
        </p:nvSpPr>
        <p:spPr>
          <a:xfrm>
            <a:off x="4484520" y="3227400"/>
            <a:ext cx="352908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4480" y="3659040"/>
            <a:ext cx="471024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084720" y="2565000"/>
            <a:ext cx="57492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00720" y="4076280"/>
            <a:ext cx="57456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1916280"/>
            <a:ext cx="3745080" cy="72072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LE2, LF1, LF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4724280"/>
            <a:ext cx="3745080" cy="72072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Hask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60440" y="3227400"/>
            <a:ext cx="259236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050560" y="2565000"/>
            <a:ext cx="57636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916280"/>
            <a:ext cx="3744720" cy="72072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pilação p/ 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Objetivos</a:t>
            </a:r>
            <a:endParaRPr b="0" lang="en-US" sz="6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Realizar uma análise crítica da implementação do </a:t>
            </a:r>
            <a:r>
              <a:rPr b="1" i="1" lang="pt-BR" sz="2800" spc="-1" strike="noStrike">
                <a:solidFill>
                  <a:srgbClr val="000066"/>
                </a:solidFill>
                <a:latin typeface="Trebuchet MS"/>
              </a:rPr>
              <a:t>framework</a:t>
            </a: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 de linguagens com o paradigma funciona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Possibilitar e validar a integração com outras linguagens, através da Plataforma .NET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04000" y="4437000"/>
            <a:ext cx="1800360" cy="10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8400" y="333000"/>
            <a:ext cx="89852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 Black"/>
              </a:rPr>
              <a:t>Atividades Concluídas</a:t>
            </a:r>
            <a:endParaRPr b="0" lang="en-US" sz="5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Implementar a Linguagem de Expressões LE2 em Haskell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Compilar a LE2 para Microsoft Intermediate Language (MSIL)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Verificar a integração do código gerado com código de outras linguagens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0066"/>
                </a:solidFill>
                <a:latin typeface="Arial Black"/>
              </a:rPr>
              <a:t>Usando Haskell...</a:t>
            </a: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rebuchet MS"/>
              </a:rPr>
              <a:t>Analisador Léxico</a:t>
            </a:r>
            <a:endParaRPr b="1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rebuchet MS"/>
              </a:rPr>
              <a:t>Alex: estrutura das linguagens funcionais lida naturalmente com casamento de padrões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rebuchet MS"/>
              </a:rPr>
              <a:t>Parser</a:t>
            </a:r>
            <a:endParaRPr b="1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rebuchet MS"/>
              </a:rPr>
              <a:t>Happy: gerador de parser para Haskell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rebuchet MS"/>
              </a:rPr>
              <a:t>Geração de código intermediário</a:t>
            </a:r>
            <a:endParaRPr b="1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rebuchet MS"/>
              </a:rPr>
              <a:t>Redução do conjunto de instruções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rebuchet MS"/>
              </a:rPr>
              <a:t>Geração de código final</a:t>
            </a:r>
            <a:endParaRPr b="1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rebuchet MS"/>
              </a:rPr>
              <a:t>Criação de código MSIL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rebuchet MS"/>
              </a:rPr>
              <a:t>Exploração de diversos mecanismos da linguagem:</a:t>
            </a:r>
            <a:endParaRPr b="1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rebuchet MS"/>
              </a:rPr>
              <a:t>Monads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rebuchet MS"/>
              </a:rPr>
              <a:t>Tipos algébricos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rebuchet MS"/>
              </a:rPr>
              <a:t>Tipos abstratos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66"/>
                </a:solidFill>
                <a:latin typeface="Trebuchet MS"/>
              </a:rPr>
              <a:t>Labelled types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rebuchet MS"/>
              </a:rPr>
              <a:t>...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Arial Black"/>
              </a:rPr>
              <a:t>Usando .NET...</a:t>
            </a:r>
            <a:endParaRPr b="0" lang="en-US" sz="6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5113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rebuchet MS"/>
              </a:rPr>
              <a:t>Executáveis ficam na forma de </a:t>
            </a:r>
            <a:r>
              <a:rPr b="1" lang="pt-BR" sz="2000" spc="-1" strike="noStrike">
                <a:solidFill>
                  <a:srgbClr val="ff0000"/>
                </a:solidFill>
                <a:latin typeface="Trebuchet MS"/>
              </a:rPr>
              <a:t>código gerenciado</a:t>
            </a:r>
            <a:r>
              <a:rPr b="1" lang="pt-BR" sz="2000" spc="-1" strike="noStrike">
                <a:solidFill>
                  <a:srgbClr val="000066"/>
                </a:solidFill>
                <a:latin typeface="Trebuchet MS"/>
              </a:rPr>
              <a:t>, não dependendo de plataforma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29040" indent="-329040"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rebuchet MS"/>
              </a:rPr>
              <a:t>Interoperabilidade</a:t>
            </a:r>
            <a:r>
              <a:rPr b="1" lang="pt-BR" sz="2000" spc="-1" strike="noStrike">
                <a:solidFill>
                  <a:srgbClr val="000066"/>
                </a:solidFill>
                <a:latin typeface="Trebuchet MS"/>
              </a:rPr>
              <a:t> entre diferentes linguagens(C#, VB.NET, ... LE2.NET!)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29040" indent="-329040"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rebuchet MS"/>
              </a:rPr>
              <a:t>Abordagem: os programas são compilados em DLLs .NET (</a:t>
            </a:r>
            <a:r>
              <a:rPr b="1" i="1" lang="pt-BR" sz="2000" spc="-1" strike="noStrike">
                <a:solidFill>
                  <a:srgbClr val="ff3300"/>
                </a:solidFill>
                <a:latin typeface="Trebuchet MS"/>
              </a:rPr>
              <a:t>assemblies</a:t>
            </a:r>
            <a:r>
              <a:rPr b="1" lang="pt-BR" sz="2000" spc="-1" strike="noStrike">
                <a:solidFill>
                  <a:srgbClr val="000066"/>
                </a:solidFill>
                <a:latin typeface="Trebuchet MS"/>
              </a:rPr>
              <a:t>) tornando-se componentes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29040" indent="-329040"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rebuchet MS"/>
              </a:rPr>
              <a:t>Integração amplamente suportada pela IDE </a:t>
            </a:r>
            <a:r>
              <a:rPr b="1" lang="pt-BR" sz="2000" spc="-1" strike="noStrike">
                <a:solidFill>
                  <a:srgbClr val="ff3300"/>
                </a:solidFill>
                <a:latin typeface="Trebuchet MS"/>
              </a:rPr>
              <a:t>Visual Studio .NET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1557360"/>
            <a:ext cx="1079280" cy="5032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nte C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1557360"/>
            <a:ext cx="1079640" cy="5047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B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2349360"/>
            <a:ext cx="936720" cy="1224000"/>
          </a:xfrm>
          <a:prstGeom prst="downArrow">
            <a:avLst>
              <a:gd name="adj1" fmla="val 50000"/>
              <a:gd name="adj2" fmla="val 32667"/>
            </a:avLst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6000" y="2349360"/>
            <a:ext cx="936360" cy="1224000"/>
          </a:xfrm>
          <a:prstGeom prst="downArrow">
            <a:avLst>
              <a:gd name="adj1" fmla="val 50000"/>
              <a:gd name="adj2" fmla="val 3268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3789360"/>
            <a:ext cx="115092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MS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4360" y="3789360"/>
            <a:ext cx="115092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MS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4797360"/>
            <a:ext cx="2158920" cy="719280"/>
          </a:xfrm>
          <a:prstGeom prst="downArrow">
            <a:avLst>
              <a:gd name="adj1" fmla="val 32204"/>
              <a:gd name="adj2" fmla="val 39736"/>
            </a:avLst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16720" y="5661000"/>
            <a:ext cx="1150920" cy="57636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86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Demos</a:t>
            </a:r>
            <a:endParaRPr b="0" lang="en-US" sz="6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Booleanos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Strings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rebuchet MS"/>
              </a:rPr>
              <a:t>Inteiros</a:t>
            </a:r>
            <a:endParaRPr b="1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31" name="" descr="hacker insurance"/>
          <p:cNvPicPr/>
          <p:nvPr/>
        </p:nvPicPr>
        <p:blipFill>
          <a:blip r:embed="rId2"/>
          <a:stretch/>
        </p:blipFill>
        <p:spPr>
          <a:xfrm>
            <a:off x="6588000" y="1628640"/>
            <a:ext cx="2017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876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 Black"/>
              </a:rPr>
              <a:t>Próximas atividades</a:t>
            </a:r>
            <a:endParaRPr b="0" lang="en-US" sz="5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rebuchet MS"/>
              </a:rPr>
              <a:t>Implementar checagem semântica</a:t>
            </a:r>
            <a:endParaRPr b="1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rebuchet MS"/>
              </a:rPr>
              <a:t>Checagem de escopo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Trebuchet MS"/>
              </a:rPr>
              <a:t>Checagem de tipos</a:t>
            </a:r>
            <a:endParaRPr b="1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rebuchet MS"/>
              </a:rPr>
              <a:t>Evoluir LE2 para a Linguagem Funcional 1</a:t>
            </a:r>
            <a:endParaRPr b="1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rebuchet MS"/>
              </a:rPr>
              <a:t>Evoluir LF1 para a Linguagem Funcional 2</a:t>
            </a:r>
            <a:endParaRPr b="1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rebuchet MS"/>
              </a:rPr>
              <a:t>Comparar o esforço necessário para estender as linguagens quando implementadas em Haskell e quando implementadas em Java</a:t>
            </a:r>
            <a:endParaRPr b="1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67440" y="5013360"/>
            <a:ext cx="10602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411280" y="5013360"/>
            <a:ext cx="1440000" cy="12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4069080" y="4975200"/>
            <a:ext cx="79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19664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Arial Black"/>
              </a:rPr>
              <a:t>Perguntas?</a:t>
            </a:r>
            <a:endParaRPr b="0" lang="en-US" sz="80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556000" y="3962520"/>
            <a:ext cx="6228720" cy="1794600"/>
            <a:chOff x="2556000" y="3962520"/>
            <a:chExt cx="6228720" cy="1794600"/>
          </a:xfrm>
        </p:grpSpPr>
        <p:sp>
          <p:nvSpPr>
            <p:cNvPr id="139" name=""/>
            <p:cNvSpPr/>
            <p:nvPr/>
          </p:nvSpPr>
          <p:spPr>
            <a:xfrm>
              <a:off x="2557800" y="3962520"/>
              <a:ext cx="62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66"/>
                  </a:solidFill>
                  <a:latin typeface="Trebuchet MS"/>
                </a:rPr>
                <a:t>Extensão do </a:t>
              </a:r>
              <a:r>
                <a:rPr b="1" i="1" lang="pt-BR" sz="2800" spc="-1" strike="noStrike">
                  <a:solidFill>
                    <a:srgbClr val="000066"/>
                  </a:solidFill>
                  <a:latin typeface="Trebuchet MS"/>
                </a:rPr>
                <a:t>framework</a:t>
              </a:r>
              <a:r>
                <a:rPr b="1" lang="pt-BR" sz="2800" spc="-1" strike="noStrike">
                  <a:solidFill>
                    <a:srgbClr val="000066"/>
                  </a:solidFill>
                  <a:latin typeface="Trebuchet MS"/>
                </a:rPr>
                <a:t> 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56000" y="4378320"/>
              <a:ext cx="622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rebuchet MS"/>
                </a:rPr>
                <a:t>linguagens com compilação para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56000" y="4809960"/>
              <a:ext cx="622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66"/>
                  </a:solidFill>
                  <a:latin typeface="Trebuchet MS"/>
                </a:rPr>
                <a:t>Plataforma .NET através de Hask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290000" y="5532480"/>
            <a:ext cx="1879560" cy="706320"/>
            <a:chOff x="7290000" y="5532480"/>
            <a:chExt cx="1879560" cy="706320"/>
          </a:xfrm>
        </p:grpSpPr>
        <p:sp>
          <p:nvSpPr>
            <p:cNvPr id="143" name=""/>
            <p:cNvSpPr/>
            <p:nvPr/>
          </p:nvSpPr>
          <p:spPr>
            <a:xfrm>
              <a:off x="7290000" y="5535720"/>
              <a:ext cx="18601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000" spc="-1" strike="noStrike">
                  <a:solidFill>
                    <a:srgbClr val="000066"/>
                  </a:solidFill>
                  <a:latin typeface="Trebuchet MS"/>
                </a:rPr>
                <a:t>André Wilson B. Fur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000" spc="-1" strike="noStrike">
                  <a:solidFill>
                    <a:srgbClr val="000066"/>
                  </a:solidFill>
                  <a:latin typeface="Trebuchet MS"/>
                </a:rPr>
                <a:t>Gustado Danzi de Andra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000" spc="-1" strike="noStrike">
                  <a:solidFill>
                    <a:srgbClr val="000066"/>
                  </a:solidFill>
                  <a:latin typeface="Trebuchet MS"/>
                </a:rPr>
                <a:t>Monique Louise B. Montei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000" spc="-1" strike="noStrike">
                  <a:solidFill>
                    <a:srgbClr val="000066"/>
                  </a:solidFill>
                  <a:latin typeface="Trebuchet MS"/>
                </a:rPr>
                <a:t>{awbf,gda,mlbm}@cin.ufpe.b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380360" y="5532480"/>
              <a:ext cx="1789200" cy="144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042920" y="3997440"/>
            <a:ext cx="1368000" cy="1314000"/>
            <a:chOff x="1042920" y="3997440"/>
            <a:chExt cx="1368000" cy="1314000"/>
          </a:xfrm>
        </p:grpSpPr>
        <p:sp>
          <p:nvSpPr>
            <p:cNvPr id="146" name=""/>
            <p:cNvSpPr/>
            <p:nvPr/>
          </p:nvSpPr>
          <p:spPr>
            <a:xfrm>
              <a:off x="1163520" y="4064040"/>
              <a:ext cx="1247400" cy="12474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1042920" y="3997440"/>
              <a:ext cx="1307880" cy="125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3:32:43Z</dcterms:created>
  <dc:creator>AWBF</dc:creator>
  <dc:description/>
  <dc:language>en-US</dc:language>
  <cp:lastModifiedBy>AWBF</cp:lastModifiedBy>
  <dcterms:modified xsi:type="dcterms:W3CDTF">2004-06-22T11:47:57Z</dcterms:modified>
  <cp:revision>120</cp:revision>
  <dc:subject/>
  <dc:title>Slide 1</dc:title>
</cp:coreProperties>
</file>