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D6E-04F9-4A99-8A25-7D8FDD136E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tar que cada USO d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tar que as vantagens do Happy já foram presenciadas na aula pass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É necessário especificar os tipos dos parâmetros na chamada de funções. Atualmente, usamos o tipo ‘object’ por padrão. Entretanto, para suportar overloading, seria necessário inferir os tipos dos parâmetros das fun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ém de funções de alta ordem, passam a existir também funções anônimas (que utilizam a “notação lambd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496-F29E-4909-BC74-295EC2B6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1FB-FE5C-44E1-864C-7465FC57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7F8-BFA4-45A9-AE8F-B96F3BD2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EA3-4C1F-42CE-B937-52C6600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FF2-0F73-443D-9DA9-ECE44ED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19D-B91B-4955-A657-2E7C5241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415-1D18-4859-9405-53C85BE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5E1-10C1-4DA7-88B5-78E61B6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4DF-C294-49AB-B788-4F65890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858-595A-4780-AA7D-737AD7F7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ADE-C73E-4A4F-B94D-34F43A9A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102-E32A-440C-9CFF-F3A939EB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0440" y="6539040"/>
            <a:ext cx="74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66"/>
                </a:solidFill>
                <a:latin typeface="Arial"/>
              </a:rPr>
              <a:t>Paradigmas de Linguagens de Programação – Mestrado em Ciência da Computação – CIn/UFPE – 200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6360" y="1127160"/>
            <a:ext cx="8712000" cy="712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43800" y="6149880"/>
            <a:ext cx="592200" cy="592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6920" y="6118200"/>
            <a:ext cx="62064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B63-B095-465D-B3E3-7D696134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00360" y="1052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0" y="3962520"/>
            <a:ext cx="6228720" cy="1794600"/>
            <a:chOff x="2556000" y="3962520"/>
            <a:chExt cx="6228720" cy="1794600"/>
          </a:xfrm>
        </p:grpSpPr>
        <p:sp>
          <p:nvSpPr>
            <p:cNvPr id="92" name=""/>
            <p:cNvSpPr/>
            <p:nvPr/>
          </p:nvSpPr>
          <p:spPr>
            <a:xfrm>
              <a:off x="2557800" y="3962520"/>
              <a:ext cx="62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Extensão do </a:t>
              </a:r>
              <a:r>
                <a:rPr b="1" i="1" lang="pt-BR" sz="2800" spc="-1" strike="noStrike">
                  <a:solidFill>
                    <a:srgbClr val="000066"/>
                  </a:solidFill>
                  <a:latin typeface="Trebuchet MS"/>
                </a:rPr>
                <a:t>framework</a:t>
              </a: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 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6000" y="437832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rebuchet MS"/>
                </a:rPr>
                <a:t>linguagens com compilação para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56000" y="480996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Plataforma .NET através de Hask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90000" y="5532480"/>
            <a:ext cx="1879560" cy="706320"/>
            <a:chOff x="7290000" y="5532480"/>
            <a:chExt cx="1879560" cy="706320"/>
          </a:xfrm>
        </p:grpSpPr>
        <p:sp>
          <p:nvSpPr>
            <p:cNvPr id="96" name=""/>
            <p:cNvSpPr/>
            <p:nvPr/>
          </p:nvSpPr>
          <p:spPr>
            <a:xfrm>
              <a:off x="7290000" y="5535720"/>
              <a:ext cx="1860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André Wilson B. Fur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Gustavo Danzi de Andr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Monique Louise B. Montei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{awbf,gda,mlbm}@cin.ufpe.b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80360" y="5532480"/>
              <a:ext cx="1789200" cy="14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42920" y="3997440"/>
            <a:ext cx="1368000" cy="1314000"/>
            <a:chOff x="1042920" y="3997440"/>
            <a:chExt cx="1368000" cy="1314000"/>
          </a:xfrm>
        </p:grpSpPr>
        <p:sp>
          <p:nvSpPr>
            <p:cNvPr id="99" name=""/>
            <p:cNvSpPr/>
            <p:nvPr/>
          </p:nvSpPr>
          <p:spPr>
            <a:xfrm>
              <a:off x="1163520" y="4064040"/>
              <a:ext cx="1247400" cy="1247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042920" y="3997440"/>
              <a:ext cx="1307880" cy="125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emo 02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Utilizan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s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em C#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" descr="hacker insurance"/>
          <p:cNvPicPr/>
          <p:nvPr/>
        </p:nvPicPr>
        <p:blipFill>
          <a:blip r:embed="rId2"/>
          <a:stretch/>
        </p:blipFill>
        <p:spPr>
          <a:xfrm>
            <a:off x="6588000" y="2690640"/>
            <a:ext cx="2017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8400" y="333000"/>
            <a:ext cx="898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60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6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roblema: não podemos fixar o tipo dos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s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gerados, nem mesmo para “object” 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or exemplo, apply f x = f(x) não pode gerar apenas um delegate do tipo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ois gostaríamos de chamar apply com diferentes possibilidades para f: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471840"/>
            <a:ext cx="525780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object f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9880" y="5024520"/>
            <a:ext cx="38862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 inc x 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9880" y="5405400"/>
            <a:ext cx="3886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 sayHi x = “Hi, ” ++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9880" y="5786280"/>
            <a:ext cx="3886200" cy="38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 andTrue x = x 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4520" y="5029200"/>
            <a:ext cx="3200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ply(inc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4520" y="5410080"/>
            <a:ext cx="32004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ply(sayHi,“Joa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4520" y="5791320"/>
            <a:ext cx="320040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ply(andTrue,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0524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05240" y="5562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05240" y="5943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54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5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nc é do tipo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E isso não casa com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2133720"/>
            <a:ext cx="525780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nc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809880"/>
            <a:ext cx="525780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object f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54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5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962520" cy="1308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19810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2286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600200"/>
            <a:ext cx="364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Solução: NÃO gerar 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a partir daqu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962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... e sim daqui, quando uma função é referencia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2438280"/>
            <a:ext cx="609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200400"/>
            <a:ext cx="525780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object f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590560" y="2743200"/>
            <a:ext cx="1522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5181480"/>
            <a:ext cx="525780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inc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2971800"/>
            <a:ext cx="19814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2895480"/>
            <a:ext cx="22100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467120" y="5195880"/>
            <a:ext cx="8384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5272200"/>
            <a:ext cx="95040" cy="24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54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5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ara cada função que é passada como parâmetro ou retornada, um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que casa com a assinatura da função será criado no código final.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3962520" cy="1308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5929200"/>
            <a:ext cx="525780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inc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80720" y="4952880"/>
            <a:ext cx="68580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4648320"/>
            <a:ext cx="6094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572000" y="3798720"/>
            <a:ext cx="365760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971800" y="5267160"/>
            <a:ext cx="579132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ing sayHi_delegate(objec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8280" y="4572000"/>
            <a:ext cx="7286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638320" y="487692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54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5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or fim, para a </a:t>
            </a:r>
            <a:r>
              <a:rPr b="1" lang="pt-BR" sz="2800" spc="-1" strike="noStrike">
                <a:solidFill>
                  <a:srgbClr val="ff0000"/>
                </a:solidFill>
                <a:latin typeface="Trebuchet MS"/>
              </a:rPr>
              <a:t>invocação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da função, o méto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ynamicInvoke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é chamado, o que permite abstrair o tipo 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Courier New"/>
              </a:rPr>
              <a:t>apply f x = f(x)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é equivalente, em C#, a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500200" cy="533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20120" y="1523880"/>
            <a:ext cx="6094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266720" y="1828800"/>
            <a:ext cx="35816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09480" y="4876920"/>
            <a:ext cx="79250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8400" y="333000"/>
            <a:ext cx="898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Arial Narrow"/>
              </a:rPr>
              <a:t>Implementação de </a:t>
            </a:r>
            <a:r>
              <a:rPr b="1" i="1" lang="pt-BR" sz="6000" spc="-1" strike="noStrike">
                <a:solidFill>
                  <a:srgbClr val="000066"/>
                </a:solidFill>
                <a:latin typeface="Arial Narrow"/>
              </a:rPr>
              <a:t>delegates</a:t>
            </a:r>
            <a:endParaRPr b="1" lang="en-US" sz="6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onseqüentemente, o compilador precisa: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39621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724280" y="230976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1. Identificar o uso de funções no código LF2 usadas como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314440" y="2742840"/>
            <a:ext cx="2409840" cy="914760"/>
            <a:chOff x="2314440" y="2742840"/>
            <a:chExt cx="2409840" cy="914760"/>
          </a:xfrm>
        </p:grpSpPr>
        <p:sp>
          <p:nvSpPr>
            <p:cNvPr id="263" name=""/>
            <p:cNvSpPr/>
            <p:nvPr/>
          </p:nvSpPr>
          <p:spPr>
            <a:xfrm>
              <a:off x="2314440" y="3352680"/>
              <a:ext cx="53352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666880" y="2742840"/>
              <a:ext cx="2057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724280" y="3071880"/>
            <a:ext cx="4419360" cy="1035720"/>
            <a:chOff x="4724280" y="3071880"/>
            <a:chExt cx="4419360" cy="1035720"/>
          </a:xfrm>
        </p:grpSpPr>
        <p:sp>
          <p:nvSpPr>
            <p:cNvPr id="266" name=""/>
            <p:cNvSpPr/>
            <p:nvPr/>
          </p:nvSpPr>
          <p:spPr>
            <a:xfrm>
              <a:off x="4724280" y="3098880"/>
              <a:ext cx="441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rebuchet MS"/>
                </a:rPr>
                <a:t>2. Construir no código IL uma “classe delegate” para essas fun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04200" y="3071880"/>
              <a:ext cx="39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04920" y="4211640"/>
            <a:ext cx="3962160" cy="1122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9" name=""/>
          <p:cNvSpPr/>
          <p:nvPr/>
        </p:nvSpPr>
        <p:spPr>
          <a:xfrm flipV="1">
            <a:off x="2895480" y="350496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24280" y="3867120"/>
            <a:ext cx="4205520" cy="1359720"/>
            <a:chOff x="4724280" y="3867120"/>
            <a:chExt cx="4205520" cy="1359720"/>
          </a:xfrm>
        </p:grpSpPr>
        <p:sp>
          <p:nvSpPr>
            <p:cNvPr id="271" name=""/>
            <p:cNvSpPr/>
            <p:nvPr/>
          </p:nvSpPr>
          <p:spPr>
            <a:xfrm>
              <a:off x="4800600" y="386712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4280" y="3913200"/>
              <a:ext cx="4205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rebuchet MS"/>
                </a:rPr>
                <a:t>3a. Na chamada da função que tem outra função como parâmetro, instanciar o </a:t>
              </a:r>
              <a:r>
                <a:rPr b="0" i="1" lang="pt-BR" sz="2000" spc="-1" strike="noStrike">
                  <a:solidFill>
                    <a:srgbClr val="000066"/>
                  </a:solidFill>
                  <a:latin typeface="Trebuchet MS"/>
                </a:rPr>
                <a:t>delegate</a:t>
              </a:r>
              <a:r>
                <a:rPr b="0" lang="pt-BR" sz="2000" spc="-1" strike="noStrike">
                  <a:solidFill>
                    <a:srgbClr val="000066"/>
                  </a:solidFill>
                  <a:latin typeface="Trebuchet MS"/>
                </a:rPr>
                <a:t> e empilhá-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 flipV="1">
            <a:off x="1752120" y="3657240"/>
            <a:ext cx="29718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24280" y="4952880"/>
            <a:ext cx="4267440" cy="1374120"/>
            <a:chOff x="4724280" y="4952880"/>
            <a:chExt cx="4267440" cy="1374120"/>
          </a:xfrm>
        </p:grpSpPr>
        <p:sp>
          <p:nvSpPr>
            <p:cNvPr id="275" name=""/>
            <p:cNvSpPr/>
            <p:nvPr/>
          </p:nvSpPr>
          <p:spPr>
            <a:xfrm>
              <a:off x="4800600" y="495288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5013360"/>
              <a:ext cx="426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rebuchet MS"/>
                </a:rPr>
                <a:t>3b. Para uma função sendo utilizada como retorno, também instanciar o </a:t>
              </a:r>
              <a:r>
                <a:rPr b="0" i="1" lang="pt-BR" sz="2000" spc="-1" strike="noStrike">
                  <a:solidFill>
                    <a:srgbClr val="000066"/>
                  </a:solidFill>
                  <a:latin typeface="Trebuchet MS"/>
                </a:rPr>
                <a:t>delegate</a:t>
              </a:r>
              <a:r>
                <a:rPr b="0" lang="pt-BR" sz="2000" spc="-1" strike="noStrike">
                  <a:solidFill>
                    <a:srgbClr val="000066"/>
                  </a:solidFill>
                  <a:latin typeface="Trebuchet MS"/>
                </a:rPr>
                <a:t> e empilhá-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371600" y="5562720"/>
            <a:ext cx="2895480" cy="83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8" name=""/>
          <p:cNvSpPr/>
          <p:nvPr/>
        </p:nvSpPr>
        <p:spPr>
          <a:xfrm flipH="1">
            <a:off x="4267080" y="5562720"/>
            <a:ext cx="4572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emo 03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LF2 passando uma função para C#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81" name="" descr="hacker insurance"/>
          <p:cNvPicPr/>
          <p:nvPr/>
        </p:nvPicPr>
        <p:blipFill>
          <a:blip r:embed="rId2"/>
          <a:stretch/>
        </p:blipFill>
        <p:spPr>
          <a:xfrm>
            <a:off x="6588000" y="2690640"/>
            <a:ext cx="2017800" cy="302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emo 04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# passando uma função para código LF2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85" name="" descr="hacker insurance"/>
          <p:cNvPicPr/>
          <p:nvPr/>
        </p:nvPicPr>
        <p:blipFill>
          <a:blip r:embed="rId2"/>
          <a:stretch/>
        </p:blipFill>
        <p:spPr>
          <a:xfrm>
            <a:off x="6588000" y="2690640"/>
            <a:ext cx="2017800" cy="3024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31338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emo 05 [opcional]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# chamando assincronamente uma função  de LF2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89" name="" descr="hacker insurance"/>
          <p:cNvPicPr/>
          <p:nvPr/>
        </p:nvPicPr>
        <p:blipFill>
          <a:blip r:embed="rId2"/>
          <a:stretch/>
        </p:blipFill>
        <p:spPr>
          <a:xfrm>
            <a:off x="6588000" y="2690640"/>
            <a:ext cx="2017800" cy="3024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4537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Objetivo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66688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ortar as linguagens LE2, LF1 e LF2 para a Plataforma .NET, através de compiladores implementados em Haskel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Comparação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95280" y="1589040"/>
          <a:ext cx="8229600" cy="4289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Java (Interpretaçã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7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Haskell (Compilaçã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b7be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Parser</a:t>
                      </a:r>
                      <a:r>
                        <a:rPr b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 gera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Parser</a:t>
                      </a:r>
                      <a:r>
                        <a:rPr b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 gera tipos de d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Ambiente é uma  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Ambiente é um </a:t>
                      </a:r>
                      <a:r>
                        <a:rPr b="1" i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Mon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Inferência básica de Ti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DecFuncao</a:t>
                      </a:r>
                      <a:r>
                        <a:rPr b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 e </a:t>
                      </a:r>
                      <a:r>
                        <a:rPr b="1" i="1" lang="pt-BR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ValorFun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Todas funções têm n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Execução em 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rebuchet MS"/>
                        </a:rPr>
                        <a:t>Geração de códig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8400" y="304560"/>
            <a:ext cx="898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ificuldades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A implementação de funções de alta ordem não foi trivia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Muito trabalho é exigido da parte semântica, principalmente em relação à inferência de tipo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A implementação do ambiente de execução não pode ser naturalmente realizada em código I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A comparação entre as implementações em Java e em Haskell é dificultada pela diferença de propósitos: Interpretador X Compilador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Conclusões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O uso de Haskell possibilitou (e facilitou) a implementação dos compiladores, validando a proposta inicial.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Apesar de não abordar características típicas de linguagens funcionais (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lazyness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, aplicação parcial, etc.), o trabalho oferece uma contribuição importante à intenção de compilar Haskell para .NET.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 Narrow"/>
              </a:rPr>
              <a:t>Perguntas?</a:t>
            </a:r>
            <a:endParaRPr b="1" lang="en-US" sz="96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519280" y="3962520"/>
            <a:ext cx="6229080" cy="1794600"/>
            <a:chOff x="2519280" y="3962520"/>
            <a:chExt cx="6229080" cy="1794600"/>
          </a:xfrm>
        </p:grpSpPr>
        <p:sp>
          <p:nvSpPr>
            <p:cNvPr id="299" name=""/>
            <p:cNvSpPr/>
            <p:nvPr/>
          </p:nvSpPr>
          <p:spPr>
            <a:xfrm>
              <a:off x="2521080" y="3962520"/>
              <a:ext cx="62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Extensão do </a:t>
              </a:r>
              <a:r>
                <a:rPr b="1" i="1" lang="pt-BR" sz="2800" spc="-1" strike="noStrike">
                  <a:solidFill>
                    <a:srgbClr val="000066"/>
                  </a:solidFill>
                  <a:latin typeface="Trebuchet MS"/>
                </a:rPr>
                <a:t>framework</a:t>
              </a: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 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19280" y="4378320"/>
              <a:ext cx="6227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rebuchet MS"/>
                </a:rPr>
                <a:t>linguagens com compilação para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9280" y="4809960"/>
              <a:ext cx="6227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Plataforma .NET através de Hask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53280" y="5532480"/>
            <a:ext cx="1879560" cy="706320"/>
            <a:chOff x="7253280" y="5532480"/>
            <a:chExt cx="1879560" cy="706320"/>
          </a:xfrm>
        </p:grpSpPr>
        <p:sp>
          <p:nvSpPr>
            <p:cNvPr id="303" name=""/>
            <p:cNvSpPr/>
            <p:nvPr/>
          </p:nvSpPr>
          <p:spPr>
            <a:xfrm>
              <a:off x="7253280" y="5535720"/>
              <a:ext cx="1860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André Wilson B. Fur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Gustado Danzi de Andr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Monique Louise B. Montei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{awbf,gda,mlbm}@cin.ufpe.b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343640" y="5532480"/>
              <a:ext cx="1789200" cy="14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006560" y="3997440"/>
            <a:ext cx="1368000" cy="1314000"/>
            <a:chOff x="1006560" y="3997440"/>
            <a:chExt cx="1368000" cy="1314000"/>
          </a:xfrm>
        </p:grpSpPr>
        <p:sp>
          <p:nvSpPr>
            <p:cNvPr id="306" name=""/>
            <p:cNvSpPr/>
            <p:nvPr/>
          </p:nvSpPr>
          <p:spPr>
            <a:xfrm>
              <a:off x="1127160" y="4064040"/>
              <a:ext cx="1247400" cy="1247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1006560" y="3997440"/>
              <a:ext cx="1307880" cy="125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8329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Visão Geral do Processo 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2666880"/>
            <a:ext cx="1060200" cy="3719520"/>
            <a:chOff x="304920" y="2666880"/>
            <a:chExt cx="1060200" cy="37195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04920" y="2666880"/>
              <a:ext cx="106020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04920" y="3962520"/>
              <a:ext cx="106020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304920" y="5243400"/>
              <a:ext cx="106020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4920" y="1395360"/>
            <a:ext cx="10602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9" name=""/>
          <p:cNvGrpSpPr/>
          <p:nvPr/>
        </p:nvGrpSpPr>
        <p:grpSpPr>
          <a:xfrm>
            <a:off x="4114800" y="1447920"/>
            <a:ext cx="2619360" cy="1066680"/>
            <a:chOff x="4114800" y="1447920"/>
            <a:chExt cx="2619360" cy="1066680"/>
          </a:xfrm>
        </p:grpSpPr>
        <p:sp>
          <p:nvSpPr>
            <p:cNvPr id="110" name=""/>
            <p:cNvSpPr/>
            <p:nvPr/>
          </p:nvSpPr>
          <p:spPr>
            <a:xfrm>
              <a:off x="4114800" y="1600200"/>
              <a:ext cx="1523880" cy="76212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lasm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5745240" y="144792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4114800" y="2743200"/>
            <a:ext cx="2619360" cy="3581280"/>
            <a:chOff x="4114800" y="2743200"/>
            <a:chExt cx="2619360" cy="3581280"/>
          </a:xfrm>
        </p:grpSpPr>
        <p:sp>
          <p:nvSpPr>
            <p:cNvPr id="113" name=""/>
            <p:cNvSpPr/>
            <p:nvPr/>
          </p:nvSpPr>
          <p:spPr>
            <a:xfrm>
              <a:off x="4114800" y="2819520"/>
              <a:ext cx="1523880" cy="761760"/>
            </a:xfrm>
            <a:prstGeom prst="rightArrow">
              <a:avLst>
                <a:gd name="adj1" fmla="val 50000"/>
                <a:gd name="adj2" fmla="val 50012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lasm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4114800"/>
              <a:ext cx="1523880" cy="76212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lasm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4800" y="5410080"/>
              <a:ext cx="1523880" cy="76212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lasm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5745240" y="274320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>
              <a:off x="5745240" y="4038480"/>
              <a:ext cx="988920" cy="1067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8" name="" descr=""/>
            <p:cNvPicPr/>
            <p:nvPr/>
          </p:nvPicPr>
          <p:blipFill>
            <a:blip r:embed="rId9"/>
            <a:stretch/>
          </p:blipFill>
          <p:spPr>
            <a:xfrm>
              <a:off x="5745240" y="525780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1528920" y="1447920"/>
            <a:ext cx="2431800" cy="1066680"/>
            <a:chOff x="1528920" y="1447920"/>
            <a:chExt cx="2431800" cy="1066680"/>
          </a:xfrm>
        </p:grpSpPr>
        <p:sp>
          <p:nvSpPr>
            <p:cNvPr id="120" name=""/>
            <p:cNvSpPr/>
            <p:nvPr/>
          </p:nvSpPr>
          <p:spPr>
            <a:xfrm>
              <a:off x="1528920" y="1600200"/>
              <a:ext cx="1295280" cy="762120"/>
            </a:xfrm>
            <a:prstGeom prst="rightArrow">
              <a:avLst>
                <a:gd name="adj1" fmla="val 50000"/>
                <a:gd name="adj2" fmla="val 42489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sc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0"/>
            <a:stretch/>
          </p:blipFill>
          <p:spPr>
            <a:xfrm>
              <a:off x="2971800" y="144792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1523880" y="2666880"/>
            <a:ext cx="2436840" cy="3733920"/>
            <a:chOff x="1523880" y="2666880"/>
            <a:chExt cx="2436840" cy="3733920"/>
          </a:xfrm>
        </p:grpSpPr>
        <p:sp>
          <p:nvSpPr>
            <p:cNvPr id="123" name=""/>
            <p:cNvSpPr/>
            <p:nvPr/>
          </p:nvSpPr>
          <p:spPr>
            <a:xfrm>
              <a:off x="1528920" y="2819520"/>
              <a:ext cx="1295280" cy="761760"/>
            </a:xfrm>
            <a:prstGeom prst="rightArrow">
              <a:avLst>
                <a:gd name="adj1" fmla="val 50000"/>
                <a:gd name="adj2" fmla="val 42509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e2c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8920" y="4114800"/>
              <a:ext cx="1295280" cy="762120"/>
            </a:xfrm>
            <a:prstGeom prst="rightArrow">
              <a:avLst>
                <a:gd name="adj1" fmla="val 50000"/>
                <a:gd name="adj2" fmla="val 42489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f1c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5334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f2c.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>
              <a:off x="2971800" y="2666880"/>
              <a:ext cx="988920" cy="1067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>
              <a:off x="2971800" y="396252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>
              <a:off x="2971800" y="5334120"/>
              <a:ext cx="98892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29" name=""/>
          <p:cNvSpPr/>
          <p:nvPr/>
        </p:nvSpPr>
        <p:spPr>
          <a:xfrm>
            <a:off x="6934320" y="1600200"/>
            <a:ext cx="1752480" cy="762120"/>
          </a:xfrm>
          <a:prstGeom prst="rightArrow">
            <a:avLst>
              <a:gd name="adj1" fmla="val 50000"/>
              <a:gd name="adj2" fmla="val 57487"/>
            </a:avLst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IT 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34320" y="2895480"/>
            <a:ext cx="1752480" cy="3276720"/>
            <a:chOff x="6934320" y="2895480"/>
            <a:chExt cx="1752480" cy="3276720"/>
          </a:xfrm>
        </p:grpSpPr>
        <p:sp>
          <p:nvSpPr>
            <p:cNvPr id="131" name=""/>
            <p:cNvSpPr/>
            <p:nvPr/>
          </p:nvSpPr>
          <p:spPr>
            <a:xfrm>
              <a:off x="6934320" y="289548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JIT compi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191120"/>
              <a:ext cx="1752480" cy="761760"/>
            </a:xfrm>
            <a:prstGeom prst="rightArrow">
              <a:avLst>
                <a:gd name="adj1" fmla="val 50000"/>
                <a:gd name="adj2" fmla="val 57514"/>
              </a:avLst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JIT compi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4320" y="541008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JIT compi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Motivação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Realizar uma análise crítica da implementação 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framework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de linguagens com o paradigma funciona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ossibilitar e validar a integração com outras linguagens, através da Plataforma .NE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81280" y="4419720"/>
            <a:ext cx="1800360" cy="101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H="1">
            <a:off x="6095520" y="4038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8400" y="333000"/>
            <a:ext cx="860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A Compilação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28800" y="1490760"/>
            <a:ext cx="1670040" cy="1752480"/>
            <a:chOff x="1828800" y="1490760"/>
            <a:chExt cx="1670040" cy="17524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362320" y="1490760"/>
              <a:ext cx="106020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828800" y="1871640"/>
              <a:ext cx="106056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438280" y="2100240"/>
              <a:ext cx="1060560" cy="11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43" name=""/>
          <p:cNvSpPr/>
          <p:nvPr/>
        </p:nvSpPr>
        <p:spPr>
          <a:xfrm>
            <a:off x="3733920" y="2209680"/>
            <a:ext cx="1295280" cy="762120"/>
          </a:xfrm>
          <a:prstGeom prst="rightArrow">
            <a:avLst>
              <a:gd name="adj1" fmla="val 50000"/>
              <a:gd name="adj2" fmla="val 42489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57760" y="1557360"/>
            <a:ext cx="85716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156672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6160" y="1809720"/>
            <a:ext cx="507960" cy="533520"/>
          </a:xfrm>
          <a:custGeom>
            <a:avLst/>
            <a:gdLst/>
            <a:ahLst/>
            <a:rect l="l" t="t" r="r" b="b"/>
            <a:pathLst>
              <a:path w="320" h="336">
                <a:moveTo>
                  <a:pt x="280" y="0"/>
                </a:moveTo>
                <a:cubicBezTo>
                  <a:pt x="300" y="80"/>
                  <a:pt x="320" y="160"/>
                  <a:pt x="280" y="192"/>
                </a:cubicBezTo>
                <a:cubicBezTo>
                  <a:pt x="240" y="224"/>
                  <a:pt x="80" y="168"/>
                  <a:pt x="40" y="192"/>
                </a:cubicBezTo>
                <a:cubicBezTo>
                  <a:pt x="0" y="216"/>
                  <a:pt x="40" y="312"/>
                  <a:pt x="4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77080" y="1809720"/>
            <a:ext cx="330120" cy="533520"/>
          </a:xfrm>
          <a:custGeom>
            <a:avLst/>
            <a:gdLst/>
            <a:ahLst/>
            <a:rect l="l" t="t" r="r" b="b"/>
            <a:pathLst>
              <a:path w="208" h="336">
                <a:moveTo>
                  <a:pt x="0" y="0"/>
                </a:moveTo>
                <a:cubicBezTo>
                  <a:pt x="32" y="80"/>
                  <a:pt x="64" y="160"/>
                  <a:pt x="96" y="192"/>
                </a:cubicBezTo>
                <a:cubicBezTo>
                  <a:pt x="128" y="224"/>
                  <a:pt x="176" y="168"/>
                  <a:pt x="192" y="192"/>
                </a:cubicBezTo>
                <a:cubicBezTo>
                  <a:pt x="208" y="216"/>
                  <a:pt x="192" y="320"/>
                  <a:pt x="192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53040" y="1809720"/>
            <a:ext cx="762120" cy="5335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0"/>
                </a:moveTo>
                <a:cubicBezTo>
                  <a:pt x="192" y="68"/>
                  <a:pt x="384" y="136"/>
                  <a:pt x="432" y="192"/>
                </a:cubicBezTo>
                <a:cubicBezTo>
                  <a:pt x="480" y="248"/>
                  <a:pt x="312" y="312"/>
                  <a:pt x="28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24480" y="232884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0280" y="2252520"/>
            <a:ext cx="228600" cy="228600"/>
          </a:xfrm>
          <a:prstGeom prst="ellipse">
            <a:avLst/>
          </a:prstGeom>
          <a:solidFill>
            <a:srgbClr val="fef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91160" y="2328840"/>
            <a:ext cx="15264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33760" y="25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3392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523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8320" y="300996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96" y="96"/>
                </a:lnTo>
                <a:lnTo>
                  <a:pt x="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fefd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7960" y="26766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96" y="96"/>
                </a:lnTo>
                <a:lnTo>
                  <a:pt x="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fbb4a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3080" y="270504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96" y="96"/>
                </a:lnTo>
                <a:lnTo>
                  <a:pt x="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62560" y="2481120"/>
            <a:ext cx="16524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12"/>
                  <a:pt x="88" y="24"/>
                  <a:pt x="96" y="48"/>
                </a:cubicBezTo>
                <a:cubicBezTo>
                  <a:pt x="104" y="72"/>
                  <a:pt x="56" y="128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67480" y="249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62720" y="2724120"/>
            <a:ext cx="228600" cy="228600"/>
          </a:xfrm>
          <a:prstGeom prst="ellipse">
            <a:avLst/>
          </a:prstGeom>
          <a:solidFill>
            <a:srgbClr val="fbb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26622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96" y="96"/>
                </a:lnTo>
                <a:lnTo>
                  <a:pt x="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8000" y="2638440"/>
            <a:ext cx="15228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67280" y="28004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1200" y="2805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05360" y="289080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96" y="96"/>
                </a:lnTo>
                <a:lnTo>
                  <a:pt x="48" y="0"/>
                </a:lnTo>
                <a:lnTo>
                  <a:pt x="0" y="9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1840" y="2876400"/>
            <a:ext cx="152280" cy="152640"/>
          </a:xfrm>
          <a:prstGeom prst="rect">
            <a:avLst/>
          </a:prstGeom>
          <a:solidFill>
            <a:srgbClr val="fef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95880" y="2633760"/>
            <a:ext cx="152280" cy="152280"/>
          </a:xfrm>
          <a:prstGeom prst="ellipse">
            <a:avLst/>
          </a:prstGeom>
          <a:solidFill>
            <a:srgbClr val="fef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53080" y="2952720"/>
            <a:ext cx="14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95272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299556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19560" y="24811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8880" y="3271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4603680"/>
            <a:ext cx="1904760" cy="1724040"/>
            <a:chOff x="5105520" y="4603680"/>
            <a:chExt cx="1904760" cy="1724040"/>
          </a:xfrm>
        </p:grpSpPr>
        <p:sp>
          <p:nvSpPr>
            <p:cNvPr id="174" name=""/>
            <p:cNvSpPr/>
            <p:nvPr/>
          </p:nvSpPr>
          <p:spPr>
            <a:xfrm>
              <a:off x="5105520" y="5594400"/>
              <a:ext cx="1904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ódigo intermediário (do compilado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603680"/>
              <a:ext cx="1218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76760" y="4736880"/>
              <a:ext cx="15192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29040" y="4736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95720" y="4736880"/>
              <a:ext cx="152280" cy="152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3120" y="4736880"/>
              <a:ext cx="15192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5400" y="4736880"/>
              <a:ext cx="15192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72080" y="4736880"/>
              <a:ext cx="151920" cy="152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7400" y="5213160"/>
              <a:ext cx="15192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6760" y="4965480"/>
              <a:ext cx="15192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43440" y="4965480"/>
              <a:ext cx="151920" cy="152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95720" y="496548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1960" y="521316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34080" y="5213160"/>
              <a:ext cx="15192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3120" y="4965480"/>
              <a:ext cx="15192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5400" y="4965480"/>
              <a:ext cx="15192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4965480"/>
              <a:ext cx="152280" cy="152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9360" y="5213160"/>
              <a:ext cx="15192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48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efdd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81640" y="5213160"/>
              <a:ext cx="15192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8320" y="5213160"/>
              <a:ext cx="151920" cy="152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867280" y="3666960"/>
            <a:ext cx="457200" cy="828720"/>
          </a:xfrm>
          <a:prstGeom prst="downArrow">
            <a:avLst>
              <a:gd name="adj1" fmla="val 56250"/>
              <a:gd name="adj2" fmla="val 6909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800600"/>
            <a:ext cx="1143000" cy="609480"/>
          </a:xfrm>
          <a:prstGeom prst="leftArrow">
            <a:avLst>
              <a:gd name="adj1" fmla="val 45315"/>
              <a:gd name="adj2" fmla="val 68824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233440" y="4495680"/>
            <a:ext cx="12718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20968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ódigo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3657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sível checagem semâ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3581280"/>
            <a:ext cx="1295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LE2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Suporta variáveis com valores (constantes) e operações sobre variáveis/valores</a:t>
            </a:r>
            <a:endParaRPr b="1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Abordagem utilizada: todo o código vira uma única função, “AvaliarPrograma”, cujo tipo de retorno é inferido</a:t>
            </a:r>
            <a:endParaRPr b="1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8760" y="33336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LF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Estende LE2 com funções parametrizadas e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Abordagem utilizada: cada função LF1 é mapeada em uma função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Foi utilizado </a:t>
            </a:r>
            <a:r>
              <a:rPr b="1" lang="pt-BR" sz="3200" spc="-1" strike="noStrike">
                <a:solidFill>
                  <a:srgbClr val="000066"/>
                </a:solidFill>
                <a:latin typeface="Courier New"/>
              </a:rPr>
              <a:t>object</a:t>
            </a: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 para a implementação de funções poli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Demandou o uso de operações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box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/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unbox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de 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rebuchet MS"/>
              </a:rPr>
              <a:t>Checagem de tipos complexa; não foi abordada em sua totalidade na implementação Hask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Demo 01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mplementação da função fatorial em LF1 e sua chamada em C#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6" name="" descr="hacker insurance"/>
          <p:cNvPicPr/>
          <p:nvPr/>
        </p:nvPicPr>
        <p:blipFill>
          <a:blip r:embed="rId2"/>
          <a:stretch/>
        </p:blipFill>
        <p:spPr>
          <a:xfrm>
            <a:off x="6588000" y="2690640"/>
            <a:ext cx="2017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 Narrow"/>
              </a:rPr>
              <a:t>LF2</a:t>
            </a:r>
            <a:endParaRPr b="1" lang="en-US" sz="6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Estende LF1 com funções de alta ordem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roblema: O que significa “função de alta ordem” em IL?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Abordagem: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delegate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3:32:43Z</dcterms:created>
  <dc:creator>AWBF</dc:creator>
  <dc:description/>
  <dc:language>en-US</dc:language>
  <cp:lastModifiedBy>Andre Furtado</cp:lastModifiedBy>
  <dcterms:modified xsi:type="dcterms:W3CDTF">2004-08-03T04:02:10Z</dcterms:modified>
  <cp:revision>234</cp:revision>
  <dc:subject/>
  <dc:title>Slide 1</dc:title>
</cp:coreProperties>
</file>