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C15-B756-4554-90C0-CB1A6E56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252-ABF8-4959-84B6-03D4FCEE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9F7-2A2C-47A5-854A-0DB12FE2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7ED-FA62-43FC-8D09-000A54AC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A0BB-383E-4A11-81C4-0B8EC82D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1091-85AE-4AF4-9530-BD8D0FA2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1DA7-A2C8-435B-ABA6-C230FA21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403D-905B-4BDE-AA70-EED0F1FF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4B07-9A9D-486C-90A0-0C7678DB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0F95-1262-4818-9660-67F4452C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68AD-52B6-4371-B437-DF228C74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FE3-1514-4229-BC4B-B318BC94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87FC-4292-495D-92DB-A10509D8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99DD-E904-4026-841F-7E7C36E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27DC-D22A-49BC-AC3A-50817631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0115-E84F-4B18-8EFE-041EEFBC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A8FF-CD27-4408-926A-A7FAF713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C78-0CC0-44D1-8B04-527EC376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0A2-DE4B-4685-89DB-EC506249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70A-17EA-449B-9549-25298B26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61A9-BEC6-4829-A633-A20C7D91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EDD-4026-43E1-998D-F2167E36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24C-CD18-44FC-B345-7637BA69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18D-8F66-4306-B10E-3C95FD77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3300"/>
                </a:solidFill>
                <a:latin typeface="Times New Roman"/>
              </a:rPr>
              <a:t>Métodos Probabilísticos </a:t>
            </a:r>
            <a:br>
              <a:rPr sz="4400"/>
            </a:br>
            <a:r>
              <a:rPr b="1" lang="pt-BR" sz="4400" spc="-1" strike="noStrike">
                <a:solidFill>
                  <a:srgbClr val="ff3300"/>
                </a:solidFill>
                <a:latin typeface="Times New Roman"/>
              </a:rPr>
              <a:t>em </a:t>
            </a:r>
            <a:br>
              <a:rPr sz="4400"/>
            </a:br>
            <a:r>
              <a:rPr b="1" lang="pt-BR" sz="4400" spc="-1" strike="noStrike">
                <a:solidFill>
                  <a:srgbClr val="ff3300"/>
                </a:solidFill>
                <a:latin typeface="Times New Roman"/>
              </a:rPr>
              <a:t>Telefonia Móvel Celul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920" y="3123720"/>
            <a:ext cx="86104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. A. Campos (mac@cin.ufpe.b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. C. C. Machado(accm2@cin.ufpe.b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. M. de B. Maranhão(smbm@cin.ufpe.b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entro de Informá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aixa Postal 7851, CEP: 50732-970, Recife/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dh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 o tempo de ocupação de um canal de uma chamada d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handoff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na célula 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" y="3886200"/>
                <a:ext cx="86104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hamad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trapola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élula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Medidas de desempenho para uma rede celul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taxa de chegadas de novas chamadas a uma célula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taxa de chegadas de chamadas de 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handoff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à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célula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0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probabilidade de que uma nova chamada sej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bloqueada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probabilidade de que uma chamada seja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nterrompid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Arial"/>
              </a:rPr>
              <a:t>Parâmetros de Entra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, número de canais numa estação-de-base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0,j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, j = 1, ... ,J, taxa de chegada de novas chamada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, j = 1, ..., J, taxa de chamadas completada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m,j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(t), j = 1, ..., J, distribuição do tempo de resistência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37335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3300"/>
                </a:solidFill>
                <a:uFillTx/>
                <a:latin typeface="Arial"/>
              </a:rPr>
              <a:t>Parâmetros de Saí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h,j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, taxa de chegadas de chamadas d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handoff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, probabilidade de chamadas novas, na rede, sere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loqueadas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, probabilidade de não-completamento de chamada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28600" y="5486400"/>
                <a:ext cx="685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arâmetros de Entr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5800" y="1905120"/>
          <a:ext cx="7848720" cy="422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848720" cy="42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85800" y="2362320"/>
          <a:ext cx="5221440" cy="31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522144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838080" y="1066680"/>
            <a:ext cx="541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râmetros de Saí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Conclusõ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Uso de  dados reai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Hipótes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número de chamadas, Poiss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c, número de can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J, tipos de unidades móve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I, número de célul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M/M/c/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o entre chegadas , exponen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mpo de serviço, exponen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, servidores idêntic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, capacidade do sistem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Diagrama de Transição de Estados da M/M/c/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66680" y="2666880"/>
          <a:ext cx="75438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666880"/>
                    <a:ext cx="7543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Parâmetros de Desempenho Usua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empo esperado no sistema (W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tempo esperado na fila (W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número médio de usuários no sistema (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número médio de usuário na fila (L</a:t>
            </a:r>
            <a:r>
              <a:rPr b="1" lang="pt-BR" sz="3200" spc="-1" strike="noStrike" baseline="-25000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Resultados para um Modelo de fila M/M/c/c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7360" y="2135160"/>
          <a:ext cx="5522760" cy="42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2135160"/>
                    <a:ext cx="552276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400800" y="2819520"/>
                <a:ext cx="228600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q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Modelo Baseado nas Classes de Usuário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04920" y="2133720"/>
            <a:ext cx="7238880" cy="3794040"/>
            <a:chOff x="304920" y="2133720"/>
            <a:chExt cx="7238880" cy="3794040"/>
          </a:xfrm>
        </p:grpSpPr>
        <p:grpSp>
          <p:nvGrpSpPr>
            <p:cNvPr id="106" name=""/>
            <p:cNvGrpSpPr/>
            <p:nvPr/>
          </p:nvGrpSpPr>
          <p:grpSpPr>
            <a:xfrm>
              <a:off x="533520" y="2133720"/>
              <a:ext cx="7010280" cy="2438280"/>
              <a:chOff x="533520" y="2133720"/>
              <a:chExt cx="7010280" cy="2438280"/>
            </a:xfrm>
          </p:grpSpPr>
          <p:sp>
            <p:nvSpPr>
              <p:cNvPr id="107" name=""/>
              <p:cNvSpPr/>
              <p:nvPr/>
            </p:nvSpPr>
            <p:spPr>
              <a:xfrm>
                <a:off x="609480" y="2666880"/>
                <a:ext cx="685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33520" y="4572000"/>
                <a:ext cx="7010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3808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0512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04812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0060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9132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58000" y="2666880"/>
                <a:ext cx="0" cy="190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583080" y="40384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. . 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67880" y="2133720"/>
                <a:ext cx="99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élula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910880" y="2133720"/>
                <a:ext cx="999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célula</a:t>
                </a:r>
                <a:r>
                  <a:rPr b="0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5280" y="28195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295280" y="3276720"/>
                <a:ext cx="49532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6248520" y="2819520"/>
                <a:ext cx="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12880" y="2819520"/>
                <a:ext cx="3607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pt-BR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304920" y="5334120"/>
                  <a:ext cx="1611360" cy="59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"/>
          <p:cNvGrpSpPr/>
          <p:nvPr/>
        </p:nvGrpSpPr>
        <p:grpSpPr>
          <a:xfrm>
            <a:off x="838080" y="4114800"/>
            <a:ext cx="6019920" cy="2459160"/>
            <a:chOff x="838080" y="4114800"/>
            <a:chExt cx="6019920" cy="2459160"/>
          </a:xfrm>
        </p:grpSpPr>
        <p:grpSp>
          <p:nvGrpSpPr>
            <p:cNvPr id="124" name=""/>
            <p:cNvGrpSpPr/>
            <p:nvPr/>
          </p:nvGrpSpPr>
          <p:grpSpPr>
            <a:xfrm>
              <a:off x="838080" y="4114800"/>
              <a:ext cx="6019920" cy="510120"/>
              <a:chOff x="838080" y="4114800"/>
              <a:chExt cx="6019920" cy="510120"/>
            </a:xfrm>
          </p:grpSpPr>
          <p:sp>
            <p:nvSpPr>
              <p:cNvPr id="125" name=""/>
              <p:cNvSpPr/>
              <p:nvPr/>
            </p:nvSpPr>
            <p:spPr>
              <a:xfrm>
                <a:off x="838080" y="4191120"/>
                <a:ext cx="2210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00600" y="4191120"/>
                <a:ext cx="20574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89000" y="4114800"/>
                <a:ext cx="563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pt-BR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,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32000" y="4114800"/>
                <a:ext cx="563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pt-BR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,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286000" y="4952880"/>
                  <a:ext cx="1981080" cy="162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η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1164960" y="3352680"/>
            <a:ext cx="7979040" cy="3049560"/>
            <a:chOff x="1164960" y="3352680"/>
            <a:chExt cx="7979040" cy="3049560"/>
          </a:xfrm>
        </p:grpSpPr>
        <p:grpSp>
          <p:nvGrpSpPr>
            <p:cNvPr id="131" name=""/>
            <p:cNvGrpSpPr/>
            <p:nvPr/>
          </p:nvGrpSpPr>
          <p:grpSpPr>
            <a:xfrm>
              <a:off x="1164960" y="3352680"/>
              <a:ext cx="740160" cy="533520"/>
              <a:chOff x="1164960" y="3352680"/>
              <a:chExt cx="740160" cy="533520"/>
            </a:xfrm>
          </p:grpSpPr>
          <p:sp>
            <p:nvSpPr>
              <p:cNvPr id="132" name=""/>
              <p:cNvSpPr/>
              <p:nvPr/>
            </p:nvSpPr>
            <p:spPr>
              <a:xfrm>
                <a:off x="1371600" y="3886200"/>
                <a:ext cx="5335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164960" y="3352680"/>
                <a:ext cx="59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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m,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4495680" y="5257800"/>
                  <a:ext cx="4648320" cy="11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η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Sup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  <m:sup/>
                      </m:sSubSup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c,i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 período de tempo entre a chegada da unidade móvel à célula i e a ligação ser completad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71600" y="3962520"/>
                <a:ext cx="5791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d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tempo de ocupação de um can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85800" y="3429000"/>
                <a:ext cx="782640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hamada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pleta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10:27:49Z</dcterms:created>
  <dc:creator>accm2</dc:creator>
  <dc:description/>
  <dc:language>en-US</dc:language>
  <cp:lastModifiedBy>mac</cp:lastModifiedBy>
  <cp:lastPrinted>2000-05-20T15:26:46Z</cp:lastPrinted>
  <dcterms:modified xsi:type="dcterms:W3CDTF">2000-05-22T23:02:21Z</dcterms:modified>
  <cp:revision>41</cp:revision>
  <dc:subject/>
  <dc:title>Métodos Probabilísticos em Telefonia Móvel Celular</dc:title>
</cp:coreProperties>
</file>