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7E8C-B3DA-4530-B2EF-0C0CEC0D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EFCD-B0BC-446C-A84D-C9467DB1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DD2F-01C4-4846-9ED0-1A0C47F95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E9E0-81A6-4A90-912A-BA2367C57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EA7C-ADEA-4C5F-8667-1E4F8B50E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E5DD-93A8-4C6D-8F7F-03C2D11C4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2953-230C-4A3F-8003-3BA072384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DD47-07B1-4C3C-AE11-A18FC19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3C2F-5E17-4026-B2D8-C6C66417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50C6-1D56-4BDA-9511-9D3C55F0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6B6D-59BC-490E-985E-40D7A11B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0C7-310C-4A9A-9A6D-BBCCB9268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0F94-E06E-4318-8DE5-F0C3C727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8742-39FA-4C0C-B103-5769F11D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A6AB-C9F6-470C-B5E5-B9E0DA46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6FA4-1010-41C0-87D1-46A4FF0C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F052-DE14-4689-BA27-14E2000DC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050-F593-4599-8E65-A64F93AD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ACE-838F-443C-8D1B-A9DD7F07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A6F-0FD4-4346-BA5A-8229A525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585-12B8-4D0E-B7F5-7821F415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5D93-210D-4ECA-9F4D-0CF8E8F0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24F4-1680-4467-B2BC-96D738E5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492-E9BB-4F25-BB5D-E4EE258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273A-5080-45A1-8659-9EE6A221C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04F01-9ECC-477F-A857-53027A2DB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675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Simulação de Redes sem Fio com Simscrip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hienne M. S. Mesqu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msm@cin.ufpe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Elemen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ção Rádi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hamada é então roteada  através do transceptor da estação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Basestation" descr=""/>
          <p:cNvPicPr/>
          <p:nvPr/>
        </p:nvPicPr>
        <p:blipFill>
          <a:blip r:embed="rId1"/>
          <a:stretch/>
        </p:blipFill>
        <p:spPr>
          <a:xfrm>
            <a:off x="3886200" y="2743200"/>
            <a:ext cx="182880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Elemen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SC (Mobile Switching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entro de Comutação Móvel recebe a chamada. Cada MSC gerencia dezenas de células e estações base. Grandes sistemas podem ter duas ou mais MS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5ESS" descr=""/>
          <p:cNvPicPr/>
          <p:nvPr/>
        </p:nvPicPr>
        <p:blipFill>
          <a:blip r:embed="rId1"/>
          <a:stretch/>
        </p:blipFill>
        <p:spPr>
          <a:xfrm>
            <a:off x="3581280" y="4114800"/>
            <a:ext cx="28195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Elemen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HLR e VL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mutador móvel pergunta diversas bases de dados antes de permitir uma chamada.Um servidor dedicado associado com as casas de comutação armazena essas bases de dados. O Registro de Localização Local  (HLR), o Registro de Localização de Visitante(VLR), o Centro de Autenticação (C. A.), e Registro de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denti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Equipamento (EIR) são algumas destas bases de d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server" descr=""/>
          <p:cNvPicPr/>
          <p:nvPr/>
        </p:nvPicPr>
        <p:blipFill>
          <a:blip r:embed="rId1"/>
          <a:stretch/>
        </p:blipFill>
        <p:spPr>
          <a:xfrm>
            <a:off x="4876920" y="4521240"/>
            <a:ext cx="16761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Elemen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PSTN - Rede de Telefonia Pública  Comut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hamada é processada e roteada na rede de telefonia comum. O comutador comunica-se também com bancos de dados distantes sobre a PST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 ao Sim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Estrutura do Programa</a:t>
            </a: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loco main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rograma Simscript deve conter um bloc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i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é a principal parte de processamento do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ém todas as declarações Glob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b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funções, subrotinas, eventos e proces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Variáv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declaradas explícita ou implicitamente.São explicitamente declaradas com um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ef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efine NEXT.CUST as an integer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efine WEIGHT, LENGTH, and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s doubl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efine ALFA as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Preamble</a:t>
            </a: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reambl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é o bloco em que todos os identificadores globais são definidos. Deve preceder o bloc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não conter declarações executáve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garantir que nenhuma variável não declarada seja marcada  com um flag pelo compilador, o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preambl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ve conter a lin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normally mode is undefined.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A declaração de atribui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as declarações começam com uma palavra chave com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et, add, subtract.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TELLER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CLOSING.TIME = CLOSING.TIME/hours.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dd 1 to NO.OF.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ubtract 1 from NO.OF.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Entra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claração de leitura é a forma mais simples da entrada, embora existam outras manei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ad NO.OF.TELLERS, LAMBDA, MU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nd CLOSING.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dados podem ser entrados de um terminal ou lido de um arqu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strutur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6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 às Redes sem F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 ao Sim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mulando Redes sem Fio com Sim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Saíd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81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eclaraçã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a forma mais simples da saída. Imprime uma lista das variáveis em um formato definido por um molde(template). Entretanto, deve-se ter cuidado para contar o número de linhas exato us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orma geral 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 N lines with {variable list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N lines of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with a group of *** or ***.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or every variable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Fluxo de Progra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3240" y="1752480"/>
            <a:ext cx="7742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SCRIPT tem todas as estruturas de programação usuais , como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f-then-els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o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if-else-endi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for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or-do-loo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unti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while loop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tc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A &gt; 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et MAXVALUE = A                until data is en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ad C                          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lse                               read X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et MAXVALUE = B                  Add 1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ad D                          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end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for COUNT = 1 to NO.OF.SEATS      while I &lt;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do                               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dd BAGGAGE(COUNT) to TOTAL      read X(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oop                               add 1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                           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Rotin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rotinas em SIMSCRIPT II.5 são como sub-rotinas ou procedimentos em outras linguagens de                                     program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declarados após o bloco principal e não dentro de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chamados de outros sub-programas (não o preamb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declarar variáveis loc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Rotin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1996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outine INITIA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efine I as an integer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ad NUM.AMBU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I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until I eq NUM.AMBU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I = I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reate an AMBU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ctivate this AMBULANCE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nd '' routine INITIA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lling a routine using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all INITIAL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Fun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funções são as rotinas que retornam um valor e podem ser chamadas como a parte de uma                                    expressão aritméti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valor é retornado usando a indicação d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(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um número de funções predefinidas de SIMSCRIPT mas novas funções podem ser escri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ões devem ser definidos n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eam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Nesta definição a modalidade é ajustada e você pode indicar o número de argumentos d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Funçõ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eamble: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efine NORMAL.FN as a doubl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given 2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funcão deve aparecer após ao bloc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function NORMAL.FN (MEAN, STD.D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efine MEAN and STD.DEV as double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turn(XXX) '' some arithmetic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nd '' NORMAL.F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chamada co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X = NORMAL.FN(10.0,2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Elementos SIMSCRIPT Predefini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ctio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bs.f(arg)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 absoluto d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rg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utin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ate.r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ta a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hours.v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oras por 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i.c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 d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Entida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idade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 elemento de um sistema sendo simulado e que pode ser identificado e processado individu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SIMSCRIPT elas pode se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rmane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temporá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ermanent entities include TELLER,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emporary entities include CUSTOMER, TA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Criando Entida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idades temporárias devem ser criadas antes que sejam us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reate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criamos outro CUSTOMER, a mesma variável global global aponta à à localização da nova ent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idades Temporárias podem ser apagadas com a declaraçã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estro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estroy CUSTOM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Atributos de entidad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76520"/>
            <a:ext cx="7666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ribu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propriedade de uma entidade que contém informações extras. Pode ser usado para identificar uma sub-classes de entidades, entidades individuais ou para controlar seu comport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emporary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very CUSTOMER has a CU.ARRIVAL.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efine CU.ARRIVAL.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s a real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 programa podemos usar o atributo indexado pelo nome da variável glob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CU.ARRIVAL.TIME(CUSTOMER) =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gamma.f(MEAN,3,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des sem F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Conjun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njunto é uma lista ordenada de ent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 definidos n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eamb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tem u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o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que normalmente é outra entidade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emporary e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very JOB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n ARRIVAL.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nd owns a ROUTING.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very TASK 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 TASK.DOER, a TASK.DUR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nd belongs to a ROUTING.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he system owns the CUST.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Process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6658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oces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seqüência de eventos que descrevem a  experiência de uma entidade e sua “vida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rocesso é representado como um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nt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junto com uma  rotina de processo que descrevem o ciclo de vida. Esta entidade é uma entidade temporá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otina que descreve a seqüência de eventos é chamada d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ocess routin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otina de processo e é um estabelecida como uma rotina separada com o mesmo nome da ent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Definindo um proces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42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rocesso é definido da mesma forma que outras entidade, com ou sem atrib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nclude JOB ''a process with no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very clock has a cl.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efine cl.int as a real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very CUSTOMER has an CU.ARRIVAL.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efine CU.ARRIVAL.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s a real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very BUS has a BUS.DRI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efine BUS.DRIVER as an inte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Criando uma entidade de process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421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riar e começar um novo proces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ctivate a JOB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também possível dar valores aos atributos de um processo antes de sua ativ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reate a 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JB.ARRIVAL.TIME(JOB) = time.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ctivate this JOB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s não precisam ser ativados imediatamente. Também podem receber no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ctivate a JOB  called NEXT.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 exponential.f(13.33, 2)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Recurs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recurso é um tipo especial de entidade permanente que fornece serviço à proces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rocesso pega serviço requisitando e liberando o recurso, que mantém um conjunto de processos esperando por suas un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recursos tem atributos padrões que dizem quantas unidades estão livres, quantos processos estão esperando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Recurs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recurso pode ter sub-t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recurso de um conjunto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CHIN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ode ter 2 tipos difer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.MACHINES = 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.MACHINES(1) = 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.MACHINES(2) = 1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 unidades do tipo 1 e 10 unidades do tipo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Processos e Recurs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rotinas de processos contém declaração para interagir com os recursos: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quest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relinqui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quest 1 TELLER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work exponential.f(20.0,3)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elinquish 1 TELLER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pectos estatísticos de uma simulação SIMSCR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Geração de Números Randômic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6658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istem 10 números randômicos STREAMS, (1..10). Em qualquer instante cada stream tem uma semente inteira. Seu valor pode ser achado 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ed.v(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chama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t X = random.f(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emente é atualizada para o próximo inteiro “randômico” e o valore real X = seed.v/(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1) é retornado como uma variável real randômica. Porta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 &lt; X &lt; 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Geração de Números Randômic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324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riáveis pseudo-randômicas podem ser geradas por várias distribu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binomial.f(N,P,STREA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erlang.f(MEAN,K,STREA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exponential.f(MEAN,STREA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gamma.f(MEAN,K,STREA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log.normal.f(MEAN,STDDEV,STREA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normal.f(MEAN,STDDEV,STREA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oisson.f(MEAN,STREA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randi.f(START,FINISH,STREAM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uniform.f(START,FINISH,STREAM)</a:t>
            </a:r>
            <a:r>
              <a:rPr b="0" lang="pt-BR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sas routinas contém chamadas para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random.f(STREAM) e usam a correspondente s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Definição de Celul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elula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rede cuidadosamente planejada de estações rádio base e anten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adores de estações base que gerenciam muitas estações bases ao mesmo tempo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omutador móvel, que recolhe tráfego de dezenas de células e o passa para a rede telefônica públ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Monitoração Estatístic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variável global pode ser automaticamente monitorada pelo sistema para calcular estatíst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ally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ega uma amostra a cada vez que a variável é modifi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ally AVG.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s the mean of WAITING.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ally SD.WA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s the std.dev  of WAITING.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tally AVG.TIME.IN.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s the mean of TIME.IN.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15238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Simulando Redes sem Fio</a:t>
            </a:r>
            <a:br>
              <a:rPr sz="4400"/>
            </a:b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com Simscri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4120" y="3581280"/>
            <a:ext cx="64008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Times New Roman"/>
              </a:rPr>
              <a:t>Grupo de Trabalho Nomad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http://www.di.ufpe.br/~nomad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nomadic-logo" descr=""/>
          <p:cNvPicPr/>
          <p:nvPr/>
        </p:nvPicPr>
        <p:blipFill>
          <a:blip r:embed="rId1"/>
          <a:stretch/>
        </p:blipFill>
        <p:spPr>
          <a:xfrm>
            <a:off x="71280" y="3581280"/>
            <a:ext cx="2210040" cy="1368720"/>
          </a:xfrm>
          <a:prstGeom prst="rect">
            <a:avLst/>
          </a:prstGeom>
          <a:ln w="0">
            <a:noFill/>
          </a:ln>
        </p:spPr>
      </p:pic>
      <p:grpSp>
        <p:nvGrpSpPr>
          <p:cNvPr id="216" name=""/>
          <p:cNvGrpSpPr/>
          <p:nvPr/>
        </p:nvGrpSpPr>
        <p:grpSpPr>
          <a:xfrm>
            <a:off x="6781680" y="5867280"/>
            <a:ext cx="1677960" cy="487440"/>
            <a:chOff x="6781680" y="5867280"/>
            <a:chExt cx="1677960" cy="487440"/>
          </a:xfrm>
        </p:grpSpPr>
        <p:pic>
          <p:nvPicPr>
            <p:cNvPr id="217" name="siemens" descr=""/>
            <p:cNvPicPr/>
            <p:nvPr/>
          </p:nvPicPr>
          <p:blipFill>
            <a:blip r:embed="rId2"/>
            <a:stretch/>
          </p:blipFill>
          <p:spPr>
            <a:xfrm>
              <a:off x="6781680" y="6043680"/>
              <a:ext cx="1677960" cy="3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brasil" descr=""/>
            <p:cNvPicPr/>
            <p:nvPr/>
          </p:nvPicPr>
          <p:blipFill>
            <a:blip r:embed="rId3"/>
            <a:stretch/>
          </p:blipFill>
          <p:spPr>
            <a:xfrm>
              <a:off x="8244360" y="5867280"/>
              <a:ext cx="174240" cy="156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" name="DI" descr=""/>
          <p:cNvPicPr/>
          <p:nvPr/>
        </p:nvPicPr>
        <p:blipFill>
          <a:blip r:embed="rId4"/>
          <a:stretch/>
        </p:blipFill>
        <p:spPr>
          <a:xfrm>
            <a:off x="7385040" y="228600"/>
            <a:ext cx="1752480" cy="1373040"/>
          </a:xfrm>
          <a:prstGeom prst="rect">
            <a:avLst/>
          </a:prstGeom>
          <a:ln w="0">
            <a:noFill/>
          </a:ln>
        </p:spPr>
      </p:pic>
      <p:pic>
        <p:nvPicPr>
          <p:cNvPr id="220" name="cetuc" descr=""/>
          <p:cNvPicPr/>
          <p:nvPr/>
        </p:nvPicPr>
        <p:blipFill>
          <a:blip r:embed="rId5"/>
          <a:stretch/>
        </p:blipFill>
        <p:spPr>
          <a:xfrm>
            <a:off x="457200" y="5943600"/>
            <a:ext cx="21337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Projeto Nomadic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2880" y="1752480"/>
            <a:ext cx="7589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objetivo principal do projeto NOMADIC é a construção de uma plataforma para análise da sinalização para sistemas de comunicações celulares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ELlular Signaling Analyser – CELS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Esta ferramenta terá as seguintes me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ir a avaliação, via simulação, da carga de sinalização sobre os enlaces e nós de redes de telefonia celular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renciamento de Configurações de Sistemas Celulares e avaliação da carga de sinalização de acordo com diferentes arquitetur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udo de políticas de encaminhamento de pacotes de modo a tornar possível que dentre os enlaces existentes, seja feita a distribuição da carga de sinalização de/para cada entidade da red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álise de Modelos de Mobilidade e de Geração de Tráfego que reflitam o comportamento e o perfil dos usuári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Layout dos Process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815328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Layout dos Process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8153280" cy="3224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990720" y="3581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3581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3581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3581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3581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35812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Layout dos Process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781680" cy="47084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209680" y="46483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7339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28195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Iniciando - Mai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'' COPYRIGHT (C) 1999, Projeto NOMAD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'' Rotina principal da ferramenta. Este módulo tem como função iniciar a simul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et HOURS.V   = 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et MINUTES.V =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et BATLYFETIME =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let BATLOADTIME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call INITI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Initializ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START.TIME = 8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'' simulacao comeca as 6 horas da man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STOP.TIME = START.TIME + 8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''simula ate +- 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time.v = START.TIM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'' Seta time.v para o inicio da simualac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 1 line with STOP.TIME th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TOP.TIME = **.***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ctivate an INIT.SINAL called MSPOINTER giving I, PROCEEDING, MS.ON(RS.MS(I)), RS.MS(I)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Init Sina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select case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ase "POWER UP”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ase "LOCATION UPDATE"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ase "HANDOFF”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ase "CALL ORIGINATION”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all REGISTRATION giving MSID, INDENT,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endse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Registr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reate a MESSAGE called REG.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MESSAGE.TYPE(REG.MSG) = .R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MESSAGE.RNT(REG.MSG) = .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let MESSAGE.SIZE(REG.MSG) = .RG.S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ctivate an INVOKE.RBS called INV.RBS(INDENT) giving REG.MSG, CURRENT.CELL(MSID), MSID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Célul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móveis analógicos ou digitais usam uma rede de estações bases e antenas que cobrem uma  grande áre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isto em um diagrama, um pequeno território coberto por cada estação base parece-se com uma célula em uma colméia, de onde  vem o nome celul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amanho de uma célula varia de 1km a 50km em ra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sistema celular pode ter quase qualquer tamanho ou forma, dependendo da topografia e do número de usuários. Sistemas menores necessitam de menor número de célul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Hexagons7Colors" descr=""/>
          <p:cNvPicPr/>
          <p:nvPr/>
        </p:nvPicPr>
        <p:blipFill>
          <a:blip r:embed="rId1"/>
          <a:stretch/>
        </p:blipFill>
        <p:spPr>
          <a:xfrm>
            <a:off x="3962520" y="5181480"/>
            <a:ext cx="1285920" cy="1266840"/>
          </a:xfrm>
          <a:prstGeom prst="rect">
            <a:avLst/>
          </a:prstGeom>
          <a:ln w="0">
            <a:noFill/>
          </a:ln>
        </p:spPr>
      </p:pic>
      <p:pic>
        <p:nvPicPr>
          <p:cNvPr id="138" name="HexUnit" descr=""/>
          <p:cNvPicPr/>
          <p:nvPr/>
        </p:nvPicPr>
        <p:blipFill>
          <a:blip r:embed="rId2"/>
          <a:stretch/>
        </p:blipFill>
        <p:spPr>
          <a:xfrm>
            <a:off x="7238880" y="380880"/>
            <a:ext cx="1285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Invoke RB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all MSG.MAPPING giving MSGID, .HAN.RQD,.HAN.RQD.SZ, .REQ yielding REQ.MS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ctivate an INVOKE.MSC called INV.MSC(J) giving REQ.MSG, RBS.CONNECT.TO(NXT.ID.RS), MSID 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Coletando Dad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open unit 1 for output, file name is concat.f(PATH.NAME,FILE.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write MAP as T 20,/ '' It writes the map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write N.MSC.SET as I 3,/   '' It writes the number of elements of the MSC.SE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write N.BS.SET as I 3,/    '' It writes the number of elements of the BS.SE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write N.VLR.SET as I 3,/   '' VLR.SE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write N.HLR.SET as I 3,/   '' HLR.SET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www.privateline.com/PCS/HowPCSworks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 www.simscri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 www.cin.ufpe.br/~nomad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Células - Hierarqu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hierarquia de estações base existe, com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ico-célul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brindo interiores de edifícios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icro-célul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cobrindo área selecionadas por fora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cro-célul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ornecendo cobertura mais extensa de grande ár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ico-células &lt; micro-células &lt; macro-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Células - Hierarqui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Cellsheiarchy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746748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Elemen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ção Mó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móvel faz uma chamada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mobile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11430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Elemen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42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antena próxima a uma estação base recebe a chamada do mó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Antenna" descr=""/>
          <p:cNvPicPr/>
          <p:nvPr/>
        </p:nvPicPr>
        <p:blipFill>
          <a:blip r:embed="rId1"/>
          <a:stretch/>
        </p:blipFill>
        <p:spPr>
          <a:xfrm>
            <a:off x="4191120" y="2743200"/>
            <a:ext cx="16761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6T13:48:18Z</dcterms:created>
  <dc:creator>tmsm</dc:creator>
  <dc:description/>
  <dc:language>en-US</dc:language>
  <cp:lastModifiedBy>tmsm</cp:lastModifiedBy>
  <dcterms:modified xsi:type="dcterms:W3CDTF">2000-06-21T06:03:57Z</dcterms:modified>
  <cp:revision>107</cp:revision>
  <dc:subject/>
  <dc:title>Redes sem Fio e  Projeto Nomadic</dc:title>
</cp:coreProperties>
</file>