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1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492-FC41-4349-9ED2-AE3E915E06B5}" type="slidenum"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número de jobs no sistema varia com 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1F7-6DC2-4DC7-B3F1-06B60A3482E8}" type="slidenum"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60480" y="53352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8800" y="4323960"/>
            <a:ext cx="500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F77-18A5-44F0-AABC-3DEDE708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6D3-3E33-45B0-832D-B33B230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C30-A3C1-4EF0-BF2B-3F6DEDB6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623-ECDD-4CAB-991F-07705C48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BE5-38B6-4AE6-B9F7-38F940A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A20-D999-435A-BB2A-F537BDF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88D-93E8-4CE4-B67A-B3A5B92E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ABB-3442-4507-9AA7-0E0CE38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F9A-CC87-453D-B526-DC146404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6AC-59B0-4EE1-A728-47C0D0A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E35-4D81-41A2-8545-97D474A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3D5-E104-4FEE-9E7D-9C76049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CE2-8A58-4D34-A9E4-75CFA328A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6094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Universidade Federal de Pernambu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entro de Informá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imes New Roman"/>
              </a:rPr>
              <a:t>Teoria das Fi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Ana Carolina Chaves Mach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Marcilia And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cife-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ipótes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ransição de Est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iagrama de transição de estado podemos definir cada estado pelo número de clientes no sis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ição de estad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neira pela qual um sistema muda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is nascimento ou duas mortes nunca ocorrem simultanea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assificação de uma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des de Fi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de de Filas Aber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2286000"/>
          <a:ext cx="739152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391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de de Filas Fech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90720" y="2133720"/>
          <a:ext cx="723888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2388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de de Filas Mis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90720" y="1905120"/>
          <a:ext cx="739116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39116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ndo um usuário deixa um centro de serviço, algum mecanismo deve ser fornecido de forma a determinar qual centro irá a seguir. A isto chamaremos de decisão 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te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Arnold O.  Alle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bability, Statistics, and Queueing Theory with Computer Sciense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William  A. Shay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istemas Operaciona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Tamio Shimizu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imulação em Computador Digita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Luiz F. G. Soar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agem e Simulação de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</a:rPr>
              <a:t>http://www.di.ufpe.br/~suruagy/if121/programa982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</a:rPr>
              <a:t>http://penta2.ufrgs.br/filas/filas1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R. J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he Art of Computer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chniques for Experimen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ign, Measurement, Simulation, and Modeling.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ohn Wiley &amp; Sons, 199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Thomas H. Balinfty, Joseph L. Balinfty, Donald S. Burdick, Kong C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écnicas de Simulação em Comput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stado de Equilíbrio (Estacionário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sistema está no estado estacionário quando seu estado não mais depende do tempo. Ou seja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) torna-se independente de 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4083120"/>
                <a:ext cx="35049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p>
                          <m:e/>
                          <m:sup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i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828800"/>
          <a:ext cx="815328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53280" cy="4737240"/>
                  </a:xfrm>
                  <a:prstGeom prst="rect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onentes Básicos de um Sistema de F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pulação de Usuá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o de Che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ições de Esp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úmero de Serv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iplina de Atend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População de Usuári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úmero potencial de usuário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nfinit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não afeta a taxa de che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init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 afeta a taxa de che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Processo de Cheg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 os usuários chegam nos instantes t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..., t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então as varáveis aleatórias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t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j-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são chamadas de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pos entre cheg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ume-se, em geral, que a seqüência 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j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ão  v. a. I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drão de chegada mais comumente assumido: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(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t) = 1 - e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&gt; 0, t &gt;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 o tempo entre chegada de usuários (custom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sistema de filas tem uma distribuição 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ão o padrão de chegada é chamado “Padrã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hegada Poisso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(X &gt; s + t | X &gt; s) = P (X &gt; 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emoryles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ros Padrões de Cheg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sta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rlang-k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Hyperexponent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Distribuição do Tempo de Serviç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po de serviço: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tempo que o usuário gasta no   servi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mum assumir que os tempos de serviço sejam v. a. II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stribuição mais comumente usada: </a:t>
            </a: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(t) = P[s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] = 1 - e 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&gt; 0, t &gt; 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Outras Distribuições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ta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rlang-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Hyperexponent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espera em filas é um fenômeno mundial, que ocorre independente do aspecto econômico, político ou so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Capacidade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úmero máximo de usuários que podem ser acomodados no sistema (fila + servidor(es)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nfinit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todo usuário que chega é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endid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init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capacidade para atender K usuários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customers)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Número de Servi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ingle- server system: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ende apenas um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customer) no tempo;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ulti-server system: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m c servidores que pod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necer  serviços  a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ientes (customers), simul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neame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nfinite-server system: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da cliente (custome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e chega tem um ser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idor disponíve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Disciplina de Atend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rdem na qual os usuários são atend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IFO, FCF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primeiro-entrar; primeiro-sai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IFO, LCF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último-entrar;primeiro-sai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SS, SIR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seleção aleatóri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I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atendimento com prior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emplos de  Sistemas de Fi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olicitações de E/S esperam nas filas até que os controladores de dispositivos respond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 processos esperam nas filas para ter acesso a uma C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 usuários esperam em filas para ter acesso a uma impress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tação para Descrever o Sistema de F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pt-BR" sz="3600" spc="-1" strike="noStrike">
                <a:solidFill>
                  <a:srgbClr val="003300"/>
                </a:solidFill>
                <a:latin typeface="Times New Roman"/>
              </a:rPr>
              <a:t>A/B/c/K/m/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Distribuição do intervalo entre chegad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Distribuição do tempo de serviç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- Número de servidor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K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Capacidade d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m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Tamanho da Popul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- Disciplina de Atend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scrição dos Símbolos  das Distribui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G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G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H</a:t>
            </a:r>
            <a:r>
              <a:rPr b="1" lang="pt-BR" sz="2800" spc="-1" strike="noStrike" baseline="-25000">
                <a:solidFill>
                  <a:srgbClr val="003300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Hiperexponecial com parâmetro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1" lang="pt-BR" sz="2800" spc="-1" strike="noStrike" baseline="-25000">
                <a:solidFill>
                  <a:srgbClr val="003300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Erlang com parâmetro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Determiníst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M</a:t>
            </a:r>
            <a:r>
              <a:rPr b="1" lang="pt-BR" sz="2800" spc="-1" strike="noStrike" baseline="30000">
                <a:solidFill>
                  <a:srgbClr val="003300"/>
                </a:solidFill>
                <a:latin typeface="Times New Roman"/>
              </a:rPr>
              <a:t>[x]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Exponencial com chegada em bloco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manho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M/M/3/20/1500/FI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00"/>
                </a:solidFill>
                <a:latin typeface="Times New Roman"/>
              </a:rPr>
              <a:t>G/G/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finições e Notação Básica de Teoria das Fi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umber of identical servers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L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(N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pected steady state number of customer in the queueing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L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q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(N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pected steady stade number of customer in the queue, not inclu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hose in servi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verage arrival rat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of customer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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verage service rate per server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that is, the average rate of servi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mpletion while the server is bus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(t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umber of customers in the system at time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teady stat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umber of customer in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q </a:t>
            </a: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(t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umber of customer in queue at time t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q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teady state number in the que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(waiting lin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33520"/>
            <a:ext cx="829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39640"/>
            <a:ext cx="0" cy="517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71500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39080" y="539640"/>
            <a:ext cx="0" cy="517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9640"/>
            <a:ext cx="0" cy="517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s </a:t>
            </a: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(t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umber of customer receiving service 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ime t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teady state number of customer in th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ervice facility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P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n </a:t>
            </a: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(t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Probability that there ar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 customers in the queueing system at time t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ssuming some initial number at time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p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teady state probability that there are n customers in the system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q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ime a customer spends in the queu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(waiting  line)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before receiving servic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erver utilization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s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ervice tim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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ndom variable describing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interarrival tim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990720"/>
            <a:ext cx="0" cy="47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9072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58200" y="990720"/>
            <a:ext cx="0" cy="47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990720"/>
            <a:ext cx="0" cy="47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ramenta matemática para tratar de eventos aleató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o estudo da espera em fi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ciona uma maneira de definir o ambiente matema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as fórmulas permitem prever respostas prováveis e tempos de esp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w = q + s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ndom variable describing the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otal time a customer spends in the queu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ystem, including both time waiting in the queue for service and servi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E[w] = E[q] + E[s]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xpected steady state time in the system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q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[q] = W - E[s]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xpected steadystate time in the queue, excluding service tim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s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[s]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Expected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ervice tim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aximum mumber of customers allowed in a system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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w </a:t>
            </a: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(90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he 90th percentile value of waiting time in system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Symbol"/>
                <a:ea typeface="Symbol"/>
              </a:rPr>
              <a:t></a:t>
            </a:r>
            <a:r>
              <a:rPr b="1" lang="pt-BR" sz="1800" spc="-1" strike="noStrike" baseline="-25000">
                <a:solidFill>
                  <a:srgbClr val="003300"/>
                </a:solidFill>
                <a:latin typeface="Times New Roman"/>
              </a:rPr>
              <a:t>q </a:t>
            </a: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(90)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he 90th percentile value of waiting  time in the queu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219320" y="1294920"/>
            <a:ext cx="0" cy="449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4920" y="1294920"/>
            <a:ext cx="0" cy="449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86800" y="1295280"/>
            <a:ext cx="0" cy="449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gumas Variáveis Aleatórias usadas em Modelos de Teoria das Fi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53416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5341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áveis Aleatórias relacionadas com o Número de Elementos no Sistema de Fi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(t) = 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(t) + 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(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+ 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sistema no estado de equilíbr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(steady sta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[N] = E[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] + E[N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 = L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+ L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áveis Aleatórias Relacionadas com o Número de Elementos no Sistema de Fi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 = q + 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[w] = E[q] + E[s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 = W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+ W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 para Mensurar o Tipo de Distribuições de Probabilidade usados para Representar Tempo de Serviço ou Tempo entre Cheg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= V[X] / E[X] 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adrado do Coeficiente de Vari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Variável Aleatória                      C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ante                                       0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onencial                                 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rlang-k                                         1/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-stage hyperexponential              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8098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380988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8098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662940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38098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1972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po de Serviço                           C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ante                                   tende a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rox. Exponencial                   tende a 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rlang-k                                     tende a 1/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-stage hyperexponential           &gt;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drão de Chegada                         C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gular                                       tende a zero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se Aleatório                          tende a 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nde a Agrupar                          &gt;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920880"/>
            <a:ext cx="0" cy="266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280" y="91440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920880"/>
            <a:ext cx="0" cy="266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2280" y="35812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920880"/>
            <a:ext cx="0" cy="266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40384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04496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63244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404496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04496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2280" y="15238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2280" y="457200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raffic Int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u = E(s) / E(t) =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[s] =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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rver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 a fração média do tempo que cada      servidor está ocupado, isto é, a probabilidade de que um dado servidor esteja ocup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= u / c =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/ c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ttles’s Fórmulas” ou “Little’s Resul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 =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.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s fórmulas juntamente com      L =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 =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, capacita-nos para calcular as qua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didadas de performence W,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L e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se qualqu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deles é conhecido  (assumindo-se que nós conhe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mos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E[s]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stemas de Filas baseados em Processo de Nascimento-e-Mor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1/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c/c ou M/M/c Los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1/K/K (Machine Repair with One Repairm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/M/c/K/K (Machine Repair, Multiple Repairm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/M/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ndezas a serem Medidas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(Objetivo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po de espera médio (tempo de espera estima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centagem de clientes que esperam por longo t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abilidade de que um cliente tenha que esper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úmero médio de clientes em uma 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abilidade de que todos os servidores estejam ocios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514600"/>
          <a:ext cx="84582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458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mentos de um Sistema de Fila M/M/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2401920"/>
          <a:ext cx="784872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01920"/>
                    <a:ext cx="78487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609120"/>
            <a:ext cx="7696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n = 0, 1, 2,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n = 1, 2, 3,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  = 1 +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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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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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+ ... = 1/(1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r>
              <a:rPr b="0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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P[N = n] = (1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n = 0, 1, 2, ....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 = E[N]= q/p =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/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/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t) = P[s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t] = 1 - e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t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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W = E[w] = L/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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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E[q] = W - E[s] =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[s]/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E[N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/(1 -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r>
              <a:rPr b="1" lang="pt-BR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[server busy] = 1 - P[N = 0] = 1 - 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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= P[N = n] = 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= 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(t) = 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pt-BR" sz="3200" spc="-1" strike="noStrike" baseline="30000">
                <a:solidFill>
                  <a:srgbClr val="ffffff"/>
                </a:solidFill>
                <a:latin typeface="Times New Roman"/>
              </a:rPr>
              <a:t>-t/W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r) = E[w]ln(100/100 - 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90)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2.3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95)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3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r) = E[s]/(1 -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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n(100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/100 - r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[q]/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ln(100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/100 - r).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goritmo 1 - Objet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zer u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delagem Analít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 Fila M/M/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s de Cheg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Chegada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s de Saí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Taxa de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Probabilidade do Servidor Ocup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Probabilidade de Cliente Novo Esper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Numero Esperado de Clientes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 Tempo Estimado de Espera para Cliente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 Tempo dos 10% Superi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goritmo 2 - Objet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zer uma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Simul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a Fila M/M/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s de Cheg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 Total de Chegadas para a Simul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âmetro do Tempo entre Cheg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âmetro da Duração do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 de Saí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de Espera 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manho Esperado d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Ocioso Es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de Atendimento Mé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de Resposta Mé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/M/1/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acidade do Sistema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nú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s sistemas de filas diferem entre si de acordo com as hipóteses que fazemos a respeito dos padrões de chegada e das taxas de serviço. Para gerar equações, precisamos adotar hipóteses sobre o comportamento do sistema. Caso contrário, não se tem por onde começ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880" y="2590920"/>
          <a:ext cx="830592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30592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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    n = 0, 1, 2, ..., K-1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 para    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    n = 0, 1, 2, ..., 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 para    n &gt; K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para  n = 0, 1, 2, ..., 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[s]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 (1 - u) / (1 -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+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    se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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 / (K + 1)                se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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(1 - u)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1 -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+1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 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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 = 0, 1,..., K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 / (K + 1)              para  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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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 = 0, 1,..., K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 =  u / (1 - u) - [ (K + 1)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+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1 -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+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]  se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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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 / 2                                                  se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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L - (1 -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1 -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 = E[w] = L 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E[q] =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[s]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1 -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E[s] = (1 -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(1 -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,  n = 0, 1, ..., K -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(t) = P[w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t] = 1 -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n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-1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[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,n]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P[q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] = 1 -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-2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[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,n]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[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,n] =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k!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goritmo 1 - Objet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zer u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delagem Analít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 Fila M/M/1/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-3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âmetros de Cheg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Chegada Média no Sistema de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Media de Serviço por Serv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pacidade Máxima d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âmetros de Saí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Chegada de Clientes dentro d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nsidade do Trafico Utilização do Serv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babilidade do Servidor esta Oci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umero Esperado de Clientes n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umero Esperado de Clientes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mpo Médio que o Cliente Espera n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mpo Médio que o Cliente Espera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/M/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2590920"/>
          <a:ext cx="85341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534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n = 0, 1, 2, ..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n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 = 1, 2, ...,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[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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 -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n! 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 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]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(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n!)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se n = 0, 1, ..., c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 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-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 n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ipótes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Sobre o Padrão de Chegada dos Usuár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gam a intervalos regular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gam em grup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ga um de cada ve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E[N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] = 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c!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 =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(1/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t) = 1 - [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 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] 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(1-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rlang’s C formula or Erlang’s delay form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(c,u) =                        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[(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=0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c-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n!) 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]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4240" y="396252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t) = 1 - P[arriving customer must queue]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 (1-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1 - C(c,u)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(1-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, t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E[q] = C(c,u)E[s] / c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(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1 + [(u - c +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0)) / c-1-u]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+ C(c,u)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(1-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-1-u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 u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 -1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1 - [1+ C(c,u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]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,   se u = c-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r) =    E[s]    ln( 100C(c,u) / (100 - r)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(1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90) =   E[s]     ln(10C(c,u)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(1 -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2514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403848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goritmo 1 - Objet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zer u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delagem Analít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 Fila M/M/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s de Cheg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Chegada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úmero de Serv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âmetros de Saí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Taxa de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Probabilidade do Servidor Ocup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Probabilidade de Cliente Novo Esper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Numero Esperado de Clientes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 Tempo Estimado de Espera para Cliente na F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 Tempo dos 10% Superi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/M/c/c  or  M/M/c Los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acidade do Sistema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2666880"/>
          <a:ext cx="845820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4582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ste sistema é algumas vezes chamsdo de M/M/c Loss System porque usuários que chegam quando todos os servidores estão ocupados não são permitidos esperar por um serviço e são perd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          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/ n!                  , n = 0, 1, 2, ..., c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 + u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2! + ... 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rlang’s B formula” or “Erlang’s loss Formul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            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                    = B(c,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 + u 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2! + ... + 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c!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0360" y="1447920"/>
            <a:ext cx="3416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7040" y="5029200"/>
            <a:ext cx="34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Processo de Pois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uma possível classificação de cheg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õe que dois clientes nunca chegam simultane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1 - B(c,u)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de que usuários não são permitidos esper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L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são z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 = E[N] = u(1 - B(c,u)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 = E[w] = L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E[s]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(t) = P[w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t] = 1 - e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t/E[s]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goritmo 1 - Objet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zer u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delagem Analít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 Fila M/M/c/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âmetros de Cheg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xa de Chegada Media no Sistema de 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xa Media de Serviço por 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úmero de Servidores e Capacidade do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âmetros de Saí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nsidade do Trafico Utilização do 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babilidade dos Servidores estarem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babilidade de Todos os Servidores estarem Ocup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xa de Chegada dentro do Sistema Numero Médio de Clientes no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po Médio que o Cliente Espera no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/M/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2819520"/>
          <a:ext cx="845820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4582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nhum sistema de fila na vida real pode ter um número de servidores infinito; o que isto significa, aqui, é que um servidor é imediatamente fornecido para cada usuário cheg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u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u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n!),  n = 0, 1, 2, ...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 = E[N] = 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(t) = P[w t] = 1 - e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t/E[s]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he M/M/ queueing model can be used to estimate the number of lines in use in large communication network for as a gross estimate od value in an M/M/c, or M/M/c/c queueing system for large values of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/M/1/K/K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Machine Repair with One Reapairm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acidade Máxima do Sistema: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manho da População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2590920"/>
          <a:ext cx="86104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61048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Processo de Poisson - Co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õe que o 1º cliente chega no instante t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o 2º no instante t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assim por di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0 &lt; t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&lt; t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1 ,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, ... , &lt; t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,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processo de chegada é de Poisson se os tempos entre chegadas estiverem distribuídos exponencial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 K!   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n = 0, 1, ..., 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K-n)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[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K!/(K - k)!)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1  -                      1                 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K!/(K-k)!)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4040" y="2514600"/>
            <a:ext cx="97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1240" y="5029200"/>
            <a:ext cx="34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1 - B(K,z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nd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z = E[O]/E[s]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E[s]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K/(E[O] +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E[s]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(K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- E[O] - E[s]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 =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E[s] = (K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- E[O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 =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[machine n is down] = W/(W + E[O]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/M/c/K/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entre chegadas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ição do tempo de serviço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xpon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dade de Servidor(es)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acidade Máxima do Sistema: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manho da População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grama de Transição de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2133720"/>
          <a:ext cx="822960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22960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       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 = 0, 1, ...,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!         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    n = c+1, ..., 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!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n-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2273400"/>
                <a:ext cx="5486400" cy="36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3263760"/>
                <a:ext cx="6084720" cy="336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01760" y="403848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[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=0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c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 k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k=c+1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k!          (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!c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-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[O] = 1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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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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=c+1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n-c)p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= K/(E[O] + 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E[s]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168960" y="762120"/>
                <a:ext cx="282276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511360" y="762120"/>
                <a:ext cx="282276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340240" y="1447920"/>
            <a:ext cx="74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(E[O] + 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+ E[s])(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/K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E{O] + E[s]) / (K - 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Redes de Fil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 um modelo para descrever o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ão usados na resolução de problemas em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ipótese: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bre a Taxa de Nascimento e de M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= taxa de cheg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= taxa de m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mos que as taxas de nascimento e de morte dependem somente do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stado atual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 sistema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(Processo de Markov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 de entidades chamad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os de serviç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 um conjunto de entidades chamad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uári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que recebem serviços nos cen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entro de Serviç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ste de um ou mais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ervidor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correspondentes a recursos no sistema modelado, e uma área de espera (uma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il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para usuários que estão requisitando o serviç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848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ada centro é caracterizado por 4 informaçõ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a taxa de chegada de clientes definida por uma variável aleatóri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a taxa de prestação de serviço definida por uma variável aleatóri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úmero de servidores gerenciados pelo centro de serviço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a capacidade (quantos clientes podem estar presentes simultaneamente);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a CPU de um computador é um exemplo de recurso que pode ser modelado como um centro de serviç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762120" y="1600200"/>
          <a:ext cx="754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4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219320" y="1523880"/>
          <a:ext cx="678168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7816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14400" y="1295280"/>
          <a:ext cx="7391520" cy="42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752480" y="1127160"/>
          <a:ext cx="563904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27160"/>
                    <a:ext cx="563904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uá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sponde a uma entidade que circula pelo sistema mode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uns analistas se referem aos usuários como tarefas ou transaç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91a9"/>
            </a:gs>
            <a:gs pos="50000">
              <a:srgbClr val="009999"/>
            </a:gs>
            <a:gs pos="100000">
              <a:srgbClr val="2b9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programa de compu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9:31:35Z</dcterms:created>
  <dc:creator>Ana Carolina</dc:creator>
  <dc:description/>
  <dc:language>en-US</dc:language>
  <cp:lastModifiedBy>accm2</cp:lastModifiedBy>
  <dcterms:modified xsi:type="dcterms:W3CDTF">2000-06-29T16:32:25Z</dcterms:modified>
  <cp:revision>77</cp:revision>
  <dc:subject/>
  <dc:title>Redes de Fila</dc:title>
</cp:coreProperties>
</file>