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C0E9-D621-4317-AD28-F2FA16A14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C102-4546-4EA1-9DC4-59420DF58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FB33-CF61-42B0-8DF0-35705A1D9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0167-3202-40F7-BA2D-1460474FB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F839F-9F73-485E-9065-0C796ED91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F766F-C7AF-43F8-92BC-4277D30DB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D549D-5EEC-4EC0-A0DA-2AF9D5F59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F03BF-C3D9-428F-867B-E81621489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69457-64FC-4E1F-9603-2897DF87E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51920" y="457200"/>
            <a:ext cx="8915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8DED0-9FC1-4153-948D-37BF4644C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74F8C-C562-4CD2-B4A5-0BF917ECE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6525-99B9-486C-AF00-F99299C17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D81FA-02BE-43AD-B744-FF81D8D68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C43ED-BF99-43B1-8100-B5C8A2A21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DDF51-7DF2-4A77-9F0B-BA65FB3AD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DC10A-8400-40A1-8686-FAFBA4597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256CF-B818-44A7-9171-67228AE4F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CF62-C9D1-41C2-ABB3-BF80DC91E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FFB8-2117-44CD-9B53-D791852DA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2AD5-0E29-42CD-95FD-6723B14EC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1920" y="457200"/>
            <a:ext cx="8915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6DA8-7722-4346-A817-D4F325292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27A1-3D98-44B1-B2F0-35B538A5F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3DC6-1E4D-49CF-992C-5A6786294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1053-4BCD-4D40-B98C-D8BF4B820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807D0-B010-4BE8-B88E-46D53A5FF22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304920" y="1314360"/>
            <a:ext cx="8839080" cy="412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1920" y="8380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FE8C1-2ED5-4007-95A3-7E9F19AB9B5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304920" y="1828800"/>
            <a:ext cx="8839080" cy="412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rodução à Teoria da Confiabilida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istemas em Paralel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 Função Estrutura de um Sistema em Paralelo é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(x) = max(x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, ..., x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Componentes%20em%20Paralelo%20(Ross)" descr=""/>
          <p:cNvPicPr/>
          <p:nvPr/>
        </p:nvPicPr>
        <p:blipFill>
          <a:blip r:embed="rId1"/>
          <a:stretch/>
        </p:blipFill>
        <p:spPr>
          <a:xfrm>
            <a:off x="2666880" y="3809880"/>
            <a:ext cx="358164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istemas k em 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ão sistemas que funcionam se e somente se pelo menos </a:t>
            </a: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dos </a:t>
            </a: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componentes estiverem funcionan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(x) =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3657600" y="3352680"/>
                <a:ext cx="1371600" cy="8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981080" y="4267080"/>
            <a:ext cx="304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362320" y="45720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, se 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362320" y="49528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 se m &lt;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emplo de sistema k em 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agrama de um sistema 2 em 3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Sistema%202%20em%203" descr=""/>
          <p:cNvPicPr/>
          <p:nvPr/>
        </p:nvPicPr>
        <p:blipFill>
          <a:blip r:embed="rId1"/>
          <a:stretch/>
        </p:blipFill>
        <p:spPr>
          <a:xfrm>
            <a:off x="2286000" y="2732040"/>
            <a:ext cx="5105520" cy="33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etor Caminho 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etor Caminho Mínim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Um  vetor de estado 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é chamado Vetor Caminho se </a:t>
            </a:r>
            <a:r>
              <a:rPr b="0" lang="pt-BR" sz="32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(x) = 1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e </a:t>
            </a:r>
            <a:r>
              <a:rPr b="0" lang="pt-BR" sz="32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(y) = 0 para todo y &lt; x, x é um Vetor Caminho Mínim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e x é um vetor caminho mínimo, então o conjunto A = {i: x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= 1} é um Conjunto de Caminho Mínim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emplo 1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3739680"/>
            <a:ext cx="296712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exemplo%209.5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2724120" cy="17719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50496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(x) = max(x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)max(x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ahoma"/>
              </a:rPr>
              <a:t>5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= (x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+ x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- x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)(x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+ x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ahoma"/>
              </a:rPr>
              <a:t>5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- x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ahoma"/>
              </a:rPr>
              <a:t>5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onjuntos de Caminho Mínim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{1, 3, 4}, {2, 3, 4}, {1, 5}, {2, 5}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bservaçã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O sistema vai funcionar se e somente se todos os componentes de pelo menos um dos conjuntos de caminho mínimo estiver funcionando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fiabilidade de Sistemas de Componentes Independent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estado do i-ésimo componen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{X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= 1} = p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= 1 - P{X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= 0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(Definição)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A 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onfiabilidade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de um componente é a probabilidade desse componente estar funcionan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(Definição) 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eja r = P{</a:t>
            </a:r>
            <a:r>
              <a:rPr b="0" lang="pt-BR" sz="32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(X) = 1}, onde X = (X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, ..., X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). Então r é chamada 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onfiabilidade do sistema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Quando as variáveis aleatórias X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, i = 1, ..., n, são independentes, r pode ser expressa como uma função das confiabilidades dos component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r = r(p)    (função de confiabilida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emplo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stemas em Séri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(p) = P{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) = 1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stemas em Parale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(p) = P{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) = 1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752480" y="2895480"/>
                <a:ext cx="137160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905120" y="5257800"/>
                <a:ext cx="205740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Proposição) Se r(p) é a função confiabilidade de um sistema de componentes independentes, então r(p) é uma função crescente de 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oteiro da Apresentaçã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ssíveis maneiras pelas quais o funcionamento do sistema depende do funcionamento de seus componentes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babilidade de um sistema funcionar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ção entre a distribuição da quantidade de tempo que um sistema funciona e as distribuições dos tempos de vida dos seus componentes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Teorema) Para quaisquer função confiabilidade e vetores p e p’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[1-(1-p)(1-p’)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1 - [1-r(p)][1-r(p’)]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emplo 2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m sistema em série que consiste de 2 componentes diferentes deve ser construído de um estoque de matéria-prima que contém exatamente dois de cada tipo de componente. A confiabilidade de cada componente é 1/2. Como nós devemos construir o sistema para maximizar nossa confiabilidad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ª solução - Construir dois Sistemas Separado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Tahoma"/>
              </a:rPr>
              <a:t>r(p) = P{pelo menos um dos sistemas funciona} 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pt-BR" sz="2900" spc="-1" strike="noStrike">
                <a:solidFill>
                  <a:srgbClr val="000000"/>
                </a:solidFill>
                <a:latin typeface="Tahoma"/>
              </a:rPr>
              <a:t>= 1 - P{nenhum dos sistemas funciona} 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pt-BR" sz="2900" spc="-1" strike="noStrike">
                <a:solidFill>
                  <a:srgbClr val="000000"/>
                </a:solidFill>
                <a:latin typeface="Tahoma"/>
              </a:rPr>
              <a:t>= 1 - [(1-r(p))(1-r(p’))]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1295280" y="3581280"/>
                <a:ext cx="4015080" cy="104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1295280" y="4648320"/>
                <a:ext cx="2286000" cy="109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2ª solução - Sistema Único, Replicando-se os Componentes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[1 - (1 - p)(1 - p’)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762120" y="2666880"/>
                <a:ext cx="3886200" cy="112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762120" y="4038480"/>
                <a:ext cx="259056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3581280" y="3886200"/>
            <a:ext cx="5029200" cy="17474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clusã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icar componentes leva a uma confiabilidade maior que replicar siste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Vida de um Sistema como uma Função da Vida dos Component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onsidere um sistema </a:t>
            </a:r>
            <a:r>
              <a:rPr b="0" lang="pt-BR" sz="2800" spc="-1" strike="noStrike">
                <a:solidFill>
                  <a:srgbClr val="000000"/>
                </a:solidFill>
                <a:latin typeface="Lucida Sans"/>
              </a:rPr>
              <a:t>a</a:t>
            </a:r>
            <a:r>
              <a:rPr b="0" i="1" lang="pt-BR" sz="2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m que o i-ésimo componente funciona por uma quantidade de tempo aleatória com distribuição F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e depois falha. Uma vez que ele falha, fica nesse estado para sempre. Assumindo que os tempos de vida dos componentes são independentes, como podemos expressar a distribuição do tempo de vida do sistema como uma função da função de confiabilidade do sistema r(p) e as distribuições F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, i = 1, ..., n,  dos tempos de vida dos component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380880" y="457200"/>
                <a:ext cx="8382240" cy="611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F</m:t>
                            </m:r>
                          </m:e>
                        </m:ba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empo de vida do sistema </m:t>
                            </m:r>
                            <m:r>
                              <m:t xml:space="preserve">&gt;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t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stema está funcionando no tempo t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P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nde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mponente i está funcionando no tempo t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empo de vida de i </m:t>
                            </m:r>
                            <m:r>
                              <m:t xml:space="preserve">&gt;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t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F</m:t>
                            </m:r>
                          </m:e>
                        </m:ba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Conseqüentemente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vemos que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F</m:t>
                            </m:r>
                          </m:e>
                        </m:ba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F</m:t>
                            </m:r>
                          </m:e>
                        </m:bar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, 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F</m:t>
                            </m:r>
                          </m:e>
                        </m:bar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emplo 3 (Sistema em Série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2895480" y="1911240"/>
                <a:ext cx="3581640" cy="353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p</m:t>
                            </m:r>
                            <m:r>
                              <m:t xml:space="preserve">i</m:t>
                            </m:r>
                          </m:e>
                        </m:nary>
                      </m:e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F</m:t>
                            </m:r>
                          </m:e>
                        </m:ba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F</m:t>
                                </m:r>
                              </m:e>
                            </m:bar>
                            <m:r>
                              <m:t xml:space="preserve">i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emplo 4 (Sistema em Paralelo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2133720" y="1600200"/>
                <a:ext cx="4724280" cy="433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r>
                              <m:t xml:space="preserve">i</m:t>
                            </m:r>
                          </m:e>
                        </m:nary>
                        <m:r>
                          <m:t xml:space="preserve">)</m:t>
                        </m:r>
                      </m:e>
                      <m:e/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F</m:t>
                            </m:r>
                          </m:e>
                        </m:ba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i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unção Taxa de Falh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mo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t), a função taxa de falha de uma distribuição contínua G por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960480" y="3276720"/>
                <a:ext cx="4875120" cy="27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                  </m:t>
                        </m:r>
                        <m:r>
                          <m:t xml:space="preserve">λ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G</m:t>
                                </m:r>
                              </m:e>
                            </m:ba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nde g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6840" y="1486080"/>
            <a:ext cx="817884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demos interpreta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t) como a probabilidade de um item que já estava funcionando há um tempo t falha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 é uma distribuição de taxa de falha crescente (IFR) s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t) é uma função crescente de 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 é uma distribuição de taxa de falha decrescente (DFR) s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t) é uma função decrescente de 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Roteiro da Apresentação (cont.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o obter o tempo de vida médio de um sistem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A Distribuição de Weibul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Uma V.A. tem distribuição de Weibull se sua distribuição, para algum </a:t>
            </a:r>
            <a:r>
              <a:rPr b="0" lang="pt-BR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&gt; 0 e </a:t>
            </a:r>
            <a:r>
              <a:rPr b="0" lang="pt-BR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&gt; 0, for dada por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G(t) = 1 - e</a:t>
            </a:r>
            <a:r>
              <a:rPr b="0" lang="pt-BR" sz="3200" spc="-1" strike="noStrike" baseline="30000">
                <a:solidFill>
                  <a:srgbClr val="000000"/>
                </a:solidFill>
                <a:latin typeface="Tahoma"/>
              </a:rPr>
              <a:t>-(</a:t>
            </a:r>
            <a:r>
              <a:rPr b="0" lang="pt-BR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pt-BR" sz="3200" spc="-1" strike="noStrike" baseline="30000">
                <a:solidFill>
                  <a:srgbClr val="000000"/>
                </a:solidFill>
                <a:latin typeface="Tahoma"/>
              </a:rPr>
              <a:t>t)</a:t>
            </a:r>
            <a:r>
              <a:rPr b="0" lang="pt-BR" sz="3200" spc="-1" strike="noStrike" baseline="72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, t </a:t>
            </a:r>
            <a:r>
              <a:rPr b="0" lang="pt-BR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 função taxa de falha é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1905120" y="4689360"/>
                <a:ext cx="6095880" cy="12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λt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α</m:t>
                                </m:r>
                              </m:sup>
                            </m:sSup>
                          </m:sup>
                        </m:sSup>
                        <m:r>
                          <m:t xml:space="preserve">α</m:t>
                        </m:r>
                        <m:r>
                          <m:t xml:space="preserve">(</m:t>
                        </m:r>
                        <m:r>
                          <m:t xml:space="preserve">λt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α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λ</m:t>
                        </m:r>
                      </m:num>
                      <m:den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λt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α</m:t>
                                </m:r>
                              </m:sup>
                            </m:sSup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αλ</m:t>
                    </m:r>
                    <m:r>
                      <m:t xml:space="preserve">(</m:t>
                    </m:r>
                    <m:r>
                      <m:t xml:space="preserve">λt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A Distribuição de Weibul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 Distribuição de Weibull é IFR quando </a:t>
            </a:r>
            <a:r>
              <a:rPr b="0" lang="pt-BR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1, e DFR quando 0 &lt; </a:t>
            </a:r>
            <a:r>
              <a:rPr b="0" lang="pt-BR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1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Quando </a:t>
            </a:r>
            <a:r>
              <a:rPr b="0" lang="pt-BR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= 1, G(t) = 1 - e</a:t>
            </a:r>
            <a:r>
              <a:rPr b="0" lang="pt-BR" sz="3200" spc="-1" strike="noStrike" baseline="30000">
                <a:solidFill>
                  <a:srgbClr val="000000"/>
                </a:solidFill>
                <a:latin typeface="Tahoma"/>
              </a:rPr>
              <a:t>-</a:t>
            </a:r>
            <a:r>
              <a:rPr b="0" lang="pt-BR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pt-BR" sz="3200" spc="-1" strike="noStrike" baseline="30000">
                <a:solidFill>
                  <a:srgbClr val="000000"/>
                </a:solidFill>
                <a:latin typeface="Tahoma"/>
              </a:rPr>
              <a:t>t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, a distribuição exponencial, que é tanto IFR quanto DF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empo de Vida Esperado de um Sistem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14480" y="2362320"/>
                <a:ext cx="8766000" cy="23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[</m:t>
                        </m:r>
                        <m:r>
                          <m:t xml:space="preserve">X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P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≥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  <m:e>
                        <m:r>
                          <m:t xml:space="preserve">E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tempo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rPr>
                            <m:lit/>
                            <m:nor/>
                          </m:rPr>
                          <m:t xml:space="preserve">vida</m:t>
                        </m:r>
                        <m:r>
                          <m:rPr>
                            <m:lit/>
                            <m:nor/>
                          </m:rPr>
                          <m:t xml:space="preserve"> de um  sistema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r</m:t>
                            </m:r>
                            <m:r>
                              <m:t xml:space="preserve">(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F</m:t>
                                </m:r>
                              </m:e>
                            </m:ba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Exemplo 5 (Um Sistema em Série de Componentes Uniformemente Distribuído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-185040" algn="just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onsidere um sistema em série de 3 componentes independentes que funcionam por uma quantidade de tempo uniformemente distribuída entre (0, 10)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185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r(p) = p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185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185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(t) =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1523880" y="4724280"/>
            <a:ext cx="184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057400" y="4800600"/>
            <a:ext cx="2590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/10,      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,           t &gt;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50292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= 1, 2,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533520" y="2286000"/>
                <a:ext cx="7315200" cy="238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F</m:t>
                            </m:r>
                          </m:e>
                        </m:ba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f>
                                          <m:num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10</m:t>
                                            </m:r>
                                            <m:r>
                                              <m:t xml:space="preserve">−</m:t>
                                            </m:r>
                                            <m:r>
                                              <m:t xml:space="preserve">t</m:t>
                                            </m:r>
                                          </m:num>
                                          <m:den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10</m:t>
                                            </m:r>
                                          </m:den>
                                        </m:f>
                                      </m:e>
                                    </m:d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rPr>
                                    <m:lit/>
                                    <m:nor/>
                                  </m:rPr>
                                  <m:t xml:space="preserve">,    0</m:t>
                                </m:r>
                                <m:r>
                                  <m:t xml:space="preserve">≤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≤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533520" y="1676520"/>
                <a:ext cx="7848360" cy="354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tempo de vida do sistema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0-t</m:t>
                                        </m:r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0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ferência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Kishor S. Trivedi, “Probability &amp; Statistics with Reliability, Queuing, and Computer Science Applications”, Prentice-Hall, 1982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heldon M. Ross, “Introduction to Probability Models”, 5th ed., Academic Press, 1993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aul L. Meyer, “Probabilidade, Aplicações à Estatística”, 2ª ed., LTC, 198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roduçã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2658960"/>
            <a:ext cx="817884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teoria da confiabilidade está relacionada com determinar a probabilidade de um sistema, que possivelmente consiste de vários componentes, funciona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mos supor que o funcionamento de um sistema depende somente do funcionamento dos seus component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m sistema em série funciona se e somente se todos os seus componentes estão funcionan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m sistema em paralelo funciona se e somente se pelo menos um de seus componentes está funcionan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etor de Estado de um Sistem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onsidere um sistema que consiste de n component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Definimos uma variável para indicar quando o i-ésimo componente está funcionando ou nã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= 1, se o i-ésimo componente funciona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= 0, caso contrári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etor de Estado de um Sistem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O vetor x = (x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, ..., x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) é chamado vetor de estado do sistema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Indica quais dos componentes estão funcionando e quais falhara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unção Estrutur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(x) =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O funcionamento do sistema todo é completamente determinado pelo vetor de estado x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1600200"/>
            <a:ext cx="304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23880" y="18288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, se o sistema funciona quando o vetor de estado é 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23880" y="22096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 se o sistema não funciona quando o vetor de estado é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istemas em séri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 função estrutura de um sistema em série  é dada por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(x) = min(x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, ..., x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lang="pt-BR" sz="32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lang="pt-BR" sz="32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Tahoma"/>
              </a:rPr>
              <a:t>i=1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Componentes%20em%20Série%20(Ross)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8610480" cy="17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8T19:54:56Z</dcterms:created>
  <dc:creator>win98</dc:creator>
  <dc:description/>
  <dc:language>en-US</dc:language>
  <cp:lastModifiedBy>win98</cp:lastModifiedBy>
  <dcterms:modified xsi:type="dcterms:W3CDTF">2000-06-21T17:33:40Z</dcterms:modified>
  <cp:revision>33</cp:revision>
  <dc:subject/>
  <dc:title>Introdução à Teoria da Confiabilidade</dc:title>
</cp:coreProperties>
</file>