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03F-00D6-46A0-AC31-C88B78BC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400-BFC7-45DF-B34F-4F2A248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13E-510D-475C-B9B9-4A36C451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96A-081A-485A-ACAA-A625BFB2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EB64-BB06-482E-AB5B-1505E684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A381-A82E-4430-AC05-F28960A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B216-20ED-40AE-B315-38C894AA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B15F-DACE-4C5B-B6EE-1B6059F0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1D41-3345-4363-A429-A05972F5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10D7-1A13-4DBA-8CA3-35766926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4F2D-4AC4-4E50-BE16-33B1477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57F-8F00-47C7-964B-128A270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D16C-1C0E-43A2-83C1-1D3F889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1D22-ECC2-41CE-BAFA-B1AC3B3C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0B8-476A-47FA-9594-0224D977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C9DA-ECAD-4B49-9076-3E163942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CDBA-F761-409B-A7BD-D7726849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9FA-17E4-4759-9690-C43F6961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E4B-9029-4533-9FFA-D262A7C7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EF3-CC8D-4368-8463-32F64260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61C-8F35-40C1-B852-42FAE108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584-F15C-4DD4-B753-1A06450A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0B9-55F9-4620-8596-4939D044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C4E-3CC0-4DEF-9F88-AB61A055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7BD-2594-46EC-804A-0C1CAE0FDE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CAEF-E744-438B-9135-7B3DB741F8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istemas Distribuído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6576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isciplina - Avaliação de Desempenho de Sistem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luno - Sérgio Goren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nsparênc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esar de o sistema ser formado por um conjunto de componentes separados, deve ser visto pelo usuário e pela aplicação como um to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8 tipos de transparê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parência de Acesso - acesso local e remoto a informação utilizando operações idêntic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pos de Transparência (cont.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parência de localização - acessar objetos de informação sem o conhecimento de sua localizaçã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parência de concorrência - diversos processos executam de forma concorrente, utilizando informação compartilhada, sem interferência entre el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pos de Transparência (cont.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parência de replicação - existência de múltiplas instâncias de uma mesma informação, para aumentar performance e recuperação, sem o conhecimento das réplicas por parte das aplicaçõ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parência de falhas - usuários e aplicações podem completar suas tarefas sem o conhecimento da ocorrência de falhas nos componentes de hardware ou softwar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pos de Transparência (cont.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parência de migração - a movimentação da informação dentro do sistema não afeta a execução dos programas do usuário ou aplicaçõ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parência de performance - o sistema pode ser reconfigurado para melhorar a performance com a variação de carg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parência de escala - o sistema e aplicações podem aumentar em escala, sem modificações na estrutura do sistema ou nas aplicaçõ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stema Yad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rramenta para construir simulações de eventos discr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a especificação Yaddes é compilada em uma coleção de subrotinas em linguagem 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 subrotinas em linguagem C são compiladas e ligadas a uma biblioteca de métodos de sincroniz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bordagem do Yad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sistema é modelado como uma coleção de processos físicos (PP), que periodicamente trocam informaçã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troca de informação acontece em pontos discretos do temp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É chamado de evento todo instante no qual um PP provê informação a out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ulação computacional de um sistema re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 computacional no qual o comportamento de cada processo físico é imitado por um processo lógico (LP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troca de informação entre os PP é imitada através de uma troca de mensagens entre os L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 Processo Lógico é uma máquina de estados gera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ui um número arbitrário de entradas e saíd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ui um conjunto finito de es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2057400"/>
          <a:ext cx="6672240" cy="41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67224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09480" y="1752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 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máquina de estados é dirigida por uma combinação de eve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a combinação de eventos é uma coleção de eventos de entrada que possuam o mesm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ime-stamp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m resposta um LP pode modificar o seu estado e produzir um ou mais eventos de saí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ul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Yad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étodos de Sincroniz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nguagem de Especif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ilação e Execu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ulador de Troca de Mensagens em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ção seqüenci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a lista de eventos é utilizada para armazenar eventos fut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a de eventos - uma estrutura de 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os são organizados pelo tem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do uma ação provoca eventos de saída, estes são inseridos na lista de eve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14600" y="1905120"/>
          <a:ext cx="4022640" cy="44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05120"/>
                    <a:ext cx="402264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ulação distribuída - múltiplas listas de eve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execução com múltiplos process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processador tem a sua própria lista de eve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chedul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- processador que coordena os outros process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ulação distribuída (cont.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cessadores enviam mensagem a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chedul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indicando o tempo de simulação do próximo evento em suas list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chedul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seleciona o menor tempo de evento, e envia mensagens, com este tempo, a todos os processador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os os processadores que possuam este tempo, removem eventos de suas listas, formam combinações, e aplic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828800" y="2057400"/>
          <a:ext cx="5302080" cy="43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30208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ulação distribuída conservadora - Chandy-Mis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LP executa como uma tarefa separad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tarefa armazena as mensagens recebidas em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uffer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até formar uma combinação de event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ulação distribuída conservadora - Chandy-Misra: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binação de eventos com tempo </a:t>
            </a:r>
            <a:r>
              <a:rPr b="1" lang="pt-BR" sz="2800" spc="-1" strike="noStrike">
                <a:solidFill>
                  <a:srgbClr val="808000"/>
                </a:solidFill>
                <a:latin typeface="Tahoma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- formada quando a tarefa recebe mensagens em todas as portas de entrada com tempo </a:t>
            </a:r>
            <a:r>
              <a:rPr b="1" lang="pt-BR" sz="2800" spc="-1" strike="noStrike">
                <a:solidFill>
                  <a:srgbClr val="808000"/>
                </a:solidFill>
                <a:latin typeface="Tahoma"/>
              </a:rPr>
              <a:t>t’&gt;=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tempo </a:t>
            </a:r>
            <a:r>
              <a:rPr b="1" lang="pt-BR" sz="2800" spc="-1" strike="noStrike">
                <a:solidFill>
                  <a:srgbClr val="808000"/>
                </a:solidFill>
                <a:latin typeface="Tahoma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já passou nas demais tarefa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33720" y="2286000"/>
          <a:ext cx="4964040" cy="37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0"/>
                    <a:ext cx="496404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ulação distribuída otimis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LP executa como uma tarefa separad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cepção de uma mensag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 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ime-stam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a mensagem é posterior ao corrente, é formada uma combinação de eventos de entrada, e a LP é ativa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 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ime-stam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a mensagem é menor ou igual ao corrente a tarefa retorna ao tempo imediatamente anterior ao da mensag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étodos de sincro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09680" y="2362320"/>
          <a:ext cx="4872240" cy="36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487224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sistema Distribuído consiste de uma coleção de computadores autônomos ligados por uma rede de computadores e equipados com software de sistema distribuído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stributed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orge Coulouris e out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especificação Yaddes conté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eâmbul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pecificação de model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pecificação de process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pecificação de conexõ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pecificações de procediment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Postambl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mode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fine os tipos de processos lóg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ídos por declaraçõe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tradas, saídas, estado, estado inicial e 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ra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pecifica o número e nomes das entradas de um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inputs a, b [3], c [3..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dem ser definidas 0 ou mais entr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mode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aí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pecifica o número e nomes das saídas de um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 modelo pode possuir 0 ou mais saí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output a, b [3], c [3..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mode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clara o tipo do estado de um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da instância de um modelo possui o seu próprio estado, do tipo especifi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É uma declaração de estrutura em linguagem C (composição de tip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state {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int 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int z; 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mode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ado inici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pecifica o valor com o qual o estado de cada instância do modelo é inici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initial state {0, 0,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mode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çõ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ão fragmentos de programas em linguagem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dem ser chamados das formas a segui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ntes de iniciar a simulaçã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pois de terminar a simulaçã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do o tempo da simulação avanç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m resposta a combinações de ev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action a and b and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{ &lt;comando C&gt;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mode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çõ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itial - antes de iniciar a simulaçã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inal - depois de terminar a simulaçã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hing - o tempo avança sem ocorrer event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ething - quando, no mínimo, um evento ocorr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ything - quando ocorrem eventos ou o tempo avanç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fault - para eventos sem ações declar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process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clara uma instância de um modelo descr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instância executa como um processo lógico em separ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process a: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process b [3] :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process c : gate {20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process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cessos podem ser especificados em processadores disti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process b [3] on 1 :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process c [3] on 0..2 :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processadores são numerados a partir de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não especificação do processador, atribui um LP ao processador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conex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abelece conexões entre entradas e saídas de processos lóg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saída de um LP pode ser conectadas a zero, uma ou mais entr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entrada de um LP pode ser conectada a no máximo uma saí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2666880"/>
          <a:ext cx="663588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66880"/>
                    <a:ext cx="663588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9072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conex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exões entre processos são representadas por tabelas de saí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rada na tabela de saí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267080"/>
            <a:ext cx="7391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44956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 Processador        ID Processo       número da entrad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conex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ormato de entradas e saí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00"/>
                </a:solidFill>
                <a:latin typeface="Tahoma"/>
              </a:rPr>
              <a:t>nome processo.nome po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connect Gate1.out to Gate2.in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connect Gate1.out to Gate2.in0, Gate3.in0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     connect a.out[0..3] to b.in[0..3], c.in[0..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connect d[0..3].selfOut to e[0..3].sel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connect e[0..3].out[0..2] to f[0..2].in[0..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procedime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cedimento inicial - especifica o nome de uma subrotina C a ser chamada antes do inicio da simul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procedure SetUp : ini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 múltiplos processadores o procedimento inicial será executado em cada processad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guagem de especific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ficação de procedime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cedimento final - especifica o nome de uma subrotina C a ser chamada depois que a simulação term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procedure CleanUp :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 múltiplos processadores, o procedimento final será executado em cada 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procedimentos podem ser declarados no preâmbulo,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postambl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ou em separ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ila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a especificação Yaddes é transformada pelo programa Yaddes em um arquivo em linguagem 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yaddes2 &lt;arquivo entrad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arquivo de entrada pode ou não ter a extensão </a:t>
            </a:r>
            <a:r>
              <a:rPr b="0" i="1" lang="pt-BR" sz="2800" spc="-1" strike="noStrike">
                <a:solidFill>
                  <a:srgbClr val="808000"/>
                </a:solidFill>
                <a:latin typeface="Tahoma"/>
              </a:rPr>
              <a:t>.y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 O arquivo de criado terá extensão </a:t>
            </a:r>
            <a:r>
              <a:rPr b="0" i="1" lang="pt-BR" sz="2800" spc="-1" strike="noStrike">
                <a:solidFill>
                  <a:srgbClr val="808000"/>
                </a:solidFill>
                <a:latin typeface="Tahoma"/>
              </a:rPr>
              <a:t>.c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ibliotecas com métodos de sincroniza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arquivos em C devem ser ligados (link) a uma biblioteca de com um método de sincroniz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stem diversas bibliotecas disponíveis, incluindo os quatro métodos de sincronização para Unix ou PC, e o métodos distribuídos para ambientes distribuí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cu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o se chamar a execução podem ser passados diversos argumentos na linha de coman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exemplo [flag [flag ... 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argumentos são utilizados para especificar a impressão de diversas estatísticas e mensagens 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debu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em um arquivo de erro padr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ulação em Java de algoritmos de ordenação de mensagens em sistemas distribuí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oritmo FIF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oritmo Causal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oritmo Síncro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. Coulouris, J. Dollimore and T. Kindberg, “Distributed Systems - Concepts and Design”, Second Edition, Addison-Wesley, 199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runo R. Preiss and Ian D. MacIntyre, “Yaddes- Yet Another Distributed Event Simulator: User Manual”, </a:t>
            </a: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http://www.pads.uwaterloo.can/Bruno.Preiss/reports/ ccng/E197/report.p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ava Simulation of Distributed Systems Message Ordering Algorithms”, </a:t>
            </a:r>
            <a:r>
              <a:rPr b="0" lang="pt-BR" sz="2400" spc="-1" strike="noStrike">
                <a:solidFill>
                  <a:srgbClr val="0000ff"/>
                </a:solidFill>
                <a:latin typeface="Tahoma"/>
              </a:rPr>
              <a:t>http://www.ece.utexas.edu/~pestes/ee397k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artilhamento de recurs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spositivos de hardware como impressoras, discos, e outros periféric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idades de software como arquivos, bancos de dad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ertu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icionar novos serviços compartilhados ao sistema distribuído sem a interrupção ou duplicação de serviços exist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eguida através da publicação de interfaces, tornando-as disponíveis para desenvolvedores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em ser feitas extensões em hardware ou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corrênc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ção de diversos processos ao mesmo t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um mesmo processador, dividindo o tempo de processament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diversos processadores, em uma execução em paral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acesso concorrente por diversos processos a um mesmo recurso deve ser sincronizado para evitar confl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alabilida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sistema e a aplicação não necessitam ser alterados quando o sistema aumenta de esca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sistema funciona tanto em uma rede local com poucos computadores, quanto em uma rede de longa distância com uma grande quantidade de máqui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olerância a falh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onentes de hardware redundant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s desenvolvidos para recuperar o sistema após falh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lhas podem ocorrer tanto em hardware como em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ponibilida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sistema estará disponível por mais tem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19:26:36Z</dcterms:created>
  <dc:creator>sergio gorender</dc:creator>
  <dc:description/>
  <dc:language>en-US</dc:language>
  <cp:lastModifiedBy>sg</cp:lastModifiedBy>
  <dcterms:modified xsi:type="dcterms:W3CDTF">2000-06-30T13:37:18Z</dcterms:modified>
  <cp:revision>18</cp:revision>
  <dc:subject/>
  <dc:title>Simulação</dc:title>
</cp:coreProperties>
</file>