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3AAE-3948-4AE2-94A1-3E2D3413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FC02-D33B-499C-A2FC-C22397D3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A8B-D44A-439D-BC67-0BC11E31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64D-7DA9-4AC1-A54F-7ECF5142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1EFC-6D95-4F4D-9836-12879A25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2C35-F8AE-4BB6-8F3B-D4C5DBF1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A19C-29CF-4FCE-A2BF-4A1E7868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6D53-519A-42E2-872D-85698E04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6E99-15D5-4755-B96E-69617241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62C5-7709-48A3-A429-C94FE434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86C4-A603-4560-BFE1-47052478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AEB4-CEC9-4C2B-8681-7E06E5A8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D403-F41C-4196-BB7A-DAFA562D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F08E-7AED-441E-B1E2-F4952CE9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841F-5ECD-4346-9859-AE4DAD62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F7F0-D6DF-4693-8B42-1AD9F131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A1B8-04FE-48C2-A774-4D7FACE8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DBC-D29A-48A9-889A-2C1CA23C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C438-DEAE-44C7-B67B-79956548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5DB4-FE4B-4BE0-AE61-C3A9F243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35FD-D010-452B-A757-931019DD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4B9-93DB-4A18-8D8F-D9D00386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D21-ABAE-4364-A966-D60800A5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769-7CD2-49AE-BDFE-E02BBB8C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46CA-4964-42D5-808C-39DF718C3665}" type="datetime">
              <a:rPr b="0" lang="en-US" sz="1400" spc="-1" strike="noStrike">
                <a:solidFill>
                  <a:srgbClr val="ffff66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33A8-5554-4119-8A13-C4699FFA1AF3}" type="slidenum">
              <a:rPr b="0" lang="en-US" sz="14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30E8-BC57-456F-B2D9-9E7457A164F4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9FF0-F12E-4CAD-B101-0D915444FA1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ojeto de Rede sem Fio para Escritórios Regionais da PC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udo de Viabilida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51814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liação de Desempenho de Siste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é Luce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l@di.ufpe.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ituação Atu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svantag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rquitetura S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rminais burros nas pontas (interface pob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so de controladoras defasadas tecnologica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usto elevado de manuten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0A5-2A6F-4F9C-BB03-A2A46DFE6E5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FFAD2-701C-4F4B-B26E-50BBC00A9B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Redes sem F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ápido crescimento em todo mun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sibilitam redução de custos de instalação com alta confiabil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das para estender cabeamentos de rede local ou como redes temporárias para suprir uma sobrecarga de trabal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ferecem mobilidade, flexibilidade e facilidade de instal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cnologia desenvolvida pela Bell La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3AA8-5279-4081-9097-08D70086CDD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3A3C8-24B3-4F0A-BCF3-154AABEF87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Redes sem F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 padrão IEEE 802.11 que permite integração entre sistemas de diferentes fabric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das como substituição de linhas privativas de alta veloc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uas família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quipamentos para redes locais sem fio e links de ponto a ponto de até 11 Mb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quipamentos para distribuição de links de dados em área metropolit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8C2-8990-40AA-82CF-4F4C87EB362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E19C5-E39D-42E2-B59A-C0635B4497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ojeto de Redes sem F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ntender as aplicações atualmente executada na rede cabe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tender os requerimentos específicos de banda e velocidade de aces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álise das distâncias e obstáculos envolv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stalação de uma WavePoint no ponto central da rede juntamente com as placas WaveLanISA e PCMCIA nos computadores, servidores, coletores de dado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373-A654-4614-9037-682197629F3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E7DE3-F300-440F-81E5-407EB7959E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ojeto de Redes sem F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sibilidade de distribuição de várias WavePoints pela área a ser coberta utilizando-se o recurso de roam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rmite a criação de redes pré-fabricadas montadas e testadas num local e depois transportadas para outro lo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sibilidade de conexão de duas redes distantes em até 16 Km (com visada direta), com velocidade de 2 a 11 Mbp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84E7-989F-4982-A1E5-E63665F2ED7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B6939-99CD-4E5E-AD15-862F4B8752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Redes sem F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drão IEEE - Institute of Eletrical and Eletronics Engine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rmitir interoperabilidade com outros fornec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ior confiabilidade no envio das mensagens com gerenciamento de interferência e protocolos de confi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axas de transmissões flexíveis com maior confiabilidade na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E7B-5FE2-4678-9FCA-50076CA1795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58A11-28DE-4D5F-966F-989D041A8F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Redes sem F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cnologia Spread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étodo de transmissão via rá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sui alta imunidade a ruídos, baixa interferência em outros sistemas e é difícil de ser interceptado ou monito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do em sistemas onde confiabilidade é essencial como satélites, telefonia celular, sistema de localização global (GPS)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de ser utilizado sem registro nem burocracia pela faixa de frequência que é adot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287B-4DCF-46B5-9748-1B8BC4F66AD9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831B9-5A17-4A3E-BB90-3E09B2566F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Redes sem F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sui duas modalidades básic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HSS (Frequence Hop Spread Spectrum): para comunicação outd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SSS (Direct Sequence Spread Spectrum): para comunicação ind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4D0-BFAD-4581-95BD-19B2200E81DE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67A20-3723-4890-9EAA-8308D173DB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Redes sem F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licações Exter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 Camp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amal Telefônico sem f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de local sem fio ponto-a-po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de local sem fio ponto-multipo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tropolit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de local sem fio ponto-a-po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de local sem fio ponto-multipon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licações Inter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3A43-311D-436F-9FEF-39B0B5801450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4D669-E37D-444F-899E-4F1F30318F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Redes sem F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licações Exter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vê conectividade em locais onde é difícil ou impossível cab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rmite movimentação constante do usu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rmite que dispositivos veículos possam estar conec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rmite conectividade para pontos rem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C5ED-01CA-49C6-9244-2765D5A6200F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CA7C7-4A4E-4916-A764-7DE2E34ED8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ópic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tiv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utura Organiz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uação Atu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es sem F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ta de Proj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ulação utilizando Network Simulation - 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076-460A-403B-9853-223A0B7048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57886-8AA2-476E-B4D5-4DFCA74025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Redes sem F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sempenho do Sistema - EX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376280" y="2133720"/>
          <a:ext cx="3827520" cy="421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6280" y="2133720"/>
                    <a:ext cx="3827520" cy="42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"/>
          <p:cNvGrpSpPr/>
          <p:nvPr/>
        </p:nvGrpSpPr>
        <p:grpSpPr>
          <a:xfrm>
            <a:off x="5486400" y="2663640"/>
            <a:ext cx="2589840" cy="2060280"/>
            <a:chOff x="5486400" y="2663640"/>
            <a:chExt cx="2589840" cy="2060280"/>
          </a:xfrm>
        </p:grpSpPr>
        <p:grpSp>
          <p:nvGrpSpPr>
            <p:cNvPr id="190" name=""/>
            <p:cNvGrpSpPr/>
            <p:nvPr/>
          </p:nvGrpSpPr>
          <p:grpSpPr>
            <a:xfrm>
              <a:off x="6915240" y="3079440"/>
              <a:ext cx="1161000" cy="1290960"/>
              <a:chOff x="6915240" y="3079440"/>
              <a:chExt cx="1161000" cy="129096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6915240" y="3079440"/>
                <a:ext cx="1161000" cy="1290960"/>
                <a:chOff x="6915240" y="3079440"/>
                <a:chExt cx="1161000" cy="12909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6922080" y="3448440"/>
                  <a:ext cx="1154160" cy="249120"/>
                </a:xfrm>
                <a:custGeom>
                  <a:avLst/>
                  <a:gdLst/>
                  <a:ahLst/>
                  <a:rect l="l" t="t" r="r" b="b"/>
                  <a:pathLst>
                    <a:path w="685" h="502">
                      <a:moveTo>
                        <a:pt x="0" y="368"/>
                      </a:moveTo>
                      <a:lnTo>
                        <a:pt x="387" y="502"/>
                      </a:lnTo>
                      <a:lnTo>
                        <a:pt x="685" y="96"/>
                      </a:lnTo>
                      <a:lnTo>
                        <a:pt x="312" y="0"/>
                      </a:lnTo>
                      <a:lnTo>
                        <a:pt x="0" y="368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080120" y="3238560"/>
                  <a:ext cx="480240" cy="421200"/>
                </a:xfrm>
                <a:custGeom>
                  <a:avLst/>
                  <a:gdLst/>
                  <a:ahLst/>
                  <a:rect l="l" t="t" r="r" b="b"/>
                  <a:pathLst>
                    <a:path w="285" h="852">
                      <a:moveTo>
                        <a:pt x="0" y="0"/>
                      </a:moveTo>
                      <a:lnTo>
                        <a:pt x="285" y="41"/>
                      </a:lnTo>
                      <a:lnTo>
                        <a:pt x="285" y="852"/>
                      </a:lnTo>
                      <a:lnTo>
                        <a:pt x="0" y="7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553880" y="3169080"/>
                  <a:ext cx="414000" cy="487440"/>
                </a:xfrm>
                <a:custGeom>
                  <a:avLst/>
                  <a:gdLst/>
                  <a:ahLst/>
                  <a:rect l="l" t="t" r="r" b="b"/>
                  <a:pathLst>
                    <a:path w="246" h="987">
                      <a:moveTo>
                        <a:pt x="0" y="182"/>
                      </a:moveTo>
                      <a:lnTo>
                        <a:pt x="0" y="987"/>
                      </a:lnTo>
                      <a:lnTo>
                        <a:pt x="246" y="662"/>
                      </a:lnTo>
                      <a:lnTo>
                        <a:pt x="246" y="0"/>
                      </a:lnTo>
                      <a:lnTo>
                        <a:pt x="0" y="182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080120" y="3150360"/>
                  <a:ext cx="887760" cy="108720"/>
                </a:xfrm>
                <a:custGeom>
                  <a:avLst/>
                  <a:gdLst/>
                  <a:ahLst/>
                  <a:rect l="l" t="t" r="r" b="b"/>
                  <a:pathLst>
                    <a:path w="527" h="220">
                      <a:moveTo>
                        <a:pt x="0" y="179"/>
                      </a:moveTo>
                      <a:lnTo>
                        <a:pt x="281" y="220"/>
                      </a:lnTo>
                      <a:lnTo>
                        <a:pt x="527" y="38"/>
                      </a:lnTo>
                      <a:lnTo>
                        <a:pt x="281" y="0"/>
                      </a:lnTo>
                      <a:lnTo>
                        <a:pt x="0" y="179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194960" y="3079440"/>
                  <a:ext cx="648720" cy="65160"/>
                </a:xfrm>
                <a:custGeom>
                  <a:avLst/>
                  <a:gdLst/>
                  <a:ahLst/>
                  <a:rect l="l" t="t" r="r" b="b"/>
                  <a:pathLst>
                    <a:path w="385" h="133">
                      <a:moveTo>
                        <a:pt x="0" y="106"/>
                      </a:moveTo>
                      <a:lnTo>
                        <a:pt x="204" y="133"/>
                      </a:lnTo>
                      <a:lnTo>
                        <a:pt x="385" y="32"/>
                      </a:lnTo>
                      <a:lnTo>
                        <a:pt x="192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194960" y="3131640"/>
                  <a:ext cx="338760" cy="100440"/>
                </a:xfrm>
                <a:custGeom>
                  <a:avLst/>
                  <a:gdLst/>
                  <a:ahLst/>
                  <a:rect l="l" t="t" r="r" b="b"/>
                  <a:pathLst>
                    <a:path w="201" h="205">
                      <a:moveTo>
                        <a:pt x="0" y="0"/>
                      </a:moveTo>
                      <a:lnTo>
                        <a:pt x="201" y="25"/>
                      </a:lnTo>
                      <a:lnTo>
                        <a:pt x="201" y="205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33720" y="3095280"/>
                  <a:ext cx="309600" cy="137160"/>
                </a:xfrm>
                <a:custGeom>
                  <a:avLst/>
                  <a:gdLst/>
                  <a:ahLst/>
                  <a:rect l="l" t="t" r="r" b="b"/>
                  <a:pathLst>
                    <a:path w="184" h="279">
                      <a:moveTo>
                        <a:pt x="0" y="101"/>
                      </a:moveTo>
                      <a:lnTo>
                        <a:pt x="0" y="279"/>
                      </a:lnTo>
                      <a:lnTo>
                        <a:pt x="184" y="144"/>
                      </a:lnTo>
                      <a:lnTo>
                        <a:pt x="184" y="0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569000" y="3494880"/>
                  <a:ext cx="507240" cy="875520"/>
                </a:xfrm>
                <a:custGeom>
                  <a:avLst/>
                  <a:gdLst/>
                  <a:ahLst/>
                  <a:rect l="l" t="t" r="r" b="b"/>
                  <a:pathLst>
                    <a:path w="301" h="1770">
                      <a:moveTo>
                        <a:pt x="301" y="0"/>
                      </a:moveTo>
                      <a:lnTo>
                        <a:pt x="2" y="409"/>
                      </a:lnTo>
                      <a:lnTo>
                        <a:pt x="0" y="1770"/>
                      </a:lnTo>
                      <a:lnTo>
                        <a:pt x="301" y="1239"/>
                      </a:lnTo>
                      <a:lnTo>
                        <a:pt x="301" y="0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915240" y="3630240"/>
                  <a:ext cx="657000" cy="739800"/>
                </a:xfrm>
                <a:custGeom>
                  <a:avLst/>
                  <a:gdLst/>
                  <a:ahLst/>
                  <a:rect l="l" t="t" r="r" b="b"/>
                  <a:pathLst>
                    <a:path w="390" h="1495">
                      <a:moveTo>
                        <a:pt x="4" y="0"/>
                      </a:moveTo>
                      <a:lnTo>
                        <a:pt x="390" y="134"/>
                      </a:lnTo>
                      <a:lnTo>
                        <a:pt x="390" y="1495"/>
                      </a:lnTo>
                      <a:lnTo>
                        <a:pt x="0" y="125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991200" y="3249360"/>
                <a:ext cx="516240" cy="549360"/>
                <a:chOff x="6991200" y="3249360"/>
                <a:chExt cx="516240" cy="54936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7112160" y="3249360"/>
                  <a:ext cx="395280" cy="124560"/>
                  <a:chOff x="7112160" y="3249360"/>
                  <a:chExt cx="395280" cy="1245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7112160" y="3249360"/>
                    <a:ext cx="8064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01">
                        <a:moveTo>
                          <a:pt x="0" y="0"/>
                        </a:moveTo>
                        <a:lnTo>
                          <a:pt x="48" y="10"/>
                        </a:lnTo>
                        <a:lnTo>
                          <a:pt x="48" y="201"/>
                        </a:lnTo>
                        <a:lnTo>
                          <a:pt x="1" y="18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216560" y="3257280"/>
                    <a:ext cx="7884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03">
                        <a:moveTo>
                          <a:pt x="0" y="0"/>
                        </a:moveTo>
                        <a:lnTo>
                          <a:pt x="47" y="7"/>
                        </a:lnTo>
                        <a:lnTo>
                          <a:pt x="47" y="203"/>
                        </a:lnTo>
                        <a:lnTo>
                          <a:pt x="0" y="18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7320960" y="3262320"/>
                    <a:ext cx="838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09">
                        <a:moveTo>
                          <a:pt x="0" y="0"/>
                        </a:moveTo>
                        <a:lnTo>
                          <a:pt x="50" y="9"/>
                        </a:lnTo>
                        <a:lnTo>
                          <a:pt x="48" y="209"/>
                        </a:lnTo>
                        <a:lnTo>
                          <a:pt x="0" y="19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428600" y="3268080"/>
                    <a:ext cx="7884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15">
                        <a:moveTo>
                          <a:pt x="0" y="0"/>
                        </a:moveTo>
                        <a:lnTo>
                          <a:pt x="47" y="10"/>
                        </a:lnTo>
                        <a:lnTo>
                          <a:pt x="47" y="215"/>
                        </a:lnTo>
                        <a:lnTo>
                          <a:pt x="0" y="2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7110720" y="3368160"/>
                  <a:ext cx="395280" cy="128520"/>
                  <a:chOff x="7110720" y="3368160"/>
                  <a:chExt cx="395280" cy="1285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7110720" y="3368160"/>
                    <a:ext cx="8028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07">
                        <a:moveTo>
                          <a:pt x="0" y="0"/>
                        </a:moveTo>
                        <a:lnTo>
                          <a:pt x="48" y="14"/>
                        </a:lnTo>
                        <a:lnTo>
                          <a:pt x="48" y="207"/>
                        </a:lnTo>
                        <a:lnTo>
                          <a:pt x="1" y="19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7214760" y="3375720"/>
                    <a:ext cx="8064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08">
                        <a:moveTo>
                          <a:pt x="1" y="0"/>
                        </a:moveTo>
                        <a:lnTo>
                          <a:pt x="48" y="17"/>
                        </a:lnTo>
                        <a:lnTo>
                          <a:pt x="47" y="208"/>
                        </a:lnTo>
                        <a:lnTo>
                          <a:pt x="0" y="193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319520" y="3385800"/>
                    <a:ext cx="8388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05">
                        <a:moveTo>
                          <a:pt x="0" y="0"/>
                        </a:moveTo>
                        <a:lnTo>
                          <a:pt x="50" y="12"/>
                        </a:lnTo>
                        <a:lnTo>
                          <a:pt x="48" y="205"/>
                        </a:lnTo>
                        <a:lnTo>
                          <a:pt x="0" y="19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427160" y="3393720"/>
                    <a:ext cx="7884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06">
                        <a:moveTo>
                          <a:pt x="0" y="0"/>
                        </a:moveTo>
                        <a:lnTo>
                          <a:pt x="47" y="15"/>
                        </a:lnTo>
                        <a:lnTo>
                          <a:pt x="47" y="206"/>
                        </a:lnTo>
                        <a:lnTo>
                          <a:pt x="0" y="19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991200" y="3656160"/>
                  <a:ext cx="494280" cy="142560"/>
                  <a:chOff x="6991200" y="3656160"/>
                  <a:chExt cx="494280" cy="142560"/>
                </a:xfrm>
              </p:grpSpPr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6991200" y="3656160"/>
                    <a:ext cx="494280" cy="91440"/>
                    <a:chOff x="6991200" y="3656160"/>
                    <a:chExt cx="494280" cy="9144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7115400" y="3669840"/>
                      <a:ext cx="10728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95">
                          <a:moveTo>
                            <a:pt x="1" y="0"/>
                          </a:moveTo>
                          <a:lnTo>
                            <a:pt x="64" y="23"/>
                          </a:lnTo>
                          <a:lnTo>
                            <a:pt x="64" y="95"/>
                          </a:lnTo>
                          <a:lnTo>
                            <a:pt x="0" y="7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7248240" y="3682800"/>
                      <a:ext cx="10584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101">
                          <a:moveTo>
                            <a:pt x="0" y="0"/>
                          </a:moveTo>
                          <a:lnTo>
                            <a:pt x="63" y="25"/>
                          </a:lnTo>
                          <a:lnTo>
                            <a:pt x="63" y="101"/>
                          </a:lnTo>
                          <a:lnTo>
                            <a:pt x="0" y="7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7379640" y="3698280"/>
                      <a:ext cx="10584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101">
                          <a:moveTo>
                            <a:pt x="0" y="0"/>
                          </a:moveTo>
                          <a:lnTo>
                            <a:pt x="63" y="25"/>
                          </a:lnTo>
                          <a:lnTo>
                            <a:pt x="63" y="101"/>
                          </a:lnTo>
                          <a:lnTo>
                            <a:pt x="0" y="7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6991200" y="3656160"/>
                      <a:ext cx="1054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95">
                          <a:moveTo>
                            <a:pt x="0" y="0"/>
                          </a:moveTo>
                          <a:lnTo>
                            <a:pt x="63" y="23"/>
                          </a:lnTo>
                          <a:lnTo>
                            <a:pt x="63" y="95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6991200" y="3707280"/>
                    <a:ext cx="494280" cy="91440"/>
                    <a:chOff x="6991200" y="3707280"/>
                    <a:chExt cx="494280" cy="9144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7115400" y="3720960"/>
                      <a:ext cx="107280" cy="4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97">
                          <a:moveTo>
                            <a:pt x="2" y="0"/>
                          </a:moveTo>
                          <a:lnTo>
                            <a:pt x="64" y="23"/>
                          </a:lnTo>
                          <a:lnTo>
                            <a:pt x="64" y="97"/>
                          </a:lnTo>
                          <a:lnTo>
                            <a:pt x="0" y="74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7246800" y="3735720"/>
                      <a:ext cx="10584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97">
                          <a:moveTo>
                            <a:pt x="0" y="0"/>
                          </a:moveTo>
                          <a:lnTo>
                            <a:pt x="63" y="25"/>
                          </a:lnTo>
                          <a:lnTo>
                            <a:pt x="63" y="97"/>
                          </a:lnTo>
                          <a:lnTo>
                            <a:pt x="0" y="7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7379640" y="3751560"/>
                      <a:ext cx="10584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97">
                          <a:moveTo>
                            <a:pt x="0" y="0"/>
                          </a:moveTo>
                          <a:lnTo>
                            <a:pt x="63" y="27"/>
                          </a:lnTo>
                          <a:lnTo>
                            <a:pt x="63" y="97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6991200" y="3707280"/>
                      <a:ext cx="105480" cy="4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97">
                          <a:moveTo>
                            <a:pt x="0" y="0"/>
                          </a:moveTo>
                          <a:lnTo>
                            <a:pt x="63" y="23"/>
                          </a:lnTo>
                          <a:lnTo>
                            <a:pt x="63" y="97"/>
                          </a:lnTo>
                          <a:lnTo>
                            <a:pt x="0" y="7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3" name=""/>
            <p:cNvGrpSpPr/>
            <p:nvPr/>
          </p:nvGrpSpPr>
          <p:grpSpPr>
            <a:xfrm>
              <a:off x="5486400" y="3295800"/>
              <a:ext cx="1229040" cy="1428120"/>
              <a:chOff x="5486400" y="3295800"/>
              <a:chExt cx="1229040" cy="1428120"/>
            </a:xfrm>
          </p:grpSpPr>
          <p:sp>
            <p:nvSpPr>
              <p:cNvPr id="224" name=""/>
              <p:cNvSpPr/>
              <p:nvPr/>
            </p:nvSpPr>
            <p:spPr>
              <a:xfrm>
                <a:off x="5486400" y="3379680"/>
                <a:ext cx="1227600" cy="155880"/>
              </a:xfrm>
              <a:custGeom>
                <a:avLst/>
                <a:gdLst/>
                <a:ahLst/>
                <a:rect l="l" t="t" r="r" b="b"/>
                <a:pathLst>
                  <a:path w="728" h="317">
                    <a:moveTo>
                      <a:pt x="0" y="188"/>
                    </a:moveTo>
                    <a:lnTo>
                      <a:pt x="415" y="317"/>
                    </a:lnTo>
                    <a:lnTo>
                      <a:pt x="728" y="93"/>
                    </a:lnTo>
                    <a:lnTo>
                      <a:pt x="346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486400" y="3470760"/>
                <a:ext cx="699840" cy="1252440"/>
              </a:xfrm>
              <a:custGeom>
                <a:avLst/>
                <a:gdLst/>
                <a:ahLst/>
                <a:rect l="l" t="t" r="r" b="b"/>
                <a:pathLst>
                  <a:path w="415" h="2531">
                    <a:moveTo>
                      <a:pt x="0" y="0"/>
                    </a:moveTo>
                    <a:lnTo>
                      <a:pt x="415" y="131"/>
                    </a:lnTo>
                    <a:lnTo>
                      <a:pt x="415" y="2531"/>
                    </a:lnTo>
                    <a:lnTo>
                      <a:pt x="327" y="2476"/>
                    </a:lnTo>
                    <a:lnTo>
                      <a:pt x="328" y="2173"/>
                    </a:lnTo>
                    <a:lnTo>
                      <a:pt x="211" y="2085"/>
                    </a:lnTo>
                    <a:lnTo>
                      <a:pt x="211" y="2357"/>
                    </a:lnTo>
                    <a:lnTo>
                      <a:pt x="145" y="2300"/>
                    </a:lnTo>
                    <a:lnTo>
                      <a:pt x="145" y="2030"/>
                    </a:lnTo>
                    <a:lnTo>
                      <a:pt x="52" y="1951"/>
                    </a:lnTo>
                    <a:lnTo>
                      <a:pt x="52" y="2224"/>
                    </a:lnTo>
                    <a:lnTo>
                      <a:pt x="0" y="21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5509800" y="3295800"/>
                <a:ext cx="1205640" cy="1428120"/>
                <a:chOff x="5509800" y="3295800"/>
                <a:chExt cx="1205640" cy="14281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6185880" y="3425040"/>
                  <a:ext cx="529560" cy="1298880"/>
                </a:xfrm>
                <a:custGeom>
                  <a:avLst/>
                  <a:gdLst/>
                  <a:ahLst/>
                  <a:rect l="l" t="t" r="r" b="b"/>
                  <a:pathLst>
                    <a:path w="314" h="2626">
                      <a:moveTo>
                        <a:pt x="0" y="222"/>
                      </a:moveTo>
                      <a:lnTo>
                        <a:pt x="310" y="0"/>
                      </a:lnTo>
                      <a:lnTo>
                        <a:pt x="314" y="2030"/>
                      </a:lnTo>
                      <a:lnTo>
                        <a:pt x="0" y="2626"/>
                      </a:lnTo>
                      <a:lnTo>
                        <a:pt x="0" y="222"/>
                      </a:lnTo>
                      <a:close/>
                    </a:path>
                  </a:pathLst>
                </a:custGeom>
                <a:solidFill>
                  <a:srgbClr val="d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" name=""/>
                <p:cNvGrpSpPr/>
                <p:nvPr/>
              </p:nvGrpSpPr>
              <p:grpSpPr>
                <a:xfrm>
                  <a:off x="5842080" y="4497840"/>
                  <a:ext cx="203400" cy="138240"/>
                  <a:chOff x="5842080" y="4497840"/>
                  <a:chExt cx="203400" cy="13824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5954760" y="4524480"/>
                    <a:ext cx="907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7">
                        <a:moveTo>
                          <a:pt x="0" y="0"/>
                        </a:moveTo>
                        <a:lnTo>
                          <a:pt x="0" y="150"/>
                        </a:lnTo>
                        <a:lnTo>
                          <a:pt x="54" y="197"/>
                        </a:lnTo>
                        <a:lnTo>
                          <a:pt x="54" y="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5842080" y="4497840"/>
                    <a:ext cx="11772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81">
                        <a:moveTo>
                          <a:pt x="0" y="0"/>
                        </a:moveTo>
                        <a:lnTo>
                          <a:pt x="0" y="281"/>
                        </a:lnTo>
                        <a:lnTo>
                          <a:pt x="70" y="199"/>
                        </a:lnTo>
                        <a:lnTo>
                          <a:pt x="70" y="5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5572080" y="4431600"/>
                  <a:ext cx="206640" cy="140400"/>
                  <a:chOff x="5572080" y="4431600"/>
                  <a:chExt cx="206640" cy="14040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688000" y="4457160"/>
                    <a:ext cx="9072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8">
                        <a:moveTo>
                          <a:pt x="0" y="0"/>
                        </a:moveTo>
                        <a:lnTo>
                          <a:pt x="0" y="152"/>
                        </a:lnTo>
                        <a:lnTo>
                          <a:pt x="54" y="198"/>
                        </a:lnTo>
                        <a:lnTo>
                          <a:pt x="54" y="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572080" y="4431600"/>
                    <a:ext cx="11772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85">
                        <a:moveTo>
                          <a:pt x="0" y="0"/>
                        </a:moveTo>
                        <a:lnTo>
                          <a:pt x="0" y="285"/>
                        </a:lnTo>
                        <a:lnTo>
                          <a:pt x="70" y="205"/>
                        </a:lnTo>
                        <a:lnTo>
                          <a:pt x="70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5509800" y="3499200"/>
                  <a:ext cx="629640" cy="990360"/>
                  <a:chOff x="5509800" y="3499200"/>
                  <a:chExt cx="629640" cy="99036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5535000" y="3502080"/>
                    <a:ext cx="571320" cy="9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1996">
                        <a:moveTo>
                          <a:pt x="0" y="0"/>
                        </a:moveTo>
                        <a:lnTo>
                          <a:pt x="339" y="106"/>
                        </a:lnTo>
                        <a:lnTo>
                          <a:pt x="339" y="1996"/>
                        </a:lnTo>
                        <a:lnTo>
                          <a:pt x="2" y="172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509800" y="3499200"/>
                    <a:ext cx="629640" cy="969840"/>
                    <a:chOff x="5509800" y="3499200"/>
                    <a:chExt cx="629640" cy="96984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5514480" y="4242240"/>
                      <a:ext cx="624960" cy="11664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509800" y="4117680"/>
                      <a:ext cx="624960" cy="10080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5523120" y="3989880"/>
                      <a:ext cx="611640" cy="9000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518080" y="3856320"/>
                      <a:ext cx="611640" cy="8208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5529960" y="3728520"/>
                      <a:ext cx="599760" cy="6804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5509800" y="3610800"/>
                      <a:ext cx="613080" cy="5832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656320" y="3499200"/>
                      <a:ext cx="1440" cy="90324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797800" y="3515760"/>
                      <a:ext cx="1440" cy="92412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5949360" y="3528720"/>
                      <a:ext cx="1440" cy="94032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5747400" y="3295800"/>
                  <a:ext cx="732600" cy="200160"/>
                  <a:chOff x="5747400" y="3295800"/>
                  <a:chExt cx="732600" cy="200160"/>
                </a:xfrm>
              </p:grpSpPr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5747400" y="3295800"/>
                    <a:ext cx="732600" cy="200160"/>
                    <a:chOff x="5747400" y="3295800"/>
                    <a:chExt cx="732600" cy="200160"/>
                  </a:xfrm>
                </p:grpSpPr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5747400" y="3295800"/>
                      <a:ext cx="732600" cy="7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5" h="162">
                          <a:moveTo>
                            <a:pt x="0" y="105"/>
                          </a:moveTo>
                          <a:lnTo>
                            <a:pt x="253" y="162"/>
                          </a:lnTo>
                          <a:lnTo>
                            <a:pt x="435" y="53"/>
                          </a:lnTo>
                          <a:lnTo>
                            <a:pt x="189" y="0"/>
                          </a:lnTo>
                          <a:lnTo>
                            <a:pt x="0" y="105"/>
                          </a:lnTo>
                          <a:close/>
                        </a:path>
                      </a:pathLst>
                    </a:custGeom>
                    <a:solidFill>
                      <a:srgbClr val="df3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6171840" y="3321000"/>
                      <a:ext cx="303120" cy="17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353">
                          <a:moveTo>
                            <a:pt x="0" y="109"/>
                          </a:moveTo>
                          <a:lnTo>
                            <a:pt x="180" y="0"/>
                          </a:lnTo>
                          <a:lnTo>
                            <a:pt x="180" y="224"/>
                          </a:lnTo>
                          <a:lnTo>
                            <a:pt x="0" y="353"/>
                          </a:lnTo>
                          <a:lnTo>
                            <a:pt x="0" y="109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5747400" y="3346920"/>
                      <a:ext cx="424440" cy="14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" h="301">
                          <a:moveTo>
                            <a:pt x="252" y="57"/>
                          </a:moveTo>
                          <a:lnTo>
                            <a:pt x="252" y="301"/>
                          </a:lnTo>
                          <a:lnTo>
                            <a:pt x="0" y="233"/>
                          </a:lnTo>
                          <a:lnTo>
                            <a:pt x="0" y="0"/>
                          </a:lnTo>
                          <a:lnTo>
                            <a:pt x="252" y="57"/>
                          </a:lnTo>
                          <a:close/>
                        </a:path>
                      </a:pathLst>
                    </a:custGeom>
                    <a:solidFill>
                      <a:srgbClr val="f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1" name=""/>
                  <p:cNvSpPr/>
                  <p:nvPr/>
                </p:nvSpPr>
                <p:spPr>
                  <a:xfrm>
                    <a:off x="5802480" y="3371760"/>
                    <a:ext cx="2444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72">
                        <a:moveTo>
                          <a:pt x="1" y="0"/>
                        </a:moveTo>
                        <a:lnTo>
                          <a:pt x="145" y="28"/>
                        </a:lnTo>
                        <a:lnTo>
                          <a:pt x="145" y="72"/>
                        </a:lnTo>
                        <a:lnTo>
                          <a:pt x="0" y="4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52" name=""/>
            <p:cNvGrpSpPr/>
            <p:nvPr/>
          </p:nvGrpSpPr>
          <p:grpSpPr>
            <a:xfrm>
              <a:off x="7328880" y="2663640"/>
              <a:ext cx="348120" cy="408960"/>
              <a:chOff x="7328880" y="2663640"/>
              <a:chExt cx="348120" cy="40896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603200" y="2819160"/>
                <a:ext cx="73800" cy="253440"/>
                <a:chOff x="7603200" y="2819160"/>
                <a:chExt cx="73800" cy="253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7603200" y="2905560"/>
                  <a:ext cx="73440" cy="167040"/>
                  <a:chOff x="7603200" y="2905560"/>
                  <a:chExt cx="73440" cy="167040"/>
                </a:xfrm>
              </p:grpSpPr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7628760" y="2910600"/>
                    <a:ext cx="47880" cy="160920"/>
                    <a:chOff x="7628760" y="2910600"/>
                    <a:chExt cx="47880" cy="16092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 flipH="1">
                      <a:off x="7640280" y="2910600"/>
                      <a:ext cx="16920" cy="360"/>
                    </a:xfrm>
                    <a:prstGeom prst="line">
                      <a:avLst/>
                    </a:prstGeom>
                    <a:ln w="468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 flipH="1" flipV="1">
                      <a:off x="7641000" y="2911680"/>
                      <a:ext cx="21960" cy="33480"/>
                    </a:xfrm>
                    <a:prstGeom prst="line">
                      <a:avLst/>
                    </a:prstGeom>
                    <a:ln w="468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 flipH="1">
                      <a:off x="7634520" y="2945880"/>
                      <a:ext cx="29160" cy="71280"/>
                    </a:xfrm>
                    <a:prstGeom prst="line">
                      <a:avLst/>
                    </a:prstGeom>
                    <a:ln w="468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flipV="1">
                      <a:off x="7634160" y="3015720"/>
                      <a:ext cx="42480" cy="54000"/>
                    </a:xfrm>
                    <a:prstGeom prst="line">
                      <a:avLst/>
                    </a:prstGeom>
                    <a:ln w="468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 flipH="1">
                      <a:off x="7628760" y="3016800"/>
                      <a:ext cx="41760" cy="54720"/>
                    </a:xfrm>
                    <a:prstGeom prst="line">
                      <a:avLst/>
                    </a:prstGeom>
                    <a:ln w="468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 flipH="1" flipV="1">
                      <a:off x="7638480" y="2945880"/>
                      <a:ext cx="33120" cy="70560"/>
                    </a:xfrm>
                    <a:prstGeom prst="line">
                      <a:avLst/>
                    </a:prstGeom>
                    <a:ln w="468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>
                      <a:off x="7637400" y="2910600"/>
                      <a:ext cx="19800" cy="37440"/>
                    </a:xfrm>
                    <a:prstGeom prst="line">
                      <a:avLst/>
                    </a:prstGeom>
                    <a:ln w="468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3" name=""/>
                  <p:cNvSpPr/>
                  <p:nvPr/>
                </p:nvSpPr>
                <p:spPr>
                  <a:xfrm flipH="1" flipV="1">
                    <a:off x="7612920" y="3006360"/>
                    <a:ext cx="17280" cy="66240"/>
                  </a:xfrm>
                  <a:prstGeom prst="line">
                    <a:avLst/>
                  </a:prstGeom>
                  <a:ln w="46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>
                    <a:off x="7611840" y="2947680"/>
                    <a:ext cx="24840" cy="59040"/>
                  </a:xfrm>
                  <a:prstGeom prst="line">
                    <a:avLst/>
                  </a:prstGeom>
                  <a:ln w="46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H="1" flipV="1">
                    <a:off x="7631280" y="2906280"/>
                    <a:ext cx="5400" cy="41040"/>
                  </a:xfrm>
                  <a:prstGeom prst="line">
                    <a:avLst/>
                  </a:prstGeom>
                  <a:ln w="46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H="1" flipV="1">
                    <a:off x="7629840" y="2905560"/>
                    <a:ext cx="9720" cy="5400"/>
                  </a:xfrm>
                  <a:prstGeom prst="line">
                    <a:avLst/>
                  </a:prstGeom>
                  <a:ln w="46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>
                    <a:off x="7624800" y="2911320"/>
                    <a:ext cx="14760" cy="29160"/>
                  </a:xfrm>
                  <a:prstGeom prst="line">
                    <a:avLst/>
                  </a:prstGeom>
                  <a:ln w="46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flipH="1" flipV="1">
                    <a:off x="7626240" y="2940840"/>
                    <a:ext cx="6840" cy="76320"/>
                  </a:xfrm>
                  <a:prstGeom prst="line">
                    <a:avLst/>
                  </a:prstGeom>
                  <a:ln w="46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7603200" y="3017160"/>
                    <a:ext cx="29160" cy="35280"/>
                  </a:xfrm>
                  <a:prstGeom prst="line">
                    <a:avLst/>
                  </a:prstGeom>
                  <a:ln w="46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7603920" y="2827440"/>
                  <a:ext cx="73080" cy="243360"/>
                  <a:chOff x="7603920" y="2827440"/>
                  <a:chExt cx="73080" cy="24336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7648920" y="2827440"/>
                    <a:ext cx="28080" cy="241200"/>
                  </a:xfrm>
                  <a:prstGeom prst="line">
                    <a:avLst/>
                  </a:prstGeom>
                  <a:ln w="1584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>
                    <a:off x="7629840" y="2833560"/>
                    <a:ext cx="18000" cy="237240"/>
                  </a:xfrm>
                  <a:prstGeom prst="line">
                    <a:avLst/>
                  </a:prstGeom>
                  <a:ln w="1584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flipV="1">
                    <a:off x="7603920" y="3049920"/>
                    <a:ext cx="25560" cy="19800"/>
                  </a:xfrm>
                  <a:prstGeom prst="line">
                    <a:avLst/>
                  </a:prstGeom>
                  <a:ln w="1584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7605360" y="2832120"/>
                    <a:ext cx="39240" cy="219240"/>
                  </a:xfrm>
                  <a:prstGeom prst="line">
                    <a:avLst/>
                  </a:prstGeom>
                  <a:ln w="1584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>
                    <a:off x="7628400" y="3067920"/>
                    <a:ext cx="48600" cy="720"/>
                  </a:xfrm>
                  <a:prstGeom prst="line">
                    <a:avLst/>
                  </a:prstGeom>
                  <a:ln w="1584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 flipH="1">
                  <a:off x="7634880" y="2819160"/>
                  <a:ext cx="20520" cy="29160"/>
                </a:xfrm>
                <a:prstGeom prst="ellipse">
                  <a:avLst/>
                </a:prstGeom>
                <a:solidFill>
                  <a:srgbClr val="0000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7328880" y="2663640"/>
                <a:ext cx="331920" cy="370800"/>
                <a:chOff x="7328880" y="2663640"/>
                <a:chExt cx="331920" cy="37080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7328880" y="2663640"/>
                  <a:ext cx="217080" cy="370800"/>
                  <a:chOff x="7328880" y="2663640"/>
                  <a:chExt cx="217080" cy="37080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>
                    <a:off x="7328520" y="2663640"/>
                    <a:ext cx="178200" cy="37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0" y="208"/>
                        </a:moveTo>
                        <a:arcTo wR="10800" hR="10800" stAng="-4724158" swAng="919947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0" y="208"/>
                        </a:moveTo>
                        <a:arcTo wR="10800" hR="10800" stAng="-4724158" swAng="9199470"/>
                      </a:path>
                    </a:pathLst>
                  </a:custGeom>
                  <a:solidFill>
                    <a:srgbClr val="000022"/>
                  </a:solidFill>
                  <a:ln w="4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>
                    <a:off x="7365960" y="2685960"/>
                    <a:ext cx="154440" cy="318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96" y="205"/>
                        </a:moveTo>
                        <a:arcTo wR="10800" hR="10800" stAng="-4728463" swAng="920324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96" y="205"/>
                        </a:moveTo>
                        <a:arcTo wR="10800" hR="10800" stAng="-4728463" swAng="9203249"/>
                      </a:path>
                    </a:pathLst>
                  </a:custGeom>
                  <a:solidFill>
                    <a:srgbClr val="000022"/>
                  </a:solidFill>
                  <a:ln w="4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>
                    <a:off x="7401960" y="2713680"/>
                    <a:ext cx="14364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1" y="198"/>
                        </a:moveTo>
                        <a:arcTo wR="10800" hR="10800" stAng="-4739968" swAng="92352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1" y="198"/>
                        </a:moveTo>
                        <a:arcTo wR="10800" hR="10800" stAng="-4739968" swAng="9235244"/>
                      </a:path>
                    </a:pathLst>
                  </a:custGeom>
                  <a:solidFill>
                    <a:srgbClr val="000022"/>
                  </a:solidFill>
                  <a:ln w="4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7434360" y="2733120"/>
                  <a:ext cx="183240" cy="244800"/>
                  <a:chOff x="7434360" y="2733120"/>
                  <a:chExt cx="183240" cy="24480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 flipH="1">
                    <a:off x="7434000" y="2733120"/>
                    <a:ext cx="15084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42" y="195"/>
                        </a:moveTo>
                        <a:arcTo wR="10800" hR="10800" stAng="-4746079" swAng="92531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42" y="195"/>
                        </a:moveTo>
                        <a:arcTo wR="10800" hR="10800" stAng="-4746079" swAng="9253188"/>
                      </a:path>
                    </a:pathLst>
                  </a:custGeom>
                  <a:solidFill>
                    <a:srgbClr val="000022"/>
                  </a:solidFill>
                  <a:ln w="4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>
                    <a:off x="7465680" y="2747160"/>
                    <a:ext cx="130320" cy="212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757" y="179"/>
                        </a:moveTo>
                        <a:arcTo wR="10800" hR="10800" stAng="-4773481" swAng="93072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757" y="179"/>
                        </a:moveTo>
                        <a:arcTo wR="10800" hR="10800" stAng="-4773481" swAng="9307267"/>
                      </a:path>
                    </a:pathLst>
                  </a:custGeom>
                  <a:solidFill>
                    <a:srgbClr val="000022"/>
                  </a:solidFill>
                  <a:ln w="4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>
                    <a:off x="7496640" y="2766240"/>
                    <a:ext cx="12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00" y="206"/>
                        </a:moveTo>
                        <a:arcTo wR="10800" hR="10800" stAng="-4727205" swAng="922923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00" y="206"/>
                        </a:moveTo>
                        <a:arcTo wR="10800" hR="10800" stAng="-4727205" swAng="9229232"/>
                      </a:path>
                    </a:pathLst>
                  </a:custGeom>
                  <a:solidFill>
                    <a:srgbClr val="000022"/>
                  </a:solidFill>
                  <a:ln w="4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 flipH="1">
                  <a:off x="7523640" y="2782440"/>
                  <a:ext cx="109080" cy="154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69" y="200"/>
                      </a:moveTo>
                      <a:arcTo wR="10800" hR="10800" stAng="-4737334" swAng="926349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69" y="200"/>
                      </a:moveTo>
                      <a:arcTo wR="10800" hR="10800" stAng="-4737334" swAng="9263494"/>
                    </a:path>
                  </a:pathLst>
                </a:custGeom>
                <a:solidFill>
                  <a:srgbClr val="000022"/>
                </a:solidFill>
                <a:ln w="4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>
                  <a:off x="7553880" y="2791800"/>
                  <a:ext cx="94680" cy="13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2" y="207"/>
                      </a:moveTo>
                      <a:arcTo wR="10800" hR="10800" stAng="-4726597" swAng="92187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2" y="207"/>
                      </a:moveTo>
                      <a:arcTo wR="10800" hR="10800" stAng="-4726597" swAng="9218781"/>
                    </a:path>
                  </a:pathLst>
                </a:custGeom>
                <a:solidFill>
                  <a:srgbClr val="000022"/>
                </a:solidFill>
                <a:ln w="4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>
                  <a:off x="7578720" y="2809440"/>
                  <a:ext cx="81720" cy="102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772" y="182"/>
                      </a:moveTo>
                      <a:arcTo wR="10800" hR="10800" stAng="-4768632" swAng="92721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772" y="182"/>
                      </a:moveTo>
                      <a:arcTo wR="10800" hR="10800" stAng="-4768632" swAng="9272149"/>
                    </a:path>
                  </a:pathLst>
                </a:custGeom>
                <a:solidFill>
                  <a:srgbClr val="000022"/>
                </a:solidFill>
                <a:ln w="4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7603560" y="2824920"/>
                  <a:ext cx="47880" cy="78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2" y="216"/>
                      </a:moveTo>
                      <a:arcTo wR="10800" hR="10800" stAng="-4710514" swAng="922469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2" y="216"/>
                      </a:moveTo>
                      <a:arcTo wR="10800" hR="10800" stAng="-4710514" swAng="9224695"/>
                    </a:path>
                  </a:pathLst>
                </a:custGeom>
                <a:solidFill>
                  <a:srgbClr val="000022"/>
                </a:solidFill>
                <a:ln w="4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0" name=""/>
            <p:cNvGrpSpPr/>
            <p:nvPr/>
          </p:nvGrpSpPr>
          <p:grpSpPr>
            <a:xfrm>
              <a:off x="5747040" y="2930400"/>
              <a:ext cx="347400" cy="414360"/>
              <a:chOff x="5747040" y="2930400"/>
              <a:chExt cx="347400" cy="4143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5747040" y="3091680"/>
                <a:ext cx="73440" cy="253080"/>
                <a:chOff x="5747040" y="3091680"/>
                <a:chExt cx="73440" cy="253080"/>
              </a:xfrm>
            </p:grpSpPr>
            <p:grpSp>
              <p:nvGrpSpPr>
                <p:cNvPr id="292" name=""/>
                <p:cNvGrpSpPr/>
                <p:nvPr/>
              </p:nvGrpSpPr>
              <p:grpSpPr>
                <a:xfrm>
                  <a:off x="5747400" y="3177720"/>
                  <a:ext cx="73080" cy="167040"/>
                  <a:chOff x="5747400" y="3177720"/>
                  <a:chExt cx="73080" cy="167040"/>
                </a:xfrm>
              </p:grpSpPr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5747400" y="3183480"/>
                    <a:ext cx="47880" cy="160200"/>
                    <a:chOff x="5747400" y="3183480"/>
                    <a:chExt cx="47880" cy="16020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5763960" y="3183480"/>
                      <a:ext cx="16920" cy="0"/>
                    </a:xfrm>
                    <a:prstGeom prst="line">
                      <a:avLst/>
                    </a:prstGeom>
                    <a:ln w="468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 flipV="1">
                      <a:off x="5758920" y="3184200"/>
                      <a:ext cx="21240" cy="33840"/>
                    </a:xfrm>
                    <a:prstGeom prst="line">
                      <a:avLst/>
                    </a:prstGeom>
                    <a:ln w="468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5758200" y="3218760"/>
                      <a:ext cx="30240" cy="70560"/>
                    </a:xfrm>
                    <a:prstGeom prst="line">
                      <a:avLst/>
                    </a:prstGeom>
                    <a:ln w="468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V="1">
                      <a:off x="5747400" y="3287880"/>
                      <a:ext cx="41400" cy="54720"/>
                    </a:xfrm>
                    <a:prstGeom prst="line">
                      <a:avLst/>
                    </a:prstGeom>
                    <a:ln w="468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5752440" y="3289680"/>
                      <a:ext cx="42840" cy="54000"/>
                    </a:xfrm>
                    <a:prstGeom prst="line">
                      <a:avLst/>
                    </a:prstGeom>
                    <a:ln w="468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 flipV="1">
                      <a:off x="5751360" y="3218400"/>
                      <a:ext cx="32040" cy="70920"/>
                    </a:xfrm>
                    <a:prstGeom prst="line">
                      <a:avLst/>
                    </a:prstGeom>
                    <a:ln w="468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5763960" y="3183480"/>
                      <a:ext cx="20520" cy="37080"/>
                    </a:xfrm>
                    <a:prstGeom prst="line">
                      <a:avLst/>
                    </a:prstGeom>
                    <a:ln w="468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1" name=""/>
                  <p:cNvSpPr/>
                  <p:nvPr/>
                </p:nvSpPr>
                <p:spPr>
                  <a:xfrm flipV="1">
                    <a:off x="5793840" y="3278160"/>
                    <a:ext cx="16200" cy="66600"/>
                  </a:xfrm>
                  <a:prstGeom prst="line">
                    <a:avLst/>
                  </a:prstGeom>
                  <a:ln w="46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5785200" y="3220200"/>
                    <a:ext cx="25920" cy="58320"/>
                  </a:xfrm>
                  <a:prstGeom prst="line">
                    <a:avLst/>
                  </a:prstGeom>
                  <a:ln w="46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V="1">
                    <a:off x="5785200" y="3178440"/>
                    <a:ext cx="4680" cy="41400"/>
                  </a:xfrm>
                  <a:prstGeom prst="line">
                    <a:avLst/>
                  </a:prstGeom>
                  <a:ln w="46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V="1">
                    <a:off x="5781600" y="3177720"/>
                    <a:ext cx="9720" cy="5760"/>
                  </a:xfrm>
                  <a:prstGeom prst="line">
                    <a:avLst/>
                  </a:prstGeom>
                  <a:ln w="46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5781600" y="3183840"/>
                    <a:ext cx="15480" cy="28800"/>
                  </a:xfrm>
                  <a:prstGeom prst="line">
                    <a:avLst/>
                  </a:prstGeom>
                  <a:ln w="46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V="1">
                    <a:off x="5789880" y="3213000"/>
                    <a:ext cx="5760" cy="76320"/>
                  </a:xfrm>
                  <a:prstGeom prst="line">
                    <a:avLst/>
                  </a:prstGeom>
                  <a:ln w="46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5790600" y="3289320"/>
                    <a:ext cx="29880" cy="34920"/>
                  </a:xfrm>
                  <a:prstGeom prst="line">
                    <a:avLst/>
                  </a:prstGeom>
                  <a:ln w="46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5747040" y="3099960"/>
                  <a:ext cx="72720" cy="243000"/>
                  <a:chOff x="5747040" y="3099960"/>
                  <a:chExt cx="72720" cy="243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flipV="1">
                    <a:off x="5747040" y="3099960"/>
                    <a:ext cx="23760" cy="241560"/>
                  </a:xfrm>
                  <a:prstGeom prst="line">
                    <a:avLst/>
                  </a:prstGeom>
                  <a:ln w="1584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5771880" y="3106080"/>
                    <a:ext cx="22320" cy="236880"/>
                  </a:xfrm>
                  <a:prstGeom prst="line">
                    <a:avLst/>
                  </a:prstGeom>
                  <a:ln w="1584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V="1">
                    <a:off x="5794560" y="3321720"/>
                    <a:ext cx="25200" cy="20160"/>
                  </a:xfrm>
                  <a:prstGeom prst="line">
                    <a:avLst/>
                  </a:prstGeom>
                  <a:ln w="1584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5775120" y="3104640"/>
                    <a:ext cx="43200" cy="218520"/>
                  </a:xfrm>
                  <a:prstGeom prst="line">
                    <a:avLst/>
                  </a:prstGeom>
                  <a:ln w="1584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47040" y="3340800"/>
                    <a:ext cx="48600" cy="0"/>
                  </a:xfrm>
                  <a:prstGeom prst="line">
                    <a:avLst/>
                  </a:prstGeom>
                  <a:ln w="1584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4" name=""/>
                <p:cNvSpPr/>
                <p:nvPr/>
              </p:nvSpPr>
              <p:spPr>
                <a:xfrm rot="21539400">
                  <a:off x="5763960" y="3091680"/>
                  <a:ext cx="20520" cy="29160"/>
                </a:xfrm>
                <a:prstGeom prst="ellipse">
                  <a:avLst/>
                </a:prstGeom>
                <a:solidFill>
                  <a:srgbClr val="0000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758560" y="2930400"/>
                <a:ext cx="335880" cy="374040"/>
                <a:chOff x="5758560" y="2930400"/>
                <a:chExt cx="335880" cy="37404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5871600" y="2930400"/>
                  <a:ext cx="222840" cy="374040"/>
                  <a:chOff x="5871600" y="2930400"/>
                  <a:chExt cx="222840" cy="37404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rot="21539400">
                    <a:off x="5913000" y="2931840"/>
                    <a:ext cx="178200" cy="37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0" y="208"/>
                        </a:moveTo>
                        <a:arcTo wR="10800" hR="10800" stAng="-4724158" swAng="919947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0" y="208"/>
                        </a:moveTo>
                        <a:arcTo wR="10800" hR="10800" stAng="-4724158" swAng="9199470"/>
                      </a:path>
                    </a:pathLst>
                  </a:custGeom>
                  <a:solidFill>
                    <a:srgbClr val="000022"/>
                  </a:solidFill>
                  <a:ln w="4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rot="21539400">
                    <a:off x="5898960" y="2954880"/>
                    <a:ext cx="154440" cy="318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96" y="205"/>
                        </a:moveTo>
                        <a:arcTo wR="10800" hR="10800" stAng="-4728463" swAng="920324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96" y="205"/>
                        </a:moveTo>
                        <a:arcTo wR="10800" hR="10800" stAng="-4728463" swAng="9203249"/>
                      </a:path>
                    </a:pathLst>
                  </a:custGeom>
                  <a:solidFill>
                    <a:srgbClr val="000022"/>
                  </a:solidFill>
                  <a:ln w="4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rot="21539400">
                    <a:off x="5873760" y="2982960"/>
                    <a:ext cx="14364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1" y="198"/>
                        </a:moveTo>
                        <a:arcTo wR="10800" hR="10800" stAng="-4739968" swAng="92352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1" y="198"/>
                        </a:moveTo>
                        <a:arcTo wR="10800" hR="10800" stAng="-4739968" swAng="9235244"/>
                      </a:path>
                    </a:pathLst>
                  </a:custGeom>
                  <a:solidFill>
                    <a:srgbClr val="000022"/>
                  </a:solidFill>
                  <a:ln w="4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5801040" y="3002040"/>
                  <a:ext cx="186840" cy="247320"/>
                  <a:chOff x="5801040" y="3002040"/>
                  <a:chExt cx="186840" cy="24732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rot="21539400">
                    <a:off x="5834520" y="3003120"/>
                    <a:ext cx="15084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42" y="195"/>
                        </a:moveTo>
                        <a:arcTo wR="10800" hR="10800" stAng="-4746079" swAng="92531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42" y="195"/>
                        </a:moveTo>
                        <a:arcTo wR="10800" hR="10800" stAng="-4746079" swAng="9253188"/>
                      </a:path>
                    </a:pathLst>
                  </a:custGeom>
                  <a:solidFill>
                    <a:srgbClr val="000022"/>
                  </a:solidFill>
                  <a:ln w="4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rot="21539400">
                    <a:off x="5824080" y="3017520"/>
                    <a:ext cx="130320" cy="212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757" y="179"/>
                        </a:moveTo>
                        <a:arcTo wR="10800" hR="10800" stAng="-4773481" swAng="93072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757" y="179"/>
                        </a:moveTo>
                        <a:arcTo wR="10800" hR="10800" stAng="-4773481" swAng="9307267"/>
                      </a:path>
                    </a:pathLst>
                  </a:custGeom>
                  <a:solidFill>
                    <a:srgbClr val="000022"/>
                  </a:solidFill>
                  <a:ln w="4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21539400">
                    <a:off x="5802480" y="3037320"/>
                    <a:ext cx="12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00" y="206"/>
                        </a:moveTo>
                        <a:arcTo wR="10800" hR="10800" stAng="-4727205" swAng="922923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00" y="206"/>
                        </a:moveTo>
                        <a:arcTo wR="10800" hR="10800" stAng="-4727205" swAng="9229232"/>
                      </a:path>
                    </a:pathLst>
                  </a:custGeom>
                  <a:solidFill>
                    <a:srgbClr val="000022"/>
                  </a:solidFill>
                  <a:ln w="4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4" name=""/>
                <p:cNvSpPr/>
                <p:nvPr/>
              </p:nvSpPr>
              <p:spPr>
                <a:xfrm rot="21539400">
                  <a:off x="5787000" y="3053520"/>
                  <a:ext cx="109080" cy="154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69" y="200"/>
                      </a:moveTo>
                      <a:arcTo wR="10800" hR="10800" stAng="-4737334" swAng="926349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69" y="200"/>
                      </a:moveTo>
                      <a:arcTo wR="10800" hR="10800" stAng="-4737334" swAng="9263494"/>
                    </a:path>
                  </a:pathLst>
                </a:custGeom>
                <a:solidFill>
                  <a:srgbClr val="000022"/>
                </a:solidFill>
                <a:ln w="4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rot="21539400">
                  <a:off x="5771160" y="3063240"/>
                  <a:ext cx="94680" cy="13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2" y="207"/>
                      </a:moveTo>
                      <a:arcTo wR="10800" hR="10800" stAng="-4726597" swAng="92187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2" y="207"/>
                      </a:moveTo>
                      <a:arcTo wR="10800" hR="10800" stAng="-4726597" swAng="9218781"/>
                    </a:path>
                  </a:pathLst>
                </a:custGeom>
                <a:solidFill>
                  <a:srgbClr val="000022"/>
                </a:solidFill>
                <a:ln w="4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21539400">
                  <a:off x="5759280" y="3081240"/>
                  <a:ext cx="81720" cy="102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772" y="182"/>
                      </a:moveTo>
                      <a:arcTo wR="10800" hR="10800" stAng="-4768632" swAng="92721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772" y="182"/>
                      </a:moveTo>
                      <a:arcTo wR="10800" hR="10800" stAng="-4768632" swAng="9272149"/>
                    </a:path>
                  </a:pathLst>
                </a:custGeom>
                <a:solidFill>
                  <a:srgbClr val="000022"/>
                </a:solidFill>
                <a:ln w="4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rot="21539400">
                  <a:off x="5768280" y="3096720"/>
                  <a:ext cx="47880" cy="78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2" y="216"/>
                      </a:moveTo>
                      <a:arcTo wR="10800" hR="10800" stAng="-4710514" swAng="922469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2" y="216"/>
                      </a:moveTo>
                      <a:arcTo wR="10800" hR="10800" stAng="-4710514" swAng="9224695"/>
                    </a:path>
                  </a:pathLst>
                </a:custGeom>
                <a:solidFill>
                  <a:srgbClr val="000022"/>
                </a:solidFill>
                <a:ln w="4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3DC9-86E9-4546-A7A9-695C86FD14B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001D4-78D9-4307-9765-DCD4F2E4B7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Redes sem F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licações Interna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vê conectividade em locais onde é difícil ou impossível cab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rmite flexibilidade em mudanças de lay-out e ou movimentação constante do usu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rmite que dispositivos móveis possam estar conec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EC0F-523C-4B95-9832-2D54B61CB44A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289D7-5A90-40A0-8BAD-B39B79B164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Redes sem F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sempenho do Sistema -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446120" y="2205000"/>
          <a:ext cx="6561360" cy="396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2205000"/>
                    <a:ext cx="6561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7143-0411-43B4-867F-49A11AE5830B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ACE5E-BE88-45E2-899D-4D7E4A3513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Redes sem F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licações Inter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41120" indent="-54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leta de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41120" indent="-54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gilidade no atendimento de clientes inter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41120" indent="-54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lexibilidade total na mudança de lay-out e configurações temporá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41120" indent="-54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stalações temporárias (eventos) e em locais sem infra-estru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41120" indent="-54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plicações residenci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4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57B1-4704-4967-B241-FDD76DF10CAA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E103A-F075-4391-9C03-B702D6D4D7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57200" y="1587600"/>
            <a:ext cx="2133720" cy="18349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 flipV="1">
            <a:off x="6781680" y="2514600"/>
            <a:ext cx="838440" cy="838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733920"/>
            <a:ext cx="838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3962520"/>
            <a:ext cx="106668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1143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MPR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oposta de Proje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00800" y="1066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EG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86400" y="990720"/>
            <a:ext cx="3352680" cy="5486400"/>
          </a:xfrm>
          <a:prstGeom prst="rect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1447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ainFrame 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7543800" y="19051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7467480" y="464832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7391520" y="3276720"/>
            <a:ext cx="1218960" cy="990360"/>
          </a:xfrm>
          <a:prstGeom prst="rect">
            <a:avLst/>
          </a:prstGeom>
          <a:ln w="0">
            <a:noFill/>
          </a:ln>
        </p:spPr>
      </p:pic>
      <p:grpSp>
        <p:nvGrpSpPr>
          <p:cNvPr id="352" name=""/>
          <p:cNvGrpSpPr/>
          <p:nvPr/>
        </p:nvGrpSpPr>
        <p:grpSpPr>
          <a:xfrm>
            <a:off x="3124080" y="2819520"/>
            <a:ext cx="457200" cy="1218600"/>
            <a:chOff x="3124080" y="2819520"/>
            <a:chExt cx="457200" cy="1218600"/>
          </a:xfrm>
        </p:grpSpPr>
        <p:sp>
          <p:nvSpPr>
            <p:cNvPr id="353" name=""/>
            <p:cNvSpPr/>
            <p:nvPr/>
          </p:nvSpPr>
          <p:spPr>
            <a:xfrm>
              <a:off x="3124080" y="3200040"/>
              <a:ext cx="0" cy="838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4080" y="2819520"/>
              <a:ext cx="457200" cy="68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800600" y="2819520"/>
            <a:ext cx="457200" cy="1218600"/>
            <a:chOff x="4800600" y="2819520"/>
            <a:chExt cx="457200" cy="1218600"/>
          </a:xfrm>
        </p:grpSpPr>
        <p:sp>
          <p:nvSpPr>
            <p:cNvPr id="356" name=""/>
            <p:cNvSpPr/>
            <p:nvPr/>
          </p:nvSpPr>
          <p:spPr>
            <a:xfrm flipH="1">
              <a:off x="5256360" y="3200040"/>
              <a:ext cx="1440" cy="838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800600" y="2819520"/>
              <a:ext cx="457200" cy="68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5"/>
          <a:stretch/>
        </p:blipFill>
        <p:spPr>
          <a:xfrm>
            <a:off x="5943600" y="32767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6"/>
          <a:stretch/>
        </p:blipFill>
        <p:spPr>
          <a:xfrm>
            <a:off x="1523880" y="365760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905120" y="304812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62320" y="4038480"/>
            <a:ext cx="761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257800" y="403848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581280" y="3124080"/>
            <a:ext cx="1219320" cy="152640"/>
            <a:chOff x="3581280" y="3124080"/>
            <a:chExt cx="1219320" cy="152640"/>
          </a:xfrm>
        </p:grpSpPr>
        <p:sp>
          <p:nvSpPr>
            <p:cNvPr id="364" name=""/>
            <p:cNvSpPr/>
            <p:nvPr/>
          </p:nvSpPr>
          <p:spPr>
            <a:xfrm>
              <a:off x="3581280" y="3124080"/>
              <a:ext cx="6098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962160" y="3124080"/>
              <a:ext cx="228600" cy="15264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62520" y="3276720"/>
              <a:ext cx="83808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196-8485-45F4-B6AB-C7890C68208C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A5CAC-E0B9-4280-9027-C3138B054D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oposta do Projet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533520" y="1600200"/>
          <a:ext cx="8024760" cy="421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24760" cy="42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5C54-6CE8-4639-873B-97CB3A7FA714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55816-623D-4AF1-97A6-80070CD682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oposta do Proje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990720" y="159984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rquitetura de rede baseada em TCP/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icrocomputadores emulando termi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cesso à Internet / Intra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de Brow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istemas baseado em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eoprocess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7C8B-9EF4-453C-87E3-D8073CF23CF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C5BBA-D110-46D4-B05D-56158FE4E3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imulação usando 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delos de Referê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952560" y="2098800"/>
          <a:ext cx="7778520" cy="403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2098800"/>
                    <a:ext cx="7778520" cy="40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0FA6-5767-45AF-BD16-A0EDA334B63A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3C1E0-7587-4333-9A18-3F2B8CB193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imulação usando 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990720" y="1600200"/>
          <a:ext cx="7761240" cy="402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76124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8B6-386E-437C-B3B1-427C168EE2DB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786B4-4F25-44E5-A5DA-6C89B37D0D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imulação usando 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81080" y="1143000"/>
            <a:ext cx="5334120" cy="54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# Agente U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t ns [new simulator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t n0 [$ns nod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t n1 [$ns nod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$ns duplex-link $n0 $n1 5Mb 2ms DropTa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t udp0 [new Agent/UDP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$ns attach-agent $n0 $udp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t cbr0 [new Application/Traffic/CBR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$cbr0 attach-agent $udp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$udp0 set packetSize_ 5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t null0 [new Agent/Nul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$ns attach-agent $n1 $null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$ns connect $udp0 $null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$ns at 1.0 “$cbr0 sta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DAA-734C-4E14-AAEB-0729041689D1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56145-ECC6-4876-8BCB-E87C290440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Objetiv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udo de viabilidade técnica para implantação de uma rede sem fio, nos escritórios regionais da Prefeitura da Cidade do Rec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4A7-D19E-4106-8453-AA54077D3A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5B129-3B17-4B61-A1C6-9EA7DD3079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imulação usando 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1295280"/>
            <a:ext cx="8077320" cy="51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# Agente T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t ns [new simulator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t node1 [$ns node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t node2  [$ns node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t tcp1 [$ns create-connection TCP $node1 TCPsink $node2 4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$tcp set window_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t ftp1 [new Application/FTP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$ftp1 attach-agent $tcp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$ns at 0.0 “ftp star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6017-2483-4527-ACAC-5753065DD35D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774FC-F9F0-4B56-BF3F-4B2EFFBEF4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imulação usando 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447920"/>
            <a:ext cx="807732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# Mobile Network in 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$node set X_ &lt;x1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$node set Y_ &lt;y1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$node set Z_ &lt;z1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$ns at $time $node setdest &lt;x2&gt; &lt;y2&gt; &lt;spee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569-5F92-47C1-A6A1-E13673C7ABDF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EE78C-CF7C-4BF9-A8B1-FC68ABD40C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imulação usando 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066680" y="1371600"/>
            <a:ext cx="7239240" cy="3962520"/>
            <a:chOff x="1066680" y="1371600"/>
            <a:chExt cx="7239240" cy="3962520"/>
          </a:xfrm>
        </p:grpSpPr>
        <p:sp>
          <p:nvSpPr>
            <p:cNvPr id="394" name=""/>
            <p:cNvSpPr/>
            <p:nvPr/>
          </p:nvSpPr>
          <p:spPr>
            <a:xfrm>
              <a:off x="4343400" y="2971800"/>
              <a:ext cx="609480" cy="609480"/>
            </a:xfrm>
            <a:custGeom>
              <a:avLst/>
              <a:gdLst>
                <a:gd name="textAreaLeft" fmla="*/ 138960 w 609480"/>
                <a:gd name="textAreaRight" fmla="*/ 470520 w 60948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67280" y="4648320"/>
              <a:ext cx="609840" cy="609480"/>
            </a:xfrm>
            <a:custGeom>
              <a:avLst/>
              <a:gdLst>
                <a:gd name="textAreaLeft" fmla="*/ 138960 w 609840"/>
                <a:gd name="textAreaRight" fmla="*/ 470880 w 60984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43600" y="2971800"/>
              <a:ext cx="609480" cy="609480"/>
            </a:xfrm>
            <a:custGeom>
              <a:avLst/>
              <a:gdLst>
                <a:gd name="textAreaLeft" fmla="*/ 138960 w 609480"/>
                <a:gd name="textAreaRight" fmla="*/ 470520 w 60948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67280" y="1371600"/>
              <a:ext cx="609840" cy="609480"/>
            </a:xfrm>
            <a:custGeom>
              <a:avLst/>
              <a:gdLst>
                <a:gd name="textAreaLeft" fmla="*/ 138960 w 609840"/>
                <a:gd name="textAreaRight" fmla="*/ 470880 w 60984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19520" y="1447920"/>
              <a:ext cx="609480" cy="609480"/>
            </a:xfrm>
            <a:custGeom>
              <a:avLst/>
              <a:gdLst>
                <a:gd name="textAreaLeft" fmla="*/ 138960 w 609480"/>
                <a:gd name="textAreaRight" fmla="*/ 470520 w 60948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819520" y="2971800"/>
              <a:ext cx="609480" cy="609480"/>
            </a:xfrm>
            <a:custGeom>
              <a:avLst/>
              <a:gdLst>
                <a:gd name="textAreaLeft" fmla="*/ 138960 w 609480"/>
                <a:gd name="textAreaRight" fmla="*/ 470520 w 60948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43200" y="4724280"/>
              <a:ext cx="609480" cy="609840"/>
            </a:xfrm>
            <a:custGeom>
              <a:avLst/>
              <a:gdLst>
                <a:gd name="textAreaLeft" fmla="*/ 138960 w 609480"/>
                <a:gd name="textAreaRight" fmla="*/ 470520 w 609480"/>
                <a:gd name="textAreaTop" fmla="*/ 138960 h 609840"/>
                <a:gd name="textAreaBottom" fmla="*/ 4708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96080" y="1981080"/>
              <a:ext cx="609840" cy="609840"/>
            </a:xfrm>
            <a:custGeom>
              <a:avLst/>
              <a:gdLst>
                <a:gd name="textAreaLeft" fmla="*/ 138960 w 609840"/>
                <a:gd name="textAreaRight" fmla="*/ 470880 w 609840"/>
                <a:gd name="textAreaTop" fmla="*/ 138960 h 609840"/>
                <a:gd name="textAreaBottom" fmla="*/ 4708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2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96080" y="2666880"/>
              <a:ext cx="609840" cy="609840"/>
            </a:xfrm>
            <a:custGeom>
              <a:avLst/>
              <a:gdLst>
                <a:gd name="textAreaLeft" fmla="*/ 138960 w 609840"/>
                <a:gd name="textAreaRight" fmla="*/ 470880 w 609840"/>
                <a:gd name="textAreaTop" fmla="*/ 138960 h 609840"/>
                <a:gd name="textAreaBottom" fmla="*/ 4708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2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96080" y="3352680"/>
              <a:ext cx="609840" cy="609840"/>
            </a:xfrm>
            <a:custGeom>
              <a:avLst/>
              <a:gdLst>
                <a:gd name="textAreaLeft" fmla="*/ 138960 w 609840"/>
                <a:gd name="textAreaRight" fmla="*/ 470880 w 609840"/>
                <a:gd name="textAreaTop" fmla="*/ 138960 h 609840"/>
                <a:gd name="textAreaBottom" fmla="*/ 4708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20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52880" y="3276720"/>
              <a:ext cx="99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876920" y="1676520"/>
              <a:ext cx="99036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00600" y="3505320"/>
              <a:ext cx="1066680" cy="144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3352680" y="3276720"/>
              <a:ext cx="99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3429000" y="1752120"/>
              <a:ext cx="990720" cy="12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3352680" y="3505320"/>
              <a:ext cx="106704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553080" y="2971440"/>
              <a:ext cx="11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96080" y="4724280"/>
              <a:ext cx="609840" cy="609840"/>
            </a:xfrm>
            <a:custGeom>
              <a:avLst/>
              <a:gdLst>
                <a:gd name="textAreaLeft" fmla="*/ 138960 w 609840"/>
                <a:gd name="textAreaRight" fmla="*/ 470880 w 609840"/>
                <a:gd name="textAreaTop" fmla="*/ 138960 h 609840"/>
                <a:gd name="textAreaBottom" fmla="*/ 4708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22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553080" y="2286000"/>
              <a:ext cx="114300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553080" y="3276720"/>
              <a:ext cx="114300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53080" y="3276720"/>
              <a:ext cx="1143000" cy="175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696080" y="40384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19720" y="167652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5.5 Mb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57800" y="25146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5.5 Mb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114800" y="441972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11 Mb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43200" y="38098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11 Mb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19520" y="24382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11 Mb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34120" y="38862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11 Mb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66680" y="1905120"/>
              <a:ext cx="609840" cy="609480"/>
            </a:xfrm>
            <a:custGeom>
              <a:avLst/>
              <a:gdLst>
                <a:gd name="textAreaLeft" fmla="*/ 138960 w 609840"/>
                <a:gd name="textAreaRight" fmla="*/ 470880 w 60984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5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66680" y="2590920"/>
              <a:ext cx="609840" cy="609480"/>
            </a:xfrm>
            <a:custGeom>
              <a:avLst/>
              <a:gdLst>
                <a:gd name="textAreaLeft" fmla="*/ 138960 w 609840"/>
                <a:gd name="textAreaRight" fmla="*/ 470880 w 60984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5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66680" y="3276720"/>
              <a:ext cx="609840" cy="609480"/>
            </a:xfrm>
            <a:custGeom>
              <a:avLst/>
              <a:gdLst>
                <a:gd name="textAreaLeft" fmla="*/ 138960 w 609840"/>
                <a:gd name="textAreaRight" fmla="*/ 470880 w 60984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50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66680" y="4648320"/>
              <a:ext cx="609840" cy="609480"/>
            </a:xfrm>
            <a:custGeom>
              <a:avLst/>
              <a:gdLst>
                <a:gd name="textAreaLeft" fmla="*/ 138960 w 609840"/>
                <a:gd name="textAreaRight" fmla="*/ 470880 w 60984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50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66680" y="3962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76520" y="2209680"/>
              <a:ext cx="1143000" cy="1067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76520" y="2895480"/>
              <a:ext cx="114300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1676520" y="3276720"/>
              <a:ext cx="11430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676520" y="3276720"/>
              <a:ext cx="1143000" cy="167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2E3-F0CD-4DFA-9102-4BF04ACE4AB9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A8EA9-F8AA-4E54-8E4F-CF02125912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imulação usando 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38080" y="144792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###########################################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# Link Principal - EMPR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###########################################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$ns duplex-link $n0 $n1 5.5Mbps 10ms Drop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$ns duplex-link $n0 $n2 5.5Mbps 10ms Drop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$ns duplex-link $n0 $n3 11Mbps  10ms Drop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$ns duplex-link $n0 $n4 11Mbps  10ms Drop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$ns duplex-link $n0 $n5 11Mbps  10ms Drop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$ns duplex-link $n0 $n6 11Mbps  10ms Drop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3D30-F3E9-4657-BAA0-EBF0A1F21C16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B71D9-20B0-434A-B049-AE18D92D4C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imulação usando 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66680" y="923760"/>
            <a:ext cx="7467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########################################### Link Secundário - Regional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#########################################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$ns duplex-link $n1 $n101 10Mbps 10ms Drop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$ns duplex-link $n1 $n102 10Mbps 10ms Drop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$ns duplex-link $n1 $n103 10Mbps 10ms Drop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$ns duplex-link $n1 $n104 10Mbps 10ms Drop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$ns duplex-link $n1 $n105 10Mbps 10ms Drop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$ns duplex-link $n1 $n106 10Mbps 10ms Drop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$ns duplex-link $n1 $n107 10Mbps 10ms Drop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$ns duplex-link $n1 $n108 10Mbps 10ms Drop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$ns duplex-link $n1 $n109 10Mbps 10ms Drop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$ns duplex-link $n1 $n110 10Mbps 10ms Drop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$ns duplex-link $n1 $n111 10Mbps 10ms Drop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25F0-F056-4865-940D-EBB542F54EAC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2ACC0-FC53-410B-8A6D-2ED281E068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imulação usando 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mpo Médio em 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mprel - Regional 1 = 0.021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mprel - Regional 3 = 0.0207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207-6920-4A73-8136-081BB2975B34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5A6C3-09AA-45FA-9410-F7EC0E1663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onclusã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imulação utilizando aplica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HTTP, FTP, Telnet, Client /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studo mais detalhado dos parâmetros dos Fornecedores da solu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studo de Tráfe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ste em ca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F650-0A31-476D-ACEB-6D4DEBEAB5A7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354E8-2676-4DB3-9601-141586D723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Referências Bibliográfic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des de Computador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ndrew S. Tanenba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des de Computador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uiz Fernando Gomes So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nual do 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2A67-C91D-4A26-8FAE-25EC9063FCC1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38CEF-839E-45E8-91AA-422425D550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strutura Organizacional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2362320"/>
          <a:ext cx="8686800" cy="37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686800" cy="37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948C-500D-4CC5-8ADD-30609F9F141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8410F-5B33-41FE-A261-3B9DA987E7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andre" descr=""/>
          <p:cNvPicPr/>
          <p:nvPr/>
        </p:nvPicPr>
        <p:blipFill>
          <a:blip r:embed="rId1"/>
          <a:stretch/>
        </p:blipFill>
        <p:spPr>
          <a:xfrm>
            <a:off x="228600" y="195120"/>
            <a:ext cx="8686800" cy="666288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2057400" y="533160"/>
            <a:ext cx="4038480" cy="5943960"/>
            <a:chOff x="2057400" y="533160"/>
            <a:chExt cx="4038480" cy="5943960"/>
          </a:xfrm>
        </p:grpSpPr>
        <p:sp>
          <p:nvSpPr>
            <p:cNvPr id="110" name=""/>
            <p:cNvSpPr/>
            <p:nvPr/>
          </p:nvSpPr>
          <p:spPr>
            <a:xfrm>
              <a:off x="2057400" y="3429000"/>
              <a:ext cx="1371240" cy="3048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2057400" y="533160"/>
              <a:ext cx="1676160" cy="2819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2057400" y="2361960"/>
              <a:ext cx="198108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057400" y="837720"/>
              <a:ext cx="327636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57400" y="3352680"/>
              <a:ext cx="213336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057400" y="2514600"/>
              <a:ext cx="4038480" cy="83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33520" y="2895480"/>
            <a:ext cx="1143000" cy="631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EMPR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Torrõ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6324480"/>
            <a:ext cx="12193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6 Ipse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4343400"/>
            <a:ext cx="12193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5 Afogad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2133720"/>
            <a:ext cx="12193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1 St Ama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609480"/>
            <a:ext cx="12193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2 Arru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533520"/>
            <a:ext cx="137160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3 C.Amare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1828800"/>
            <a:ext cx="121896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4 Madale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175-8BD2-40D0-BBBD-C67C57092637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61AB7-9AB9-4E6F-B671-038BF5BB1B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Localização Geográfic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63640" y="1517760"/>
          <a:ext cx="7832520" cy="50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517760"/>
                    <a:ext cx="7832520" cy="50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828-7B72-4972-848C-B5BF1124096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3572C-692F-4FF0-ABFE-26FA1B0CE7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391520" y="4952880"/>
            <a:ext cx="1371600" cy="1176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0880" y="2568600"/>
            <a:ext cx="2895840" cy="2489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315200" y="3124080"/>
            <a:ext cx="1371600" cy="1176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7315200" y="1447920"/>
            <a:ext cx="1371600" cy="1176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5638680" y="1447920"/>
            <a:ext cx="1371600" cy="1176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5638680" y="5029200"/>
            <a:ext cx="1371600" cy="1176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3809880" y="32767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5943600" y="32767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76720" y="3733920"/>
            <a:ext cx="533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37339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24480" y="251424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781680" y="2514600"/>
            <a:ext cx="838440" cy="838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733920"/>
            <a:ext cx="838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411480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06668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1828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MPR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ituação Atu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1066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EG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990720"/>
            <a:ext cx="3352680" cy="5486400"/>
          </a:xfrm>
          <a:prstGeom prst="rect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4800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ainFrame 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ntrolad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7F6D-690C-4423-90D9-4E09A6787B18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D4DB6-98EB-474C-804A-8F73B86DF6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ituação Atu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plica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istemas baseados em plataforma Cobol / CICS / VS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ei do Uso do So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companhamento de Proces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Geoprocessa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5C9-674A-4C90-8546-1979FBB3758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B4CD1-D7E3-48F1-881A-691687CE00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955960" y="6107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ituação Atu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antag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aixo índice de manutenção de hard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istemas estabiliz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ACB0-B4C1-4065-A954-75D2AF6B0AD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28CD3-2A71-4770-A71A-D50E187C29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3:53:14Z</dcterms:created>
  <dc:creator>Antonio Mariano</dc:creator>
  <dc:description/>
  <dc:language>en-US</dc:language>
  <cp:lastModifiedBy>Andre Felipe Freire de Lucena</cp:lastModifiedBy>
  <dcterms:modified xsi:type="dcterms:W3CDTF">2000-06-29T07:57:34Z</dcterms:modified>
  <cp:revision>66</cp:revision>
  <dc:subject/>
  <dc:title>EMPREL</dc:title>
</cp:coreProperties>
</file>