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EE2F-CBE1-4C50-AEB7-02B0BDC08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6B90-7546-4971-B0E5-3AAEDA186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DB15-96B9-425A-AC3B-8924685E5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0229-F1C8-468B-9096-EA0C3E787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E2BC8-3214-444C-822A-EEB028764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56378-742D-4A18-940C-F5CF526BD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17DC0-939A-4F1A-B29A-1189BBA3D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B17A8-EBC7-44A8-B796-60D54DE1F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7B5D9-5057-40BF-9DF3-680DB2EC0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C07A4-4B44-4EAD-B2BB-78F8B8B23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AA2CC-3F69-4755-8CE1-6F876997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F890-8B3A-498D-9D11-5184575F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C077B-6FF2-4D2C-835E-3B316E1F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99892-66F6-41CA-A6CF-053E6DC3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EE3B8-391B-435A-B284-750F7C57D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82407-4B99-48BE-95E3-64C2D2920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2268F-8B63-4957-BDEC-7F4E22201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CA04-5751-4310-B7AC-F8E9269A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EF09-D99B-42F7-8E86-D498D8C3B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2929-F39F-4D80-800F-55EF17BFC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1AF8-9CE4-485A-8512-7EE4A9D2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ADB9-1C85-4BA2-9F09-8D151B8B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0DD3-2267-488A-AF42-C54036E3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7046-5875-437F-9CA2-DB5416FF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>
                <a:solidFill>
                  <a:srgbClr val="ff3300"/>
                </a:solidFill>
                <a:latin typeface="Times New Roman"/>
              </a:rPr>
              <a:t>Métodos Probabilísticos</a:t>
            </a:r>
            <a:br>
              <a:rPr sz="5000"/>
            </a:br>
            <a:r>
              <a:rPr b="1" lang="pt-BR" sz="3000" spc="-1" strike="noStrike">
                <a:solidFill>
                  <a:srgbClr val="ff3300"/>
                </a:solidFill>
                <a:latin typeface="Times New Roman"/>
              </a:rPr>
              <a:t>em</a:t>
            </a:r>
            <a:r>
              <a:rPr b="1" lang="pt-BR" sz="5000" spc="-1" strike="noStrike">
                <a:solidFill>
                  <a:srgbClr val="ff3300"/>
                </a:solidFill>
                <a:latin typeface="Times New Roman"/>
              </a:rPr>
              <a:t> </a:t>
            </a:r>
            <a:br>
              <a:rPr sz="5000"/>
            </a:br>
            <a:r>
              <a:rPr b="1" lang="pt-BR" sz="5000" spc="-1" strike="noStrike">
                <a:solidFill>
                  <a:srgbClr val="ff3300"/>
                </a:solidFill>
                <a:latin typeface="Times New Roman"/>
              </a:rPr>
              <a:t>Telefonia Fixa </a:t>
            </a:r>
            <a:br>
              <a:rPr sz="5000"/>
            </a:br>
            <a:r>
              <a:rPr b="1" lang="pt-BR" sz="3000" spc="-1" strike="noStrike">
                <a:solidFill>
                  <a:srgbClr val="ff3300"/>
                </a:solidFill>
                <a:latin typeface="Times New Roman"/>
              </a:rPr>
              <a:t>e</a:t>
            </a:r>
            <a:br>
              <a:rPr sz="5000"/>
            </a:br>
            <a:r>
              <a:rPr b="1" lang="pt-BR" sz="5000" spc="-1" strike="noStrike">
                <a:solidFill>
                  <a:srgbClr val="ff3300"/>
                </a:solidFill>
                <a:latin typeface="Times New Roman"/>
              </a:rPr>
              <a:t>Telefonia Móvel Celular</a:t>
            </a:r>
            <a:endParaRPr b="0" lang="en-US" sz="5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04920" y="4724280"/>
            <a:ext cx="86104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zana Mesquita de Borba Maranhã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Objetiv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imar valores para os parâmetros de uma rede de telefonia móvel celula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Ferrament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delagem analític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Times New Roman"/>
              </a:rPr>
              <a:t>Novo Universo</a:t>
            </a:r>
            <a:endParaRPr b="0" lang="en-US" sz="66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05" name="celulas_nomenclatura1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celulas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600" spc="-1" strike="noStrike">
                <a:solidFill>
                  <a:srgbClr val="ff3300"/>
                </a:solidFill>
                <a:latin typeface="Times New Roman"/>
              </a:rPr>
              <a:t>Handoff</a:t>
            </a:r>
            <a:endParaRPr b="0" lang="en-US" sz="66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08" name="handoff1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9152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600" spc="-1" strike="noStrike">
                <a:solidFill>
                  <a:srgbClr val="ff3300"/>
                </a:solidFill>
                <a:latin typeface="Times New Roman"/>
              </a:rPr>
              <a:t>Perfis de Mobilidade Multidimensional</a:t>
            </a:r>
            <a:endParaRPr b="0" lang="en-US" sz="66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10" name="perfil_mobilidade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777240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 de residência numa célul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 de duração de uma chama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 entre chamad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oridade (?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Times New Roman"/>
              </a:rPr>
              <a:t>Tipos de Chamadas</a:t>
            </a:r>
            <a:endParaRPr b="0" lang="en-US" sz="6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Ligação nova completa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Ligação nova bloquea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Ligação nova ocupa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Ligação de handoff completa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Ligação de handoff bloquea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Times New Roman"/>
              </a:rPr>
              <a:t>Novos Problemas</a:t>
            </a:r>
            <a:endParaRPr b="0" lang="en-US" sz="6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Número de usuári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Considerar as chamadas de handoff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Usuários x Cana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Limi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Criação de perfis de usuári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Interferência de ligaçõ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Times New Roman"/>
              </a:rPr>
              <a:t>Solução</a:t>
            </a:r>
            <a:endParaRPr b="0" lang="en-US" sz="6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ff3300"/>
                </a:solidFill>
                <a:latin typeface="Arial"/>
              </a:rPr>
              <a:t>Hipóteses :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74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ffffff"/>
                </a:solidFill>
                <a:latin typeface="Arial"/>
              </a:rPr>
              <a:t>Geração de chamadas é uma </a:t>
            </a:r>
            <a:r>
              <a:rPr b="1" i="1" lang="pt-BR" sz="3100" spc="-1" strike="noStrike">
                <a:solidFill>
                  <a:srgbClr val="ff3300"/>
                </a:solidFill>
                <a:latin typeface="Arial"/>
              </a:rPr>
              <a:t>Poisson</a:t>
            </a:r>
            <a:r>
              <a:rPr b="1" lang="pt-BR" sz="3100" spc="-1" strike="noStrike">
                <a:solidFill>
                  <a:srgbClr val="ffffff"/>
                </a:solidFill>
                <a:latin typeface="Arial"/>
              </a:rPr>
              <a:t> =&gt; tempo entre chamadas é uma </a:t>
            </a:r>
            <a:r>
              <a:rPr b="1" i="1" lang="pt-BR" sz="3100" spc="-1" strike="noStrike">
                <a:solidFill>
                  <a:srgbClr val="ff3300"/>
                </a:solidFill>
                <a:latin typeface="Arial"/>
              </a:rPr>
              <a:t>Exponencia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74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ffffff"/>
                </a:solidFill>
                <a:latin typeface="Arial"/>
              </a:rPr>
              <a:t>Células se comportam do mesmo modo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74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ffffff"/>
                </a:solidFill>
                <a:latin typeface="Arial"/>
              </a:rPr>
              <a:t>Tempo de duração da chamada é uma </a:t>
            </a:r>
            <a:r>
              <a:rPr b="1" i="1" lang="pt-BR" sz="3100" spc="-1" strike="noStrike">
                <a:solidFill>
                  <a:srgbClr val="ff3300"/>
                </a:solidFill>
                <a:latin typeface="Arial"/>
              </a:rPr>
              <a:t>Exponencia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74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ffffff"/>
                </a:solidFill>
                <a:latin typeface="Arial"/>
              </a:rPr>
              <a:t>A distribuição do tempo de residência dos usários de cada perfil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362320"/>
            <a:ext cx="792504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Algoritmo para Simulação de uma Rede de Telefonia Móve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971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Times New Roman"/>
              </a:rPr>
              <a:t>Telefonia Fixa</a:t>
            </a:r>
            <a:endParaRPr b="0" lang="en-US" sz="80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304920" y="2133720"/>
            <a:ext cx="7238880" cy="3794040"/>
            <a:chOff x="304920" y="2133720"/>
            <a:chExt cx="7238880" cy="3794040"/>
          </a:xfrm>
        </p:grpSpPr>
        <p:grpSp>
          <p:nvGrpSpPr>
            <p:cNvPr id="120" name=""/>
            <p:cNvGrpSpPr/>
            <p:nvPr/>
          </p:nvGrpSpPr>
          <p:grpSpPr>
            <a:xfrm>
              <a:off x="533520" y="2133720"/>
              <a:ext cx="7010280" cy="2438280"/>
              <a:chOff x="533520" y="2133720"/>
              <a:chExt cx="7010280" cy="2438280"/>
            </a:xfrm>
          </p:grpSpPr>
          <p:sp>
            <p:nvSpPr>
              <p:cNvPr id="121" name=""/>
              <p:cNvSpPr/>
              <p:nvPr/>
            </p:nvSpPr>
            <p:spPr>
              <a:xfrm>
                <a:off x="609480" y="2666880"/>
                <a:ext cx="6858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33520" y="4572000"/>
                <a:ext cx="7010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38080" y="2666880"/>
                <a:ext cx="0" cy="1905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905120" y="2666880"/>
                <a:ext cx="0" cy="1905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048120" y="2666880"/>
                <a:ext cx="0" cy="1905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800600" y="2666880"/>
                <a:ext cx="0" cy="1905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791320" y="2666880"/>
                <a:ext cx="0" cy="1905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858000" y="2666880"/>
                <a:ext cx="0" cy="1905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83080" y="403848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. . .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67880" y="2133720"/>
                <a:ext cx="999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célula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910880" y="2133720"/>
                <a:ext cx="999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célula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295280" y="2819520"/>
                <a:ext cx="0" cy="380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295280" y="3276720"/>
                <a:ext cx="495324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6248520" y="2819520"/>
                <a:ext cx="0" cy="380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512880" y="2819520"/>
                <a:ext cx="360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1" lang="pt-BR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36" name=""/>
                <p:cNvSpPr txBox="1"/>
                <p:nvPr/>
              </p:nvSpPr>
              <p:spPr>
                <a:xfrm>
                  <a:off x="304920" y="5334120"/>
                  <a:ext cx="1611360" cy="59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E</m:t>
                      </m:r>
                      <m:r>
                        <m:t xml:space="preserve">(</m:t>
                      </m:r>
                      <m:r>
                        <m:t xml:space="preserve">μ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7" name=""/>
          <p:cNvGrpSpPr/>
          <p:nvPr/>
        </p:nvGrpSpPr>
        <p:grpSpPr>
          <a:xfrm>
            <a:off x="838080" y="4114800"/>
            <a:ext cx="6019920" cy="2459160"/>
            <a:chOff x="838080" y="4114800"/>
            <a:chExt cx="6019920" cy="2459160"/>
          </a:xfrm>
        </p:grpSpPr>
        <p:grpSp>
          <p:nvGrpSpPr>
            <p:cNvPr id="138" name=""/>
            <p:cNvGrpSpPr/>
            <p:nvPr/>
          </p:nvGrpSpPr>
          <p:grpSpPr>
            <a:xfrm>
              <a:off x="838080" y="4114800"/>
              <a:ext cx="6019920" cy="510120"/>
              <a:chOff x="838080" y="4114800"/>
              <a:chExt cx="6019920" cy="510120"/>
            </a:xfrm>
          </p:grpSpPr>
          <p:sp>
            <p:nvSpPr>
              <p:cNvPr id="139" name=""/>
              <p:cNvSpPr/>
              <p:nvPr/>
            </p:nvSpPr>
            <p:spPr>
              <a:xfrm>
                <a:off x="838080" y="4191120"/>
                <a:ext cx="221004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800600" y="4191120"/>
                <a:ext cx="20574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089000" y="4114800"/>
                <a:ext cx="5634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1" lang="pt-BR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m,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232000" y="4114800"/>
                <a:ext cx="5634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1" lang="pt-BR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m,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43" name=""/>
                <p:cNvSpPr txBox="1"/>
                <p:nvPr/>
              </p:nvSpPr>
              <p:spPr>
                <a:xfrm>
                  <a:off x="2286000" y="4952880"/>
                  <a:ext cx="1981080" cy="162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  <m:r>
                                <m:t xml:space="preserve">,</m:t>
                              </m:r>
                              <m:r>
                                <m:t xml:space="preserve">i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~</m:t>
                          </m:r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  <m:r>
                                <m:t xml:space="preserve">,</m:t>
                              </m:r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  <m:e>
                          <m:r>
                            <m:t xml:space="preserve">E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  <m:r>
                                <m:t xml:space="preserve">,</m:t>
                              </m:r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η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4" name=""/>
          <p:cNvGrpSpPr/>
          <p:nvPr/>
        </p:nvGrpSpPr>
        <p:grpSpPr>
          <a:xfrm>
            <a:off x="1164960" y="3352680"/>
            <a:ext cx="7979040" cy="3049560"/>
            <a:chOff x="1164960" y="3352680"/>
            <a:chExt cx="7979040" cy="3049560"/>
          </a:xfrm>
        </p:grpSpPr>
        <p:grpSp>
          <p:nvGrpSpPr>
            <p:cNvPr id="145" name=""/>
            <p:cNvGrpSpPr/>
            <p:nvPr/>
          </p:nvGrpSpPr>
          <p:grpSpPr>
            <a:xfrm>
              <a:off x="1164960" y="3352680"/>
              <a:ext cx="740160" cy="533520"/>
              <a:chOff x="1164960" y="3352680"/>
              <a:chExt cx="740160" cy="533520"/>
            </a:xfrm>
          </p:grpSpPr>
          <p:sp>
            <p:nvSpPr>
              <p:cNvPr id="146" name=""/>
              <p:cNvSpPr/>
              <p:nvPr/>
            </p:nvSpPr>
            <p:spPr>
              <a:xfrm>
                <a:off x="1371600" y="3886200"/>
                <a:ext cx="5335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164960" y="3352680"/>
                <a:ext cx="595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</a:t>
                </a:r>
                <a:r>
                  <a:rPr b="1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m,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48" name=""/>
                <p:cNvSpPr txBox="1"/>
                <p:nvPr/>
              </p:nvSpPr>
              <p:spPr>
                <a:xfrm>
                  <a:off x="4495680" y="5257800"/>
                  <a:ext cx="4648320" cy="114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&gt;</m:t>
                      </m:r>
                      <m:sSub>
                        <m:e>
                          <m:r>
                            <m:t xml:space="preserve">τ</m:t>
                          </m:r>
                        </m:e>
                        <m:sub>
                          <m:r>
                            <m:t xml:space="preserve">m</m:t>
                          </m:r>
                          <m:r>
                            <m:t xml:space="preserve">,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η</m:t>
                          </m:r>
                        </m:num>
                        <m:den>
                          <m:r>
                            <m:t xml:space="preserve">μ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  <m:sup/>
                      </m:sSubSup>
                      <m:r>
                        <m:t xml:space="preserve">(</m:t>
                      </m:r>
                      <m:r>
                        <m:t xml:space="preserve">μ</m:t>
                      </m:r>
                      <m:r>
                        <m:t xml:space="preserve">)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pt-BR" sz="2800" spc="-1" strike="noStrike" baseline="-25000">
                <a:solidFill>
                  <a:srgbClr val="ffffff"/>
                </a:solidFill>
                <a:latin typeface="Arial"/>
              </a:rPr>
              <a:t>c,i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, período de tempo entre a chegada da unidade móvel à célula i e a ligação ser completada. (i=1,2,..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pt-BR" sz="2800" spc="-1" strike="noStrike" baseline="-25000">
                <a:solidFill>
                  <a:srgbClr val="ffffff"/>
                </a:solidFill>
                <a:latin typeface="Arial"/>
              </a:rPr>
              <a:t>m,i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, período de tempo em que o usuário permanece na célula i. (i=0,1,2,...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1371600" y="4952880"/>
                <a:ext cx="579132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  <m:sup/>
                    </m:sSub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0" y="5257800"/>
                <a:ext cx="914400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hamada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mpleta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pt-BR" sz="3200" spc="-1" strike="noStrike" baseline="-25000">
                <a:solidFill>
                  <a:srgbClr val="ffffff"/>
                </a:solidFill>
                <a:latin typeface="Arial"/>
              </a:rPr>
              <a:t>do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, o tempo de ocupação de um canal de uma nova chamada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pt-BR" sz="32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, o tempo de duração de uma chamada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1" lang="pt-BR" sz="3200" spc="-1" strike="noStrike" baseline="-25000">
                <a:solidFill>
                  <a:srgbClr val="ffffff"/>
                </a:solidFill>
                <a:latin typeface="Arial"/>
              </a:rPr>
              <a:t>m,0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, o tempo de uma ligação na célula 0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Times New Roman"/>
              </a:rPr>
              <a:t>Nova chamada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04920" y="17524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pt-BR" sz="2800" spc="-1" strike="noStrike" baseline="-25000">
                <a:solidFill>
                  <a:srgbClr val="ffffff"/>
                </a:solidFill>
                <a:latin typeface="Arial"/>
              </a:rPr>
              <a:t>dh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, o tempo de ocupação de um canal de uma chamada de </a:t>
            </a: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handoff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 na célula i. (i=1,2,...)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pt-BR" sz="2800" spc="-1" strike="noStrike" baseline="-25000">
                <a:solidFill>
                  <a:srgbClr val="ffffff"/>
                </a:solidFill>
                <a:latin typeface="Arial"/>
              </a:rPr>
              <a:t>c,i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, período de tempo entre a chegada da unidade móvel à célula i e a ligação ser completada. (i=1,2,...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pt-BR" sz="2800" spc="-1" strike="noStrike" baseline="-25000">
                <a:solidFill>
                  <a:srgbClr val="ffffff"/>
                </a:solidFill>
                <a:latin typeface="Arial"/>
              </a:rPr>
              <a:t>m,i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, período de tempo em que o usuário permanece na célula i. (i=0,1,2,...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0" y="5384880"/>
                <a:ext cx="914400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hamada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trapola</m:t>
                            </m:r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élula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83808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600" spc="-1" strike="noStrike">
                <a:solidFill>
                  <a:srgbClr val="ff3300"/>
                </a:solidFill>
                <a:latin typeface="Times New Roman"/>
              </a:rPr>
              <a:t>Chamada de Handoff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0948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ff3300"/>
                </a:solidFill>
                <a:uFillTx/>
                <a:latin typeface="Arial"/>
              </a:rPr>
              <a:t>Parâmetros de Entra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número de canais numa estação-de-base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número de perfis de usuário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axa de chegada de novas chamadas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arâmetro da distribuição da duração de uma chamada (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pt-BR" sz="24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istribuição do tempo de residência e seus parâmetros (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pt-BR" sz="2400" spc="-1" strike="noStrike" baseline="-25000">
                <a:solidFill>
                  <a:srgbClr val="ffffff"/>
                </a:solidFill>
                <a:latin typeface="Arial"/>
              </a:rPr>
              <a:t>m,i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proximação inicial da taxa de chegadas de chamadas de handoff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el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ff3300"/>
                </a:solidFill>
                <a:uFillTx/>
                <a:latin typeface="Arial"/>
              </a:rPr>
              <a:t>Parâmetros de Saí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robabilidade de chamadas novas, na rede, serem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bloqueadas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axa de chegadas de chamadas de 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handoff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ara cada perfil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robabilidade de não-completamento de chamadas para cada perfil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Times New Roman"/>
              </a:rPr>
              <a:t>Conclusões</a:t>
            </a:r>
            <a:endParaRPr b="0" lang="en-US" sz="6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Uso de dados reai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3300"/>
                </a:solidFill>
                <a:latin typeface="Times New Roman"/>
              </a:rPr>
              <a:t>Transformada de Laplace</a:t>
            </a:r>
            <a:endParaRPr b="0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 transformada de Laplace é muito usada em operações envolvendo funções de distribuição de probabilidade. Em muitos problemas, a forma da função de densidade é muito complicada e é difícil realizar operações nela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Lucida Sans Unicode"/>
              </a:rPr>
              <a:t>ℒ </a:t>
            </a:r>
            <a:r>
              <a:rPr b="1" lang="pt-BR" sz="3600" spc="-1" strike="noStrike">
                <a:solidFill>
                  <a:srgbClr val="ffffff"/>
                </a:solidFill>
                <a:latin typeface="Lucida Sans Unicode"/>
              </a:rPr>
              <a:t>{f(t)} = F(s) = ∫</a:t>
            </a:r>
            <a:r>
              <a:rPr b="1" lang="pt-BR" sz="3600" spc="-1" strike="noStrike" baseline="-25000">
                <a:solidFill>
                  <a:srgbClr val="ffffff"/>
                </a:solidFill>
                <a:latin typeface="Lucida Sans Unicode"/>
              </a:rPr>
              <a:t>0   </a:t>
            </a:r>
            <a:r>
              <a:rPr b="1" lang="pt-BR" sz="3600" spc="-1" strike="noStrike">
                <a:solidFill>
                  <a:srgbClr val="ffffff"/>
                </a:solidFill>
                <a:latin typeface="Lucida Sans Unicode"/>
              </a:rPr>
              <a:t>e </a:t>
            </a:r>
            <a:r>
              <a:rPr b="1" lang="pt-BR" sz="3600" spc="-1" strike="noStrike" baseline="30000">
                <a:solidFill>
                  <a:srgbClr val="ffffff"/>
                </a:solidFill>
                <a:latin typeface="Lucida Sans Unicode"/>
              </a:rPr>
              <a:t>–st</a:t>
            </a:r>
            <a:r>
              <a:rPr b="1" lang="pt-BR" sz="3600" spc="-1" strike="noStrike" baseline="-25000">
                <a:solidFill>
                  <a:srgbClr val="ffffff"/>
                </a:solidFill>
                <a:latin typeface="Lucida Sans Unicode"/>
              </a:rPr>
              <a:t> </a:t>
            </a:r>
            <a:r>
              <a:rPr b="1" lang="pt-BR" sz="3600" spc="-1" strike="noStrike">
                <a:solidFill>
                  <a:srgbClr val="ffffff"/>
                </a:solidFill>
                <a:latin typeface="Lucida Sans Unicode"/>
              </a:rPr>
              <a:t>f(t) dt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67080" y="47242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Sans Unicode"/>
              </a:rPr>
              <a:t>∞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Condições suficientes</a:t>
            </a:r>
            <a:endParaRPr b="0" lang="en-US" sz="5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 algn="just">
              <a:spcBef>
                <a:spcPts val="700"/>
              </a:spcBef>
              <a:buClr>
                <a:srgbClr val="00ffcc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A função f(t) deve 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ffffff"/>
              </a:buClr>
              <a:buSzPct val="55000"/>
              <a:buFont typeface="Symbol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seu domínio é R</a:t>
            </a:r>
            <a:r>
              <a:rPr b="1" lang="pt-BR" sz="2400" spc="-1" strike="noStrike" baseline="-25000">
                <a:solidFill>
                  <a:srgbClr val="ffffff"/>
                </a:solidFill>
                <a:latin typeface="Arial"/>
              </a:rPr>
              <a:t>+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, o conjunto dos números reais não-negativos 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ffffff"/>
              </a:buClr>
              <a:buSzPct val="55000"/>
              <a:buFont typeface="Symbol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é uma função seccionalmente contínua no intervalo 0 </a:t>
            </a:r>
            <a:r>
              <a:rPr b="1" lang="pt-BR" sz="2400" spc="-1" strike="noStrike">
                <a:solidFill>
                  <a:srgbClr val="ffffff"/>
                </a:solidFill>
                <a:latin typeface="Lucida Sans Unicode"/>
              </a:rPr>
              <a:t>≤ t ≤ A, para qualquer A positivo 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Symbol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Lucida Sans Unicode"/>
              </a:rPr>
              <a:t>|f(t)| ≤ Ke </a:t>
            </a:r>
            <a:r>
              <a:rPr b="1" lang="pt-BR" sz="2400" spc="-1" strike="noStrike" baseline="30000">
                <a:solidFill>
                  <a:srgbClr val="ffffff"/>
                </a:solidFill>
                <a:latin typeface="Lucida Sans Unicode"/>
              </a:rPr>
              <a:t>–at</a:t>
            </a:r>
            <a:r>
              <a:rPr b="1" lang="pt-BR" sz="2400" spc="-1" strike="noStrike">
                <a:solidFill>
                  <a:srgbClr val="ffffff"/>
                </a:solidFill>
                <a:latin typeface="Lucida Sans Unicode"/>
              </a:rPr>
              <a:t> quando t ≥ M. Nesta desigualdade, K, a e M são constantes reais, K e M necessariamente positiva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Times New Roman"/>
              </a:rPr>
              <a:t>Agradecimentos</a:t>
            </a:r>
            <a:endParaRPr b="0" lang="en-US" sz="6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Marcília Andrade Camp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Ana Carolina Chaves Machad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Objetiv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imar valores para os parâmetros de uma rede de telefonia fix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Ferrament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mulaçã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Times New Roman"/>
              </a:rPr>
              <a:t>Referências</a:t>
            </a:r>
            <a:endParaRPr b="0" lang="en-US" sz="6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Lin, Yi-Bing - Performance Modeling for Mobil Telephone Netwoks. IEEE Network 63-68, 1997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Jain, R. The Art of Computer Systems Performance Analysis. Techniques for Experimental Design, Measurement, Simulation, and Modeling, John Wiley &amp; Sons, 1991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nais II Workshop de Comunicação Sem Fio, SBRC 2000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http://ciel2.eletr.ufpr.br/edu/pds99/trab4/interfer/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http://www.cin.ufpe.br/~ma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Times New Roman"/>
              </a:rPr>
              <a:t>Tipos de Chamadas</a:t>
            </a:r>
            <a:endParaRPr b="0" lang="en-US" sz="6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gação completa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gação bloquea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gação ocupa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Times New Roman"/>
              </a:rPr>
              <a:t>Problemas</a:t>
            </a:r>
            <a:endParaRPr b="0" lang="en-US" sz="6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Tempo de duração de uma chama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Tempo entre chamad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Times New Roman"/>
              </a:rPr>
              <a:t>Solução</a:t>
            </a:r>
            <a:endParaRPr b="0" lang="en-US" sz="6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3300"/>
                </a:solidFill>
                <a:latin typeface="Arial"/>
              </a:rPr>
              <a:t>Hipóteses 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Geração de chamadas é uma </a:t>
            </a:r>
            <a:r>
              <a:rPr b="1" i="1" lang="pt-BR" sz="3200" spc="-1" strike="noStrike">
                <a:solidFill>
                  <a:srgbClr val="ff3300"/>
                </a:solidFill>
                <a:latin typeface="Arial"/>
              </a:rPr>
              <a:t>Poisson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 =&gt; tempo entre chamadas é uma </a:t>
            </a:r>
            <a:r>
              <a:rPr b="1" i="1" lang="pt-BR" sz="3200" spc="-1" strike="noStrike">
                <a:solidFill>
                  <a:srgbClr val="ff3300"/>
                </a:solidFill>
                <a:latin typeface="Arial"/>
              </a:rPr>
              <a:t>Exponencial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Duração de uma chamada é uma </a:t>
            </a:r>
            <a:r>
              <a:rPr b="1" i="1" lang="pt-BR" sz="3200" spc="-1" strike="noStrike">
                <a:solidFill>
                  <a:srgbClr val="ff3300"/>
                </a:solidFill>
                <a:latin typeface="Arial"/>
              </a:rPr>
              <a:t>Exponenci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362320"/>
            <a:ext cx="792504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Algoritmo para Simulação de uma Rede de Telefonia Fix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815328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Parâmetros de Entra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úmero de usuário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úmero de cana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 entre chamada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 de duração de uma chama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-360" y="44956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Parâmetros de Saí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úmero de chamadas completada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úmero de chamadas bloqueada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úmero de chamadas ocupada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971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Times New Roman"/>
              </a:rPr>
              <a:t>Telefonia Móvel Celular</a:t>
            </a:r>
            <a:endParaRPr b="0" lang="en-US" sz="80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9T10:27:49Z</dcterms:created>
  <dc:creator>accm2</dc:creator>
  <dc:description/>
  <dc:language>en-US</dc:language>
  <cp:lastModifiedBy>smbm</cp:lastModifiedBy>
  <cp:lastPrinted>2000-05-20T15:26:46Z</cp:lastPrinted>
  <dcterms:modified xsi:type="dcterms:W3CDTF">2000-06-28T16:37:00Z</dcterms:modified>
  <cp:revision>83</cp:revision>
  <dc:subject/>
  <dc:title>Métodos Probabilísticos em Telefonia Móvel Celular</dc:title>
</cp:coreProperties>
</file>