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A54-BD5F-40C6-828E-7B62D024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977-AF6A-4BFD-BB40-C2719946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F9CD-2A3B-43BD-BA6A-8B3405BA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4B2-A1C1-4545-8EA2-D90BDEE6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14CC-30F8-4ED6-BC95-2229796B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8502-E75D-48A8-B033-149C1A72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0BC8-AD39-44C4-B126-87841E3E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434C-1487-49C3-AD34-176C503D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377B-0F48-41EB-8377-76F1A73A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BE9E-F558-42FA-99AD-5D586EC6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2EE0-EF39-4F11-8EA1-6EA42820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5CE1-C2E2-4AF7-BCEB-9E116B60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BEF9-94B5-41BA-8CDB-0EB1F70B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E17E-C07E-4B1F-B7E9-65E57D11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F59E-8E9F-4174-8F2F-CBF1F192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7526-85B1-4674-B365-AF8E8D67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D008-84B8-43C7-856E-703A1829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F5F6-CB55-4CF7-A670-4E5DB59D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5DE8-486D-4C84-A6BA-BBC2CC42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364-3067-4B2D-9366-B7C1F179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5236-555A-4F82-8F22-7C99C073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0A5E-CBD8-44A0-A6AB-7947B326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E6C-A35C-41AC-B2D5-10BF48C5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B42F-0DB1-42B8-940E-19440DE0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F213-C8F3-45A9-A21C-3AF0426E1B68}" type="slidenum"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4E07-66CF-4490-A69A-040CE0661A82}" type="slidenum"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tilização de Ferramentas de Computação Técnica em Análise de Desempenho de Sistema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Francisco Heron de Carvalho Juni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Tutorial sobre o Mathematica</a:t>
            </a:r>
            <a:br>
              <a:rPr sz="2400"/>
            </a:b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Principais Funcionalidad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unções e Comandos embutid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nipulação de expressões (listas como caso especial)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perações Funcionais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plicação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repetida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à listas e outras expressões total ou parci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rução de listas a partir de funções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ráficos e Visualização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nções matemáticas embutidas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Tutorial sobre o Mathematica</a:t>
            </a:r>
            <a:br>
              <a:rPr sz="2400"/>
            </a:b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Principais Funcionalidad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Noteboo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ocumentos interativos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osto de Células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da célula tem um formato (título, seção, equação, entrada, saída, .etc.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élulas de entrada podem ser avaliadas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élulas de inicialização são avaliadas ao carregar o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notebook;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 próprio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notebook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é representado internamente por uma expressão do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Mathemat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Tutorial sobre o Mathematica</a:t>
            </a:r>
            <a:br>
              <a:rPr sz="2400"/>
            </a:b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Principais Funcionalidad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unções e Comandos extern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cotes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Bibliotecas de funcionalidades de uso geral relacionadas a um determinado tema que podem ser carregadas em uma aplicação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Ex: Pacotes estatísticos, para redes neurais, para construção e teste de circuito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Utilizando pacotes pré-existentes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Construindo pacotes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52280" y="2071800"/>
          <a:ext cx="8839440" cy="4100400"/>
        </p:xfrm>
        <a:graphic>
          <a:graphicData uri="http://schemas.openxmlformats.org/drawingml/2006/table">
            <a:tbl>
              <a:tblPr/>
              <a:tblGrid>
                <a:gridCol w="1295640"/>
                <a:gridCol w="990360"/>
                <a:gridCol w="1143000"/>
                <a:gridCol w="1143000"/>
                <a:gridCol w="1143000"/>
                <a:gridCol w="1143000"/>
                <a:gridCol w="990720"/>
                <a:gridCol w="9907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ibliotecas Estatística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ibliotecas Matemática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isualizaçã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ing. de Programação de Propósito Ger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anipulação Simbólica e Algébr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otebook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ibliotecas </a:t>
                      </a:r>
                      <a:r>
                        <a:rPr b="0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(Packages)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odelagem Analít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nstrução de Simulador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anipulação de Dad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ocumentação e Publicação de Resultad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Reuso de Resultados Obtid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9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plicações à Avaliação de Desempenho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plicações à Avaliação de Desempenho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plicação de Exempl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emplo 34.1 do Livro do Jain, utilizando os resultados analíticos para </a:t>
            </a:r>
            <a:r>
              <a:rPr b="0" i="1" lang="en-US" sz="2800" spc="-1" strike="noStrike" u="sng">
                <a:solidFill>
                  <a:srgbClr val="99ff33"/>
                </a:solidFill>
                <a:uFillTx/>
                <a:latin typeface="Times New Roman"/>
              </a:rPr>
              <a:t>Análise de Redes de Filas Aberta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(Seção 34.1);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bjetivo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emplo de Biblioteca reusável do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Mathematic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matação de Documento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sualização de Resultados Analíticos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delagem do Problema com o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Mathematica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onclusã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5000" y="2420640"/>
            <a:ext cx="8896320" cy="26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rramentas de Computação Técnica (como o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Mathematica)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ão bastante úteis para utilização em 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Avaliação de Desempenho de Sistema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por fornecerem um ambiente integrado para aplicação das diversas técnicas conhecida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strutura da Apresentaçã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004840"/>
            <a:ext cx="756144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rramentas de Computação Técnica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 que são ? </a:t>
            </a:r>
            <a:r>
              <a:rPr b="0" lang="en-US" sz="2000" spc="-1" strike="noStrike" u="sng">
                <a:solidFill>
                  <a:srgbClr val="99ff33"/>
                </a:solidFill>
                <a:uFillTx/>
                <a:latin typeface="Times New Roman"/>
              </a:rPr>
              <a:t>Para que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e </a:t>
            </a:r>
            <a:r>
              <a:rPr b="0" lang="en-US" sz="2000" spc="-1" strike="noStrike" u="sng">
                <a:solidFill>
                  <a:srgbClr val="99ff33"/>
                </a:solidFill>
                <a:uFillTx/>
                <a:latin typeface="Times New Roman"/>
              </a:rPr>
              <a:t>para quem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se destinam 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xemplos: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Matlab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Mathematica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Maple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, …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m breve </a:t>
            </a:r>
            <a:r>
              <a:rPr b="0" lang="en-US" sz="2400" spc="-1" strike="noStrike" u="sng">
                <a:solidFill>
                  <a:srgbClr val="99ff33"/>
                </a:solidFill>
                <a:uFillTx/>
                <a:latin typeface="Times New Roman"/>
              </a:rPr>
              <a:t>tutorial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sobre o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Mathematica</a:t>
            </a:r>
            <a:r>
              <a:rPr b="0" i="1" lang="en-US" sz="2400" spc="-1" strike="noStrike" baseline="30000">
                <a:solidFill>
                  <a:srgbClr val="ffffcc"/>
                </a:solidFill>
                <a:latin typeface="Times New Roman"/>
              </a:rPr>
              <a:t>®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oções Gerai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rincipais funcionalidade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plicações à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Análise de Desempenho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odelagem Analítica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nstrução de Simuladore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anipulação de Dados de Simulações (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externo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e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interno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unções Estatística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Visualização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clusão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erramentas de Computação Técnica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077320" cy="419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rramentas de computação simbólica aplicada à modelagem matemática e visualização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ferecem 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ibliotecas de funções (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Matemática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Estatística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, …) embutida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inguagem de programação simbólica de uso geral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rmatação de documento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unicação com programas externo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mitem 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utomatização de cálculo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nstrução de documentos interativos (editoração eletrônica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Visualização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nstrução de bibliotecas de uso ge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erramentas de Computação Técnica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077320" cy="419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incipais Usuá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ngenheiros, físicos, matemáticos, cientistas de computação, educadores …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users" descr=""/>
          <p:cNvPicPr/>
          <p:nvPr/>
        </p:nvPicPr>
        <p:blipFill>
          <a:blip r:embed="rId1"/>
          <a:stretch/>
        </p:blipFill>
        <p:spPr>
          <a:xfrm>
            <a:off x="2743200" y="3527280"/>
            <a:ext cx="335268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erramentas de Computação Técnica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077320" cy="419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poníveis no mercad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tlab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ple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cSyma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thematic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ste trabalho, utilizaremos o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Mathematica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o exemplo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utorial Sobre o 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Mathematica</a:t>
            </a:r>
            <a:r>
              <a:rPr b="0" i="1" lang="en-US" sz="4400" spc="-1" strike="noStrike" baseline="30000">
                <a:solidFill>
                  <a:srgbClr val="ffffcc"/>
                </a:solidFill>
                <a:latin typeface="Times New Roman"/>
              </a:rPr>
              <a:t>®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The visionary concept of Mathematica</a:t>
            </a:r>
            <a:r>
              <a:rPr b="0" i="1" lang="en-US" sz="2400" spc="-1" strike="noStrike" baseline="30000">
                <a:solidFill>
                  <a:srgbClr val="ffff66"/>
                </a:solidFill>
                <a:latin typeface="Times New Roman"/>
              </a:rPr>
              <a:t>®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 was to create </a:t>
            </a:r>
            <a:r>
              <a:rPr b="0" i="1" lang="pt-BR" sz="2400" spc="-1" strike="noStrike">
                <a:solidFill>
                  <a:srgbClr val="ffff66"/>
                </a:solidFill>
                <a:latin typeface="Times New Roman"/>
              </a:rPr>
              <a:t>once and for all a single system that could handle all the various aspects of technical computing in a coherent and unified way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”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ff33"/>
                </a:solidFill>
                <a:latin typeface="Times New Roman"/>
              </a:rPr>
              <a:t>Stephen Wolfram, 199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imeira versão surgiu em 1988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Ponta-pé inicial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Surgimento de uma nova Linguagem de Computação Simbólica (SMP), simples e geral o suficiente para manipular a grande variedade de objetos envolvidos em computação técnica 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6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ipulação Simbóli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Representação Uniform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No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Mathematica,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dos os objetos são manipulados como expressões simbólic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utorial Sobre o 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Mathematica</a:t>
            </a:r>
            <a:r>
              <a:rPr b="0" i="1" lang="en-US" sz="4400" spc="-1" strike="noStrike" baseline="30000">
                <a:solidFill>
                  <a:srgbClr val="ffffcc"/>
                </a:solidFill>
                <a:latin typeface="Times New Roman"/>
              </a:rPr>
              <a:t>®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362320" y="4038480"/>
                <a:ext cx="36576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247680" y="4800600"/>
            <a:ext cx="889632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ma de apresentação X Forma de representação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Significado de Expressõ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Funções, comandos, operadores, listas, objetos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914400" y="990720"/>
            <a:ext cx="7315200" cy="5638680"/>
            <a:chOff x="914400" y="990720"/>
            <a:chExt cx="7315200" cy="5638680"/>
          </a:xfrm>
        </p:grpSpPr>
        <p:sp>
          <p:nvSpPr>
            <p:cNvPr id="140" name=""/>
            <p:cNvSpPr/>
            <p:nvPr/>
          </p:nvSpPr>
          <p:spPr>
            <a:xfrm>
              <a:off x="914400" y="990720"/>
              <a:ext cx="7315200" cy="563868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10040" y="1251000"/>
              <a:ext cx="4766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Funcionalidades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definidas pelo usuário e Aplicaçõe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cc"/>
                  </a:solidFill>
                  <a:latin typeface="Times New Roman"/>
                </a:rPr>
                <a:t>User-defined packages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e</a:t>
              </a:r>
              <a:r>
                <a:rPr b="0" i="1" lang="en-US" sz="2400" spc="-1" strike="noStrike">
                  <a:solidFill>
                    <a:srgbClr val="ffffcc"/>
                  </a:solidFill>
                  <a:latin typeface="Times New Roman"/>
                </a:rPr>
                <a:t> Notebooks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523880" y="2590920"/>
            <a:ext cx="6248520" cy="3962160"/>
            <a:chOff x="1523880" y="2590920"/>
            <a:chExt cx="6248520" cy="3962160"/>
          </a:xfrm>
        </p:grpSpPr>
        <p:sp>
          <p:nvSpPr>
            <p:cNvPr id="143" name=""/>
            <p:cNvSpPr/>
            <p:nvPr/>
          </p:nvSpPr>
          <p:spPr>
            <a:xfrm>
              <a:off x="1523880" y="2590920"/>
              <a:ext cx="6248520" cy="3962160"/>
            </a:xfrm>
            <a:prstGeom prst="ellipse">
              <a:avLst/>
            </a:prstGeom>
            <a:solidFill>
              <a:srgbClr val="993366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30840" y="2774880"/>
              <a:ext cx="4960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Funcionalidade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Extras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cc"/>
                  </a:solidFill>
                  <a:latin typeface="Times New Roman"/>
                </a:rPr>
                <a:t>Standard Packages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e </a:t>
              </a:r>
              <a:r>
                <a:rPr b="0" i="1" lang="en-US" sz="2400" spc="-1" strike="noStrike">
                  <a:solidFill>
                    <a:srgbClr val="ffffcc"/>
                  </a:solidFill>
                  <a:latin typeface="Times New Roman"/>
                </a:rPr>
                <a:t>Extra Packages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362320" y="4038480"/>
            <a:ext cx="4647960" cy="2362320"/>
            <a:chOff x="2362320" y="4038480"/>
            <a:chExt cx="4647960" cy="2362320"/>
          </a:xfrm>
        </p:grpSpPr>
        <p:sp>
          <p:nvSpPr>
            <p:cNvPr id="146" name=""/>
            <p:cNvSpPr/>
            <p:nvPr/>
          </p:nvSpPr>
          <p:spPr>
            <a:xfrm>
              <a:off x="2362320" y="4038480"/>
              <a:ext cx="4647960" cy="2362320"/>
            </a:xfrm>
            <a:prstGeom prst="ellipse">
              <a:avLst/>
            </a:prstGeom>
            <a:solidFill>
              <a:srgbClr val="3333cc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56880" y="4206960"/>
              <a:ext cx="218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Funcionalidade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Embutida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657600" y="5105520"/>
            <a:ext cx="2133720" cy="11430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nguag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ás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Tutorial sobre o Mathematica</a:t>
            </a:r>
            <a:br>
              <a:rPr sz="2400"/>
            </a:b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Principais Funcionalidad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nguagem de Programação Bási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imbólica, Declarativa e Multiparadigmática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ropõe-se ser geral o suficiente para permitir a construção de programas sob os diversos paradigmas (funcional, imperativo, orientados a objeto, lógico, etc.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gras de reescrita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ecanismo de avaliação padrão inclui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chamada por valor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unções Puras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samento de Padrões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gras de Transformação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7T11:09:36Z</dcterms:created>
  <dc:creator>Francisco Heron Carvalho</dc:creator>
  <dc:description/>
  <dc:language>en-US</dc:language>
  <cp:lastModifiedBy>Francisco Heron Carvalho</cp:lastModifiedBy>
  <dcterms:modified xsi:type="dcterms:W3CDTF">2000-06-30T14:07:28Z</dcterms:modified>
  <cp:revision>110</cp:revision>
  <dc:subject/>
  <dc:title>Utilização de Ferramentas de Computação Técnica para Análise de Desempenho de Sistemas</dc:title>
</cp:coreProperties>
</file>