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E91-4154-4873-95A4-50363A14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0CB-F218-4FC9-B3C3-40838D79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875-D084-406E-BA53-D323036B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2D9-F0CF-41A4-841C-5ED74D74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047-D352-48F1-AA6C-5F3A6030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AD7-CE3E-4303-8845-CD9B62D7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112-D72C-4058-9ED8-9EFF8AB3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350-6EF3-4835-8AB9-75CB7622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92B-A6FE-41CE-A6C6-CC7BE8D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C66-967C-4BEC-AF8B-6A215A1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B8E-A863-41E5-9EFC-F79903AB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7EF-F3F1-4DD6-ACF5-03EDA250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35A6-E775-421F-A614-A7B6DB218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3352680"/>
          <a:ext cx="91440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2680"/>
                    <a:ext cx="9144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 txBox="1"/>
          <p:nvPr/>
        </p:nvSpPr>
        <p:spPr>
          <a:xfrm>
            <a:off x="1933560" y="2476440"/>
            <a:ext cx="497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oria e Aplicaçõ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5120" y="914400"/>
            <a:ext cx="51814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edes Bayesiana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4876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Profa. Marcília Ca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luno: Jorge Luiz de Castro e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200" y="1260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minário - Avaliação de Desempenh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324480"/>
            <a:ext cx="80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niversidade Federal de Pernambuco - UF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1EB-19F0-435F-89C3-7AA74315C4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8240" y="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undamentação Te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90720"/>
            <a:ext cx="8610480" cy="1447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hecendo as relações de dependência entre as variáveis, 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cálculo da probabilidade conjunta global sobre todas variáveis 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nde         são apenas as variáveis das q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é dependen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191120" y="1606680"/>
                <a:ext cx="609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0880" y="1685880"/>
                <a:ext cx="2895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x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nary>
                              <m:naryPr>
                                <m:chr m:val="∏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</m:e>
                            </m:nary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04920" y="3048120"/>
            <a:ext cx="861048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orema de Bayes: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usado para atualizar uma base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hecimento, ou seja, dado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rgimento de uma nova evid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termina o chamado “conhecimento posterio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62120" y="3695760"/>
                <a:ext cx="28191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/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/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3" name="praiagen" descr=""/>
          <p:cNvPicPr/>
          <p:nvPr/>
        </p:nvPicPr>
        <p:blipFill>
          <a:blip r:embed="rId1"/>
          <a:stretch/>
        </p:blipFill>
        <p:spPr>
          <a:xfrm>
            <a:off x="6416640" y="4791240"/>
            <a:ext cx="2270160" cy="182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B66-D113-4D3D-A64B-CE1717CCE5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65280" y="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des Bayesian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iculdade em associar números ao quanto se crê em um determinado fato. É mais fácil observar se um deter- minado fato depende de outro ou se afeta diretamente ou indiretamente outro novo f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representação em termos gráficos (grafos) proporciona uma maior aproximação do raciocínio humano com suas relações de depend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es Bayesianas são grafos direcionados acíclicos nos quais os nós representam variáveis aleatórias com me- didas de incerteza associadas. Os arcos significam a existência de uma influência causal direta entre as va- riáveis conectadas, e a força destas influências é quanti- ficada por probabilidades condicionais (Pearl, 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DE8-5DAA-4BA4-B5CF-D960A5775D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65280" y="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des Bayesian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213372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63080" y="623880"/>
            <a:ext cx="3149280" cy="3987000"/>
            <a:chOff x="2863080" y="623880"/>
            <a:chExt cx="3149280" cy="3987000"/>
          </a:xfrm>
        </p:grpSpPr>
        <p:sp>
          <p:nvSpPr>
            <p:cNvPr id="125" name=""/>
            <p:cNvSpPr/>
            <p:nvPr/>
          </p:nvSpPr>
          <p:spPr>
            <a:xfrm>
              <a:off x="4419720" y="1004760"/>
              <a:ext cx="121896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200040" y="1004760"/>
              <a:ext cx="12193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343040" y="2147760"/>
              <a:ext cx="12193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214776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43400" y="32148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276360" y="1004760"/>
              <a:ext cx="114300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63080" y="1766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98320" y="275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15360" y="31384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06280" y="1919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58360" y="623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8360" y="4205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0080" y="4572000"/>
            <a:ext cx="85273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= P(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.P(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.P(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.P(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.P(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.P(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m sempre pode-se identificar as dependências entre as variáve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uma tarefa para o julgamento humano. Para uma variável  B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lho” de uma variável A, deve-se constatar que A é causa dir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OPERA" descr=""/>
          <p:cNvPicPr/>
          <p:nvPr/>
        </p:nvPicPr>
        <p:blipFill>
          <a:blip r:embed="rId1"/>
          <a:stretch/>
        </p:blipFill>
        <p:spPr>
          <a:xfrm>
            <a:off x="6045120" y="1684440"/>
            <a:ext cx="309888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D9E-F3C7-483D-8951-572A158851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5920" y="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 JavaBay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 em Java elaborado pelo Prof. Fabio Coz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rramentas criar e manusear redes baye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osto de 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editor gráfic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conjunto de parser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motor de inferência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Editor gráfic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ermite criar e modificar redes numa forma amigá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arsers - faz a importação de redes. A estrututura do arquivo pode estar em um formatos ace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Motor de Inferência - responsável pela manipulação das estruturas de dados que representam as re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tor de Inferência pode produz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probabilidade marginal de qualquer variável da 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valor esperado de uma vari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figurações com probabilidade posterior máx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CD8-047E-482E-903E-53E562785B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65920" y="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 JavaBay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BB3-18A8-4CCA-9D7A-301F67CF83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8960" y="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blema de Tomada de Deci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5600" y="1704240"/>
            <a:ext cx="1947600" cy="101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74320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362320" y="914040"/>
            <a:ext cx="2057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14600" y="2590920"/>
            <a:ext cx="20574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352680"/>
            <a:ext cx="20574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67652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0025600">
            <a:off x="227880" y="16761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erci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68000">
            <a:off x="1800" y="29714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comerci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38000">
            <a:off x="2896200" y="159984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lsuce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350800">
            <a:off x="2441160" y="25146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em-suce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318400">
            <a:off x="2281320" y="8377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em-suce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038000">
            <a:off x="2667600" y="365724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lsuce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13200" y="1030320"/>
            <a:ext cx="4213080" cy="4483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O Gerente de Marketing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uma fábrica de brinque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está avaliando se determ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nado brinquedo deve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não ser introduzido no m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cado. A decisão de com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cializar ou não o brinqu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implica em riscos. É pos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sível por exemplo, tom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uma decisão de não com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cializar um brinqued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poderia ter suc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80" y="5241960"/>
            <a:ext cx="508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ados do Probl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sto fix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R$3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sto de Comercializ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R$30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428-1E9E-47C8-89E0-5312704811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28960" y="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blema de Tomada de Deci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600" y="1001880"/>
            <a:ext cx="8219880" cy="23536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abela de Retorno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umos de Ação Alternativ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ercializar                   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                          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Comercializar A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inquedo bem-sucedido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+ R$22000,00               - R$3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inquedo malsucedido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- R$33000,00               - R$3000,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3623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80" y="3745080"/>
            <a:ext cx="2404080" cy="143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vento E</a:t>
            </a:r>
            <a:r>
              <a:rPr b="1" lang="pt-BR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          P</a:t>
            </a:r>
            <a:r>
              <a:rPr b="1" lang="pt-BR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BS  E</a:t>
            </a:r>
            <a:r>
              <a:rPr b="1" lang="pt-BR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0,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MS  E</a:t>
            </a:r>
            <a:r>
              <a:rPr b="1" lang="pt-BR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0,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reuniao3" descr=""/>
          <p:cNvPicPr/>
          <p:nvPr/>
        </p:nvPicPr>
        <p:blipFill>
          <a:blip r:embed="rId1"/>
          <a:stretch/>
        </p:blipFill>
        <p:spPr>
          <a:xfrm>
            <a:off x="3870360" y="3592440"/>
            <a:ext cx="4740120" cy="235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72200" y="2590920"/>
            <a:ext cx="4572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4572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956-6E80-4834-B2F1-B75D229E84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8960" y="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blema de Tomada de Deci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2666880"/>
            <a:ext cx="8763120" cy="3573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Valor Monetário Esperado para cada Alternativa                     .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umos de Ação Alternativ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ercializar                           Não omerci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Evento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                   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,40      BBS 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+ R$22000,00x(0,4)                        - R$3000,00x(0,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= +R$8800,00                               = -R$12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,60      BMS 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- R$33000,00x(0,6)                         - R$3000,00x(0,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= -R$19800,0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= -R$18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ME = -R$11000,00                     VME = -R$3000,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41148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97640" y="762120"/>
            <a:ext cx="5199120" cy="1812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M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ME = valor monetário esperado da ação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ij = retorno que ocorre qdo o rumo de ação j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selecionado e o evento i ocor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i = probabilidade de ocorrência do evento 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3B1-CA3C-4438-9971-09408058FC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28960" y="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blema de Tomada de Deci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6840" y="773280"/>
            <a:ext cx="8972640" cy="1618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uponha que 80% dos brinquedos bem-sucedidos recebem prev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m relatório de pesquisa de marketing favorável, e 30% dos brinque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mal sucedidos recebem também um relatório favorável. O gerente des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já saber como a probabilidade do passado poderia ser revista se o bri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quedo recebesse um relatório favoráve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680" y="2743200"/>
            <a:ext cx="8911800" cy="1618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S = brinquedo bem-sucedido    Evento F = relatório favor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S’= brinquedo malsucedio         Evento F’= relatório desfavor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(S) = 0,40                                                 P(F|S) = 0,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(S’)= 0,60                                                 P(F|S’)= 0,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0760" y="4724280"/>
            <a:ext cx="85809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O gerente precisa saber qual a probabilidade de um bri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quedo bem-sucedido, dado que tenha recebido um relató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rio favorá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63B-361A-4018-A92E-949308C8F0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28960" y="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blema de Tomada de Deci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86400" y="762120"/>
            <a:ext cx="2895480" cy="2143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3048120"/>
            <a:ext cx="3809880" cy="3038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685800"/>
            <a:ext cx="4295880" cy="3666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41920" y="4975200"/>
            <a:ext cx="469476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(S|F) = 0,64                   P(S|F’) = 0,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(S’|F) = 0,36                  P(S’|F’) = 0,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F01-22A8-4B3E-B3BC-1195479485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32120"/>
            <a:ext cx="9144000" cy="94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É permitida a utilização e/ou reprodução total ou parcial deste material desde que que citada a fo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80" y="1260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minário - Avaliação de Desempenh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62000" y="2629080"/>
            <a:ext cx="49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oria e Aplicaçõ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81080" y="1123920"/>
            <a:ext cx="518184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Redes Bayesiana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F5A-5032-4765-89E0-FF02066828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8960" y="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blema de Tomada de Deci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5440" y="762120"/>
            <a:ext cx="8693640" cy="1679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abilidade     Probabilidade     Prob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Passado        Condicional           Revis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vento Si                            P(Si)                    P(F|Si)                  P(Si|F)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 = BBS                               0,40                       0,80                0,64 = P(S|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’= BMS                               0,60                       0,30                0,36 = P(S’|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2666880"/>
            <a:ext cx="8991720" cy="3573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Valor Monetário Esperado usando Probabilidades Revisadas             .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umos de Ação Alternativ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ercializar                           Não Comerci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Evento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                   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,64      BBS 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+ R$22000,00x(0,64)                      - R$3000,00x(0,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= +R$14080,00                               = -R$192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,36      BMS  E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- R$33000,00x(0,36)                       - R$3000,00x(0,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= -R$11880,0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= -R$108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ME =  +R$2200,00                     VME =  -R$3000,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C04-CC5B-4995-BF73-87AE1F276F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99960" y="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clus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oria Bayesiana aplicada a sistemas especialistas dá maior consistência ao tratamento de conhecimentos incertos (Hruschka, 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stemas Especialistas Bayesianos podem gerar redes que representam problemas do mundo real em que existam relações de causa e consequencia entre as variáve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uso de Redes Bayesianas vem ganhando espaço não só no meio acadêmico, como também comercialmente (Hruschka, 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presas de grande porte, como a Microsoft, vem investindo nesta teoria e acredita-se que o futuro do software possa estar nas Redes Bayesianas (Leslie, 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723-62C9-402A-B840-23FF334ED8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58120" y="144792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uito obriga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708280" y="2306520"/>
            <a:ext cx="3295800" cy="3426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rot="19497600">
            <a:off x="1707120" y="440784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ú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549400">
            <a:off x="5379840" y="425556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ú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7840" y="442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834-4129-4A5C-9C6B-BE63D7A138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1DA-9FD0-4A06-A5F1-725ACA4FDD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40600" y="1584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160" y="2514600"/>
            <a:ext cx="148608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6520" y="609480"/>
            <a:ext cx="7467480" cy="563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609480"/>
            <a:ext cx="75438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undamentação Teó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des Bayesi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Sistema Java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de Redes Bayesinas para um Problema de Tomada de Deci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401-97B3-4886-A580-A3ECA92C6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92560" y="1584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ferências Bibliográ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5840" y="806400"/>
            <a:ext cx="95407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Hruschka Jr., E.R. e Silva, W.T. “Propagação de Crença 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 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Aprendizado em Redes Bayesianas”. Relatório de P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 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quisa CIC/UnB, Brasília, DF, Mar 1997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Cozman, F.G., “JavaBayes Version 0.343 - Bayes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Networks in Java - User Manual”, Escola Politécnica, US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Feb 200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Heckerman, D., “A Tutorial on Learning Bayesian Network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Technical Report MSR-TR-96-06, Microsoft Research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pt-BR" sz="3000" spc="-1" strike="noStrike">
                <a:solidFill>
                  <a:srgbClr val="3333cc"/>
                </a:solidFill>
                <a:latin typeface="Arial Narrow"/>
              </a:rPr>
              <a:t>Advanced Technology Division, 199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Jordan, M.I., “An Introduction to Graphical Models”. Tutorial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 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slides, Massachusetts Institute of Technology, Dec 1997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47C-05E5-4B13-9217-3C139DEE2B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960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847800"/>
            <a:ext cx="876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verendo Bayes - primeiro a sugerir a re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 conhecimento incerto baseado na estatísi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has de pesqu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 lógico - processamento sim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 linguístico - baseaia-se no raciocínio fuz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 de Dempster-Sha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 estatístico - baseia-se no cálculo das pr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ia Bayesiana -  aplicada em sistemas especial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e conhecimentos certos e ince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s de propagação de crenças - a partir de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da rede, propagam o conhecimento de novos f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 de aprendizado - dada uma amostra, 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a a estrutura que melhor se adapta aos dados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97C-9681-463D-A9DC-5653122E03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9360" y="3960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baseados em Redes Bayes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787400"/>
            <a:ext cx="891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blo - verifica descendência de gado através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entificação do tipo de sangue (Rasmussen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e de mofo no trigo (Jensen 199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indows 95 incorpora funções para tratam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e impressão (Heckerman 199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362320" y="3328920"/>
          <a:ext cx="388620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328920"/>
                    <a:ext cx="388620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Vaca" descr=""/>
          <p:cNvPicPr/>
          <p:nvPr/>
        </p:nvPicPr>
        <p:blipFill>
          <a:blip r:embed="rId3"/>
          <a:stretch/>
        </p:blipFill>
        <p:spPr>
          <a:xfrm>
            <a:off x="3276720" y="838080"/>
            <a:ext cx="1904760" cy="1314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DAE-68F9-4E57-A11A-D8A98B27A1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360" y="3960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baseados em Redes Bayes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67652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ta - usado pela NASA no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s onibus espaciais. Filtra e mo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ormações sobre o sistema de propul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Horvitz &amp; Barry 199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ns para recuperaçã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ormaç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nbspacl" descr=""/>
          <p:cNvPicPr/>
          <p:nvPr/>
        </p:nvPicPr>
        <p:blipFill>
          <a:blip r:embed="rId1"/>
          <a:stretch/>
        </p:blipFill>
        <p:spPr>
          <a:xfrm>
            <a:off x="7364520" y="1295280"/>
            <a:ext cx="15508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78A-8E62-4B2F-A2AD-D090A97C2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9360" y="3960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baseados em Redes Bayes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858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hild - diagnóstico de doe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gênitas do coração (Lauritzen 199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wan - sistema para ajustar d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insulina em pacientes diab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Hejlesen 199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thfinder - ajuda patologistas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agnóstico de alterações da glândula linf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Heckerman 19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inulim - diagnóstico de doenças neuro-mu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ailfinder - para previsão de tempo do noroeste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do (Abramson 199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 interpretação de imagens (Binford 198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erência de imagens em 3D a partir de dados em 2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edico2" descr=""/>
          <p:cNvPicPr/>
          <p:nvPr/>
        </p:nvPicPr>
        <p:blipFill>
          <a:blip r:embed="rId1"/>
          <a:stretch/>
        </p:blipFill>
        <p:spPr>
          <a:xfrm>
            <a:off x="5962680" y="685800"/>
            <a:ext cx="3029040" cy="25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182-5971-4878-B0F0-C80144208F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80" y="6480"/>
            <a:ext cx="9118440" cy="61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0520" y="39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undamentação Te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143000"/>
            <a:ext cx="8610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Enfoque Bayesiano - interpreta a probabilidade como o grau de c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eza de um determinado evento. Representa numericamente o gr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de certeza sobre condições de incert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863800"/>
            <a:ext cx="86104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Dados dois eventos A e B, é possível condionar A a ocorrênci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724280"/>
            <a:ext cx="8610480" cy="838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e B são independentes se a ocorrência de B não 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ormativa para a ocorrência de A e vice-ver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95440" y="3397320"/>
                <a:ext cx="2405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/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827600" y="3549600"/>
                <a:ext cx="11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BD9-AFEE-4557-9A61-BFDD467FD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4:33:59Z</dcterms:created>
  <dc:creator>Jorge Luiz de Castro e Silva</dc:creator>
  <dc:description/>
  <dc:language>en-US</dc:language>
  <cp:lastModifiedBy>Jorge Luiz de Castro e Silva</cp:lastModifiedBy>
  <dcterms:modified xsi:type="dcterms:W3CDTF">2000-06-10T16:19:43Z</dcterms:modified>
  <cp:revision>21</cp:revision>
  <dc:subject/>
  <dc:title>Slide sem título </dc:title>
</cp:coreProperties>
</file>