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D9DE-1966-48C4-9487-A130AD3D1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7C43-5222-4F8F-83F4-BA34B7142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69A1-15C4-4BDC-8735-5267D19BA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A346-D7C1-45CF-A868-C4749419D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FC50F-5340-4CB8-8B96-3CC76236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95B7C-D536-4743-9A78-1A352AE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BF4DF-54BB-4E6D-B6D5-57200AFC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89031-2E8A-4A58-9D31-28EF371F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EA533-5DF9-48A8-B0A3-99606B1C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50E04-72BD-456A-BB25-A2219F1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AF95-4E09-4937-ACC4-27AC7BD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8D71-B388-4B05-9ACF-2DD115CC8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23D3-434C-4708-B616-60ABED6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2388-F2CC-4B4E-B138-34D0EAE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6931-B8C1-42CA-86A4-3453227F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32296-7028-45EB-A32A-1C6A2BE2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2D31-48F0-4BD7-A479-44F8BA43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D0F2-19FA-4BC4-BCA2-774C2EDF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193B-E06A-43A5-BA7A-9D517398A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2BDE-B7AC-4B1F-AD81-AEC687990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BDB6-C605-496B-80A0-3BAFEEF7C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F40B-A771-4803-8929-91350D8A0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3B3F-3293-496F-B608-30FAA295C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5ED8-8182-49F9-B18B-9B46994C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16A-9F29-44CF-B319-5FAE6A5CBCA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26D-245C-4618-98D0-70FB7C9C310C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517-2CA1-4D11-B276-544B967743B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adeias de Markov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75247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uciano Barboza da Sil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bêbado deseja se deslocar de um ponto A para um ponto B. Chamemos de     a posição do bêbado no instante   . Para simplificar, suponhamos que o bêbado só possa se deslocar para trás e para frente, com a mesma probabilidade. Temos então o segui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843520" y="3200400"/>
                <a:ext cx="252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675320" y="3733920"/>
                <a:ext cx="125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213840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00200" y="213840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00400" y="2138400"/>
            <a:ext cx="12808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13848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300400" y="2138400"/>
            <a:ext cx="12808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13848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900600" y="2209680"/>
            <a:ext cx="12808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13848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300400" y="2209680"/>
            <a:ext cx="12808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Introdução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7905960" cy="28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termo estocástico vem do grego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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que significa literalmente conjecturar, advinhar, supor. Dessa forma podemos imaginar que um Processo Estocástico é um processo sobre o qual só podemos ter palpites sobre o comportamento e jamais certezas.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410080" y="32767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614600" y="2209680"/>
            <a:ext cx="12808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4267080"/>
            <a:ext cx="632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29528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2096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9718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809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572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33412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09588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858000" y="41907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620120" y="4114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914400" y="430704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7684920" y="4349880"/>
                <a:ext cx="239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133720" y="4419720"/>
                <a:ext cx="7596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89548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733920" y="44197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538520" y="4419720"/>
                <a:ext cx="1098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257800" y="4419720"/>
                <a:ext cx="96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6019920" y="4419720"/>
                <a:ext cx="1029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19840" y="4419720"/>
                <a:ext cx="856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538280" y="2209680"/>
            <a:ext cx="128124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4833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9960" y="2575080"/>
            <a:ext cx="7483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vimos depois de doze passos o bêbado está no estado    . Chamemos        a posição do bêbado no instante    . Lembremos que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serva-se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648320" y="32004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5410080" y="3684600"/>
                <a:ext cx="2743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1,2,3,4,5,6,7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473120" y="4203720"/>
                <a:ext cx="889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29000" y="4572000"/>
                <a:ext cx="283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441600" y="5638680"/>
                <a:ext cx="2806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590920" y="3240000"/>
                <a:ext cx="190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705040" y="3733920"/>
                <a:ext cx="1904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cessos Markovian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9960" y="2575080"/>
            <a:ext cx="7483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im vimos que para definirmos a probabilidade da cadeia estar em um dado estado no presente basta olharmos onde ela estava no instante imediatamente anterior. Esta propriedade é chamada Propriedade Markoviana. Não é uma propriedade válida para todos os processos e aqueles que a possuem são ditos Markovi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priedade Markovi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9960" y="2575080"/>
            <a:ext cx="7483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malmente a propriedade markoviana pode ser expressa da seguinte manei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1149480" y="3886200"/>
                <a:ext cx="6846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priedade Markovi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9960" y="2575080"/>
            <a:ext cx="7483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ficamente poderíamos pensar a propriedade markoviana da seguinte for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47920" y="4343400"/>
            <a:ext cx="121896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4343400"/>
            <a:ext cx="129564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4343400"/>
            <a:ext cx="137160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43400" y="4343400"/>
            <a:ext cx="137160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4343400"/>
            <a:ext cx="129528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48520" y="4343400"/>
            <a:ext cx="144756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962520" y="5638680"/>
                <a:ext cx="1904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717640" y="5587920"/>
                <a:ext cx="559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5562720"/>
                <a:ext cx="559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703840" y="5562720"/>
                <a:ext cx="62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587920"/>
                <a:ext cx="609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781680" y="5587920"/>
                <a:ext cx="596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Algumas Definiçõ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69960" y="2575080"/>
            <a:ext cx="748332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emos a seguinte no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Diz-se que uma cadeia de Markov é homogênea se a probabilidade condicional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depende de n             ou sej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7315200" y="4800600"/>
                <a:ext cx="722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670200" y="5398920"/>
                <a:ext cx="9018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98920" y="6019920"/>
                <a:ext cx="37461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298600" y="3467160"/>
                <a:ext cx="454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Algumas Definiçõ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Chamamos a probabilidade     de probabilidade de transi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Chamamos Matriz de Transição à matriz de todas as probabilidades de transição do proces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781680" y="2057400"/>
                <a:ext cx="341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08440" y="4038480"/>
                <a:ext cx="33271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Definiçõ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9600" y="2575080"/>
            <a:ext cx="7635960" cy="26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processo estocástico é uma coleção de Variáveis Aleatórias                      onde     é um conjunto de índ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 variáveis aleatórias      assumem valores em um conjunto     chamado Espaço de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54480" y="3124080"/>
                <a:ext cx="1689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86600" y="3124080"/>
                <a:ext cx="228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44840" y="3962520"/>
                <a:ext cx="303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76360" y="4419720"/>
                <a:ext cx="2145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idere um sistema de comunicação que transmite dígitos 0 e 1. Cada dígito transmitido passa por muitos estágios e a cada estágio existe uma probabilidade p deste dígito não ser modifi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ja       o valor do dígito quando ele entra no n-ésimo estágio. Neste caso o proces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cada estágio pode ser modelado como uma cadeia de Markov com matriz de transiçã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828800" y="4495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6324480" y="4952880"/>
                <a:ext cx="1854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276720" y="2286000"/>
                <a:ext cx="2412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1219320" y="380988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n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324160" y="4762440"/>
                <a:ext cx="4495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Equação de Chapman-Kolmogoro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2438280"/>
            <a:ext cx="685800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mos usar a seguinte no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 seja     é a probabilidade de alcançar o estado        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tir do estado       em        passos.  Temos   assim    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inte expr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3022560" y="3200400"/>
                <a:ext cx="3098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606840" y="5638680"/>
                <a:ext cx="1879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ℵ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7391520" y="4179960"/>
                <a:ext cx="190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379680" y="4776840"/>
                <a:ext cx="125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267080" y="4800600"/>
                <a:ext cx="1908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aracterização do Proces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2438280"/>
            <a:ext cx="6858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uponha que conhecemos                         . Neste c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hecendo a matriz de transição define-se o processo completamente po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610160" y="2514600"/>
                <a:ext cx="1714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033560" y="4317840"/>
                <a:ext cx="7227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lassificação de Esta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066680" y="2362320"/>
            <a:ext cx="7010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Dizemos que um estado   é acessível a partir de um estado     se             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Dois estados são comunicantes se um é acessível a partir do out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Dois estados comunicantes formam um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Duas classes de estados são idênticas ou disju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Uma cadeia de Markov é dita irredutível se tem apenas um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3200400" y="2819520"/>
                <a:ext cx="176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2438280"/>
                <a:ext cx="1908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514600" y="287172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lassificação de Esta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2362320"/>
            <a:ext cx="7010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Exempl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Considere uma cadeia de Markov com os seguintes estados: 0, 1, 2, 3 e a seguinte matriz de tran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serve que        formam uma classe       e       ,        formam outras classes disti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263760" y="3301920"/>
                <a:ext cx="261648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946240" y="5361120"/>
                <a:ext cx="559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389640" y="5334120"/>
                <a:ext cx="3920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327800" y="5334120"/>
                <a:ext cx="3682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lassificação de Esta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66680" y="2362320"/>
            <a:ext cx="7010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Um estado     é dito recorrente se a probabilidade de a cadeia, passando por    retornar a     é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Um estado é dito transiente se a cadeia, passando por  , tem uma probabilidade positiva de não mais retornar a este es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Teorem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Em uma cadeia de estados finitos todos os estados são recorr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276720" y="249084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87172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867280" y="2871720"/>
                <a:ext cx="125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676520" y="378612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2362320"/>
            <a:ext cx="7010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deremos uma cadeia de Markov com matriz de tran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servemos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657600" y="3124080"/>
                <a:ext cx="1866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206360" y="4648320"/>
                <a:ext cx="2298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102200" y="4648320"/>
                <a:ext cx="2908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74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5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6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33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5715000"/>
                <a:ext cx="259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7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7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3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2311560"/>
            <a:ext cx="70102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que se observa é que a matriz resultante das multiplicações está convergindo. O que acontece é que sob algumas condições no limite temos uma matriz estável onde a probabilidade de a cadeia estar em qualquer dos estados é independente do estado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Um estado    tem um período d  se             quando              n não é divisível por    , onde    é o maior inteiro com esta caracterís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019920" y="4800600"/>
                <a:ext cx="825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3124080" y="4876920"/>
                <a:ext cx="125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066680" y="5334120"/>
                <a:ext cx="1908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733920" y="528336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876920" y="525780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334120" y="4826160"/>
                <a:ext cx="22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66680" y="1905120"/>
            <a:ext cx="7010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Exemplo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meçando em i é possível que a cadeia só possa retornar a i nos instantes 2, 4, 6, .... Neste caso diz-se que a cadeia tem período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.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 estado   que tem período 1 é dito aperiód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e um estado    é recorrente e o tempo esperado de retorno a   é finito   é dito Recorrente Positivo, caso contrário Recorrente Nu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Numa cadeia de Markov com espaço de estados finitos todos os estados recorrentes são Recorrentes Positiv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151080" y="3328920"/>
                <a:ext cx="125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505320" y="386244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438280" y="4191120"/>
                <a:ext cx="125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657600" y="419112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Definiçõ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4073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onjunto de Índices      pode se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) Discreto:            Neste caso denota-se o processo da seguinte forma                  ;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) Contínuo:          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91120" y="2706840"/>
                <a:ext cx="228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692440" y="3657600"/>
                <a:ext cx="888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846520" y="487692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⊂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952880" y="4114800"/>
                <a:ext cx="1371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1905120"/>
            <a:ext cx="7010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Def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stados recorrentes positivos e aperiódicos são chamados ergód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Teorema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ara uma cadeia irredutivel e ergódica o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 e é independente de    , ou se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além disso      é única e solução não negativa do seguinte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7365960" y="2819520"/>
                <a:ext cx="78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409920" y="3962520"/>
                <a:ext cx="2324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048120" y="4533840"/>
                <a:ext cx="315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295800" y="5054760"/>
                <a:ext cx="255240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446720" y="3481560"/>
                <a:ext cx="125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066680" y="1905120"/>
            <a:ext cx="7010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Times New Roman"/>
              </a:rPr>
              <a:t>Exemplo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Suponhamos que a chance de chover amanhã depende tão somente do fato de chover ou não hoje. Suponha também que se chove hoje estão irá chover amanhã com probabilidade      e se não chove hoje então choverá amanhã com probabilidade    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e processo é Markoviano com matriz de trans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 nosso processo os estados são chover ou não chove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800600" y="3151080"/>
                <a:ext cx="2286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324480" y="3468600"/>
                <a:ext cx="252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809880" y="4419720"/>
                <a:ext cx="1409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66680" y="1905120"/>
            <a:ext cx="7010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ja        uma variável aleatória tal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 definamos ai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828800" y="1981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59160" y="2514600"/>
                <a:ext cx="2425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se chover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651120" y="4419720"/>
                <a:ext cx="1841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1905120"/>
            <a:ext cx="7010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nossa cadeia tem espaço de estados finito ela é recorrente positiva. Além disso é aperiódica pois sempre vai haver a probabilidade de chover ou de não chover. Portanto nossa cadeia é ergódica e assim a probabilidade limite existe. Para encontrá-la resolvemos o seguinte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3079800" y="4495680"/>
                <a:ext cx="29844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Probabilidades Limi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1905120"/>
            <a:ext cx="7010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olvendo esse sistema encontr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e resultado nos diz que depois de um tempo muito longo a nossa cadeia terá probabilidades de chover e não chover independentes do estado inicial do proces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733920" y="2438280"/>
                <a:ext cx="17143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Conclusõ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066680" y="1905120"/>
            <a:ext cx="7010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ando processos como sendo cadeias de Markov somos capazes de, dentre outras cois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tender a evolução do process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crever as probabilidades de transi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ificar estad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lcular o comportamento lim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Referências Bibliográfic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1905120"/>
            <a:ext cx="7010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SS, S. M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trodution to Probability Model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xth Edition, Academic Press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SS, S. M.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tochastic Proce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Second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tion, John Wiley &amp; Son, Inc., 199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HAT, U. N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sts of Applied Stochastic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ce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Seconde Edition, Joh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Wiley &amp;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ns, 198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KULKARNI, V.G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odeling and Analysis of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tochastic System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hapman &amp; Hall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Referências Bibliográfic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66680" y="1905120"/>
            <a:ext cx="70106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UTTORP, P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tochastic Modeling of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cientific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at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hapman &amp; hall,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AWLER, G. F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trodution to Sthocastic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cess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Chapman &amp; Hall,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HATTACHARYA, R. N. and WAYMIRE, E. C.;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tochastic Process with Application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ohn Wiley &amp; Sons, Inc.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KARLIN, S. and TAYLOR, H. M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First Cours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 Stochastic Processe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Second Edition,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cademic Press, 19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57200" y="457200"/>
            <a:ext cx="83548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Referências Bibliográfic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9960" y="1905120"/>
            <a:ext cx="7483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1905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ÇINLAR, E.;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ntrodution to Stochastic Proces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Prentice-Hall, Inc, 19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Definiçõ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6359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lativamente ao conjunto de índices classificamos os processos estocásticos como sendo:  a Tempo Discreto ou a Tempo Contínu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Espaço de Estados também pode ser contínuo ou discr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função                 é chamada caminho do processo e representa a evolução do sistema no t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95480" y="4648320"/>
                <a:ext cx="1168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Objetiv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63596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objetivo do estudo dos processos estocásticos é compreender o comportamento da trajetória do sistema  com objetivo de fazer previsões e/ou controlar o futuro do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214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Ex: Modelo de Performance Computaciona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9600" y="1905120"/>
            <a:ext cx="7483320" cy="40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ponhamos que            , seja o estado de um sistema computacional no tempo   . Tipicamente este sistema tem espaço de estados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 estado            o sistema trabalha com uma taxa de      (geralmente medida em instruções por segundo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ja          a quantidade de atividades feitas até o instante    e dada por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95760" y="2084400"/>
                <a:ext cx="1257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248520" y="2971800"/>
                <a:ext cx="1803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581280"/>
                <a:ext cx="596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52480" y="3962520"/>
                <a:ext cx="457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5029200"/>
                <a:ext cx="596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13000" y="5638680"/>
                <a:ext cx="125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191120" y="5410080"/>
                <a:ext cx="2273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70600" y="2590920"/>
                <a:ext cx="125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0716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Trajetória típica de Z(t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a tempo contínuo e estados discre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25146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6386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1055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419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81952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1480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5562360"/>
            <a:ext cx="0" cy="759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510516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105520"/>
            <a:ext cx="1067040" cy="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1952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4419720"/>
            <a:ext cx="1295280" cy="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44193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1055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14800" y="5105520"/>
            <a:ext cx="990720" cy="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4360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05520" y="3276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276720"/>
            <a:ext cx="838080" cy="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14400" y="2514600"/>
                <a:ext cx="531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705720" y="5856120"/>
                <a:ext cx="125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0716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Arial Narrow"/>
              </a:rPr>
              <a:t>Trajetória típica de W(t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cesso a tempo contínuo e estados contín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251460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6386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51055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419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4419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1952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1480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943600" y="5562360"/>
            <a:ext cx="0" cy="759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14800" y="44193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105520" y="55623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055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94360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05520" y="3276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82720" y="2514600"/>
                <a:ext cx="596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705720" y="5856120"/>
                <a:ext cx="125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 flipV="1">
            <a:off x="2819520" y="4419720"/>
            <a:ext cx="1295280" cy="121896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14800" y="3733560"/>
            <a:ext cx="0" cy="68580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14800" y="3276720"/>
            <a:ext cx="990720" cy="45720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3276720"/>
            <a:ext cx="838080" cy="0"/>
          </a:xfrm>
          <a:prstGeom prst="line">
            <a:avLst/>
          </a:prstGeom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50:31Z</dcterms:created>
  <dc:creator>Windows</dc:creator>
  <dc:description/>
  <dc:language>en-US</dc:language>
  <cp:lastModifiedBy>Windows</cp:lastModifiedBy>
  <dcterms:modified xsi:type="dcterms:W3CDTF">2000-06-26T14:27:11Z</dcterms:modified>
  <cp:revision>22</cp:revision>
  <dc:subject/>
  <dc:title>Cadeias de Markov</dc:title>
</cp:coreProperties>
</file>