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0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B700-2B91-4292-98CA-A194433B4E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852-98F4-4189-802C-80FC0AF8535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6B1-15AA-44A6-8309-761E7318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D26-27D8-4DF1-BC3E-CE7EAE63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FF1-4E1F-4A25-8764-9F4FF7AE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B34-8796-41F1-B324-30193F58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FDC-9BD4-48E1-95AE-652456F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1F9-09EA-4F26-8E04-8133F09B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D51-7E98-4C39-B6DE-D7B3ED86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DED-958B-41DA-AA23-73891C73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9D3-CD29-4E29-8DFB-B2487FF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2C0-BC0C-4C8C-827B-FC9298F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DA4-2BE9-46EB-A006-A1DFD3A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2BC-C366-44F5-A5AA-63CE2B94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33D-F2AC-43B3-95D5-72332B304F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medev.net/columns/books/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gushenr@gmail.com" TargetMode="External"/><Relationship Id="rId3" Type="http://schemas.openxmlformats.org/officeDocument/2006/relationships/hyperlink" Target="mailto:ghpc@cin.ufpe.br" TargetMode="External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Unreal Engin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A984-76D6-486E-AAAE-0E1398A05B7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211400"/>
            <a:ext cx="76327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oles 7</a:t>
            </a:r>
            <a:r>
              <a:rPr b="1" lang="en-US" sz="4000" spc="-1" strike="noStrike" u="sng" baseline="40000">
                <a:solidFill>
                  <a:srgbClr val="800000"/>
                </a:solidFill>
                <a:uFillTx/>
                <a:latin typeface="Arial"/>
              </a:rPr>
              <a:t>a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Ge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ços mais a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ra para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, Sony e Nint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taformas v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içã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s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ve do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ers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spcBef>
                <a:spcPts val="451"/>
              </a:spcBef>
              <a:buClr>
                <a:srgbClr val="54a2e2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BCF-E87C-4158-B074-92C3A3CC9FB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971800" cy="1639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651640" y="2819520"/>
            <a:ext cx="2981160" cy="1717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0" t="1436" r="0" b="0"/>
          <a:stretch/>
        </p:blipFill>
        <p:spPr>
          <a:xfrm>
            <a:off x="5651640" y="4508640"/>
            <a:ext cx="2979720" cy="1501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219320" y="4654440"/>
            <a:ext cx="2857320" cy="12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93080" y="11253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7480" y="45226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8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33440" y="11253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3440" y="27939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33440" y="4449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AB8-250D-4B1E-B9E5-B14EDB8BAC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Perspec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atual do mercado de jogos par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ud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dificul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a serem anali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online, M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ribuição em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uta contra pira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para cons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indows 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io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281-0288-4CB3-9CFB-D1DD56D1BA8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923000" y="2982960"/>
            <a:ext cx="1304640" cy="733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3997" t="10575" r="3997" b="18951"/>
          <a:stretch/>
        </p:blipFill>
        <p:spPr>
          <a:xfrm>
            <a:off x="6372360" y="2852640"/>
            <a:ext cx="2209680" cy="960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932360" y="378936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419640" y="4581360"/>
            <a:ext cx="1201680" cy="1419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636000" y="417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9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93F-8816-411A-AD6A-1F3E64B6247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conteú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s mais a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c-Ma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ari 26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program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os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US$ 10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lo 2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bo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90 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US$ 40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A38E-D614-49C7-A8D5-03D4AD2340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8880" y="4508640"/>
            <a:ext cx="2286000" cy="144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699240" y="4508640"/>
            <a:ext cx="1905120" cy="142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716360" y="1197000"/>
          <a:ext cx="3924360" cy="26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197000"/>
                    <a:ext cx="392436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628000" y="417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isodic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mento de valor c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me Outsourcing Summit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ividade mais terceir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te (4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2176-B9C8-4D62-A1D9-D1B8A6901B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429000" cy="15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605" t="7090" r="55378" b="0"/>
          <a:stretch/>
        </p:blipFill>
        <p:spPr>
          <a:xfrm>
            <a:off x="5219640" y="3305160"/>
            <a:ext cx="3276720" cy="987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16360" y="4651200"/>
            <a:ext cx="3810240" cy="115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85800" y="12682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90040" y="38988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F2F-15D8-40A7-BC89-6234C455D1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Mercado de Con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as perspe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a geraçã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Mercado de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gos cas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i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Mercado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1526-CBA4-4E7C-A1BF-DD6D37AF7B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5880" y="1219320"/>
            <a:ext cx="1113120" cy="155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1638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935-EEEB-4298-A3C8-207B7CC320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2AA-2CCC-4F50-A84A-FD9FA77A87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71600" y="1273320"/>
            <a:ext cx="2854440" cy="833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16360" y="1270080"/>
            <a:ext cx="2827440" cy="733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403280" y="3429000"/>
            <a:ext cx="1548000" cy="1090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169884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154560" y="4952880"/>
            <a:ext cx="1837080" cy="997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2895480" y="2206800"/>
            <a:ext cx="3200400" cy="72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3851280" y="3429000"/>
            <a:ext cx="1125360" cy="112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3029040" y="5065560"/>
            <a:ext cx="2536560" cy="873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5796000" y="3716280"/>
            <a:ext cx="25210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CryENGIN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193-1A74-448A-B560-DF393AD63B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2360" y="1268280"/>
            <a:ext cx="63183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382-8BC9-4BB5-B3D5-9633FC1899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medev.net/columns/book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497-9513-4B82-91BC-3CBCA85B8D1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243080" y="2514600"/>
            <a:ext cx="1884240" cy="236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565440" y="2514600"/>
            <a:ext cx="1881360" cy="2362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815080" y="2514600"/>
            <a:ext cx="188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] Entertainment definition from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] MINSKY, M.. Game Developers Conference, Março de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] Game definition from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4] MALONE, T.. Toward a theory of intrinsically motivation instruction. 19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5] FALSTEIN, N.. Natural Funativity. Gamasutra article. Novembro de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6] IGDA Online Games White Paper. 2nd Edition. Março de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7] U.S. Census Bureau, Population Divi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8] BAKIE, R. T.. A Brief History of Video Games – Introduction to Game Development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9] The History of Video Game. Gamespot Arti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0] FLOPS definition from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1] Playstation 3 vs. Xbox 360: Tech Head-to-head. Gamespot Article. Maio de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2] Tecnologias de Visualização na Indústria de Jogos Digitais. Potencial econômico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nológico para a indústria brasileira de software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3] A Indústria de Desenvolvimento de Jogos Eletrônicos no Brasil. Estudo da Assoc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sileira de Desenvolvedoras de Jogos Eletrônicos (ABRAGAMES)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4] NORMAND, R.. ColunaGame-Tal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5] Site oficial da Jynx Playw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6] Site oficial da Prelou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7] Secrets of the Game Business.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18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SEN, J.. 2003 Game Development Salary Survey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amasutra Article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9] SLOPER, T.. Game Production and Project Management. Introduction to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20] Definição de Game Engine do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2AF-3811-415C-BB98-16D2D9278A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21] PriceWaterHouseCoopers –  Global Entertainment and Media Outlook: 2006 –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22] ISTOÉ Dinheiro. Número 373. Não é brinquedo, não.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3] History of video game consoles (seventh generation)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4] Xbox 360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5] Playstation 3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6] Wii, Xbox 360 ou Playstation 3: qual dos novos consoles escolher?. IDG Now! 2006.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7] Analyst: Win, Place or Show: Does it Really Matter? Gamasutr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8] Analyze This: Handicapping the 2006 Holiday Gift-Buying Season. Gamasutr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9] Analyze This: The Current State of the PC Bame Business. Gamasutr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0] Wii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1] REIMER, J.. Cross-platform Game Development and the Next Generation of Conso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onível em: http://arstechnica.com/articles/paedia/hardware/crossplatform.ars.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2] KRAFT. J., KWAK. C.. Episodic Gaming in the Age of Digital Distribution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3] VENTURES, A.. Study Finds Mixed Response to Video Game Outsourcing. Gamasu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896-E19D-49CD-AC90-2D05A4457C5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py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Conteúdo desta apresentação (Mercado de Jogos Digitais – Uma Visão Geral), de propriedade pessoal de Gustavo Carvalho, está sujeito a copyright. Os direitos de tradução, reprodução, reuso de figuras, citações, reprodução de qualquer forma, armazenamento em sistemas de informação (inclusive na Web), estão sujeitas à autorização prévia do au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©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41A7-5339-47EF-9C38-F74770071E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ercado de Jogos Digit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2205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ma Visã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3352680"/>
            <a:ext cx="914400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ustavo Carv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shenr@gmail.com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hpc@cin.ufpe.b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v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4FFD-FFD1-45D9-BFA8-47EAE5FCBCE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997440" y="2886120"/>
            <a:ext cx="11127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DF5-B15C-422E-9F09-61BFDF34180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power_poin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CryENGIN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D6EB-8422-439E-9E17-A9CBE6D9EA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00120" y="1197000"/>
            <a:ext cx="6384960" cy="47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40000" y="4508640"/>
            <a:ext cx="1008000" cy="57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2133720"/>
            <a:ext cx="1008360" cy="57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CryENGIN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1D5-11CD-4200-A1CB-CEC1F0E8BD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00120" y="1197000"/>
            <a:ext cx="63849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6FB0-4870-4039-8688-89748312E7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oles 7</a:t>
            </a:r>
            <a:r>
              <a:rPr b="1" lang="en-US" sz="4000" spc="-1" strike="noStrike" u="sng" baseline="40000">
                <a:solidFill>
                  <a:srgbClr val="800000"/>
                </a:solidFill>
                <a:uFillTx/>
                <a:latin typeface="Arial"/>
              </a:rPr>
              <a:t>a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Ge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étima geração de con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9F6E-9ECD-49D3-8F31-9426D43031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2360" y="1808280"/>
            <a:ext cx="2135160" cy="348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02120" y="1809720"/>
            <a:ext cx="2622240" cy="349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240600" y="1809720"/>
            <a:ext cx="2724120" cy="34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84120" y="551340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3480" y="544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$ 2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200400" y="551340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89760" y="544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$ 2.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367320" y="551340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557040" y="544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$ 1.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4640" y="153972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2 de Novembro d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0440" y="153972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7 de Novembr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28240" y="153972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 de Novembr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2680" y="534024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,9 milhõ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dades ven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86360" y="534024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,7 milhõ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dades ven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81720" y="534024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 milhõ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dades ven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72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Xbox 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ção com IBM, ATI, Samsung e 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usto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$ 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enon-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Powe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entral de entreten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gos, Multimidia,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box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X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079A-B11F-40DA-9455-9287CE9C48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16009" b="0"/>
          <a:stretch/>
        </p:blipFill>
        <p:spPr>
          <a:xfrm>
            <a:off x="7315200" y="1066680"/>
            <a:ext cx="1616040" cy="256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093080" y="5300640"/>
            <a:ext cx="150804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427640" y="3429000"/>
            <a:ext cx="2971800" cy="15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456080" y="1736640"/>
            <a:ext cx="2867040" cy="1609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0108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Playsta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ção com IBM e Tosh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usto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$ 840,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S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IDIA G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3 SIX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Blu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43BC-C0DD-4561-BA24-48586DC8B3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36000" y="1268280"/>
            <a:ext cx="16030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54003" t="0" r="0" b="0"/>
          <a:stretch/>
        </p:blipFill>
        <p:spPr>
          <a:xfrm>
            <a:off x="4140360" y="468324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51280" y="1989000"/>
            <a:ext cx="3095640" cy="174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156360" y="4149720"/>
            <a:ext cx="2416320" cy="181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1404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W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29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i 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i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C41A-C0D8-4260-9C99-0C1B107F11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16720" y="1206360"/>
            <a:ext cx="209232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681360" y="3933720"/>
            <a:ext cx="1611360" cy="200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2638440" cy="216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24360" y="4221000"/>
            <a:ext cx="3067200" cy="165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72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2:55:46Z</dcterms:created>
  <dc:creator>Usuario</dc:creator>
  <dc:description/>
  <dc:language>en-US</dc:language>
  <cp:lastModifiedBy>LuizJr</cp:lastModifiedBy>
  <dcterms:modified xsi:type="dcterms:W3CDTF">2007-12-02T15:21:45Z</dcterms:modified>
  <cp:revision>444</cp:revision>
  <dc:subject/>
  <dc:title>CIn Institucional (Portuguê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wner">
    <vt:lpwstr/>
  </property>
  <property fmtid="{D5CDD505-2E9C-101B-9397-08002B2CF9AE}" pid="4" name="SPSDescription">
    <vt:lpwstr/>
  </property>
  <property fmtid="{D5CDD505-2E9C-101B-9397-08002B2CF9AE}" pid="5" name="Status">
    <vt:lpwstr/>
  </property>
</Properties>
</file>