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C26F-5AF1-4DD5-968C-98DE67DA2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35280" y="503964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08AA-3106-4635-B3D8-14547739B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2252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0A78-5A8D-4382-B852-06948426C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48252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52940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43528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648252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52940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26D7-AA24-48A0-BE1D-D4C9E4B75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6DD50-5275-489A-AB1A-A8228C71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F7649-8572-4B8E-ACB6-57BEA68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7A8A-8528-484E-B536-760EEE0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F85E3-6A91-461E-810F-E58CDBCD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85C6-3D47-4075-9F81-9D78A7F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68360" y="2133360"/>
            <a:ext cx="61898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53BA-E688-4EDA-AB14-56326E2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F902-A17C-4681-BA5A-55DDCBA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BCD2-BD5D-43A8-AD1A-F267F2287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02252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1DD4F-D791-4D2A-84FA-B4E6EB26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C91E-3AC5-4C7F-A2F9-A201BAB9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35280" y="503964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E9F7C-41D7-4C23-9588-23954ADA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02252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5BB3-1DE6-4E4D-86A5-D2CA3EE0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48252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29400" y="412380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3528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648252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529400" y="5039640"/>
            <a:ext cx="996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0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303D0-7524-45E8-B72A-8653142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7DCB-89BC-43E5-AE0C-DF17209C1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454C-0C10-4060-B083-BF52314AA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FE5D-2216-47E3-9180-F960094E0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68360" y="2133360"/>
            <a:ext cx="618984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BDB0-023F-41E6-8A97-7D675050E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ED49-EA0E-4923-BB34-56FD10C5F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22520" y="503964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196D-BC86-41EE-92B0-CDE43512C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3528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22520" y="4123800"/>
            <a:ext cx="151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35280" y="5039640"/>
            <a:ext cx="3097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F5CD-D292-43F1-AA35-25D9677D7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Monotype Corsiva"/>
              </a:rPr>
              <a:t>Click to edit the title text format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1ffb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12B-0719-47CF-B378-5AF8F3C1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049160" y="5229360"/>
            <a:ext cx="2032560" cy="1563480"/>
            <a:chOff x="7049160" y="5229360"/>
            <a:chExt cx="2032560" cy="1563480"/>
          </a:xfrm>
        </p:grpSpPr>
        <p:sp>
          <p:nvSpPr>
            <p:cNvPr id="5" name=""/>
            <p:cNvSpPr/>
            <p:nvPr/>
          </p:nvSpPr>
          <p:spPr>
            <a:xfrm rot="21143400">
              <a:off x="7092720" y="5875200"/>
              <a:ext cx="1944720" cy="792000"/>
            </a:xfrm>
            <a:prstGeom prst="donut">
              <a:avLst>
                <a:gd name="adj" fmla="val 11134"/>
              </a:avLst>
            </a:prstGeom>
            <a:solidFill>
              <a:srgbClr val="f7f723"/>
            </a:solidFill>
            <a:ln w="9360">
              <a:solidFill>
                <a:srgbClr val="e5e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5400000">
              <a:off x="7853760" y="5798160"/>
              <a:ext cx="761760" cy="9162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916200"/>
                <a:gd name="textAreaBottom" fmla="*/ 916560 h 9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880" y="10892"/>
                  </a:moveTo>
                  <a:arcTo wR="-7921" hR="-7921" stAng="10760073" swAng="-1685123"/>
                  <a:lnTo>
                    <a:pt x="20269" y="5605"/>
                  </a:lnTo>
                  <a:arcTo wR="10800" hR="10800" stAng="-1725050" swAng="1685123"/>
                  <a:lnTo>
                    <a:pt x="24299" y="10643"/>
                  </a:lnTo>
                  <a:lnTo>
                    <a:pt x="20208" y="14831"/>
                  </a:lnTo>
                  <a:lnTo>
                    <a:pt x="16021" y="10739"/>
                  </a:lnTo>
                  <a:close/>
                </a:path>
              </a:pathLst>
            </a:custGeom>
            <a:solidFill>
              <a:srgbClr val="f7f723"/>
            </a:solidFill>
            <a:ln w="9360">
              <a:solidFill>
                <a:srgbClr val="e5e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7570800" y="5229360"/>
              <a:ext cx="1033560" cy="12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"/>
          <p:cNvSpPr/>
          <p:nvPr/>
        </p:nvSpPr>
        <p:spPr>
          <a:xfrm>
            <a:off x="1619280" y="6453360"/>
            <a:ext cx="0" cy="0"/>
          </a:xfrm>
          <a:prstGeom prst="line">
            <a:avLst/>
          </a:prstGeom>
          <a:ln w="38160">
            <a:solidFill>
              <a:srgbClr val="e5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68360" y="1341360"/>
            <a:ext cx="8207280" cy="716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b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Monotype Corsiva"/>
              </a:rPr>
              <a:t>Click to edit the title text format</a:t>
            </a:r>
            <a:endParaRPr b="0" lang="en-US" sz="60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E32-FBF3-4B5A-A94F-FB9B7D77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1143400">
            <a:off x="277560" y="2781000"/>
            <a:ext cx="1944720" cy="792000"/>
          </a:xfrm>
          <a:prstGeom prst="donut">
            <a:avLst>
              <a:gd name="adj" fmla="val 11134"/>
            </a:avLst>
          </a:prstGeom>
          <a:solidFill>
            <a:srgbClr val="f7f723"/>
          </a:solidFill>
          <a:ln w="9360">
            <a:solidFill>
              <a:srgbClr val="e5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1038600" y="2704320"/>
            <a:ext cx="762120" cy="9162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6200"/>
              <a:gd name="textAreaBottom" fmla="*/ 916560 h 916200"/>
            </a:gdLst>
            <a:ahLst/>
            <a:rect l="textAreaLeft" t="textAreaTop" r="textAreaRight" b="textAreaBottom"/>
            <a:pathLst>
              <a:path w="21600" h="21600">
                <a:moveTo>
                  <a:pt x="2880" y="10892"/>
                </a:moveTo>
                <a:arcTo wR="-7921" hR="-7921" stAng="10760073" swAng="-1685123"/>
                <a:lnTo>
                  <a:pt x="20269" y="5605"/>
                </a:lnTo>
                <a:arcTo wR="10800" hR="10800" stAng="-1725050" swAng="1685123"/>
                <a:lnTo>
                  <a:pt x="24299" y="10643"/>
                </a:lnTo>
                <a:lnTo>
                  <a:pt x="20208" y="14831"/>
                </a:lnTo>
                <a:lnTo>
                  <a:pt x="16021" y="10739"/>
                </a:lnTo>
                <a:close/>
              </a:path>
            </a:pathLst>
          </a:custGeom>
          <a:solidFill>
            <a:srgbClr val="f7f723"/>
          </a:solidFill>
          <a:ln w="9360">
            <a:solidFill>
              <a:srgbClr val="e5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55640" y="2135160"/>
            <a:ext cx="1033560" cy="12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3397320"/>
            <a:ext cx="0" cy="0"/>
          </a:xfrm>
          <a:prstGeom prst="line">
            <a:avLst/>
          </a:prstGeom>
          <a:ln w="38160">
            <a:solidFill>
              <a:srgbClr val="e5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1ffb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8000"/>
                </a:solidFill>
                <a:latin typeface="Monotype Corsiva"/>
              </a:rPr>
              <a:t>Usabilidade nos Processos de Desenvolvimento de Software</a:t>
            </a:r>
            <a:endParaRPr b="0" lang="en-US" sz="48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Alessandro Vasconce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Alexandra Bar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Cynthia Bell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Filipe Le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Rafael Dua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História dos Modelos – 1/5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5013000"/>
            <a:ext cx="73436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SO 13407 – Projeto de Processos Centrados no Humano para Sistemas Iterativ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557360"/>
            <a:ext cx="7416720" cy="116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inal do desenvolvimento da ISO 9241 – Requisitos Ergonômicos para Área de Trabalho com Terminais de Dispositivo Vis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213000"/>
            <a:ext cx="7345080" cy="128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ecessidade de um documento de alto nível que abordasse as atividades de fatores huma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4653000"/>
            <a:ext cx="576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a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5400" y="2838600"/>
            <a:ext cx="576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a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História dos Modelos – 2/5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s de avali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Human 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aturidade de Gerência de Usa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aturidade do Projeto Centrado n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Maturidade de Sistemas To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trada para 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odelo de Maturidade em Us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História dos Modelos – 3/5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48980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de Maturidade em Us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6280"/>
            <a:ext cx="748980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SO TR 18529 – Descrições do Ciclo de Vida de Processos Centrados n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5400" y="2838600"/>
            <a:ext cx="606600" cy="661680"/>
          </a:xfrm>
          <a:prstGeom prst="downArrow">
            <a:avLst>
              <a:gd name="adj1" fmla="val 50000"/>
              <a:gd name="adj2" fmla="val 27270"/>
            </a:avLst>
          </a:prstGeom>
          <a:solidFill>
            <a:srgbClr val="00a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História dos Modelos – 4/5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64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Jokela examinou alguns modelos e concluiu que o modelo de Maturidade em Usabilidade era o mel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tacou a utilidade da avali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ecessidade de outros elementos de garant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ência téc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bilidade na estratégia do negó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ultura organizacional no projeto centrado no usuá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História dos Modelos – 5/5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C7 – Engenharia de Software padroniz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SO 12207 - Processos do Ciclo de Vida de Softwar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cluir um processo de usabilidade baseado na ISO TR 1852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SO 15288 - Processos de Ciclo de Vida de Siste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evar em conta questões relacionadas a fatores humanos no desenvolvimento e operação de siste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SO 13407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Processo Centrado n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tividade multidisciplina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aúde, segurança e performance human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qüência e nível de esforço e detalhe variam de acordo com o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ambiente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projeto e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estági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o proces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1557360"/>
            <a:ext cx="7345440" cy="3744720"/>
          </a:xfrm>
          <a:prstGeom prst="bevel">
            <a:avLst>
              <a:gd name="adj" fmla="val 3690"/>
            </a:avLst>
          </a:prstGeom>
          <a:solidFill>
            <a:srgbClr val="e5e0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0786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SO TR 18529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Descrição dos Processos do Ciclo de Vida de Projeto Centrado n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que deve ser feito em ordem para representar e incluir os usuários de um sistema durante o ciclo de vid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ão é normativ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7 proces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1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serir os conceitos de HCD na Estratégia do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epresent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usuário fin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letar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inteligência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market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r e planejar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estratégia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e sistem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letar o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feedback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market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nalisar 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tendênci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2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nejar e Gerenciar o Processo H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Consult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planej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envolvi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leciona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métodos e técnic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centrados n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ssegurar que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time de proje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siga uma abordagem centrada no hum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lanej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s atividades centradas no hum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Gerenci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s atividades centradas no hum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emi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 abordagem centrada no hum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ve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uport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o projeto centrado no hum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Tópicos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cess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abi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bilidade no Processo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arantia de usabi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istória dos mode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13407 e ISO TR 1852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 de util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erê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3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pecificar os Requisitos  do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stakeholders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Organiz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clarecer e documentar 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met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r </a:t>
            </a: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takeholder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mpo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risc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os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istema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rar o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requisit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s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e da organizaçã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finir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qualidad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4: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tender e Especificar o Contex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documentar 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tarefas do usuári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documenta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atributos significant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document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ambiente organizacional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document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ambiente técnic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r e document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ambiente físic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5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: Produzir Soluções de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Aloc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funçõ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duzir u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modelo de taref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comp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xplor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oje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conhecimento existent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para desenvolver soluções de proj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Especificar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o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senvolve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otótip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senvolve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treina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senvolve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uport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6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Validar o Projeto Mediante os Requis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pecificar e valid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contexto de validaçã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ida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otótipos recente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 fim de definir requisitos para o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idar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otótip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 fim de melhorar o proj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idar o sistema a fim de checar se o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requisito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sistema foram satisfei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idar o sistema a fim de checar se 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prática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necessárias foram segu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Valid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istema em us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 fim de assegurar que ele continua a satisfazer as necessidades organizacionais e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ISO</a:t>
            </a:r>
            <a:endParaRPr b="0" lang="en-US" sz="36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HCD 7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Introduzir e Operar o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trole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mudanç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termina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impac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na organização e nos </a:t>
            </a:r>
            <a:r>
              <a:rPr b="0" i="1" lang="pt-BR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je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local e customizad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necer 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treinament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do usuá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Suporte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aos usuários nas atividades planej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arantir conformidade com 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Tahoma"/>
              </a:rPr>
              <a:t>legislação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sobre a ergonomia do ambiente de trabal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 – </a:t>
            </a:r>
            <a:r>
              <a:rPr b="0" lang="pt-BR" sz="3200" spc="-1" strike="noStrike">
                <a:solidFill>
                  <a:srgbClr val="008000"/>
                </a:solidFill>
                <a:latin typeface="Monotype Corsiva"/>
              </a:rPr>
              <a:t>Utilização</a:t>
            </a:r>
            <a:endParaRPr b="0" lang="en-US" sz="32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í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clarações de pro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SO TR 1852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claração contextualizada de pro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(geral ou específic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stanciação de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no de projet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ção de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cursos específ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Conclusão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pandir cultura de UC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daptação ao contex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Referências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ncipa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van, N. e Bogomolni, I. Incorporating user quality requirements in the software development proces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van, N. Quality in Use: meeting user needs for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rthy, J.V. Usability Maturity Model: process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kela, T. Usability capability models - review and analy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man, D. A. e Draper, S. W. User Centered System Design: A New Perspective on Human-Computer Interact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ntre outras (vide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monografi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8360" y="2133360"/>
            <a:ext cx="6189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8000"/>
                </a:solidFill>
                <a:latin typeface="Monotype Corsiva"/>
              </a:rPr>
              <a:t>Usabilidade nos Processos de Desenvolvimento de Software</a:t>
            </a:r>
            <a:endParaRPr b="0" lang="en-US" sz="48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435280" y="4123800"/>
            <a:ext cx="3097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Alessandro Vasconcel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Alexandra Bar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Cynthia Belle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Filipe Le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Rafael Duar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Introdução </a:t>
            </a:r>
            <a:r>
              <a:rPr b="0" lang="pt-BR" sz="2400" spc="-1" strike="noStrike">
                <a:solidFill>
                  <a:srgbClr val="008000"/>
                </a:solidFill>
                <a:latin typeface="Monotype Corsiva"/>
              </a:rPr>
              <a:t>(1 de 4)</a:t>
            </a:r>
            <a:endParaRPr b="0" lang="en-US" sz="2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biqü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lidade vs. Us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atisfação do 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Introduçã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Processo</a:t>
            </a: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Monotype Corsiva"/>
              </a:rPr>
              <a:t>(2 de 4)</a:t>
            </a:r>
            <a:endParaRPr b="0" lang="en-US" sz="2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njunto de atividades, métodos, práticas e transformações que as pessoas usam para desenvolver e manter software e os produtos assoc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versos proces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Introduçã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Qualidade</a:t>
            </a: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Monotype Corsiva"/>
              </a:rPr>
              <a:t>(3 de 4)</a:t>
            </a: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lidade é o conceito de fazer produtos atenderem seu propósitos com mínimo de defe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lhoria do Processo     Melhoria d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versos mode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m diversas etapas do proce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573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Introdução - </a:t>
            </a:r>
            <a:r>
              <a:rPr b="0" lang="pt-BR" sz="3600" spc="-1" strike="noStrike">
                <a:solidFill>
                  <a:srgbClr val="008000"/>
                </a:solidFill>
                <a:latin typeface="Monotype Corsiva"/>
              </a:rPr>
              <a:t>Usabilidade</a:t>
            </a: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Monotype Corsiva"/>
              </a:rPr>
              <a:t>(4 de 4)</a:t>
            </a:r>
            <a:endParaRPr b="0" lang="en-US" sz="2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e International Standards Organization (ISO) defines usability as th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ffectivenes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atisfaction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with which specified users achieve specified goals in particular environments.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Usabilidade no Processo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o usuário, a interface é 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bilidade pobre custa ca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lidade no u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 software não existe isolad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ve adequar-se a um ambiente de trabalho socio-tecnoló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de usabilidade integrados ao pro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8000"/>
                </a:solidFill>
                <a:latin typeface="Monotype Corsiva"/>
              </a:rPr>
              <a:t>Garantia de Usabilidade</a:t>
            </a:r>
            <a:endParaRPr b="0" lang="en-US" sz="5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SO 9241-11 – Usab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fetiv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ficiê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tisf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ributos do prod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a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pacidade 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reens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prendi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per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8000"/>
                </a:solidFill>
                <a:latin typeface="Monotype Corsiva"/>
              </a:rPr>
              <a:t>Métodos para Garantia de Usabilidade</a:t>
            </a:r>
            <a:endParaRPr b="0" lang="en-US" sz="4400" spc="-1" strike="noStrike">
              <a:solidFill>
                <a:srgbClr val="008000"/>
              </a:solidFill>
              <a:latin typeface="Monotype Corsiv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ributos do prod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rformance e satisfação do 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ertificação de proce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rganização centrada no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etência téc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pacidade do proce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9T18:33:40Z</dcterms:created>
  <dc:creator>Miau</dc:creator>
  <dc:description/>
  <dc:language>en-US</dc:language>
  <cp:lastModifiedBy>Alexandra Barros</cp:lastModifiedBy>
  <dcterms:modified xsi:type="dcterms:W3CDTF">2004-09-10T07:35:54Z</dcterms:modified>
  <cp:revision>169</cp:revision>
  <dc:subject/>
  <dc:title>Slide 1</dc:title>
</cp:coreProperties>
</file>