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C6FC-E73E-4291-8D1A-D2C8C59E240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kk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8A6-0529-41A7-AD98-39B5A517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BEE-1DBC-4664-83E7-8814FB57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8CF-60B1-48F0-ADAE-0F9FCD62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330-F5CA-436B-BE6F-8B9F70A0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D4A4-1E45-4D2A-AF59-215B5700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7B49-F12B-409A-868E-6B377BB3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00F6-7E33-4ED6-94E3-8F7034E8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84ED-96DF-4274-82D4-56EEBF5F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E610-8C8E-4A9D-8778-740818C8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D06D-D063-4ED1-A582-E97D98AC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A68B-8CD2-486E-8AF4-94E580BB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CAE5-7F54-4731-B0FA-F58A3A11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6D43-2EAB-41A5-962C-B77DB88F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85C9-0DC7-4C53-8FBB-E192B7E3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3664-5F41-4FD0-9754-6643CCE5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A405-B27C-4352-BB49-ABE47CB2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2C55-2E25-474F-A166-C4689B98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B205-AC2C-455D-A419-AD9AD498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037-11F4-4B2A-A932-E3637D40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E1D-7730-44B5-96F7-A2429755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FA6F-585B-4292-ABBF-0CB18F3A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D9C0-1F58-4B62-8336-71771436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B50-615B-4B94-9BAC-8A3B3EE2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434-44E0-4F50-AE50-0C885628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C90A-36A8-491C-A85F-51DABD348C9F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FB7C-5078-4A55-9689-6A1787F76BC1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sei.cmu.edu/cmmi/appraisals/appraisals.html" TargetMode="External"/><Relationship Id="rId2" Type="http://schemas.openxmlformats.org/officeDocument/2006/relationships/hyperlink" Target="http://www.sei.cmu.edu/cmmi/appraisals/appraisals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Roteir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que é SCAMP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erific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ontes de evidências obje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vestigações foc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mplement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strumentos e ferramen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luxogr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MM para CM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icadores da Execução Prátic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Indicadores da Execução Prática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(PIIs) - as “pegadas” que são a consequencia necessária da execução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i artefatos e informações recolhidas de entrevistas com ger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ipos de Indicador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tefatos Dire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tangíveis, resultado diretamente da execução de uma prá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o de projeto, materiais de treinamento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tefatos Indire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efatos que são efeito colateral ou que indicam a execução de uma prá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ões, logs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firmaçõ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is ou escritas que confirmam ou auxiliam a implementação de uma pr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evistas, questionário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aracterizando a exec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ibue os valores da caracterização que refletem a extensão da execução da prática para cada ins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as práticas executadas por projetos, uma instancia = cada proje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equipe de auditoria deve levar em considerações aspectos como tamanho do projeto, duração, cultura organizacional, mercado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rtir dos valores atribuídos no nível de instancia, a equipe usa regras para definir a Unidade Organizacional(O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ras para caracterizacao – Nível da instanc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49320" y="1981080"/>
          <a:ext cx="7661160" cy="4349880"/>
        </p:xfrm>
        <a:graphic>
          <a:graphicData uri="http://schemas.openxmlformats.org/drawingml/2006/table">
            <a:tbl>
              <a:tblPr/>
              <a:tblGrid>
                <a:gridCol w="2779560"/>
                <a:gridCol w="4881600"/>
              </a:tblGrid>
              <a:tr h="446040"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157400"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amente Implementado (FI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fatos diretos presentes e corre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xiliado por artefatos indiretos e/ou afirmaçõe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nhuma deficien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amente implementado (LI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fatos diretos presentes e corre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xiliado por artefatos indiretos e/ou afirmaçõ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a ou mais deficiên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cialmente Implementado(PI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fatos diretos ausentes ou inadequad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fatos ou afirmações indicam que algum aspecto da prática são implementad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a ou mais deficiênc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implementado (NI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nhuma situação cober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Regras para caracterização – nível da unidade organizacional(OU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557360"/>
          <a:ext cx="8229600" cy="4878360"/>
        </p:xfrm>
        <a:graphic>
          <a:graphicData uri="http://schemas.openxmlformats.org/drawingml/2006/table">
            <a:tbl>
              <a:tblPr/>
              <a:tblGrid>
                <a:gridCol w="2178000"/>
                <a:gridCol w="2008080"/>
                <a:gridCol w="4043520"/>
              </a:tblGrid>
              <a:tr h="538560"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çã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13240"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s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s instanciações tem a mesma caracterizaçã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000"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s (LI ou F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s instanciações são caracterizadas LI ou superio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000"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m PI, Nenhuma 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 ou P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e de julgamento escolhe LI ou PI para a OU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000"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m 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, PI, ou 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0680" bIns="40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e de julgamento escolhe NI, PI, ou LI para a OU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todologia SCAMP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SCAMPI é composto por 3 fases e 11 proces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ejamento e Prepa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. Planejamento e Prepar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 primeira fase inclui as atividades necessárias para definir os objetivos, os escopo e para obter o compromisso do patrocinad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m plano será desenvolvido para conduzir a avali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equipe será treinada e ficará por dentro das decisões iniciais tomad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mente, a equipe prepara os objetos de prova que serão avaliados, economizando tempo e esforço no processo de ‘descoberta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I. Gest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sta fase a equipe de avaliação focaliza em recolher dados da organização, para julgar a extensão a que o modelo é implement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ados e avaliações são gerados para determinar o nível de maturidade para a organiz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II. Resultad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órios com os resultados e as estatísticas da avaliação são apresentados à organização e aos patrocinadores, mostrando as forças e fraquez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s resultados são documentados, arquivados e repassados ao CMMI ficando disponíveis para a comunida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1523880"/>
            <a:ext cx="19810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o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li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3429000"/>
            <a:ext cx="2590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ação do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particip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2"/>
            <a:endCxn id="129" idx="0"/>
          </p:cNvCxnSpPr>
          <p:nvPr/>
        </p:nvCxnSpPr>
        <p:spPr>
          <a:xfrm>
            <a:off x="2361960" y="2209320"/>
            <a:ext cx="1080" cy="1220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1219320" y="4114800"/>
            <a:ext cx="25905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600" spc="-1" strike="noStrike">
                <a:solidFill>
                  <a:srgbClr val="3b812f"/>
                </a:solidFill>
                <a:latin typeface="Arial"/>
              </a:rPr>
              <a:t>Time treinado, participantes orien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22200" y="2340000"/>
            <a:ext cx="27864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600" spc="-1" strike="noStrike">
                <a:solidFill>
                  <a:srgbClr val="3b812f"/>
                </a:solidFill>
                <a:latin typeface="Arial"/>
              </a:rPr>
              <a:t>escopo, plano de avali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523880"/>
            <a:ext cx="2971800" cy="7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er e analisar evidências inici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2362320"/>
            <a:ext cx="4114800" cy="8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2400" spc="-1" strike="noStrike" baseline="30000">
                <a:solidFill>
                  <a:srgbClr val="3b812f"/>
                </a:solidFill>
                <a:latin typeface="Arial"/>
              </a:rPr>
              <a:t>1</a:t>
            </a:r>
            <a:r>
              <a:rPr b="1" i="1" lang="en-US" sz="1600" spc="-1" strike="noStrike" baseline="30000">
                <a:solidFill>
                  <a:srgbClr val="3b812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3b812f"/>
                </a:solidFill>
                <a:latin typeface="Arial"/>
              </a:rPr>
              <a:t>questionários, mapeamento, doc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2400" spc="-1" strike="noStrike" baseline="30000">
                <a:solidFill>
                  <a:srgbClr val="3b812f"/>
                </a:solidFill>
                <a:latin typeface="Arial"/>
              </a:rPr>
              <a:t>2</a:t>
            </a:r>
            <a:r>
              <a:rPr b="1" i="1" lang="en-US" sz="1600" spc="-1" strike="noStrike" baseline="30000">
                <a:solidFill>
                  <a:srgbClr val="3b812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3b812f"/>
                </a:solidFill>
                <a:latin typeface="Arial"/>
              </a:rPr>
              <a:t> PII  databas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3429000"/>
            <a:ext cx="266724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ação para coleta de evidê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3" idx="2"/>
            <a:endCxn id="135" idx="0"/>
          </p:cNvCxnSpPr>
          <p:nvPr/>
        </p:nvCxnSpPr>
        <p:spPr>
          <a:xfrm>
            <a:off x="6057720" y="2300040"/>
            <a:ext cx="1080" cy="112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7" name=""/>
          <p:cNvSpPr/>
          <p:nvPr/>
        </p:nvSpPr>
        <p:spPr>
          <a:xfrm>
            <a:off x="561600" y="5516640"/>
            <a:ext cx="4038840" cy="813240"/>
          </a:xfrm>
          <a:prstGeom prst="rect">
            <a:avLst/>
          </a:prstGeom>
          <a:solidFill>
            <a:srgbClr val="ffffcc"/>
          </a:solidFill>
          <a:ln w="1260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 baseline="30000">
                <a:solidFill>
                  <a:srgbClr val="3b812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3b812f"/>
                </a:solidFill>
                <a:latin typeface="Arial"/>
              </a:rPr>
              <a:t> Questionários - op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 baseline="30000">
                <a:solidFill>
                  <a:srgbClr val="3b812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3b812f"/>
                </a:solidFill>
                <a:latin typeface="Arial"/>
              </a:rPr>
              <a:t> PII = practice implementation indic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29" idx="3"/>
            <a:endCxn id="133" idx="1"/>
          </p:cNvCxnSpPr>
          <p:nvPr/>
        </p:nvCxnSpPr>
        <p:spPr>
          <a:xfrm flipV="1">
            <a:off x="3657600" y="1912680"/>
            <a:ext cx="915120" cy="1821600"/>
          </a:xfrm>
          <a:prstGeom prst="bentConnector3">
            <a:avLst>
              <a:gd name="adj1" fmla="val 49980"/>
            </a:avLst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9" name=""/>
          <p:cNvSpPr/>
          <p:nvPr/>
        </p:nvSpPr>
        <p:spPr>
          <a:xfrm>
            <a:off x="5562000" y="5281560"/>
            <a:ext cx="937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800" spc="-1" strike="noStrike">
                <a:solidFill>
                  <a:srgbClr val="a40037"/>
                </a:solidFill>
                <a:latin typeface="Arial"/>
              </a:rPr>
              <a:t>Gest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5" idx="2"/>
          </p:cNvCxnSpPr>
          <p:nvPr/>
        </p:nvCxnSpPr>
        <p:spPr>
          <a:xfrm>
            <a:off x="6057720" y="4038120"/>
            <a:ext cx="1080" cy="1143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41" name=""/>
          <p:cNvSpPr/>
          <p:nvPr/>
        </p:nvSpPr>
        <p:spPr>
          <a:xfrm>
            <a:off x="4876920" y="5181480"/>
            <a:ext cx="2361960" cy="60984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4114800"/>
            <a:ext cx="38862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600" spc="-1" strike="noStrike">
                <a:solidFill>
                  <a:srgbClr val="3b812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3b812f"/>
                </a:solidFill>
                <a:latin typeface="Arial"/>
              </a:rPr>
              <a:t>plano de coleta de d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8640" y="279360"/>
            <a:ext cx="82137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lanejamento e Prepar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O que é SCAMPI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andard CMMI Apraisal Method for Proces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 padrão projetado para fornecer testes padronizados para avaliações de qualidade relativas a modelos CM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st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2743200"/>
            <a:ext cx="21337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r Evidê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71600" y="1143000"/>
            <a:ext cx="21337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inar evidê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752480"/>
            <a:ext cx="37335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600" spc="-1" strike="noStrike">
                <a:solidFill>
                  <a:srgbClr val="3b812f"/>
                </a:solidFill>
                <a:latin typeface="Arial"/>
              </a:rPr>
              <a:t>Resultados dos questionários, PII database, documentos, entrev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6" idx="2"/>
            <a:endCxn id="145" idx="0"/>
          </p:cNvCxnSpPr>
          <p:nvPr/>
        </p:nvCxnSpPr>
        <p:spPr>
          <a:xfrm>
            <a:off x="2437920" y="1752480"/>
            <a:ext cx="1080" cy="99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49" name=""/>
          <p:cNvSpPr/>
          <p:nvPr/>
        </p:nvSpPr>
        <p:spPr>
          <a:xfrm>
            <a:off x="5334120" y="1219320"/>
            <a:ext cx="25905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e practice implementation g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4343400"/>
            <a:ext cx="228600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izar implementação de prá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819520"/>
            <a:ext cx="2590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umento de Evidê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4267080"/>
            <a:ext cx="25905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ar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45" idx="2"/>
            <a:endCxn id="150" idx="0"/>
          </p:cNvCxnSpPr>
          <p:nvPr/>
        </p:nvCxnSpPr>
        <p:spPr>
          <a:xfrm>
            <a:off x="2437920" y="3352680"/>
            <a:ext cx="1080" cy="99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 flipV="1">
            <a:off x="3580920" y="1561680"/>
            <a:ext cx="1753560" cy="32011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49" idx="2"/>
            <a:endCxn id="151" idx="0"/>
          </p:cNvCxnSpPr>
          <p:nvPr/>
        </p:nvCxnSpPr>
        <p:spPr>
          <a:xfrm>
            <a:off x="6629040" y="1905120"/>
            <a:ext cx="108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51" idx="2"/>
            <a:endCxn id="152" idx="0"/>
          </p:cNvCxnSpPr>
          <p:nvPr/>
        </p:nvCxnSpPr>
        <p:spPr>
          <a:xfrm>
            <a:off x="6629040" y="3429000"/>
            <a:ext cx="108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7" name=""/>
          <p:cNvSpPr/>
          <p:nvPr/>
        </p:nvSpPr>
        <p:spPr>
          <a:xfrm>
            <a:off x="5486400" y="5486400"/>
            <a:ext cx="2286000" cy="6094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240" y="5562720"/>
            <a:ext cx="13950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800" spc="-1" strike="noStrike">
                <a:solidFill>
                  <a:srgbClr val="a40037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429000"/>
            <a:ext cx="41148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600" spc="-1" strike="noStrike">
                <a:solidFill>
                  <a:srgbClr val="3b812f"/>
                </a:solidFill>
                <a:latin typeface="Arial"/>
              </a:rPr>
              <a:t>Artefatos diretos e indiretos, afirmações, observações das dificul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5219640"/>
            <a:ext cx="37335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600" spc="-1" strike="noStrike">
                <a:solidFill>
                  <a:srgbClr val="3b812f"/>
                </a:solidFill>
                <a:latin typeface="Arial"/>
              </a:rPr>
              <a:t>Nivel de instanciação &amp; nivel de organiz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1981080"/>
            <a:ext cx="36576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600" spc="-1" strike="noStrike">
                <a:solidFill>
                  <a:srgbClr val="3b812f"/>
                </a:solidFill>
                <a:latin typeface="Arial"/>
              </a:rPr>
              <a:t>Decisões preliminares, feedback das decis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5280" y="6019920"/>
            <a:ext cx="6422400" cy="325080"/>
          </a:xfrm>
          <a:prstGeom prst="rect">
            <a:avLst/>
          </a:prstGeom>
          <a:solidFill>
            <a:srgbClr val="ffffcc"/>
          </a:solidFill>
          <a:ln w="1260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3b812f"/>
                </a:solidFill>
                <a:latin typeface="Arial"/>
              </a:rPr>
              <a:t>Nota:  Verificação e validação de dados é um processo inte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3429000"/>
            <a:ext cx="40384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600" spc="-1" strike="noStrike">
                <a:solidFill>
                  <a:srgbClr val="3b812f"/>
                </a:solidFill>
                <a:latin typeface="Arial"/>
              </a:rPr>
              <a:t>Documento de dados da avali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4952880"/>
            <a:ext cx="22860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600" spc="-1" strike="noStrike">
                <a:solidFill>
                  <a:srgbClr val="3b812f"/>
                </a:solidFill>
                <a:latin typeface="Arial"/>
              </a:rPr>
              <a:t>Decisões fi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4" idx="0"/>
            <a:endCxn id="157" idx="0"/>
          </p:cNvCxnSpPr>
          <p:nvPr/>
        </p:nvCxnSpPr>
        <p:spPr>
          <a:xfrm>
            <a:off x="6629040" y="4952880"/>
            <a:ext cx="108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8640" y="279360"/>
            <a:ext cx="82137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sultad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2514600"/>
            <a:ext cx="21333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ega de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3200400"/>
            <a:ext cx="37339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600" spc="-1" strike="noStrike">
                <a:solidFill>
                  <a:srgbClr val="3b812f"/>
                </a:solidFill>
                <a:latin typeface="Arial"/>
              </a:rPr>
              <a:t>Apresentação dos resultados,</a:t>
            </a:r>
            <a:r>
              <a:rPr b="1" i="1" lang="en-US" sz="1800" spc="-1" strike="noStrike" baseline="30000">
                <a:solidFill>
                  <a:srgbClr val="3b812f"/>
                </a:solidFill>
                <a:latin typeface="Arial"/>
              </a:rPr>
              <a:t> </a:t>
            </a:r>
            <a:r>
              <a:rPr b="1" lang="en-US" sz="2400" spc="-1" strike="noStrike" baseline="30000">
                <a:solidFill>
                  <a:srgbClr val="3b812f"/>
                </a:solidFill>
                <a:latin typeface="Arial"/>
              </a:rPr>
              <a:t>*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3b812f"/>
                </a:solidFill>
                <a:latin typeface="Arial"/>
              </a:rPr>
              <a:t>relatório fi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4114800"/>
            <a:ext cx="21333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umentar result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90840" y="1219320"/>
            <a:ext cx="23623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84720" y="1371600"/>
            <a:ext cx="22860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800" spc="-1" strike="noStrike">
                <a:solidFill>
                  <a:srgbClr val="a40037"/>
                </a:solidFill>
                <a:latin typeface="Arial"/>
              </a:rPr>
              <a:t>Gest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7" idx="2"/>
            <a:endCxn id="169" idx="0"/>
          </p:cNvCxnSpPr>
          <p:nvPr/>
        </p:nvCxnSpPr>
        <p:spPr>
          <a:xfrm>
            <a:off x="4571640" y="3124080"/>
            <a:ext cx="1080" cy="99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73" name=""/>
          <p:cNvCxnSpPr>
            <a:stCxn id="170" idx="4"/>
            <a:endCxn id="167" idx="0"/>
          </p:cNvCxnSpPr>
          <p:nvPr/>
        </p:nvCxnSpPr>
        <p:spPr>
          <a:xfrm>
            <a:off x="4571640" y="1828440"/>
            <a:ext cx="108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74" name=""/>
          <p:cNvSpPr/>
          <p:nvPr/>
        </p:nvSpPr>
        <p:spPr>
          <a:xfrm>
            <a:off x="2438280" y="5105520"/>
            <a:ext cx="426744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600" spc="-1" strike="noStrike">
                <a:solidFill>
                  <a:srgbClr val="3b812f"/>
                </a:solidFill>
                <a:latin typeface="Arial"/>
              </a:rPr>
              <a:t>Lições aprendida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3b812f"/>
                </a:solidFill>
                <a:latin typeface="Arial"/>
              </a:rPr>
              <a:t>avaliar resul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8320" y="5589720"/>
            <a:ext cx="2359440" cy="447480"/>
          </a:xfrm>
          <a:prstGeom prst="rect">
            <a:avLst/>
          </a:prstGeom>
          <a:solidFill>
            <a:srgbClr val="ffffcc"/>
          </a:solidFill>
          <a:ln w="1260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 baseline="30000">
                <a:solidFill>
                  <a:srgbClr val="3b812f"/>
                </a:solidFill>
                <a:latin typeface="Arial"/>
              </a:rPr>
              <a:t>Resultado final é op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asses de Método de Avali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687680"/>
          <a:ext cx="8229240" cy="3652200"/>
        </p:xfrm>
        <a:graphic>
          <a:graphicData uri="http://schemas.openxmlformats.org/drawingml/2006/table">
            <a:tbl>
              <a:tblPr/>
              <a:tblGrid>
                <a:gridCol w="2503440"/>
                <a:gridCol w="1772640"/>
                <a:gridCol w="1933560"/>
                <a:gridCol w="2019600"/>
              </a:tblGrid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 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 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 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0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dade de evidências obtidas (relativo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d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x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ing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os necessários (relativo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d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x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manho do time (relativo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que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96720" y="2602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ransi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348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o objetivo do negócio usando o CMMI gerenciado pelo SCAM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ender o CM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r o material (disponível no site do SE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e Road to CMMI: Results of the First Technology Transition Worksho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SEI, Feb.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qual a classe de método é apropriada (A, B, or 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lus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SCAMPI é um eficiente método de avaliação de processos em uma empre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deve, contudo, ser utilizado de forma arbitrária pois o mesmo demanda t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to maior o nível de maturidade de uma empresa, menor o custo no processo de desenvolvimento” (Bud Glick (Motorola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ferênci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The CMMI® and SCAMPIsm Leading-Edge Initiatives in Motoro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MMI Appraisals </a:t>
            </a:r>
            <a:r>
              <a:rPr b="0" lang="pt-BR" sz="19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ei.cmu.edu/cmmi/appraisals/appraisals.</a:t>
            </a:r>
            <a:r>
              <a:rPr b="0" lang="pt-BR" sz="19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m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Standard CMMISM Appraisal Method for Process Improvement (SCAMPISM), Version 1.1: Method Definition Docu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SCAMP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sibilit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r pontos fortes e fracos do processo atual da empre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cionar esses pontos fortes e fracos ao modelo CMM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izar-se a construção de planos de melho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cionar as melhorias(corrigir pontos fracos que causam riscos) mais benéficas à organização segundo o atual nível de maturidade do processo e da própria empre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bjetiv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ver um método de avaliação integrado capaz de suportar avaliações no contexto de melhora do processo interno, escolha de ferramentas e monitoramento do proces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ver um eficiente método de avaliação capaz de ser implementado dentro de razoavéis requisitos de perform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aracterístic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600200"/>
          <a:ext cx="8435880" cy="3865680"/>
        </p:xfrm>
        <a:graphic>
          <a:graphicData uri="http://schemas.openxmlformats.org/drawingml/2006/table">
            <a:tbl>
              <a:tblPr/>
              <a:tblGrid>
                <a:gridCol w="2459160"/>
                <a:gridCol w="5976720"/>
              </a:tblGrid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icaç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ã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lassificação verdadeiramente reflete a maturidade da organização, de acordo com o modelo de referência, e pode ser usada para comparações entre organizações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tebilida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cações e descobertas de um avaliação devem ser consistentes com outra avaliação independente conduzida sobre as mesmas condições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 benefíc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método de avaliação é eficiente em termos de pessoas/hora gastos no planejamento, preparação e execussão da avaliaçã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do dos resultad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resultados da avaliação são úteis  no suporte a tomada de decisões do patrocinado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tível com o AR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MPI é um método classe A e segue todos os requisitos do ARC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erforma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314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Verifica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807320" cy="50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rtir do descobrimento para a verific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vantar modelos orgacionais de implementação, com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cumentos (políticas, descrição de processos, pla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ividades de verificação (Auditorias internas, auditorias de qualid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rramentas e dados (bancos de dados, métricas, ferramentas de gerência de  configuraçã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pear prioridades em ativ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ir atividades a segu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valiar a estimativa de t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6769080" cy="7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Fontes de Evidências Objetiv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807320" cy="53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stru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belas de mapeamento entre as evidencias de implementação as práticas do CM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Questioná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presentaç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verview de produtos, demonstr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cu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líticas organizacionais, procedimentos e artefatos implemen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trevis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rentes, empregados e usuár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46814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Investigação Foca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3104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ar ênfase a coleta de dados relevantes ao processo de audito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tender qual o objetivo da evidência e como isso ela vai contribuir para a implementação das práticas mode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curar apenas recursos que serão nescessários em investigações futu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itar duplicação de esforç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9T10:59:52Z</dcterms:created>
  <dc:creator>Leonardo Filho</dc:creator>
  <dc:description/>
  <dc:language>en-US</dc:language>
  <cp:lastModifiedBy>glauber</cp:lastModifiedBy>
  <dcterms:modified xsi:type="dcterms:W3CDTF">2004-09-02T21:56:20Z</dcterms:modified>
  <cp:revision>12</cp:revision>
  <dc:subject/>
  <dc:title>Planejamento e Preparação</dc:title>
</cp:coreProperties>
</file>