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003-6D13-47E7-A651-714AC15D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B826-D5B2-4401-B3F6-CA781697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1BA-8F89-4721-8669-7B5F206F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C04-143F-4404-9F7D-5D66BE6F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BE32-E3A2-406A-99A4-8FEF3B26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BF80-F7C7-44FD-9C44-F70B86FB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5EBF-D93A-463A-B860-953F885F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1A89-1C71-4DC9-90CB-CCB9257D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80E6-F13A-4274-888E-4251EACD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4404-3047-43B7-A45A-8A4F40A7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3160-009C-478F-A4DC-7154408C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9515-5DAC-4BB0-89F4-73A1D7D6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4DCD-22C7-4344-BE35-B2C220E9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838F-6E45-40FF-A28F-AC0BF476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2BFD-47D7-4AA5-9C3B-DCE6E3C8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210E-8A20-44D4-A31D-BE18E033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C700-DA0F-4D7F-95DE-268FFEAE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E203-BCBC-4A8C-92D1-DDB13D85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DA1E-A899-4DDB-8D50-ECBF5B70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63F-CC59-463C-B6F1-4FDE9FAD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67D-E3D1-4225-9C35-5991B5B2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5F0-2421-48B8-930F-D72E61A0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41F3-D4B1-45DA-9A45-3A8ED70F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C894-090B-4995-91F2-B3DB7FE2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07AE-0500-469C-97E4-9F5E59116A9E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EF5B-56E7-482D-94D0-676696759890}" type="slidenum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softstarsystems.com/overview.htm" TargetMode="External"/><Relationship Id="rId2" Type="http://schemas.openxmlformats.org/officeDocument/2006/relationships/hyperlink" Target="http://www.softstarsystems.com/overview.htm" TargetMode="External"/><Relationship Id="rId3" Type="http://schemas.openxmlformats.org/officeDocument/2006/relationships/hyperlink" Target="http://www.softstarsystems.com/overview.htm" TargetMode="External"/><Relationship Id="rId4" Type="http://schemas.openxmlformats.org/officeDocument/2006/relationships/hyperlink" Target="http://www.softstarsystems.com/overview.htm" TargetMode="External"/><Relationship Id="rId5" Type="http://schemas.openxmlformats.org/officeDocument/2006/relationships/hyperlink" Target="http://www.softstarsystems.com/overview.htm" TargetMode="External"/><Relationship Id="rId6" Type="http://schemas.openxmlformats.org/officeDocument/2006/relationships/hyperlink" Target="http://www.softstarsystems.com/overview.htm" TargetMode="External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yunus.hun.edu.tr/~sencer/cocomo.html" TargetMode="External"/><Relationship Id="rId2" Type="http://schemas.openxmlformats.org/officeDocument/2006/relationships/hyperlink" Target="http://yunus.hun.edu.tr/~sencer/cocomo.html" TargetMode="External"/><Relationship Id="rId3" Type="http://schemas.openxmlformats.org/officeDocument/2006/relationships/hyperlink" Target="http://yunus.hun.edu.tr/~sencer/cocomo.html" TargetMode="External"/><Relationship Id="rId4" Type="http://schemas.openxmlformats.org/officeDocument/2006/relationships/hyperlink" Target="http://yunus.hun.edu.tr/~sencer/cocomo.html" TargetMode="External"/><Relationship Id="rId5" Type="http://schemas.openxmlformats.org/officeDocument/2006/relationships/hyperlink" Target="http://yunus.hun.edu.tr/~sencer/cocomo.html" TargetMode="External"/><Relationship Id="rId6" Type="http://schemas.openxmlformats.org/officeDocument/2006/relationships/hyperlink" Target="http://yunus.hun.edu.tr/~sencer/cocomo.html" TargetMode="External"/><Relationship Id="rId7" Type="http://schemas.openxmlformats.org/officeDocument/2006/relationships/hyperlink" Target="http://yunus.hun.edu.tr/~sencer/cocomo.html" TargetMode="External"/><Relationship Id="rId8" Type="http://schemas.openxmlformats.org/officeDocument/2006/relationships/hyperlink" Target="http://yunus.hun.edu.tr/~sencer/cocomo.html" TargetMode="External"/><Relationship Id="rId9" Type="http://schemas.openxmlformats.org/officeDocument/2006/relationships/hyperlink" Target="http://yunus.hun.edu.tr/~sencer/cocomo.html" TargetMode="External"/><Relationship Id="rId10" Type="http://schemas.openxmlformats.org/officeDocument/2006/relationships/hyperlink" Target="http://yunus.hun.edu.tr/~sencer/cocomo.html" TargetMode="External"/><Relationship Id="rId11" Type="http://schemas.openxmlformats.org/officeDocument/2006/relationships/hyperlink" Target="http://www.bfpug.com.br/Artigos/MuitosUsos.htm" TargetMode="External"/><Relationship Id="rId12" Type="http://schemas.openxmlformats.org/officeDocument/2006/relationships/hyperlink" Target="http://www.bfpug.com.br/Artigos/MuitosUsos.htm" TargetMode="External"/><Relationship Id="rId13" Type="http://schemas.openxmlformats.org/officeDocument/2006/relationships/hyperlink" Target="http://www.bfpug.com.br/Artigos/MuitosUsos.htm" TargetMode="External"/><Relationship Id="rId14" Type="http://schemas.openxmlformats.org/officeDocument/2006/relationships/hyperlink" Target="http://www.bfpug.com.br/Artigos/MuitosUsos.htm" TargetMode="External"/><Relationship Id="rId15" Type="http://schemas.openxmlformats.org/officeDocument/2006/relationships/hyperlink" Target="http://www.bfpug.com.br/Artigos/MuitosUsos.htm" TargetMode="External"/><Relationship Id="rId16" Type="http://schemas.openxmlformats.org/officeDocument/2006/relationships/hyperlink" Target="http://www.bfpug.com.br/Artigos/MuitosUsos.htm" TargetMode="External"/><Relationship Id="rId17" Type="http://schemas.openxmlformats.org/officeDocument/2006/relationships/hyperlink" Target="http://www.cin.ufpe.br/~if717/slides/PMBOK-custos-analise-valor-agregado.ppt" TargetMode="External"/><Relationship Id="rId18" Type="http://schemas.openxmlformats.org/officeDocument/2006/relationships/hyperlink" Target="http://www.cin.ufpe.br/~if717/slides/PMBOK-custos-analise-valor-agregado.ppt" TargetMode="External"/><Relationship Id="rId19" Type="http://schemas.openxmlformats.org/officeDocument/2006/relationships/hyperlink" Target="http://www.cin.ufpe.br/~if717/slides/PMBOK-custos-analise-valor-agregado.ppt" TargetMode="External"/><Relationship Id="rId20" Type="http://schemas.openxmlformats.org/officeDocument/2006/relationships/hyperlink" Target="http://www.cin.ufpe.br/~if717/slides/PMBOK-custos-analise-valor-agregado.ppt" TargetMode="External"/><Relationship Id="rId21" Type="http://schemas.openxmlformats.org/officeDocument/2006/relationships/hyperlink" Target="http://www.cin.ufpe.br/~if717/slides/PMBOK-custos-analise-valor-agregado.ppt" TargetMode="External"/><Relationship Id="rId22" Type="http://schemas.openxmlformats.org/officeDocument/2006/relationships/hyperlink" Target="http://www.cin.ufpe.br/~if717/slides/PMBOK-custos-analise-valor-agregado.ppt" TargetMode="External"/><Relationship Id="rId2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Gerenciamento de Custos de Softwar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0066"/>
                </a:solidFill>
                <a:latin typeface="Arial"/>
              </a:rPr>
              <a:t>Bárbara Sa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0066"/>
                </a:solidFill>
                <a:latin typeface="Arial"/>
              </a:rPr>
              <a:t>Bruno Ce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0066"/>
                </a:solidFill>
                <a:latin typeface="Arial"/>
              </a:rPr>
              <a:t>Diego Rib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0066"/>
                </a:solidFill>
                <a:latin typeface="Arial"/>
              </a:rPr>
              <a:t>Eduardo Domin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0066"/>
                </a:solidFill>
                <a:latin typeface="Arial"/>
              </a:rPr>
              <a:t>Eduardo Salv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0066"/>
                </a:solidFill>
                <a:latin typeface="Arial"/>
              </a:rPr>
              <a:t>Jennifer L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330066"/>
                </a:solidFill>
                <a:latin typeface="Arial"/>
              </a:rPr>
              <a:t>{bss,bccf,dar,ecgd,evfs,jsml}@cin.ufpe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0066"/>
                </a:solidFill>
                <a:latin typeface="Arial"/>
              </a:rPr>
              <a:t>Universidade Federal de Pernambu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0066"/>
                </a:solidFill>
                <a:latin typeface="Arial"/>
              </a:rPr>
              <a:t>Centro de Informá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0066"/>
                </a:solidFill>
                <a:latin typeface="Arial"/>
              </a:rPr>
              <a:t>Qualidade de Software – IF7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Visão do PMBOK 200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rência de Cus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 dos recursos para a implement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eito das decisões de projeto no custo do ciclo de vi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ss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4191120"/>
            <a:ext cx="7391160" cy="2433600"/>
            <a:chOff x="914400" y="4191120"/>
            <a:chExt cx="7391160" cy="2433600"/>
          </a:xfrm>
        </p:grpSpPr>
        <p:sp>
          <p:nvSpPr>
            <p:cNvPr id="170" name=""/>
            <p:cNvSpPr/>
            <p:nvPr/>
          </p:nvSpPr>
          <p:spPr>
            <a:xfrm>
              <a:off x="3583440" y="4194000"/>
              <a:ext cx="4715640" cy="425520"/>
            </a:xfrm>
            <a:prstGeom prst="rect">
              <a:avLst/>
            </a:prstGeom>
            <a:solidFill>
              <a:srgbClr val="669999"/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20880" y="4194000"/>
              <a:ext cx="2662560" cy="425520"/>
            </a:xfrm>
            <a:prstGeom prst="rect">
              <a:avLst/>
            </a:prstGeom>
            <a:solidFill>
              <a:srgbClr val="669999"/>
            </a:solidFill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78120" y="4194000"/>
              <a:ext cx="25473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41400" y="4194000"/>
              <a:ext cx="46000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920880" y="4619520"/>
              <a:ext cx="2662200" cy="525600"/>
              <a:chOff x="920880" y="4619520"/>
              <a:chExt cx="2662200" cy="525600"/>
            </a:xfrm>
          </p:grpSpPr>
          <p:sp>
            <p:nvSpPr>
              <p:cNvPr id="175" name=""/>
              <p:cNvSpPr/>
              <p:nvPr/>
            </p:nvSpPr>
            <p:spPr>
              <a:xfrm>
                <a:off x="977400" y="4619520"/>
                <a:ext cx="25484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lanejamento dos Recurs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920880" y="4619520"/>
                <a:ext cx="2662200" cy="525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3583440" y="4619520"/>
              <a:ext cx="4715280" cy="525600"/>
              <a:chOff x="3583440" y="4619520"/>
              <a:chExt cx="4715280" cy="525600"/>
            </a:xfrm>
          </p:grpSpPr>
          <p:sp>
            <p:nvSpPr>
              <p:cNvPr id="178" name=""/>
              <p:cNvSpPr/>
              <p:nvPr/>
            </p:nvSpPr>
            <p:spPr>
              <a:xfrm>
                <a:off x="3639960" y="4619520"/>
                <a:ext cx="460116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terminar quais recursos  e que quantidade de cada deve ser usada para executar as atividades do projeto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583440" y="4619520"/>
                <a:ext cx="4715280" cy="525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920880" y="5145120"/>
              <a:ext cx="2662200" cy="525600"/>
              <a:chOff x="920880" y="5145120"/>
              <a:chExt cx="2662200" cy="525600"/>
            </a:xfrm>
          </p:grpSpPr>
          <p:sp>
            <p:nvSpPr>
              <p:cNvPr id="181" name=""/>
              <p:cNvSpPr/>
              <p:nvPr/>
            </p:nvSpPr>
            <p:spPr>
              <a:xfrm>
                <a:off x="977400" y="5145120"/>
                <a:ext cx="25484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stimativa dos Cust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920880" y="5145120"/>
                <a:ext cx="2662200" cy="525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3583440" y="5145120"/>
              <a:ext cx="4715280" cy="525600"/>
              <a:chOff x="3583440" y="5145120"/>
              <a:chExt cx="4715280" cy="525600"/>
            </a:xfrm>
          </p:grpSpPr>
          <p:sp>
            <p:nvSpPr>
              <p:cNvPr id="184" name=""/>
              <p:cNvSpPr/>
              <p:nvPr/>
            </p:nvSpPr>
            <p:spPr>
              <a:xfrm>
                <a:off x="3639960" y="5145120"/>
                <a:ext cx="460116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envolver uma estimativa dos custos dos recursos necessários à implementação das atividades do projeto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83440" y="5145120"/>
                <a:ext cx="4715280" cy="525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920880" y="5670720"/>
              <a:ext cx="2662200" cy="525240"/>
              <a:chOff x="920880" y="5670720"/>
              <a:chExt cx="2662200" cy="525240"/>
            </a:xfrm>
          </p:grpSpPr>
          <p:sp>
            <p:nvSpPr>
              <p:cNvPr id="187" name=""/>
              <p:cNvSpPr/>
              <p:nvPr/>
            </p:nvSpPr>
            <p:spPr>
              <a:xfrm>
                <a:off x="977400" y="5670720"/>
                <a:ext cx="254844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rçamento dos Cust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920880" y="5670720"/>
                <a:ext cx="2662200" cy="525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3583440" y="5670720"/>
              <a:ext cx="4715280" cy="525240"/>
              <a:chOff x="3583440" y="5670720"/>
              <a:chExt cx="4715280" cy="525240"/>
            </a:xfrm>
          </p:grpSpPr>
          <p:sp>
            <p:nvSpPr>
              <p:cNvPr id="190" name=""/>
              <p:cNvSpPr/>
              <p:nvPr/>
            </p:nvSpPr>
            <p:spPr>
              <a:xfrm>
                <a:off x="3639960" y="5670720"/>
                <a:ext cx="460116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locar as estimativas de custos globais as atividades individuais de trabalho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83440" y="5670720"/>
                <a:ext cx="4715280" cy="525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920880" y="6195960"/>
              <a:ext cx="2662200" cy="425520"/>
              <a:chOff x="920880" y="6195960"/>
              <a:chExt cx="2662200" cy="425520"/>
            </a:xfrm>
          </p:grpSpPr>
          <p:sp>
            <p:nvSpPr>
              <p:cNvPr id="193" name=""/>
              <p:cNvSpPr/>
              <p:nvPr/>
            </p:nvSpPr>
            <p:spPr>
              <a:xfrm>
                <a:off x="977400" y="6195960"/>
                <a:ext cx="254844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trole dos Cust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920880" y="6195960"/>
                <a:ext cx="2662200" cy="425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3583440" y="6195960"/>
              <a:ext cx="4715280" cy="425520"/>
              <a:chOff x="3583440" y="6195960"/>
              <a:chExt cx="4715280" cy="425520"/>
            </a:xfrm>
          </p:grpSpPr>
          <p:sp>
            <p:nvSpPr>
              <p:cNvPr id="196" name=""/>
              <p:cNvSpPr/>
              <p:nvPr/>
            </p:nvSpPr>
            <p:spPr>
              <a:xfrm>
                <a:off x="3639960" y="6195960"/>
                <a:ext cx="4601160" cy="4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trolar as mudanças no orçamento do projeto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83440" y="6195960"/>
                <a:ext cx="4715280" cy="425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914400" y="4191120"/>
              <a:ext cx="73911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Visão do PMBOK 200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ejamento de recur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olvido na determinação dos recursos utilizados no proje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o momento de utilização destes recursos e as quantidades necessár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655308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Visão do PMBOK 200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imativa dos cus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envolve uma estimativa dos custos dos recursos necessários a implementação das atividad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icação e consideração de várias alternativas de cus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523880" y="4340160"/>
            <a:ext cx="62485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Visão do PMBOK 200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rçamento dos Cus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nvolve alocação das estimativas dos custos globais das atividades individuais ou dos pacotes de trabalho para estabelecer um baseline de custo para medir o desempenho do proje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71600" y="4267080"/>
            <a:ext cx="67057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Visão do PMBOK 200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ole dos cus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luenciar os fatores que criam as mudanças na meta de custo para garantir que estas mudanças sejam autorizadas, a meta seja alterada, e as mudanças reais sejam gerenciadas quando surgirem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523880" y="4390920"/>
            <a:ext cx="62485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Earned Value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método para relatar o status do projeto em relação ao tempo e ao cus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lanned Value (PV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ctual Cost (A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219320" y="3618000"/>
            <a:ext cx="6858000" cy="3043080"/>
            <a:chOff x="1219320" y="3618000"/>
            <a:chExt cx="6858000" cy="3043080"/>
          </a:xfrm>
        </p:grpSpPr>
        <p:grpSp>
          <p:nvGrpSpPr>
            <p:cNvPr id="214" name=""/>
            <p:cNvGrpSpPr/>
            <p:nvPr/>
          </p:nvGrpSpPr>
          <p:grpSpPr>
            <a:xfrm>
              <a:off x="1219320" y="3809880"/>
              <a:ext cx="6858000" cy="2851200"/>
              <a:chOff x="1219320" y="3809880"/>
              <a:chExt cx="6858000" cy="2851200"/>
            </a:xfrm>
          </p:grpSpPr>
          <p:pic>
            <p:nvPicPr>
              <p:cNvPr id="2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90920" y="3886200"/>
                <a:ext cx="4267080" cy="27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1219320" y="3809880"/>
                <a:ext cx="6858000" cy="2819520"/>
              </a:xfrm>
              <a:prstGeom prst="rect">
                <a:avLst/>
              </a:prstGeom>
              <a:noFill/>
              <a:ln w="936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357200" y="3618000"/>
              <a:ext cx="1133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emp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Earned Value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arned Value (EV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%trabalho executado x P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35160" y="2971800"/>
            <a:ext cx="6858000" cy="3637080"/>
          </a:xfrm>
          <a:prstGeom prst="rect">
            <a:avLst/>
          </a:prstGeom>
          <a:noFill/>
          <a:ln w="93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73040" y="2743200"/>
            <a:ext cx="113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312408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ondo que até o primeiro marco 80% do trabalho foi executado. E no segundo marco 85% do trabalho planejado foi reali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743200" y="4038480"/>
            <a:ext cx="411480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Earned Value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st Variance (CV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V – A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V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CV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EV) x 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35160" y="3733920"/>
            <a:ext cx="6858000" cy="2874960"/>
            <a:chOff x="1235160" y="3733920"/>
            <a:chExt cx="6858000" cy="2874960"/>
          </a:xfrm>
        </p:grpSpPr>
        <p:sp>
          <p:nvSpPr>
            <p:cNvPr id="227" name=""/>
            <p:cNvSpPr/>
            <p:nvPr/>
          </p:nvSpPr>
          <p:spPr>
            <a:xfrm>
              <a:off x="1235160" y="3962520"/>
              <a:ext cx="6858000" cy="2646360"/>
            </a:xfrm>
            <a:prstGeom prst="rect">
              <a:avLst/>
            </a:prstGeom>
            <a:noFill/>
            <a:ln w="93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73040" y="3733920"/>
              <a:ext cx="1133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emp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9" name=""/>
          <p:cNvGraphicFramePr/>
          <p:nvPr/>
        </p:nvGraphicFramePr>
        <p:xfrm>
          <a:off x="1600200" y="4267080"/>
          <a:ext cx="6248520" cy="2057400"/>
        </p:xfrm>
        <a:graphic>
          <a:graphicData uri="http://schemas.openxmlformats.org/drawingml/2006/table">
            <a:tbl>
              <a:tblPr/>
              <a:tblGrid>
                <a:gridCol w="1249200"/>
                <a:gridCol w="1251000"/>
                <a:gridCol w="1247760"/>
                <a:gridCol w="1251000"/>
                <a:gridCol w="1249560"/>
              </a:tblGrid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5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2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Earned Value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chedule Variance (SV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V – P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V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(SV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PV) x 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235160" y="3733920"/>
            <a:ext cx="6858000" cy="2874960"/>
            <a:chOff x="1235160" y="3733920"/>
            <a:chExt cx="6858000" cy="2874960"/>
          </a:xfrm>
        </p:grpSpPr>
        <p:sp>
          <p:nvSpPr>
            <p:cNvPr id="233" name=""/>
            <p:cNvSpPr/>
            <p:nvPr/>
          </p:nvSpPr>
          <p:spPr>
            <a:xfrm>
              <a:off x="1235160" y="3962520"/>
              <a:ext cx="6858000" cy="2646360"/>
            </a:xfrm>
            <a:prstGeom prst="rect">
              <a:avLst/>
            </a:prstGeom>
            <a:noFill/>
            <a:ln w="93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73040" y="3733920"/>
              <a:ext cx="1133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emp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5" name=""/>
          <p:cNvGraphicFramePr/>
          <p:nvPr/>
        </p:nvGraphicFramePr>
        <p:xfrm>
          <a:off x="1600200" y="4267080"/>
          <a:ext cx="6248520" cy="2057400"/>
        </p:xfrm>
        <a:graphic>
          <a:graphicData uri="http://schemas.openxmlformats.org/drawingml/2006/table">
            <a:tbl>
              <a:tblPr/>
              <a:tblGrid>
                <a:gridCol w="1249200"/>
                <a:gridCol w="1251000"/>
                <a:gridCol w="1247760"/>
                <a:gridCol w="1251000"/>
                <a:gridCol w="1249560"/>
              </a:tblGrid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2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Earned Value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st Performance Index (CPI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V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A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chedule Peformance Index (SP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V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P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235160" y="3733920"/>
            <a:ext cx="6858000" cy="2874960"/>
            <a:chOff x="1235160" y="3733920"/>
            <a:chExt cx="6858000" cy="2874960"/>
          </a:xfrm>
        </p:grpSpPr>
        <p:sp>
          <p:nvSpPr>
            <p:cNvPr id="239" name=""/>
            <p:cNvSpPr/>
            <p:nvPr/>
          </p:nvSpPr>
          <p:spPr>
            <a:xfrm>
              <a:off x="1235160" y="3962520"/>
              <a:ext cx="6858000" cy="2646360"/>
            </a:xfrm>
            <a:prstGeom prst="rect">
              <a:avLst/>
            </a:prstGeom>
            <a:noFill/>
            <a:ln w="93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73040" y="3733920"/>
              <a:ext cx="1133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emp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1" name=""/>
          <p:cNvGraphicFramePr/>
          <p:nvPr/>
        </p:nvGraphicFramePr>
        <p:xfrm>
          <a:off x="1600200" y="4267080"/>
          <a:ext cx="6248520" cy="2057400"/>
        </p:xfrm>
        <a:graphic>
          <a:graphicData uri="http://schemas.openxmlformats.org/drawingml/2006/table">
            <a:tbl>
              <a:tblPr/>
              <a:tblGrid>
                <a:gridCol w="1249200"/>
                <a:gridCol w="1251000"/>
                <a:gridCol w="1247760"/>
                <a:gridCol w="1251000"/>
                <a:gridCol w="1249560"/>
              </a:tblGrid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oteir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ustos de Projetos de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odelos para estimativa de custos de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visão do PMBOK 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arned Value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erramentas de Suporte ao Gerenciamento de Cus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sos Rea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Earned Value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stimate at Completion (EA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Valor total planejado </a:t>
            </a:r>
            <a:r>
              <a:rPr b="0" lang="pt-BR" sz="2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C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19320" y="3200400"/>
            <a:ext cx="6858000" cy="2874960"/>
            <a:chOff x="1219320" y="3200400"/>
            <a:chExt cx="6858000" cy="2874960"/>
          </a:xfrm>
        </p:grpSpPr>
        <p:sp>
          <p:nvSpPr>
            <p:cNvPr id="245" name=""/>
            <p:cNvSpPr/>
            <p:nvPr/>
          </p:nvSpPr>
          <p:spPr>
            <a:xfrm>
              <a:off x="1219320" y="3429000"/>
              <a:ext cx="6858000" cy="2646360"/>
            </a:xfrm>
            <a:prstGeom prst="rect">
              <a:avLst/>
            </a:prstGeom>
            <a:noFill/>
            <a:ln w="93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57200" y="3200400"/>
              <a:ext cx="1133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emp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7" name=""/>
          <p:cNvGraphicFramePr/>
          <p:nvPr/>
        </p:nvGraphicFramePr>
        <p:xfrm>
          <a:off x="1584360" y="3733920"/>
          <a:ext cx="6248520" cy="2057400"/>
        </p:xfrm>
        <a:graphic>
          <a:graphicData uri="http://schemas.openxmlformats.org/drawingml/2006/table">
            <a:tbl>
              <a:tblPr/>
              <a:tblGrid>
                <a:gridCol w="1249200"/>
                <a:gridCol w="1251000"/>
                <a:gridCol w="1247760"/>
                <a:gridCol w="1251000"/>
                <a:gridCol w="1249560"/>
              </a:tblGrid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87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87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erramentas de Suporte ao Gerenciamento de Cus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st Xpe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http://www.costxpert.com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Construx Estim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http://www.construx.com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SLIM-Estim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http://www.qsm.co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st Xpe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patível com o COCOM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is de 32 ciclos de vida e padrões de proje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imativa inicial em 15 minuto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ermite incorporação de dados históric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era relatórios e gráficos compreensíve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lientes como a Borland, NASA, IBM, US Navy, US Army, Department of Defense, entre outros gigantes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Construx Estima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tiliza os modelos COCOMO e Putn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mite incorporação de dados históric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sui base de dados históricos inic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z 19 relatórios compreensíve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orta entrada de Pontos de Função e Linhas de Códi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imativa de módulos diferentes feitos por equipes difere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SLIM-Estima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terface com Microsoft Off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ssui base de dados históricos inic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ápido custo inicial com pouca inform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corporação inteligente de dados históric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eração Automática de Solu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Vem junto com uma suite de aplicativos de gerência de proje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lientes como Motorola, HP, FBI, AT&amp;T entre outros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Casos Reais – Usina Nuclear de Limeric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a de se terminar 8 meses antes do praz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sa meta já ajudaria a reduzir os cus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mento do custo a curto praz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ação de outro turno após o primei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 incentivo bastante favoráve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 total apoio do proje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atação de mão de obra qualific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 horas extras (Já que havia o 2o turn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ordo com os sindicatos loca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evitar greves e atra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Casos Reais – Usina Nuclear de Limerick: Resultad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ída dentro do prazo e dentro da meta de 8 meses de antecipação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nomia de U$ 400 milhõ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dos satisfeito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reiteira responsável recompensada pela perda financeira ocasionada pelo tempo reduzi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Casos Reais – Emanon Aircraft Corpo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dos principais fabricantes de peças para aeronaves nos EU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eçou a perder contratos para concorrentes com preços meno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erou problemas de desemprego na região em que atu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gerência senior da empresa não conseguia descobrir o proble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Casos Reais – Emanon Aircraft Corporation: Resultad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ataram uma auditoria exter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obriu-se que um gerente havia sido rebaixado devido a um atraso em seu setor causado pela falta de mater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gerente substituto não queria ser rebaixado: inflacionou em 10% os materiais necessários para garantir os praz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aumento de materiais foi refletido nos preços que ficaram cerca de 5% mais caros do que a concorrência sem necessidad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ã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estimativa de custos pode definir o sucesso ou fracasso de um proje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eza abstrata do software torna as estimativas difíce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os aplicáveis a maioria dos proje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be ao gerente selecionar o(s) melhor(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ocar recursos corretamente é essenc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rramentas de estimativas podem ajudar basta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roduçã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pós a fase de definição e planejamento de um projeto, a prioridade mais urgente é obter recursos para tornar possível a sua re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 alocação de recursos freqüentemente não satisfaz os ge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strições orçamentárias proporcionam sustentação a uma política empresa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Orçamentos servem para efeito comparativo entre a utilização real dos recursos e o que foi planej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ê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1719360"/>
          <a:ext cx="8229600" cy="58798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redith, Jack &amp; Mantel Samuel. Administração de Projetos – Uma Abordagem Gerencial. 4ª edição. 2003. Rio de Janeiro. Ed. LTC. p 187-21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mmerville, Ian. Engenharia de Software. 6ª edição.2003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ão Paulo. Ed. Addison-Wesley. p 436-45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ject Management Institute (PMI). Project Management Body of Knowledge (PMBOK). v. 1.0. 2000. p 73-8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uz, Cláudia D., Werner, Cláudia M. L. &amp; Soares, Jéferson F. Em Direção a um Modelo de Custos de Desenvolvimento de Software Orientado a Objetos. 1999. Rio de Janeiro. In: Simpósio Brasileiro de Engenharia de Software (SBES)’9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verview de COCOMO. Acessível em: </a:t>
                      </a:r>
                      <a:r>
                        <a:rPr b="0" lang="pt-BR" sz="18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1"/>
                        </a:rPr>
                        <a:t>http:</a:t>
                      </a:r>
                      <a:r>
                        <a:rPr b="0" lang="pt-BR" sz="18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2"/>
                        </a:rPr>
                        <a:t>//www.softstarsystems</a:t>
                      </a:r>
                      <a:r>
                        <a:rPr b="0" lang="pt-BR" sz="18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3"/>
                        </a:rPr>
                        <a:t>.</a:t>
                      </a:r>
                      <a:r>
                        <a:rPr b="0" lang="pt-BR" sz="18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4"/>
                        </a:rPr>
                        <a:t>com/overview</a:t>
                      </a:r>
                      <a:r>
                        <a:rPr b="0" lang="pt-BR" sz="18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5"/>
                        </a:rPr>
                        <a:t>.</a:t>
                      </a:r>
                      <a:r>
                        <a:rPr b="0" lang="pt-BR" sz="18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6"/>
                        </a:rPr>
                        <a:t>htm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Último acesso: 12/07/200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ê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57200" y="1719360"/>
          <a:ext cx="8229600" cy="4794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39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ftware Measurement, Cost Estimation, SLIM, COCOMO.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essível em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</a:t>
                      </a:r>
                      <a:r>
                        <a:rPr b="0" lang="pt-BR" sz="20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1"/>
                        </a:rPr>
                        <a:t>http://</a:t>
                      </a:r>
                      <a:r>
                        <a:rPr b="0" lang="pt-BR" sz="20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2"/>
                        </a:rPr>
                        <a:t>yunus</a:t>
                      </a:r>
                      <a:r>
                        <a:rPr b="0" lang="pt-BR" sz="20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3"/>
                        </a:rPr>
                        <a:t>.</a:t>
                      </a:r>
                      <a:r>
                        <a:rPr b="0" lang="pt-BR" sz="20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4"/>
                        </a:rPr>
                        <a:t>hun</a:t>
                      </a:r>
                      <a:r>
                        <a:rPr b="0" lang="pt-BR" sz="20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5"/>
                        </a:rPr>
                        <a:t>.</a:t>
                      </a:r>
                      <a:r>
                        <a:rPr b="0" lang="pt-BR" sz="20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6"/>
                        </a:rPr>
                        <a:t>edu</a:t>
                      </a:r>
                      <a:r>
                        <a:rPr b="0" lang="pt-BR" sz="20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7"/>
                        </a:rPr>
                        <a:t>.</a:t>
                      </a:r>
                      <a:r>
                        <a:rPr b="0" lang="pt-BR" sz="20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8"/>
                        </a:rPr>
                        <a:t>tr/~sencer/cocomo</a:t>
                      </a:r>
                      <a:r>
                        <a:rPr b="0" lang="pt-BR" sz="20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9"/>
                        </a:rPr>
                        <a:t>.</a:t>
                      </a:r>
                      <a:r>
                        <a:rPr b="0" lang="pt-BR" sz="20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10"/>
                        </a:rPr>
                        <a:t>ht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Último acesso: 12/07/200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kkers, Carol. O que é um Ponto de Função? In: QAI Journal 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guiar, Mauricio. A utilidade dos Pontos de Função.  Acessível em: </a:t>
                      </a:r>
                      <a:r>
                        <a:rPr b="0" lang="pt-BR" sz="20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11"/>
                        </a:rPr>
                        <a:t>http://www.</a:t>
                      </a:r>
                      <a:r>
                        <a:rPr b="0" lang="pt-BR" sz="20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12"/>
                        </a:rPr>
                        <a:t>bfpug</a:t>
                      </a:r>
                      <a:r>
                        <a:rPr b="0" lang="pt-BR" sz="20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13"/>
                        </a:rPr>
                        <a:t>.com.</a:t>
                      </a:r>
                      <a:r>
                        <a:rPr b="0" lang="pt-BR" sz="20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14"/>
                        </a:rPr>
                        <a:t>br/Artigos/MuitosUsos</a:t>
                      </a:r>
                      <a:r>
                        <a:rPr b="0" lang="pt-BR" sz="20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15"/>
                        </a:rPr>
                        <a:t>.</a:t>
                      </a:r>
                      <a:r>
                        <a:rPr b="0" lang="pt-BR" sz="20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16"/>
                        </a:rPr>
                        <a:t>htm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    Último Acesso: 07/08/200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8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ura, H. Earned Value Management.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essível em: </a:t>
                      </a:r>
                      <a:r>
                        <a:rPr b="0" lang="pt-BR" sz="20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17"/>
                        </a:rPr>
                        <a:t>http://www.</a:t>
                      </a:r>
                      <a:r>
                        <a:rPr b="0" lang="pt-BR" sz="20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18"/>
                        </a:rPr>
                        <a:t>cin</a:t>
                      </a:r>
                      <a:r>
                        <a:rPr b="0" lang="pt-BR" sz="20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19"/>
                        </a:rPr>
                        <a:t>.ufpe.</a:t>
                      </a:r>
                      <a:r>
                        <a:rPr b="0" lang="pt-BR" sz="20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20"/>
                        </a:rPr>
                        <a:t>br/~if717/slides/PMBOK-custos-analise-valor-agregado</a:t>
                      </a:r>
                      <a:r>
                        <a:rPr b="0" lang="pt-BR" sz="20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21"/>
                        </a:rPr>
                        <a:t>.</a:t>
                      </a:r>
                      <a:r>
                        <a:rPr b="0" lang="pt-BR" sz="2000" spc="-1" strike="noStrike" u="sng">
                          <a:solidFill>
                            <a:srgbClr val="7e9ce8"/>
                          </a:solidFill>
                          <a:uFillTx/>
                          <a:latin typeface="Verdana"/>
                          <a:ea typeface="Times New Roman"/>
                          <a:hlinkClick r:id="rId22"/>
                        </a:rPr>
                        <a:t>ppt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Último acesso: 20/08/200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Gerenciamento de Custos de Softwar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0066"/>
                </a:solidFill>
                <a:latin typeface="Arial"/>
              </a:rPr>
              <a:t>Bárbara Sa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0066"/>
                </a:solidFill>
                <a:latin typeface="Arial"/>
              </a:rPr>
              <a:t>Bruno Ce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0066"/>
                </a:solidFill>
                <a:latin typeface="Arial"/>
              </a:rPr>
              <a:t>Diego Rib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0066"/>
                </a:solidFill>
                <a:latin typeface="Arial"/>
              </a:rPr>
              <a:t>Eduardo Domin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0066"/>
                </a:solidFill>
                <a:latin typeface="Arial"/>
              </a:rPr>
              <a:t>Eduardo Salv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0066"/>
                </a:solidFill>
                <a:latin typeface="Arial"/>
              </a:rPr>
              <a:t>Jennifer L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330066"/>
                </a:solidFill>
                <a:latin typeface="Arial"/>
              </a:rPr>
              <a:t>{bss,bccf,dar,ecgd,evfs,jsml}@cin.ufpe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0066"/>
                </a:solidFill>
                <a:latin typeface="Arial"/>
              </a:rPr>
              <a:t>Universidade Federal de Pernambu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0066"/>
                </a:solidFill>
                <a:latin typeface="Arial"/>
              </a:rPr>
              <a:t>Centro de Informá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0066"/>
                </a:solidFill>
                <a:latin typeface="Arial"/>
              </a:rPr>
              <a:t>Qualidade de Software – IF7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roduçã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 composição orçamentária é formada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ipos de recursos que serão necess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Quantidade necessária de cada um d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Quando os mesmos serão necess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Qual será o custo destes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 incerteza faz parte de qualquer previsão, embora algumas previsões apresentem um menor grau de incertezas do que ou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ustos de Projetos de Softwa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Cálculo do custo total de um projeto de desenvolvimento de softwar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ustos de hardware e software, inclusive manuten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ustos de viagens e treiname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Custos relativos ao esforço empreg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Custos relativos ao fornecimento de energ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Custos com o pessoal de apo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Custos com operações em rede e comunicaçõ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Custos com as instalações centra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Custos com previdência social e benefícios aos funcionário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ustos de Projetos de Softwa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Fatores influenciáveis no preço de um projeto de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Oportunidade de Merca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Incerteza de estimativa de cust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Condições contratuai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Volatilidade dos requisit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aúde financei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s para Estimativas de Custos de Projetos de S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Normalmente o custo de um projeto é uma função baseada em cinco fatores: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Tamanho do produt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bilidades da equipe (pesso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biente (ferramentas e técnic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idade do produ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Qualidade desejad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s para Estimativas de Custos de Projetos de S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xistem inúmeros modelos para estimativa de custos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elo “negóci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or ana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Bottom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op-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Julgamento de especial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aram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Lei de Parkin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reço definido para ganha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Aplicados individualmente podem não fornecer uma estimativa tão confiável quanto se espera, o ideal seria utilizá-los em conjunto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s para Estimativas de Custos de Projetos de S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Os modelos de custos mais conhecidos se baseiam em experiências passadas para projetar o tamanho do produto e, a partir daí, projetar os custos de seu desenvolv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relações funcionais entre as variáveis de tamanho e o esforço de desenvolvimento, baseadas em métodos estatís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Os modelos mais amplamente conhecidos para estimativa de custos sã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LI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COCO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-31968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Pontos de Fun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6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8T18:57:48Z</dcterms:created>
  <dc:creator>Bruno Freitas</dc:creator>
  <dc:description/>
  <dc:language>en-US</dc:language>
  <cp:lastModifiedBy>bccf</cp:lastModifiedBy>
  <dcterms:modified xsi:type="dcterms:W3CDTF">2004-08-24T17:01:22Z</dcterms:modified>
  <cp:revision>39</cp:revision>
  <dc:subject/>
  <dc:title>Gerenciamento de Custos de Software</dc:title>
</cp:coreProperties>
</file>