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5FC-A734-4FC0-8427-D6F7470B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892-E0FB-4F91-8204-58D00C06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8E4-A51C-4C85-94BB-53DF34B7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8D3-2C45-4837-B094-E033C8A4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2E32-2515-40DF-A51A-CFA48077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EAA4-D5EB-46FD-947D-5F2FCE7F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C876-38F7-470D-BCD6-19019B19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F96C-4443-40C7-A7B5-FAF86337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A54C-53B0-44FF-A056-1EEEC1A8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DD6B-E75D-45EC-8952-BF00BCBA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50D8-582C-4BB0-AE90-FD8F5893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1AD-10FF-4B94-B9C6-55B9CC66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2F2B-4EB2-4607-AB9D-1452731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3567-8C85-47C0-AB61-86C2CE56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78B7-FCFE-4A55-80F5-B35E834A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5ABD-1742-4EAF-A29C-B01E699D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A7DD-128D-48A1-AD86-D2B5FF88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E55-243D-4124-B537-C576FF90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2BD-16A3-4E00-AD71-442A99A2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233-3536-40F6-AE53-5D455F95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815-BEA0-4A10-A487-03A82093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CEF-8A7F-4F8D-809F-8FFDE2C3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1B1-77C2-41CE-9A3F-C163E30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2A5-586C-489A-8537-96B0BC7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2DCE-3E51-41F6-B8E2-A0B01A82E741}" type="slidenum"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68DD-6A33-4433-8B31-4F8183874805}" type="slidenum">
              <a:rPr b="0" lang="pt-BR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tp://ftp.usc.edu/pub/soft_engineering/COCOMOII/cocomo99.0/modelman.pdf" TargetMode="External"/><Relationship Id="rId2" Type="http://schemas.openxmlformats.org/officeDocument/2006/relationships/hyperlink" Target="ftp://ftp.usc.edu/pub/soft_engineering/COCOMOII/cocomo99.0/userman.pdf" TargetMode="External"/><Relationship Id="rId3" Type="http://schemas.openxmlformats.org/officeDocument/2006/relationships/hyperlink" Target="http://sunset.usc.edu/research/COCOMOII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COCOMO I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200400" y="2693880"/>
            <a:ext cx="502920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Professor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exandre Vasconcel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Grupo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Bruno Tenório Ávila (bta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Diogo de Carvalho Pedrosa (dcp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Klaus Ribeiro Cavalcante (krc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Marcus Eduardo Cabral Seabra (mec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Tairone César Alves da Silva (tca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352520" y="3276720"/>
            <a:ext cx="2228760" cy="192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E7A1-6155-4B4D-B82D-6512C222DF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Usando COCOMO II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plicando os conceitos e fórmulas propostos por COCOMO I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DA45-8473-4C95-A84B-EAA6C8DB2B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stimando o tamanho do projeto - Linhas de Código (SLOC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940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Unidade básica de medida do COCOMO II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gras definidas pelo modelo do SEI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Dificuldade de estimar linhas de código para diferentes linguagens de programação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Mudanças para eliminar categorias de software que são pequenas fontes de esforço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C94F-42EE-42D8-BC38-F845FF4BF6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stimando o tamanho do projeto - Linhas de Código (SLOC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61840" y="2424240"/>
          <a:ext cx="7958160" cy="4028760"/>
        </p:xfrm>
        <a:graphic>
          <a:graphicData uri="http://schemas.openxmlformats.org/drawingml/2006/table">
            <a:tbl>
              <a:tblPr/>
              <a:tblGrid>
                <a:gridCol w="566640"/>
                <a:gridCol w="5011920"/>
                <a:gridCol w="1189080"/>
                <a:gridCol w="1190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ipo de comand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clu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xclu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xecutáve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ão-executáve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eclaraçõ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retivas de compilaçã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omentári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as próprias linh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as linhas de códig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nners e espaçamen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m bran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inhas em bran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EB2-D8E6-419C-A6F1-3F6F26AF79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stimando o tamanho do projeto - Linhas de Código (SLOC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809640" y="2462040"/>
          <a:ext cx="7958160" cy="2556000"/>
        </p:xfrm>
        <a:graphic>
          <a:graphicData uri="http://schemas.openxmlformats.org/drawingml/2006/table">
            <a:tbl>
              <a:tblPr/>
              <a:tblGrid>
                <a:gridCol w="496800"/>
                <a:gridCol w="5081760"/>
                <a:gridCol w="1189080"/>
                <a:gridCol w="1190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orma de produçã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clu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xclu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ogramad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erado por geradores de códig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onvertido por programa de conversã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usado sem modificaçõ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odificad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movid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BF1-D389-4C12-8CA9-7CD7EBD817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stimando o tamanho do projeto - Linhas de Código (SLOC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35120" y="2287440"/>
          <a:ext cx="8229600" cy="4381560"/>
        </p:xfrm>
        <a:graphic>
          <a:graphicData uri="http://schemas.openxmlformats.org/drawingml/2006/table">
            <a:tbl>
              <a:tblPr/>
              <a:tblGrid>
                <a:gridCol w="514080"/>
                <a:gridCol w="5688000"/>
                <a:gridCol w="1008360"/>
                <a:gridCol w="1019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rige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clu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xclu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ovo trabalh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daptado de outro trabalh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ersão anteri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oftware comerciais e de prateleira (COTS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oftware fornecido pelo governo (GFS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utro produt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ma linguagem de programação comerci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m sistema operacional comerci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utra biblioteca comerci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Uma biblioteca reusáve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utro componente de software ou bibliotec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0B8-C626-4BBA-A8C7-81865AB1F8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stimando o tamanho do projeto - Pontos de Funç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35584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Estimativa baseado em informações disponíveis no início do ciclo de vida do projeto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Baseada na quantidade de funcionalidades e outros fatores individuai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ada tipo de função (EI, EO, EQ, EIF, ILF) é classificado pela complexidade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ada complexidade tem um peso associado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plica-se às funções de contagem para determinar a quantidade de </a:t>
            </a:r>
            <a:r>
              <a:rPr b="1" i="1" lang="pt-BR" sz="2400" spc="-1" strike="noStrike">
                <a:solidFill>
                  <a:srgbClr val="003366"/>
                </a:solidFill>
                <a:latin typeface="Times New Roman"/>
              </a:rPr>
              <a:t>Pontos de Função Não Ajustadas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étrica de dimensionamento de COCOMO II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522-CAC4-4344-B912-11B66E0454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Estimando o tamanho do projeto - Pontos de Funç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07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nvertendo pontos de função para linhas de código (SLOC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140360" y="2276640"/>
          <a:ext cx="4546440" cy="4381200"/>
        </p:xfrm>
        <a:graphic>
          <a:graphicData uri="http://schemas.openxmlformats.org/drawingml/2006/table">
            <a:tbl>
              <a:tblPr/>
              <a:tblGrid>
                <a:gridCol w="2878200"/>
                <a:gridCol w="1668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inguagem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LOC / UF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d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ssembl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ssembly (Macro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sic (Compilado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sic (Interpretado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++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olo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erador de Relatóri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lanilh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3D67-2038-478C-931B-7EAE97F29C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Breakage (BRAK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juste do tamanho real do produto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É a porcentagem de código jogado fora devido à volatilidade dos requisitos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Exempl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Desenvolvidos 100.000 linhas de código (SLOC = 100.000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20.000 linhas de código jogado fora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BRAK = 20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juste do SLOC de 100.000 para 120.000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325-E7C7-4236-8A55-B096ACFBCA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justando para Reuso - Efeitos Não-Linear do Reus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9660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Estudo na NASA em 3.000 módulos reusávei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Não passa pela origem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usto de 5% para entendimento dos componentes reusávei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odificações pequenas geram custos desproporcionalmente grande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47% do esforço na manutenção refere-se em compreender o software a ser modificado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juste do COCOMO para refletir estes detalhe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046-454B-4BB5-8A76-8C06E65A4A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justando para Reuso - Efeitos Não-Linear do Reus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713800" cy="427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3A8-5F72-4A5C-8834-FBFFA570A1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Definição geral do model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Usando do COCOMO I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A Ferramenta COCOMO I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B25E-9BE7-4853-876B-11C7791651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116000" y="2205000"/>
                <a:ext cx="48243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F</m:t>
                    </m:r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+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+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justando para Reuso – Modelo Reusá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116000" y="3645000"/>
                <a:ext cx="7128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LO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LOC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F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NFM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AF</m:t>
                    </m:r>
                    <m:r>
                      <m:t xml:space="preserve">≤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116000" y="2676600"/>
                <a:ext cx="7056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LO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LOC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F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NFM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AF</m:t>
                    </m:r>
                    <m:r>
                      <m:t xml:space="preserve">&gt;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0"/>
            <a:ext cx="434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434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434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90880" y="4365720"/>
            <a:ext cx="690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LOC – SLOC equivalen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LOC – Quantidade de software a ser adapt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M – Porcentagem de modelagem modific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M – Porcentagem de código modific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M – Porcentagem de integração necessá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AF – Fator de ajuste de adapta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AEB-399D-4129-BA0E-57ADE7723E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966960" y="2298600"/>
                <a:ext cx="48243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F</m:t>
                    </m:r>
                    <m:r>
                      <m:t xml:space="preserve">=</m:t>
                    </m:r>
                    <m:r>
                      <m:t xml:space="preserve">0,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  <m:r>
                      <m:t xml:space="preserve">+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+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Ajustando para Reuso – Modelo Reusáv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434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434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434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7800" y="4386240"/>
            <a:ext cx="845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U – Penalidade em porcentagem do entendimento do sof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10% a 50% </a:t>
            </a:r>
            <a:r>
              <a:rPr b="0" lang="pt-BR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Software bem estruturado = 10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NFM – Familiaridade relativa do programador com o sof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0 a 1 </a:t>
            </a:r>
            <a:r>
              <a:rPr b="0" lang="pt-BR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Programadores que usam todos os dias = 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A – Grau de Avaliação e Assimilação do módulo reusá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0,2,4,6,8 </a:t>
            </a:r>
            <a:r>
              <a:rPr b="0" lang="pt-BR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Módulos apropriados para o soft. = 8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66960" y="3738600"/>
                <a:ext cx="7127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LO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LOC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F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U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NFM</m:t>
                                </m:r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AF</m:t>
                    </m:r>
                    <m:r>
                      <m:t xml:space="preserve">≤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66960" y="2770200"/>
                <a:ext cx="7056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LO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LOC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F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NFM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AF</m:t>
                    </m:r>
                    <m:r>
                      <m:t xml:space="preserve">&gt;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48F-5371-462F-BF42-304390A067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Ajustando para Re-engenharia e Conversã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2349360"/>
            <a:ext cx="7958160" cy="22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edição do esforço das ferramentas automatizada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T – Porcentagem de código que sofre re-engenharia por um tradutor automático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TPROD – Produtividade do tradutor em declarações traduzidas por pessoa-mê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258920" y="4653000"/>
                <a:ext cx="60483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manho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SLOC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TPROD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35C-D263-486D-81FF-9B61DB4F72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anutenção das Aplica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692360" y="5300640"/>
                <a:ext cx="4068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F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NF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692360" y="3284640"/>
                <a:ext cx="71294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manh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icionad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amanho</m:t>
                        </m:r>
                        <m:r>
                          <m:rPr>
                            <m:lit/>
                            <m:nor/>
                          </m:rPr>
                          <m:t xml:space="preserve">_mod</m:t>
                        </m:r>
                        <m:r>
                          <m:rPr>
                            <m:lit/>
                            <m:nor/>
                          </m:rPr>
                          <m:t xml:space="preserve">ificado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manho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dig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ase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954360" y="2583000"/>
            <a:ext cx="58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ator de Mudança de Manutenção (MCF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72720" y="4724280"/>
            <a:ext cx="54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ator de Ajuste de Manutenção (MAF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A36-CEF3-4CB7-8851-045ADF4662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anutenção das Aplica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9080" y="263700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amanho da fase de manutenção (em SLOC)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9440" y="486900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timativa Pessoa-Mês (PM) da manutençã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208160" y="3338640"/>
                <a:ext cx="6192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manho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manho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dig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ase</m:t>
                                </m:r>
                              </m:sub>
                            </m:sSub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CF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208160" y="3914640"/>
                <a:ext cx="78483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amanho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manh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icionad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amanho</m:t>
                        </m:r>
                        <m:r>
                          <m:rPr>
                            <m:lit/>
                            <m:nor/>
                          </m:rPr>
                          <m:t xml:space="preserve">_mod</m:t>
                        </m:r>
                        <m:r>
                          <m:rPr>
                            <m:lit/>
                            <m:nor/>
                          </m:rPr>
                          <m:t xml:space="preserve">ificado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835280" y="5445000"/>
                <a:ext cx="56894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manho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⋅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6E5-4714-4D14-B98A-9F24556215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ultiplicadores de esforç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Medida do esforço de uma equipe de trabalho para desenvolver um produto de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F3C-AD07-498C-8608-8E78F0EC5B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delo Pós-Arquite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17 direcionadores de cus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Fatores de produto, plataforma, equipe de trabalho e proje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Seis índices possíveis para cada direcionador de esforç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 uma medida se localizar entre dois ídices, “arredonda-se” para aquele mais próximo do índice nomi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82B4-2C8E-48BE-BCEA-8BEDD89E6F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ós-Arquitetura – Índ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826920" y="3068640"/>
          <a:ext cx="7958160" cy="1584360"/>
        </p:xfrm>
        <a:graphic>
          <a:graphicData uri="http://schemas.openxmlformats.org/drawingml/2006/table">
            <a:tbl>
              <a:tblPr/>
              <a:tblGrid>
                <a:gridCol w="1136880"/>
                <a:gridCol w="1162080"/>
                <a:gridCol w="1301760"/>
                <a:gridCol w="1263600"/>
                <a:gridCol w="1236600"/>
                <a:gridCol w="973080"/>
                <a:gridCol w="8841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ito baix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ix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omin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ito 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xtra 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TE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 mes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 mes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an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 ano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 ano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C08-5B39-4E35-8C27-6E01FC0D6C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Valores numéricos – LTE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826920" y="3141720"/>
          <a:ext cx="7958160" cy="1946160"/>
        </p:xfrm>
        <a:graphic>
          <a:graphicData uri="http://schemas.openxmlformats.org/drawingml/2006/table">
            <a:tbl>
              <a:tblPr/>
              <a:tblGrid>
                <a:gridCol w="1136520"/>
                <a:gridCol w="1162080"/>
                <a:gridCol w="1301760"/>
                <a:gridCol w="1263600"/>
                <a:gridCol w="1236960"/>
                <a:gridCol w="973080"/>
                <a:gridCol w="88416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ito baix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ix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omina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uito 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xtra al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TE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9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F3F-FAC9-458C-87B5-0BB5D643AF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Pré-Projeto e Pós-Arquitetur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809640" y="2781360"/>
          <a:ext cx="7958160" cy="3419280"/>
        </p:xfrm>
        <a:graphic>
          <a:graphicData uri="http://schemas.openxmlformats.org/drawingml/2006/table">
            <a:tbl>
              <a:tblPr/>
              <a:tblGrid>
                <a:gridCol w="3979800"/>
                <a:gridCol w="3978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ré-Projet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ós-Arquitetur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CP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LY, DATA, CPLX, DOCU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U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U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DIF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IME, STOR, PVO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ER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AP, PCAP, PC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EXP, PEXP, LTE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FCIL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OOL, SI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SC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SCE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F8C-405A-4442-BFD1-39EBD29308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finição geral do mod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O termo “métrica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COMO I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nstructive Cost Mod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ECE-664E-4F2E-86BA-2A777E2E8A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é-Projeto – Índice P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42920" y="2637000"/>
          <a:ext cx="8893080" cy="3400200"/>
        </p:xfrm>
        <a:graphic>
          <a:graphicData uri="http://schemas.openxmlformats.org/drawingml/2006/table">
            <a:tbl>
              <a:tblPr/>
              <a:tblGrid>
                <a:gridCol w="1517760"/>
                <a:gridCol w="1160280"/>
                <a:gridCol w="1193760"/>
                <a:gridCol w="1071720"/>
                <a:gridCol w="1270080"/>
                <a:gridCol w="863280"/>
                <a:gridCol w="1033560"/>
                <a:gridCol w="782640"/>
              </a:tblGrid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xtra Baixo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uito Baixo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ixo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ominal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lto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uito Alto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xtra Alto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AP + PCAP + PCON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 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 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 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 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 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omb. ACAP - PCAP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CON</a:t>
                      </a:r>
                      <a:r>
                        <a:rPr b="1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e2c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C35-973A-4CF0-9AF2-FE404B7CFE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Ferramenta COCOMO II</a:t>
            </a:r>
            <a:r>
              <a:rPr b="0" lang="pt-BR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Desenvolvidas por times de estudantes de graduação liderados pelo Dr. Ellis Horowitz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Unix, Windows e para um ambiente que suporte Jav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E2E9-D032-43B9-AA6F-25BE7AFE6A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Vers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USC COCOMO II.1997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Meio de 1997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83 pontos de d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997.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rrigindo um bug na função de calibra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Versões 1998.0, 1999.0 e 2000.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161 pontos de d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Versão 2000.0 não está no site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Versão 200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Também não está no site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ais pontos de d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F3A-961C-4354-ACD4-23DE0442A7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09640" y="227628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Software independ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Único usuá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Requer bastante interação com o usuário, através do uso intensivo do mo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Formulário de estimação no nível de componente (CLEF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78F-6B7C-4A7A-A531-1686C6ABC36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pt-BR" sz="4400" spc="-1" strike="noStrike">
                <a:solidFill>
                  <a:srgbClr val="003366"/>
                </a:solidFill>
                <a:latin typeface="Times New Roman"/>
              </a:rPr>
              <a:t>Fi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5 tipos de arquiv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je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Relató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alibra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SV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ermite que arquivos do COCOMO sejam criados, abertos, salvos ou impresso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122-E843-467E-BE75-A3E0D8E6C9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pt-BR" sz="4400" spc="-1" strike="noStrike">
                <a:solidFill>
                  <a:srgbClr val="003366"/>
                </a:solidFill>
                <a:latin typeface="Times New Roman"/>
              </a:rPr>
              <a:t>Edi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ermite que as informações sobre o projeto sejam manipuladas  mais convenientement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Incluir um módulo ao projeto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pagar todos os módulos do projeto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sfazer o último recorte ou colagem feita de um módulo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Recortar um módulo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piar um módulo para a memória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olar um módulo da memória; 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Criar um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</a:rPr>
              <a:t>Snapshot.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F23-BA0E-4C59-856D-1267665CAB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84360" y="486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libração: definição das constantes envolvidas nas equações de esforço e praz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COMOII foi originalmente calibrado com dados de 161 projet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1969920"/>
            <a:ext cx="8381880" cy="28274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Calibra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B70-44AA-4EAB-BCF7-D5C427C509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831960" y="233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 modelo vem calibrado para estes projetos, cuja natureza pode diferir daquele que se deseja estima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so isto ocorra, a correta utilização pressupõe a calibração do ambiente-alvo através da seleção de projetos equivalen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o COCOMOII é possível o armazenamento dos dados de calibração em arquivos (através das opções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File Loa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File Sav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e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File Save A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Calibra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74A-71D6-442E-853B-FB97A4AB31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2023920"/>
            <a:ext cx="77724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opção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j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presenta os dados dos projetos arquivad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É possível incluir e remover entradas de projetos na tabe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2647800" y="3581280"/>
            <a:ext cx="4876920" cy="3276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Calibra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772-3340-48F1-936E-86B5FCD979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Calibrat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opção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Comput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usa todos os dados arquivados e calcula os novos coeficientes e/ou expoentes para as equações de esforço e de praz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4191120" cy="342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9A6-9D31-4A67-8D94-5D7A0762A1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stimativas de taman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724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ontos de fun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Linhas de códig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rincipal vantagem do uso de P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btenção a partir dos requisi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66C-3FAB-42F7-AFC9-69DEDE2296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04920" y="2060640"/>
            <a:ext cx="853416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O menu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Phase Distribution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é responsável por mostrar as divisões do esforço 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prazo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de software dentro das fases do ciclo de desenvolvimento de softwar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Fas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: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P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lanejamento &amp;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R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equisito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P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rojeto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I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mplementação 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I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ntegração &amp;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T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este.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730080" y="4141800"/>
            <a:ext cx="8305920" cy="2743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Phase Distrib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9EB-9179-40F5-AB18-F2C3A3A1A9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A opção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Project Phase Distribution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permite ao usuário visualizar as fases de desenvolvimento para o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Times New Roman"/>
                <a:ea typeface="Arial"/>
              </a:rPr>
              <a:t>projeto inteiro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apresentando todas as fases juntas ou estas individualment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A opção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Module Phase Distribution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permite ao usuário visualizar as fases de desenvolvimento para um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Times New Roman"/>
                <a:ea typeface="Arial"/>
              </a:rPr>
              <a:t>módulo particular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apresentando todas as fases juntas ou estas individualment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Phase Distrib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58D-39BC-4DBF-BA1B-32F589C0468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80880" y="2204640"/>
            <a:ext cx="83822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O menu </a:t>
            </a:r>
            <a:r>
              <a:rPr b="0" i="1" lang="pt-BR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Maintenance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 possui a função de calcular e apresentar uma estimativa de esforço e de custo necessário para que após o desenvolvimento do produto de software, este fique em manutenção por um número de anos definido pelo usuário (máximo de cinco anos).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80880" y="4124160"/>
            <a:ext cx="8305920" cy="2657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371600" y="609480"/>
            <a:ext cx="7378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Mainten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3D2-0DF1-4FD5-BE74-B7A39990B5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Utilização dos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mesmos multiplicadores de esforço usados para determinar o esforço e custos do desenvolvimento do softwa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Os cálculos de manutenção são baseados no Fator de Mudança (MCF) e Fator de Ajuste (MAF):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057400" y="5029200"/>
            <a:ext cx="4572000" cy="9399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Mainten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30A-F235-4CFF-B296-BB9D6AFACDA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85800" y="2205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O tamanho inicial da manutenção é obtido de dois modo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219400" y="2781360"/>
            <a:ext cx="5952960" cy="903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819600" y="4722840"/>
            <a:ext cx="3200400" cy="9381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09480" y="386064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Nas duas equações mostradas acima, o tamanho estimado da manutenção é ajustado com o Fator de Ajuste (MAF)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57913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SU = Entendimento do Softw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UNFM = Não-Familiaridade com o Softwa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Mainten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629-0BCA-4AF7-96FD-21965BF1C13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opção 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Project Maintenance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ermite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cálculos de estimativa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de esforço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de manutenção para um projeto inteiro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opção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Module</a:t>
            </a:r>
            <a:r>
              <a:rPr b="0" i="1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 Maintenance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ermite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cálculos de estimativa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de esforço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de manutenção para um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Arial"/>
              </a:rPr>
              <a:t>módulo individual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nu </a:t>
            </a:r>
            <a:r>
              <a:rPr b="0" i="1" lang="en-US" sz="4400" spc="-1" strike="noStrike">
                <a:solidFill>
                  <a:srgbClr val="003366"/>
                </a:solidFill>
                <a:latin typeface="Times New Roman"/>
              </a:rPr>
              <a:t>Mainten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20A-0118-48B9-B558-59B426BB7D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COCOMO II Model Definition Manual. </a:t>
            </a:r>
            <a:r>
              <a:rPr b="0" lang="es-ES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ftp://ftp.usc.edu/pub/soft_engineering/COCOMOII/cocomo99.0/modelman.pdf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. Acessado em Agosto de 2004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USC COCOMO II User's Manual. </a:t>
            </a:r>
            <a:r>
              <a:rPr b="0" lang="es-ES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ftp://ftp.usc.edu/pub/soft_engineering/COCOMOII/cocomo99.0/userman.pdf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 Acessado em Agosto de 2004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Site oficial do COCOMO. </a:t>
            </a:r>
            <a:r>
              <a:rPr b="0" lang="pt-BR" sz="20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sunset.usc.edu/research/COCOMOII/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</a:rPr>
              <a:t>Acessado em Agosto de 2004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ndré Luís P. Trindade, Marcelo S. P. Pessôa e Mauro M Spinola. COCOMO II – Uma compilação de informações sobre a nova métrica. </a:t>
            </a:r>
            <a:r>
              <a:rPr b="0" i="1" lang="pt-BR" sz="2000" spc="-1" strike="noStrike">
                <a:solidFill>
                  <a:srgbClr val="003366"/>
                </a:solidFill>
                <a:latin typeface="Times New Roman"/>
              </a:rPr>
              <a:t>V Congresso Internacional de Engenharia Informática da Universidade de Buenos Aires</a:t>
            </a: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. 199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D10-A1B8-4522-84A7-C9D5AEB0E72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stimativas de esforç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724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Diferentes abordage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odelos paramétric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odelos baseados em ativida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Analog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Relações simples de estimativ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C56-99AC-471D-8D74-35518C12F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stimativas de esforço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724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Homens-mê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PM</a:t>
            </a:r>
            <a:r>
              <a:rPr b="0" lang="pt-BR" sz="2000" spc="-1" strike="noStrike" baseline="-30000">
                <a:solidFill>
                  <a:srgbClr val="003366"/>
                </a:solidFill>
                <a:latin typeface="Verdana"/>
                <a:ea typeface="Times New Roman"/>
              </a:rPr>
              <a:t> nominal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 = A x (tamanho)</a:t>
            </a:r>
            <a:r>
              <a:rPr b="0" lang="pt-BR" sz="2000" spc="-1" strike="noStrike" baseline="30000">
                <a:solidFill>
                  <a:srgbClr val="003366"/>
                </a:solidFill>
                <a:latin typeface="Verdana"/>
                <a:ea typeface="Times New Roman"/>
              </a:rPr>
              <a:t>B 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x EAF</a:t>
            </a:r>
            <a:r>
              <a:rPr b="0" lang="pt-BR" sz="2000" spc="-1" strike="noStrike" baseline="-30000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+ F</a:t>
            </a:r>
            <a:r>
              <a:rPr b="0" lang="pt-BR" sz="2000" spc="-1" strike="noStrike" baseline="-30000">
                <a:solidFill>
                  <a:srgbClr val="003366"/>
                </a:solidFill>
                <a:latin typeface="Verdana"/>
                <a:ea typeface="Times New Roman"/>
              </a:rPr>
              <a:t>re-eng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030-A7D8-4F12-8199-4236BB8F2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arâmetr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724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PM</a:t>
            </a:r>
            <a:r>
              <a:rPr b="0" lang="pt-BR" sz="2400" spc="-1" strike="noStrike" baseline="-30000">
                <a:solidFill>
                  <a:srgbClr val="003366"/>
                </a:solidFill>
                <a:latin typeface="Verdana"/>
                <a:ea typeface="Times New Roman"/>
              </a:rPr>
              <a:t> nominal</a:t>
            </a:r>
            <a:r>
              <a:rPr b="0" lang="pt-BR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 = A x (tamanho)</a:t>
            </a:r>
            <a:r>
              <a:rPr b="0" lang="pt-BR" sz="2400" spc="-1" strike="noStrike" baseline="30000">
                <a:solidFill>
                  <a:srgbClr val="003366"/>
                </a:solidFill>
                <a:latin typeface="Verdana"/>
                <a:ea typeface="Times New Roman"/>
              </a:rPr>
              <a:t>B </a:t>
            </a:r>
            <a:r>
              <a:rPr b="0" lang="pt-BR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x EAF</a:t>
            </a:r>
            <a:r>
              <a:rPr b="0" lang="pt-BR" sz="2400" spc="-1" strike="noStrike" baseline="-30000">
                <a:solidFill>
                  <a:srgbClr val="003366"/>
                </a:solidFill>
                <a:latin typeface="Verdan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+ F</a:t>
            </a:r>
            <a:r>
              <a:rPr b="0" lang="pt-BR" sz="2400" spc="-1" strike="noStrike" baseline="-30000">
                <a:solidFill>
                  <a:srgbClr val="003366"/>
                </a:solidFill>
                <a:latin typeface="Verdana"/>
                <a:ea typeface="Times New Roman"/>
              </a:rPr>
              <a:t>re-e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B = 0,91 + 0,01 x </a:t>
            </a:r>
            <a:r>
              <a:rPr b="0" lang="pt-BR" sz="28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wi</a:t>
            </a:r>
            <a:r>
              <a:rPr b="0" lang="en-US" sz="2400" spc="-1" strike="noStrike" baseline="-30000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Direcionadores de cus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Fator de re-engenhari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DC3-9C16-4B07-8685-55DF29B48D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ator de re-engenha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724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F</a:t>
            </a:r>
            <a:r>
              <a:rPr b="0" lang="en-US" sz="2000" spc="-1" strike="noStrike" baseline="-30000">
                <a:solidFill>
                  <a:srgbClr val="003366"/>
                </a:solidFill>
                <a:latin typeface="Verdana"/>
                <a:ea typeface="Times New Roman"/>
              </a:rPr>
              <a:t>re-eng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= [ASLOC x (AT/100)] / ATPRO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  <a:ea typeface="Arial Unicode MS"/>
              </a:rPr>
              <a:t>AT/10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  <a:ea typeface="Arial Unicode MS"/>
              </a:rPr>
              <a:t>Porcentagem do código recriado por tradução automátic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  <a:ea typeface="Arial Unicode MS"/>
              </a:rPr>
              <a:t>ATPRO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  <a:ea typeface="Arial Unicode MS"/>
              </a:rPr>
              <a:t>medida de produtividade dada em declarações-fontes/homens-mê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ASLO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  <a:ea typeface="Times New Roman"/>
              </a:rPr>
              <a:t>medida quantitativa de linhas de código-fonte alteradas  pela atividade de conversão ou re-engenharia.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B92-3FCC-412E-8A96-63936C99CA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esenvolvimento científ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724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University of Southern Califórnia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ráter educac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nter for Software Engineering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x Rat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ompatível com o RU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nografia de Qualidade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2F8-2E62-47E3-AD10-A4CE4B17A0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9:54:39Z</dcterms:created>
  <dc:creator>dcp</dc:creator>
  <dc:description/>
  <dc:language>en-US</dc:language>
  <cp:lastModifiedBy>dcp</cp:lastModifiedBy>
  <dcterms:modified xsi:type="dcterms:W3CDTF">2004-08-27T11:12:55Z</dcterms:modified>
  <cp:revision>7</cp:revision>
  <dc:subject/>
  <dc:title>COCOMO II</dc:title>
</cp:coreProperties>
</file>