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E9D-71C3-431D-A033-DF4F82A2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2E-6569-424C-8DED-071FAEF0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2B9-1852-4F55-9BB7-509EDD27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64B-4175-4A13-BF1A-40398408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7029-73F2-4418-8C91-D23F68E9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21D-E193-4364-937D-5AE0E30A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CB35-05BC-41AD-8C89-0F4EF072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D8B5-CE62-4E14-9E14-ECC2A2B9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45BF-ACE6-45F0-B5FC-5B38B589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A380-ADE2-47A7-9B31-3D287B4E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0AAD-8C77-494D-823E-53605EB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96E-B763-41EC-87F8-255EB1BB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E2D4-0180-456D-B9BC-2CE1327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7450-66AD-4D7C-901B-5074CE6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CD25-F6A0-4600-A9EE-049FA7FD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5D60-6511-4646-B325-F895DC12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ED03-E249-44E0-AE2A-97224DE1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300-1729-4AEA-8BD0-A8BA03B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BC6-99F5-45B2-BF28-D7D75F8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74A-D640-47D5-9928-67DDC4C4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6FB-803D-41B6-A708-4BB06703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62B-3F8A-47B6-8A2C-4F959B9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6F1-1262-4EE0-A409-FD7D0FC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020-3B52-469F-AF43-C2069AF0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e1e1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9e1e1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9e1e1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e1e1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e1e1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e1e1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8B7-69A9-4B82-87A5-A07268D14109}" type="slidenum">
              <a:rPr b="0" lang="en-US" sz="1400" spc="-1" strike="noStrike">
                <a:solidFill>
                  <a:srgbClr val="9e1e1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9c6c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8E24-D1C4-49F5-A32A-D4AB734F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c6c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9c6c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e1e1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1e1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e1e1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e1e1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1e1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e1e1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1e1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e1e1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1e1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349000"/>
            <a:ext cx="609588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Garantia da Qualidade</a:t>
            </a:r>
            <a:br>
              <a:rPr sz="4000"/>
            </a:br>
            <a:r>
              <a:rPr b="0" lang="en-US" sz="3500" spc="-1" strike="noStrike">
                <a:solidFill>
                  <a:srgbClr val="f9c6c1"/>
                </a:solidFill>
                <a:latin typeface="Arial"/>
              </a:rPr>
              <a:t>- Produtos de Software -</a:t>
            </a:r>
            <a:endParaRPr b="0" lang="en-US" sz="35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92360" y="5266800"/>
            <a:ext cx="5860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9c6c1"/>
                </a:solidFill>
                <a:latin typeface="Arial"/>
              </a:rPr>
              <a:t>Equipe</a:t>
            </a:r>
            <a:endParaRPr b="0" lang="en-US" sz="2000" spc="-1" strike="noStrike">
              <a:solidFill>
                <a:srgbClr val="f9c6c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9c6c1"/>
                </a:solidFill>
                <a:latin typeface="Arial"/>
              </a:rPr>
              <a:t>Artur Luis Nascimento (aln)</a:t>
            </a:r>
            <a:endParaRPr b="0" lang="en-US" sz="2000" spc="-1" strike="noStrike">
              <a:solidFill>
                <a:srgbClr val="f9c6c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9c6c1"/>
                </a:solidFill>
                <a:latin typeface="Arial"/>
              </a:rPr>
              <a:t>Marcelo Victor Calado (mvcsc)</a:t>
            </a:r>
            <a:endParaRPr b="0" lang="en-US" sz="2000" spc="-1" strike="noStrike">
              <a:solidFill>
                <a:srgbClr val="f9c6c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9c6c1"/>
                </a:solidFill>
                <a:latin typeface="Arial"/>
              </a:rPr>
              <a:t>Márcio Bernardino Cunha (mbflc)</a:t>
            </a:r>
            <a:endParaRPr b="0" lang="en-US" sz="2000" spc="-1" strike="noStrike">
              <a:solidFill>
                <a:srgbClr val="f9c6c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Documentação do Usuário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É o conjunto completo de documentos, que é fornecido para utilização de um produto, sendo também uma parte do produto.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Inclui todos os dados necessários para a instalação (se necessário), para o uso da aplicação e para a manutenção do produto de software.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Documentação do Usuário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Os principais requisitos da documentação do usuário sã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Completitu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Correçã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Consistência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Inteligibilida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Apresentação e organizaçã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Programas e Dados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Os requisitos de qualidade para Programas e Dados utilizam as mesmas definições das características de qualidade da Norma ISO/IEC 9126.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Programas e Dados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Os principais requisitos para Programas e Dados sã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Funcionalida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Confiabilida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Usabilida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As recomendações de como um produto deve ser testado em relação aos requisitos de qualidade sã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Pré-requisitos de Test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Atividades de Test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Registros de Test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Relatório de Test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Teste de acompanhament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br>
              <a:rPr sz="4000"/>
            </a:b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(Pré-requisitos de Teste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Presença de itens: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evem estar presentes, para a execução do teste, todos os componentes a serem entregues e os documentos de requisitos identificados na Descrição do Produt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Presença de Componentes do Sistema: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eve estar disponível todo o ambiente de hardware e software identificados na descrição do produt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Treinamento: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Se o treinamento for mencionado na Descrição do Produto, o responsável pelo teste deve ter acesso ao material e ao programa de treinamento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br>
              <a:rPr sz="4000"/>
            </a:b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(Atividades de Teste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Descrição do Produto: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Todo requisito especificado nesta Descrição deve ser testad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Documentação do Usuário: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Todo requisito especificado nesta Documentação deve ser testad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e10"/>
                </a:solidFill>
                <a:latin typeface="Arial"/>
              </a:rPr>
              <a:t>Programas e Dados: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Todo requisito especificado para os Programas e Dados deve ser testad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br>
              <a:rPr sz="4000"/>
            </a:b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(Registros de Teste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Os registros devem conter informações suficientes para permitir a repetição do teste, através de um Plano de Teste com os casos de teste, os resultados associados e a identificação das pessoas envolvidas.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br>
              <a:rPr sz="4000"/>
            </a:b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(Relatório de Teste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Deve conter um resumo com os objetos e resultados dos testes efetuados com a seguinte estrutura: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Identificação do produto;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Sistemas computacionais utilizados;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ocumentos usados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Resultados dos testes da Atividade de Teste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Lista das não conformidades e a data de encerramento do teste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Instruções para Teste</a:t>
            </a:r>
            <a:br>
              <a:rPr sz="4000"/>
            </a:b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(Teste de acompanhamento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Quando um produto é testado novamente (considerando o teste anterior), todas as partes modificadas e as partes inalteradas, mas influenciáveis pelas modificações, devem ser testadas como se fosse um produto novo.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SO/IEC 12119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SO/IEC   9126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SO/IEC 14598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Referências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9126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É uma norma composta por um conjunto de características que devem ser verificadas em um software para que ele seja considerado um "software de qualidade"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9c6c1"/>
                </a:solidFill>
                <a:latin typeface="Arial"/>
              </a:rPr>
              <a:t>Divisã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ISO/IEC 9126-1: Modelo de Qualidade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SO/IEC 9126-2: Métricas Externas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ISO/IEC 9126-3: Métricas Internas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ISO/IEC 9126-4: Métricas de Qualidade em Us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ISO/IEC 9126-1 - Modelo de Qualidade</a:t>
            </a: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documento basicamente de definições, ele é composto por seis características de qualidade: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Funcionalidade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Confiabilidade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Usabilidade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ficiência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Manutenibilidade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Portabilidade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ISO/IEC 9126-2 - Métricas Externas</a:t>
            </a: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define indicadores e métricas externas para avaliar um produto de software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referem-se a medições indiretas de um produto de software a partir do comportamento do Sistema Computacional ou do seu efeito no ambiente, quando da execução de seus programas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ISO/IEC 9126-3 - Métricas Internas</a:t>
            </a: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define indicadores e métricas internas para avaliar um produto de software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Métricas internas referem-se a medições de um produto de software a partir de suas próprias características internas, sem a necessidade de execução dos programas, como por exemplo, linhas de código, número de erros encontrados em revisões, etc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ISO/IEC 9126-4 - Métricas de Qualidade em Uso</a:t>
            </a: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 avaliação da Qualidade em Uso do software valida a qualidade do produto em cenários e tarefas estabelecidas do usuári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Os atributos da qualidade em uso são categorizados em características: efetividade, produtividade, segurança e satisfaçã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Qualidade no Ciclo de Vida do Software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Relacionamento entre os tipos de métricas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Qualidade interna e externa são aplicáveis ao produto de software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Qualidade em uso é aplicável ao efeito do produto de softwar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As métricas internas podem ser aplicadas a um produto de software não executável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As métricas externas podem ser usadas para medir a qualidade do produto de software através da medição de seu comportamento em um sistema do qual ele faça part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As métricas de qualidade em uso medem o quanto que o produto agrega das necessidades de usuários específicos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9c6c1"/>
                </a:solidFill>
                <a:latin typeface="Arial"/>
              </a:rPr>
              <a:t>Um método de avaliação - METASOFT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Questionário que apresenta duas formas de respostas: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m forma de escolha simples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m forma de múltipla escolha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 cada questão é atribuído um Grau de Importância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Com os valores obtidos observa-se o nível de qualidade alcançad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Orientam planejamento e a execução de um processo de avaliação da qualidade do produto de software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Necessidade de complementar a ISO/IEC 9126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Recursos interessantes aos avaliadores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Processo de avaliação em grande detalhe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Preocupação com a melhoria da qualidade de produto e de serviço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valiação de seus produtos através de algum tipo de certificação emitida com base numa padronização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 ISO lançou um conjunto de normas de qualidade.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87138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Três grupos interessados em avaliar um software, o que define os três tipos básicos de certificação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3213000"/>
          <a:ext cx="8276760" cy="2016360"/>
        </p:xfrm>
        <a:graphic>
          <a:graphicData uri="http://schemas.openxmlformats.org/drawingml/2006/table">
            <a:tbl>
              <a:tblPr/>
              <a:tblGrid>
                <a:gridCol w="1241280"/>
                <a:gridCol w="2898000"/>
                <a:gridCol w="4137480"/>
              </a:tblGrid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ertific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em reali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na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1a. p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presas que desenvolvem softwar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lhorar a qualidade de seu próprio produ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2a. p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presas que adquirem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erminar a qualidade do produto que irão adquir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3a. pa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presas que fazem certific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mitir documento oficial sobre a qualidade de um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421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Conjunto de guias que apóia este processo de avaliação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3068640"/>
          <a:ext cx="8353080" cy="3239640"/>
        </p:xfrm>
        <a:graphic>
          <a:graphicData uri="http://schemas.openxmlformats.org/drawingml/2006/table">
            <a:tbl>
              <a:tblPr/>
              <a:tblGrid>
                <a:gridCol w="1252080"/>
                <a:gridCol w="2925360"/>
                <a:gridCol w="417564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r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na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são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sina a utilizar as outras normas do gru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anejamento e Gerenci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bre como fazer uma avaliação, de forma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uia para Desenvolve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o avaliar sob o ponto do vista de quem desenvol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uia para Aquis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o avaliar sob o ponto de vista de quem vai adquir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uia para Aval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o avaliar sob o ponto de vista de quem certif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598-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ódulos de Aval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talhes sobre como avaliar cada 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850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Modelo de relatório de avaliação, segundo um anexo da norma ISO/IEC 14598-5.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2492280"/>
          <a:ext cx="8568720" cy="4032000"/>
        </p:xfrm>
        <a:graphic>
          <a:graphicData uri="http://schemas.openxmlformats.org/drawingml/2006/table">
            <a:tbl>
              <a:tblPr/>
              <a:tblGrid>
                <a:gridCol w="1970280"/>
                <a:gridCol w="6598440"/>
              </a:tblGrid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t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 - Prefá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o avaliado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o relatório de avaliaçã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o contratante e fornece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 - Requis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 geral do domínio de aplicação do produt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 geral dos objetivos do produt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a dos requisitos de qualidade, incluind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Informações do produto a serem avaliada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Referências às características de qualida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Níveis de aval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 - Especific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rangência da avaliaçã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erência cruzada entre os requisitos de avaliação e os componentes do produt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pecificação das medições e dos pontos de verificaçã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peamento entre a especificação das medições com os requisitos de avali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 - Méto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étodos e componentes nos quais o método será apli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 - Result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s da avaliação propriamente dito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s intermediários e decisões de interpretação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erência às ferramentas utiliza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4598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m resum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complementa a ISO/IEC 9126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permite uma avaliação padronizada das características de qualidade de um software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É importante notar que, ao contrário da ISO/IEC 9126, a ISO/IEC 14598 vai a detalhes mínimos, incluind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modelos para relatórios de avaliação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técnicas para medição das características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documentos necessários para avaliaçã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Arial"/>
              </a:rPr>
              <a:t>fases da avaliação.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Conhecimento das normas: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2496960"/>
          <a:ext cx="8785440" cy="3524400"/>
        </p:xfrm>
        <a:graphic>
          <a:graphicData uri="http://schemas.openxmlformats.org/drawingml/2006/table">
            <a:tbl>
              <a:tblPr/>
              <a:tblGrid>
                <a:gridCol w="3249720"/>
                <a:gridCol w="922320"/>
                <a:gridCol w="922320"/>
                <a:gridCol w="924120"/>
                <a:gridCol w="922320"/>
                <a:gridCol w="922320"/>
                <a:gridCol w="922320"/>
              </a:tblGrid>
              <a:tr h="75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R 13596</a:t>
                      </a:r>
                      <a:br>
                        <a:rPr sz="1300"/>
                      </a:b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SO/IEC 9126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4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/IEC 121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hece e usa sistematic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hece e começa a usa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hece, mas não u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ão conhe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a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436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ISO - International Organization for Standardization &lt;www.iso.org&gt;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BNT, 1996. Associação Brasileira de Normas Técnicas. &lt;http://www.abnt.org.br&gt;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Secretaria de Política de Informática – SEPIN, Tecnologia da Informação &lt; http://www.mct.gov.br&gt;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Perguntas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828440"/>
            <a:ext cx="8785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9e1e10"/>
                </a:solidFill>
                <a:latin typeface="Verdana"/>
              </a:rPr>
              <a:t>?</a:t>
            </a:r>
            <a:endParaRPr b="0" lang="en-US" sz="120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e1e10"/>
                </a:solidFill>
                <a:latin typeface="Arial"/>
              </a:rPr>
              <a:t>A ISO junto com a IEC, elabora um conjunto de normas que tratam sobre a atual padronização mundial para a qualidade de produtos de software</a:t>
            </a:r>
            <a:r>
              <a:rPr b="0" lang="en-US" sz="3200" spc="-1" strike="noStrike">
                <a:solidFill>
                  <a:srgbClr val="9e1e1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ISO/IEC 12119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e1e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e1e10"/>
                </a:solidFill>
                <a:latin typeface="Arial"/>
              </a:rPr>
              <a:t>Requisitos de Qualidade e Testes de Pacotes de Software</a:t>
            </a:r>
            <a:endParaRPr b="0" lang="en-US" sz="1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ISO/IEC 9126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e1e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e1e10"/>
                </a:solidFill>
                <a:latin typeface="Arial"/>
              </a:rPr>
              <a:t>Características de qualidade de software</a:t>
            </a:r>
            <a:r>
              <a:rPr b="0" lang="en-US" sz="20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ISO/IEC 14598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e1e1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9e1e10"/>
                </a:solidFill>
                <a:latin typeface="Arial"/>
              </a:rPr>
              <a:t>Guias para Avaliação de Produto de Software</a:t>
            </a:r>
            <a:r>
              <a:rPr b="0" lang="en-US" sz="18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ISO/IEC 12119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sta Norma é aplicável à avaliação de pacotes de software na forma em que são oferecidos e liberados para uso no mercado.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Arial"/>
              </a:rPr>
              <a:t>Entende-se por pacote de software o "conjunto completo e documentado de programas fornecidos a diversos usuários para uma aplicação ou função genérica".</a:t>
            </a: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Estrutura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987560"/>
          <a:ext cx="7772400" cy="39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7560"/>
                    <a:ext cx="7772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c6c1"/>
                </a:solidFill>
                <a:latin typeface="Arial"/>
              </a:rPr>
              <a:t>Requisitos de Qualidade</a:t>
            </a:r>
            <a:endParaRPr b="0" lang="en-US" sz="44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Um pacote de software deve possuir a Documentação do Pacote, que é composta por: 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escrição do Produt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ocumentação do Usuári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Programa e Dados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Descrição do Produto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e1e10"/>
                </a:solidFill>
                <a:latin typeface="Verdana"/>
                <a:ea typeface="Times New Roman"/>
              </a:rPr>
              <a:t>Expõe as principais propriedades de um pacote de software, com os seguintes objetivos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Verdana"/>
                <a:ea typeface="Times New Roman"/>
              </a:rPr>
              <a:t>Auxiliar o usuário ou os potenciais compradores deste produto, na avaliação da adequação do produto às suas reais necessidades;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e1e10"/>
                </a:solidFill>
                <a:latin typeface="Verdana"/>
                <a:ea typeface="Times New Roman"/>
              </a:rPr>
              <a:t>Servir como base para testes.</a:t>
            </a:r>
            <a:r>
              <a:rPr b="0" lang="pt-PT" sz="2400" spc="-1" strike="noStrike">
                <a:solidFill>
                  <a:srgbClr val="9e1e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9c6c1"/>
                </a:solidFill>
                <a:latin typeface="Arial"/>
              </a:rPr>
              <a:t>Requisitos de Qualidade (Descrição do Produto)</a:t>
            </a:r>
            <a:endParaRPr b="0" lang="en-US" sz="4000" spc="-1" strike="noStrike">
              <a:solidFill>
                <a:srgbClr val="f9c6c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e1e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e10"/>
                </a:solidFill>
                <a:latin typeface="Arial"/>
              </a:rPr>
              <a:t>Os principais requisitos da descrição do produto são:</a:t>
            </a:r>
            <a:endParaRPr b="0" lang="en-US" sz="28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Requisitos gerais sobre o conteúdo da descrição do produto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Identificações e indicações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e1e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e10"/>
                </a:solidFill>
                <a:latin typeface="Arial"/>
              </a:rPr>
              <a:t>Declaração sobre funcionalidade, confiabilidade, usabilidade, eficiência, manutenibilidade, e portabilidade</a:t>
            </a: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e1e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18:55:14Z</dcterms:created>
  <dc:creator>Marcelo</dc:creator>
  <dc:description/>
  <dc:language>en-US</dc:language>
  <cp:lastModifiedBy>RISCTEC</cp:lastModifiedBy>
  <dcterms:modified xsi:type="dcterms:W3CDTF">2004-08-24T11:53:15Z</dcterms:modified>
  <cp:revision>81</cp:revision>
  <dc:subject/>
  <dc:title>Slide 1</dc:title>
</cp:coreProperties>
</file>