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155A-2608-4F4A-9443-AF97C998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43BE-A535-4A76-AD05-1C89892B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950B-42E7-4671-9D80-78127666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F380-9461-47DD-8154-8858261C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B652-437E-443F-A814-6EB7FBCA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AC02-0969-4825-A317-97CF209A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AF08-ECE4-4455-9F70-8D5DA4D6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7C89-9E77-4A05-B7AC-7E835C41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9BEA-8FA0-4111-8FC7-497A0E53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90AA-E371-4C6B-BD70-4F04B02E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C1C9-5D97-4006-9D4E-25B63246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FF5F-6B19-4E28-83D2-1DCC828D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D678-96E3-4B88-BC3E-2AA8B910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2581-AD7C-4F47-B710-51DDC707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9168-7350-4E78-800E-EAE2E3A8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9777-F072-4CC8-9992-E432D60F2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88D6-BE57-4061-BF63-16CC35C1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DB57-5641-463B-90B9-EC5510DD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5B60-2767-471D-AC1B-D4B54A6C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B467-C04A-449E-87A5-2D7BBFFD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96D4-5C9D-4DFE-88B9-CA65457E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D54F-45BD-4B34-AE84-B50B5E0A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97F8-5795-4188-9603-2217536F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A8A7-7BC7-4EA3-AE65-D5F00839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0BDB-F03D-4479-B375-9864A9F366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8007-AE27-4A4E-99C4-B9D976D368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acq-ref.navy.mil/turbo2/topics/ci.cfm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A-CMM – Processo de Aquisição de Softwar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948000" y="4724280"/>
            <a:ext cx="19494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Mayerber Net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Rafael Araúj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Rafael Ortola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Rodrigo Alv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Thiago Araúj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 processo (2/2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da processo possui (cont.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tividades realizad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péis e procedimentos necessários para implementar um processo cha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dição e Anális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cessidade de se medir a performance do processo e a interpretação destas mediçõ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erificação de Implementaçã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ssos que são cumpridos para garantir que as atividades são realizadas de acordo com o processo que foi estabelecid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íveis de Maturidade (1/2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7859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Nível 1 – Inici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Resultados imprevisíveis, o processo é </a:t>
            </a:r>
            <a:r>
              <a:rPr b="0" i="1" lang="pt-BR" sz="1900" spc="-1" strike="noStrike">
                <a:solidFill>
                  <a:srgbClr val="000000"/>
                </a:solidFill>
                <a:latin typeface="Verdana"/>
              </a:rPr>
              <a:t>ad hoc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 e “caótico”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Nível 2 – Repetí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Práticas básicas de gerenciamento de projetos são estipuladas para planejar os aspectos de aquisiçã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Práticas bem sucedidas são repetidas em outros projeto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Nível 3 – Defini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Processo de aquisição padronizado e bem documentad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Todos os projetos utilizam o processo estipulad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íveis de Maturidade (2/2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ível 4 – Quantitativ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didas detalhadas do processo de aquisição de software, produtos e serviços são coletad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cessos entendidos qualitativamente e quantitativam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ível 5 – Otimizad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lhorias contínuas, incorporação de novas idéias e tecnologi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alimentação das experiências do process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ível 2 - Repetíve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7859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cessos Cha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lanejamento de Aquisição de Software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olicitação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senvolvimento e Gerenciamento dos Requisitos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erenciamento do Projeto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dministração de Contratos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lidaçã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ransição para Supor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ível 3 - Definid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7859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cessos Cha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ição e Manutenção do Processo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quisitos do Usuário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erenciamento de Desempenho de Projeto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erenciamento de Desempenho de Contrato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dministração de Riscos de Aquisição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erenciamento de Programas de Treinamento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íveis 4 e 5 – Quantitativo e Otimizad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7859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cessos Chave – Nível 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erenciamento Quantitativo dos Processos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erenciamento Quantitativo da Aquisição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cessos Chave – Nível 5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lhoria Contínua do Processo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erenciamento da Inovação da Aquisição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daptando o SA-CMM Nível 2 e a Visão de Casos de Uso (1/4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7859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Verdana"/>
              </a:rPr>
              <a:t>Planejamento da Aquisiçã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Verdana"/>
              </a:rPr>
              <a:t>(qual a empresa?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s critérios de seleção, requisitos técnicos e não técnicos, prazos e a forma de avaliação dos produtos e fornecedor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ição dos Requisitos Técnicos do Sistem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ocumento de Visão do RUP©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são dos clien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racterísticas essencia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íveis aceitáveis de qualida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daptando o SA-CMM Nível 2 e a Visão de Casos de Uso (2/4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7859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licitação, Seleção e Avaliação de Produtos e Fornecedor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acote de solicitaçã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cumento de visão, acrescido da referência da equipe técnica para contato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atório Sintético de Casos de Uso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nuta do contrato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cumento com o processo e critérios de avaliação do produt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atação do Forneced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trato definitiv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ustomização e implantação do sistem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asos de uso de alta prioridad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daptando o SA-CMM Nível 2 e a Visão de Casos de Uso (3/4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7859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lanejamento da Implantaçã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iorização de casos de us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lanejamento do treinamento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e das atividades do fornecedor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ustomização, Implantação e Test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ecução do plano de implantaçã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nalização do manual de suporte ao usuário e treinamen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erificar o andamento do projeto, analisar riscos e prazos e medidas de contingência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daptando o SA-CMM Nível 2 e a Visão de Casos de Uso (4/4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7859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omologação do Produ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tilização dos testes para homologaçã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so o resultado seja negativo, é estabelecido um novo planejamento e implementação de ajust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lanejamento dos Ajust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ini-sistemas com cronogramas e suas fas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iclo se repete até aprovação complet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scisão do contra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çã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0160" y="1628640"/>
            <a:ext cx="75945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quisição – todas as ações realizadas pelo comprad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8064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3360" indent="-60336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cesso de Aquisiçã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80640" indent="-52812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ecessidade de adquirir um sistem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80640" indent="-52812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scolhas são necessári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8064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3360" indent="-60336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o fazer escolhas adequada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80640" indent="-52812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ecessidade de conhecimento de requisit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80640" indent="-52812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ecessidade de conhecimento de entradas e saíd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80640" indent="-52812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ecessidade de um processo bem definido de aquisiçã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nclusão (1/2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7859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nefícios da adoçã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finição de padrões baseados em modelo de maturidad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tilização de procedimentos focados na melhoria contínua dos processos de contrataçã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finição de níveis de serviço baseados em parâmetros da maturidade dos processos e da qualidade dos produt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alização de avaliações periódicas nos processos dos fornecedor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riação de um banco de fornecedores avalia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lhoria contínua dos procedimentos de contratação e dos processos de softw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nclusão (2/2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7859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A-CMM no Brasi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72% das empresas que terceirizam seus serviços não exigem padrões de qualida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ntre as 28% restante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 9000 (55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rmas próprias (37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-CMM (6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ros (2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ível de maturidade não é garantia de continuidade de bom serviç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É fundamental definir padrões de maturidade e avaliações periódic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ferênci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137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[BOO97] BOOCH, G.; RUMBAUGH, J.; JACOBSON, I. Unified Modeling Language Semantics and Notation Guide 1.0 San Jose, CA, 1997. (Relatório Técnico da Rational Software Corporation).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[BOO99] BOOCH, G.; RUMBAUGH, J.; JACOBSON, I. The Unified Modeling Language User Guide. Addison-Wesley Longman, Inc. 1999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[DoN00] Department of Navy, Information Systems Security. Software Acquisition In: </a:t>
            </a:r>
            <a:r>
              <a:rPr b="0" lang="en-US" sz="17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acq-ref.navy.mil/turbo2/topics/ci.cf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[EEL03] EELES, P.; HOUSTON, K.; KOZACZYNSKI, W. Building J2EE Applications with Rational Unified Process. Addison Wesley. 2003.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[FER96] FERGUSON, J.; COOPER, J.; FALAT, M.; FISHER, M.; GUIDO, A.; MARCINIAK, J.; MATEJCECK, J.; WEBSTER, R. Software Acquisition Capability Maturity Model (SA-CMMSM) Version 1.01. Technical Report. CMU/SEI-96-TR-020. EXC-TR96-020. December, 1996.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[ISO95] NBRITO/IEC 12207: 1995. </a:t>
            </a: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Tecnologia da Informação - processos de ciclo de vida de software, 1997. apud [ROC01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ferênci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7859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[JAC92] JACOBSON, I.; CHRISTERSON, M.; JONSSON, P.;ÖVERGAARD, G. Object-Oriented Software Engineering.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w York. 1a. edição. Addison-Wesley Publishing Company. 1992.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[JAC99] JACOBSON, I.; BOOCH G.; RUMBAUGH, J. The Unified Software Development Process. Addison-Wesley Longman, Inc. 1999.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[MEY01] MEYERS, B. C.; OBERNDORF, P. Managing Software Acquisition - SEI Series in Software Engineering. </a:t>
            </a: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Addison Wesley. 2001.</a:t>
            </a:r>
            <a:br>
              <a:rPr sz="1700"/>
            </a:b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[ROC01] ROCHA, A. R. C.; MALDONADO, J. C.;WEBER, K. C. Qualidade de Software - Teoria e Prática.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entice Hall. 2001.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[COO02] COOPER, J.; FISHER, M. Software Acquisition Capability Maturity Model (SA-CMM) Version 1.03. Technical Report. CMU/SEI-2002-TR-010. ESC-TR-2002-010. March, 2002.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[RAT02] RATIONAL SOFTWARE CORPORATION. </a:t>
            </a: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Rational Unified Process Version 2002.05.20 Copyright 1987-2002. 2002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ormalização (1/2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6438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quisição de um sistem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 fornecedor desenvolve tudo do zer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quisição de um produto de softwa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stema já desenvolvi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quisição de um serviço de softwa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É necessário algum desenvolvimento (sistemas parcialmente desenvolvidos, por exempl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ormalização (2/2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ir o que se quer pode não ser tão fácil!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6191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ormalização (2/2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Definir o que se quer pode não ser tão fácil!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É imprescindível a participação do comprador no desenvolvimento, ainda que apenas com elicitação de requisit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Formalizar o processo de aquisição significa, portan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Redução de falh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Redução de risc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A-CM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7921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Software Engineering Institute at Carnegie Mellon University (SEI/CMU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Desenvolveram o CMM (SW-CMM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Tentativa de adaptá-lo para aquisiçã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Definição de diretrizes, em cinco níveis, que uma organização deve seguir para dispor de um modelo adequado de aquisiçã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SW-CMM descreve o papel do desenvolvedo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SA-CMM descreve o papel do comprado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Interface que facilita e ferramentas que agilizam a aquisiçã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Processo genérico que visa melhorias contínu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brangência do SA-CM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finição de requisit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finição de requisitos para o sistema a ser adquirid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sitos técnicos 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afetam o sistema em s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quisitos funcionais, de performance, de qualidade,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sitos não técnicos 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afetam o processo de aquisiçã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onograma, datas de entrega, pontos de controle,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tividades de </a:t>
            </a: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pré-conta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eparação de um pacote de solicitaçã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senvolvimento de requisitos de aquisiçã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articipação em uma pré-seleçã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ermina com a conclusão dos termos do contrato, para produtos e para serviç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Quem pode usar o SA-CMM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7119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enérico o suficiente para ser usado por qualquer tipo de organização que adquire qualquer tipo de produ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rangente o suficiente para atender todas as necessidades da organização relacionadas à aquisição de softw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ão se propõe a descrever uma forma única como realizar os process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screve as características gerais que o processo de aquisição deve 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e vem para ajudar, não para congela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ão adianta se implantar um processo que vá fazer a empresa parar!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 processo (1/2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fine cinco níveis de maturida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ada nível define o nível de competência e contém processos chav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da processo possu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bjetivos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ultado agregado devido à implementação de um processo cha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romisso para realiza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ções que a organização deve tomar para estabelecer o process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abilidade para realiza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é-condições que devem existir no projeto ou na organização para implementar o process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12:35:52Z</dcterms:created>
  <dc:creator>USER</dc:creator>
  <dc:description/>
  <dc:language>en-US</dc:language>
  <cp:lastModifiedBy>USER</cp:lastModifiedBy>
  <dcterms:modified xsi:type="dcterms:W3CDTF">2004-08-20T01:21:25Z</dcterms:modified>
  <cp:revision>29</cp:revision>
  <dc:subject/>
  <dc:title>SA-CMM – Processo de Aquisição de Software</dc:title>
</cp:coreProperties>
</file>