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C7E-12EA-4BFB-9F37-F19DF006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928-3F4A-4E90-92BB-2482E0A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680-ED8A-47BE-BB5C-5AD0F30B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2FB-CD56-4C1D-9D91-95DC271F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240-B05F-4944-8EAD-784E702E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179F-87D8-4ACE-8F57-944FD8F0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838E-C725-4E61-9D95-D5FED82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E21-F83F-42EB-995D-F89D7674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7F7E-3E4B-4298-8DA8-13DBA88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D04-1625-4C35-BB02-400B21A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9052-0363-4CB8-84FA-D128FFD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B6C-3924-40C0-BC96-D41710F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32DF-1D31-41EB-AC1F-5AD54284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E0A5-9C95-454E-AB68-8E2B5A95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087C-D5F3-49FA-A20F-695EA83B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C0CB-64B0-43F4-8ECE-B40E608C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EEE-B060-458B-BAC9-C5364A07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45A9-DAA6-4BE1-A44F-35FAC3A1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2B0-A18D-4798-B224-BD9D62A1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4A0-063C-40AC-9D2C-E225A0E4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4E9-1310-463F-A716-F50CD4F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EB0-7051-42DD-8CDE-478A598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753-6B4F-4689-9D78-5B17020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B29-114E-44BE-82B7-C6DD6D2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2B4-1AE3-4766-A269-DE0F1CCC277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C17-0E08-4646-9411-E5C580583D0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ei.cmu.edu/ideal" TargetMode="External"/><Relationship Id="rId2" Type="http://schemas.openxmlformats.org/officeDocument/2006/relationships/hyperlink" Target="http://www.sei.cmu.edu/ideal/ideal.bridge.html" TargetMode="External"/><Relationship Id="rId3" Type="http://schemas.openxmlformats.org/officeDocument/2006/relationships/hyperlink" Target="http://www.sei.cmu.edu/ideal/ideal.bridge.html" TargetMode="External"/><Relationship Id="rId4" Type="http://schemas.openxmlformats.org/officeDocument/2006/relationships/hyperlink" Target="http://www.sei.cmu.edu/ideal/ideal.bridge.html" TargetMode="External"/><Relationship Id="rId5" Type="http://schemas.openxmlformats.org/officeDocument/2006/relationships/hyperlink" Target="http://www.sei.cmu.edu/ideal/ideal.bridge.html" TargetMode="External"/><Relationship Id="rId6" Type="http://schemas.openxmlformats.org/officeDocument/2006/relationships/hyperlink" Target="http://www.sei.cmu.edu/ideal/ideal.bridge.html" TargetMode="External"/><Relationship Id="rId7" Type="http://schemas.openxmlformats.org/officeDocument/2006/relationships/hyperlink" Target="http://www.sei.cmu.edu/ideal/ideal.bridge.html" TargetMode="External"/><Relationship Id="rId8" Type="http://schemas.openxmlformats.org/officeDocument/2006/relationships/hyperlink" Target="http://www.sei.cmu.edu/ideal/ideal.bridge.html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654640" y="990720"/>
            <a:ext cx="4466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 Modelo IDE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 melhoria de process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40920" y="4603680"/>
            <a:ext cx="63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luno: Rafael Luiz da Silva (rls@cin.ufpe.b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rof: Alexandre Vasconcelos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imulo para mudanç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Algo aponta para o uso do IDE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A natureza do estimulo pode ser bem variável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Reação a eventos/circusntancias não antecipad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Ordem “de cima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ecessidade de mudança como parte de um processo continuo de aprimoram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O Estimulo pode ter uma influencia de longo alcance na visibilidade dos esforços de mudança, na condução da mudança e por fim no suces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olocar o contex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Colocar o contexto significa ser muito claro sobre onde a mudança se enquadra dentro da estratégia de negócio da organiza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Colocar o contexto requer q exista consenso sobr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missão central da organizaçã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s metas do negóc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ma visão coerente do futur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ma estratégia para alcançar a vis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odelos de referenc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bs:Contexto e implicações se tornam mais claros a medida que o esforço prossegu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onstruir Patrocin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atrocinio é um suporte de um nivel superior para o esforç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atrocinadores são mais efetivos se el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ão atenção pessoal ao esforç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poiam a mudança através dos tempos difice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rnecem recursos escassos para o esforç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udam seu proprio comportamento para estar consistentes com as mudanças sendo implementa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odificam o sistema de recompens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bs: Elementos criticos contribuintes para o sucesso precisam ser manti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abelecer a infra-estru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Implementação de mudanças geralmente requer o estabelecimento de estruturas organizaciona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 infra-estrutura pode inclui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m grupo de supervisão (Nivel senior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uncionários do grupo de supervis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m ou mais grupos de trabalho técnico (CTT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stabelecer a infra-estrutura envolve desenvolver um acordo escrito descrevendo quais são as responsabi-lidades de cada grup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bs: Geralmente não é possivel estabelecer a infra-estrutura durante a fase de Iniciaç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 de Diagnó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tiv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aracterizar estados: Atual e Desej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senvolver recomendaçõ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aracterizar est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Estado desejado será onde sua organização estará após a mudanç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Estado atual é o presente com respeito ao estado desej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Definir esses estados é fácil se existir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Um modelo de referência (CMM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Metodologias e instrumentos padronizados associados com o model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Objetivos do negócio alinhados com esforço de mudanç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Desenvolver Recomend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nalisar a distancia entre o estado atual e o desej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Determinar aspectos do estado atual a serem manti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Determinar o trabalho para alcançar o estado desej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linhar recomendações com objetivos do negó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Identificar potenciais projetos onde se possa executar e testar a recomenda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 de estabelecimento(impla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tividad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stabelecer prior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Desenvolver abordag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lanejar açõ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stabelecer prior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rioridades focadas aqui são para a mudança de esforç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Realidades organizacionais impossibilitam fazer tudo de uma vez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cursos necessários para a mudança são limit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pendencias existem entre as atividades recomenda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atores externos podem intervi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ioridades de estratégias organizacionais precisam ser honra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aiores mudanças quase sempre requerem fazer escolhas e novos procedimentos podem emergir baseados nessas escolh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Desenvolver abordage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 abordagem influi em muitos fatores competitivos e frequentemente conflitant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Estratégia para alcançar visão (estabelecida durante a faze de iniciaçã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Instalação da nova tecnolog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Novas habilidades e conhecimento requeridos das pessoas que usarão a nova tecnolog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Cultura organizacion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Niveis de patrocin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Verdana"/>
              </a:rPr>
              <a:t>Forças de merc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Obje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Contex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Fase de inicia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Fase de diagnóstic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Fase de estabelecimen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Fase de a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Fase de aprendiz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Referenci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lanejar 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lanos colocam detalhes contra a abordagem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ntregas, atividades e recurs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ntos de decisão (critic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iscos e estratégias lev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étricas e agend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 de 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tiv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riar sol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xecutar e Testar sol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Refinar sol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Implementar solu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riar 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 solução não precisa ser perfeita mas dever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dentificar objetivos de performa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nalizar o grupo de execução e tes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struir a solução concreta e treina=la com o grupo de execução e tes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senvolver planos para execução e teste e implementaç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anter as partes correntes que são úteis (em time q ganha não se mexe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Grupos de trabalho técnico desenvolve a solução com o grupo de execução e teste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Executar e Testar a 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Treinar o grupo de execução e te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Realizar a execução e o te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Recuperar feedbac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 soluçã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Quase nunca funciona exatamente como planeja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ria ser tentada ao limi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Mostra claramente o que funciona ou n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ria ser conduzida num ambiente perdoador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Refinar a 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Baseado no feedback do grupo de execução e tes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Iterações de execução e teste e refinamento podem ser necessárias antes de alcançar uma solução que seja satisfató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lcançar uma solução funcional antes de prossegui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Implementar a 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Ajustar o plano o quanto for necessár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Executar o plan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Conduzir analise pós-implementaçã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Varias abordagens podem ser usada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p-Dow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ater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Nenhuma abordagem é universalmente melhor do que outra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ode requerer tempo e recursos substanciai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 de aprendiza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tiv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Analizar e valida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Propor ações futu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Analisar e valid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Para melhorar a habilidade de implementar mudanças, a experiencia IDEAL precisa ser revist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 que maneiras alcançou ou não o propósito pretendid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 que funcionou be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 que poderia ser feito mais eficientem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Registros precisam ser mantidos através de todo o ciclo com essa atividade em ment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Propor futuras a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Recomendações para melhorar a habilidade de uma organização de usar o método IDEAL precisam ser feitas baseadas na análise e validaçã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Recomendações enfocam um aspecto diferente da organização do que aquelas feitas durante a fase de diagnóstic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As pessoas com mais experiencia no IDEAL geralmente não tem autoridade pra muda-l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ções futuras propostas precisam ser documentad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Software  Engineering Institute (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1"/>
              </a:rPr>
              <a:t>www.sei.cmu.edu/ideal</a:t>
            </a: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Verdana"/>
              </a:rPr>
              <a:t>Gremba. J, Myers. C, The Ideal model: a Practical Guide for Improvement (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www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3"/>
              </a:rPr>
              <a:t>.sei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4"/>
              </a:rPr>
              <a:t>cmu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5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6"/>
              </a:rPr>
              <a:t>edu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Verdana"/>
                <a:hlinkClick r:id="rId7"/>
              </a:rPr>
              <a:t>/ideal/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Verdana"/>
                <a:hlinkClick r:id="rId8"/>
              </a:rPr>
              <a:t>ideal.bridge.html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Descrever as Fases e Atividades do método IDE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Desenvolver algumas idéias para aplicar o IDEAL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152160" y="838080"/>
            <a:ext cx="339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3366"/>
                </a:solidFill>
                <a:latin typeface="Verdana"/>
              </a:rPr>
              <a:t>OBRIGAD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56400" y="3276720"/>
            <a:ext cx="377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Verdana"/>
              </a:rPr>
              <a:t>Férias !!!!!</a:t>
            </a:r>
            <a:r>
              <a:rPr b="0" lang="pt-BR" sz="5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ontex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Image2" descr=""/>
          <p:cNvPicPr/>
          <p:nvPr/>
        </p:nvPicPr>
        <p:blipFill>
          <a:blip r:embed="rId1"/>
          <a:stretch/>
        </p:blipFill>
        <p:spPr>
          <a:xfrm>
            <a:off x="0" y="16858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Contex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Orige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asceu de um processo de melhoramento de software (Software process improvement SPI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Adotantes do SPI requeriam informações do tipo “como fazer” e um gui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Um time experiente e multi-disciplinar foi formado para sintetizar o conhecimento e a experienc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utorial desenvolvido foi apresentado em 1993 no Software Engineering Symposi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Guia foi publicado no inicio de 199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O 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Verdana"/>
              </a:rPr>
              <a:t>Adotantes da tecnologi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Tem dificuldades em selecionar entre as muitas possibilidades de aprimoramen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Não usam as práticas de melhor transição para introduzir os aprimoramentos selecion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Verdana"/>
              </a:rPr>
              <a:t>Desenvolvedores da tecnologia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em dificuldades de entender as dificuldades de adoção encontradas pelos clien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Não fornecem informação suficiente ou serviços necessários para dar suporte ao processo de adoç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Image3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99172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Inici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Diagnóst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Estabelecim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prendiz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Verdana"/>
              </a:rPr>
              <a:t>Fase de Inici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Verdana"/>
              </a:rPr>
              <a:t>Ativ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stimulo para mudanç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locar o contex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nstruir patrocin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Estabelecer a infra-estrutur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3:01:47Z</dcterms:created>
  <dc:creator>rls</dc:creator>
  <dc:description/>
  <dc:language>en-US</dc:language>
  <cp:lastModifiedBy>rls</cp:lastModifiedBy>
  <dcterms:modified xsi:type="dcterms:W3CDTF">2004-08-31T11:21:10Z</dcterms:modified>
  <cp:revision>75</cp:revision>
  <dc:subject/>
  <dc:title>Apresentação do PowerPoint</dc:title>
</cp:coreProperties>
</file>