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FC8B-86BB-4E73-8702-CF32D195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83314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2600" y="3926160"/>
            <a:ext cx="83314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585E-65F0-4CEC-80B0-4E2F7012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40654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1840" y="1480680"/>
            <a:ext cx="40654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72600" y="3926160"/>
            <a:ext cx="40654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1840" y="3926160"/>
            <a:ext cx="40654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F387-9469-4D3C-B1F4-536D93EB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268236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480680"/>
            <a:ext cx="268236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6240" y="1480680"/>
            <a:ext cx="268236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72600" y="3926160"/>
            <a:ext cx="268236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926160"/>
            <a:ext cx="268236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6240" y="3926160"/>
            <a:ext cx="268236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1C6-EEB5-4F7B-A42E-BE1F8199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7B4E-DE58-4B98-B4D7-08A60AF4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72600" y="1480680"/>
            <a:ext cx="8331480" cy="46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93b2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0086-8636-4DFF-AFE6-DD7C6E4E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8331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A28F-6EB7-45EF-99C6-8CEA5E32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4065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1840" y="1480680"/>
            <a:ext cx="4065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A135-F171-49D4-8F6C-D731793F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8885-5301-482A-831E-10056942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77640" y="220680"/>
            <a:ext cx="7623000" cy="47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93b2"/>
              </a:solidFill>
              <a:latin typeface="-소망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DB68-454C-4DE0-9379-77B66FE3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40654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1840" y="1480680"/>
            <a:ext cx="4065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72600" y="3926160"/>
            <a:ext cx="40654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FD13-877B-44F1-A912-70E465D8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72600" y="1480680"/>
            <a:ext cx="8331480" cy="46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93b2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1604-D42D-4559-9AF2-C87B1956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4065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1840" y="1480680"/>
            <a:ext cx="40654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41840" y="3926160"/>
            <a:ext cx="40654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18C8-71E4-40DC-B633-D55F8B44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40654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1840" y="1480680"/>
            <a:ext cx="40654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72600" y="3926160"/>
            <a:ext cx="83314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08B5-9DA8-457F-B485-C4337E91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83314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2600" y="3926160"/>
            <a:ext cx="83314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F492-9CC1-4CC0-836E-CDC9B56D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40654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1840" y="1480680"/>
            <a:ext cx="40654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72600" y="3926160"/>
            <a:ext cx="40654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41840" y="3926160"/>
            <a:ext cx="40654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4DAC-0CFF-4882-BF23-657E87D9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268236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89600" y="1480680"/>
            <a:ext cx="268236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06240" y="1480680"/>
            <a:ext cx="268236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72600" y="3926160"/>
            <a:ext cx="268236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89600" y="3926160"/>
            <a:ext cx="268236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06240" y="3926160"/>
            <a:ext cx="268236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04C0-D8DE-4DCB-82CB-979117AB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8331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381F-9458-415F-A0F3-B1B5FFA1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4065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1840" y="1480680"/>
            <a:ext cx="4065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18AE-0625-4566-8D07-00BC27FD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6B70-D4B6-4B20-87A0-85FB3CA4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77640" y="220680"/>
            <a:ext cx="7623000" cy="47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93b2"/>
              </a:solidFill>
              <a:latin typeface="-소망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7C99-A516-46FA-95B1-FA2E99B1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40654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1840" y="1480680"/>
            <a:ext cx="4065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2600" y="3926160"/>
            <a:ext cx="40654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584-8817-48F6-B851-F672BB9B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4065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1840" y="1480680"/>
            <a:ext cx="40654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1840" y="3926160"/>
            <a:ext cx="40654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7B1F-D15E-429D-B38C-C28C22DF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40654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1840" y="1480680"/>
            <a:ext cx="40654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2600" y="3926160"/>
            <a:ext cx="8331480" cy="22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3232-DF37-4AFD-AAE5-543EE622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8005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3746520"/>
            <a:ext cx="9144000" cy="3127320"/>
          </a:xfrm>
          <a:prstGeom prst="rect">
            <a:avLst/>
          </a:prstGeom>
          <a:solidFill>
            <a:srgbClr val="0056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181080" y="214200"/>
            <a:ext cx="8791560" cy="6489720"/>
          </a:xfrm>
          <a:custGeom>
            <a:avLst/>
            <a:gdLst/>
            <a:ahLst/>
            <a:rect l="l" t="t" r="r" b="b"/>
            <a:pathLst>
              <a:path w="848" h="626">
                <a:moveTo>
                  <a:pt x="848" y="587"/>
                </a:moveTo>
                <a:cubicBezTo>
                  <a:pt x="848" y="609"/>
                  <a:pt x="831" y="626"/>
                  <a:pt x="810" y="626"/>
                </a:cubicBezTo>
                <a:lnTo>
                  <a:pt x="39" y="626"/>
                </a:lnTo>
                <a:cubicBezTo>
                  <a:pt x="18" y="626"/>
                  <a:pt x="0" y="609"/>
                  <a:pt x="0" y="587"/>
                </a:cubicBezTo>
                <a:lnTo>
                  <a:pt x="0" y="81"/>
                </a:lnTo>
                <a:lnTo>
                  <a:pt x="0" y="39"/>
                </a:lnTo>
                <a:cubicBezTo>
                  <a:pt x="0" y="18"/>
                  <a:pt x="18" y="0"/>
                  <a:pt x="39" y="0"/>
                </a:cubicBezTo>
                <a:cubicBezTo>
                  <a:pt x="39" y="0"/>
                  <a:pt x="578" y="0"/>
                  <a:pt x="578" y="0"/>
                </a:cubicBezTo>
                <a:cubicBezTo>
                  <a:pt x="614" y="0"/>
                  <a:pt x="614" y="33"/>
                  <a:pt x="614" y="33"/>
                </a:cubicBezTo>
                <a:cubicBezTo>
                  <a:pt x="614" y="33"/>
                  <a:pt x="614" y="70"/>
                  <a:pt x="614" y="70"/>
                </a:cubicBezTo>
                <a:cubicBezTo>
                  <a:pt x="614" y="111"/>
                  <a:pt x="646" y="110"/>
                  <a:pt x="646" y="110"/>
                </a:cubicBezTo>
                <a:lnTo>
                  <a:pt x="810" y="110"/>
                </a:lnTo>
                <a:cubicBezTo>
                  <a:pt x="831" y="110"/>
                  <a:pt x="848" y="127"/>
                  <a:pt x="848" y="148"/>
                </a:cubicBezTo>
                <a:lnTo>
                  <a:pt x="848" y="587"/>
                </a:lnTo>
                <a:close/>
              </a:path>
            </a:pathLst>
          </a:custGeom>
          <a:solidFill>
            <a:srgbClr val="edff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160200" y="193680"/>
            <a:ext cx="8842680" cy="6541920"/>
          </a:xfrm>
          <a:custGeom>
            <a:avLst/>
            <a:gdLst/>
            <a:ahLst/>
            <a:rect l="l" t="t" r="r" b="b"/>
            <a:pathLst>
              <a:path w="853" h="631">
                <a:moveTo>
                  <a:pt x="41" y="0"/>
                </a:moveTo>
                <a:cubicBezTo>
                  <a:pt x="18" y="0"/>
                  <a:pt x="0" y="18"/>
                  <a:pt x="0" y="41"/>
                </a:cubicBezTo>
                <a:lnTo>
                  <a:pt x="0" y="589"/>
                </a:lnTo>
                <a:cubicBezTo>
                  <a:pt x="0" y="612"/>
                  <a:pt x="18" y="631"/>
                  <a:pt x="41" y="631"/>
                </a:cubicBezTo>
                <a:lnTo>
                  <a:pt x="812" y="631"/>
                </a:lnTo>
                <a:cubicBezTo>
                  <a:pt x="834" y="631"/>
                  <a:pt x="853" y="612"/>
                  <a:pt x="853" y="589"/>
                </a:cubicBezTo>
                <a:lnTo>
                  <a:pt x="853" y="150"/>
                </a:lnTo>
                <a:cubicBezTo>
                  <a:pt x="853" y="128"/>
                  <a:pt x="834" y="109"/>
                  <a:pt x="812" y="109"/>
                </a:cubicBezTo>
                <a:lnTo>
                  <a:pt x="648" y="109"/>
                </a:lnTo>
                <a:cubicBezTo>
                  <a:pt x="648" y="109"/>
                  <a:pt x="637" y="109"/>
                  <a:pt x="629" y="102"/>
                </a:cubicBezTo>
                <a:cubicBezTo>
                  <a:pt x="622" y="95"/>
                  <a:pt x="619" y="85"/>
                  <a:pt x="619" y="72"/>
                </a:cubicBezTo>
                <a:cubicBezTo>
                  <a:pt x="619" y="72"/>
                  <a:pt x="619" y="35"/>
                  <a:pt x="619" y="35"/>
                </a:cubicBezTo>
                <a:cubicBezTo>
                  <a:pt x="619" y="35"/>
                  <a:pt x="619" y="0"/>
                  <a:pt x="580" y="0"/>
                </a:cubicBezTo>
                <a:lnTo>
                  <a:pt x="41" y="0"/>
                </a:lnTo>
                <a:close/>
                <a:moveTo>
                  <a:pt x="5" y="589"/>
                </a:moveTo>
                <a:lnTo>
                  <a:pt x="5" y="41"/>
                </a:lnTo>
                <a:cubicBezTo>
                  <a:pt x="5" y="21"/>
                  <a:pt x="21" y="5"/>
                  <a:pt x="41" y="5"/>
                </a:cubicBezTo>
                <a:lnTo>
                  <a:pt x="580" y="5"/>
                </a:lnTo>
                <a:cubicBezTo>
                  <a:pt x="613" y="5"/>
                  <a:pt x="614" y="34"/>
                  <a:pt x="614" y="35"/>
                </a:cubicBezTo>
                <a:lnTo>
                  <a:pt x="614" y="72"/>
                </a:lnTo>
                <a:cubicBezTo>
                  <a:pt x="614" y="87"/>
                  <a:pt x="618" y="98"/>
                  <a:pt x="625" y="105"/>
                </a:cubicBezTo>
                <a:cubicBezTo>
                  <a:pt x="635" y="115"/>
                  <a:pt x="648" y="114"/>
                  <a:pt x="648" y="114"/>
                </a:cubicBezTo>
                <a:lnTo>
                  <a:pt x="812" y="114"/>
                </a:lnTo>
                <a:cubicBezTo>
                  <a:pt x="831" y="114"/>
                  <a:pt x="848" y="130"/>
                  <a:pt x="848" y="150"/>
                </a:cubicBezTo>
                <a:lnTo>
                  <a:pt x="848" y="589"/>
                </a:lnTo>
                <a:cubicBezTo>
                  <a:pt x="848" y="609"/>
                  <a:pt x="831" y="625"/>
                  <a:pt x="812" y="625"/>
                </a:cubicBezTo>
                <a:lnTo>
                  <a:pt x="41" y="625"/>
                </a:lnTo>
                <a:cubicBezTo>
                  <a:pt x="21" y="625"/>
                  <a:pt x="5" y="609"/>
                  <a:pt x="5" y="589"/>
                </a:cubicBezTo>
                <a:close/>
              </a:path>
            </a:pathLst>
          </a:custGeom>
          <a:solidFill>
            <a:srgbClr val="0026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7199"/>
                </a:solidFill>
                <a:latin typeface="-소망M"/>
              </a:rPr>
              <a:t>Click to edit the title text format</a:t>
            </a: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72600" y="1480680"/>
            <a:ext cx="8331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-소망M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-소망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-소망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-소망M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-소망M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-소망M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-소망M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9A14-A3BA-4B72-A560-207B57A80BFE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800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746520"/>
            <a:ext cx="9144000" cy="3127320"/>
          </a:xfrm>
          <a:prstGeom prst="rect">
            <a:avLst/>
          </a:prstGeom>
          <a:solidFill>
            <a:srgbClr val="0056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753240"/>
            <a:ext cx="9144000" cy="120600"/>
          </a:xfrm>
          <a:prstGeom prst="rect">
            <a:avLst/>
          </a:prstGeom>
          <a:solidFill>
            <a:srgbClr val="0026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8267760" y="3827520"/>
            <a:ext cx="876240" cy="220680"/>
          </a:xfrm>
          <a:custGeom>
            <a:avLst/>
            <a:gdLst/>
            <a:ahLst/>
            <a:rect l="l" t="t" r="r" b="b"/>
            <a:pathLst>
              <a:path w="87" h="22">
                <a:moveTo>
                  <a:pt x="0" y="0"/>
                </a:moveTo>
                <a:lnTo>
                  <a:pt x="87" y="0"/>
                </a:lnTo>
                <a:lnTo>
                  <a:pt x="87" y="22"/>
                </a:lnTo>
                <a:lnTo>
                  <a:pt x="24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69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742080"/>
            <a:ext cx="9155160" cy="20520"/>
          </a:xfrm>
          <a:prstGeom prst="rect">
            <a:avLst/>
          </a:prstGeom>
          <a:solidFill>
            <a:srgbClr val="009c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797280"/>
            <a:ext cx="9144000" cy="30240"/>
          </a:xfrm>
          <a:prstGeom prst="rect">
            <a:avLst/>
          </a:prstGeom>
          <a:solidFill>
            <a:srgbClr val="0069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95680"/>
            <a:ext cx="2617920" cy="141120"/>
          </a:xfrm>
          <a:custGeom>
            <a:avLst/>
            <a:gdLst/>
            <a:ahLst/>
            <a:rect l="l" t="t" r="r" b="b"/>
            <a:pathLst>
              <a:path w="260" h="14">
                <a:moveTo>
                  <a:pt x="260" y="14"/>
                </a:moveTo>
                <a:lnTo>
                  <a:pt x="0" y="14"/>
                </a:lnTo>
                <a:lnTo>
                  <a:pt x="0" y="0"/>
                </a:lnTo>
                <a:lnTo>
                  <a:pt x="240" y="0"/>
                </a:lnTo>
                <a:lnTo>
                  <a:pt x="260" y="14"/>
                </a:lnTo>
                <a:close/>
              </a:path>
            </a:pathLst>
          </a:cu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706920"/>
            <a:ext cx="9144000" cy="100080"/>
          </a:xfrm>
          <a:prstGeom prst="rect">
            <a:avLst/>
          </a:prstGeom>
          <a:solidFill>
            <a:srgbClr val="0026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06920"/>
            <a:ext cx="9144000" cy="29880"/>
          </a:xfrm>
          <a:prstGeom prst="rect">
            <a:avLst/>
          </a:prstGeom>
          <a:solidFill>
            <a:srgbClr val="f9d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81040" y="2678040"/>
            <a:ext cx="810576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-소망M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-소망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95DE-E096-468C-AF80-9CC223C87C71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010040" y="4648320"/>
            <a:ext cx="1096920" cy="822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93b2"/>
                </a:solidFill>
                <a:latin typeface="-소망M"/>
              </a:rPr>
              <a:t>Click to edit the outline text format</a:t>
            </a:r>
            <a:endParaRPr b="0" lang="en-US" sz="3600" spc="-1" strike="noStrike">
              <a:solidFill>
                <a:srgbClr val="1093b2"/>
              </a:solidFill>
              <a:latin typeface="-소망M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-소망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-소망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-소망M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-소망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-소망M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-소망M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-소망M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소망M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-소망M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소망M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-소망M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소망M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-소망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152640" y="1676520"/>
            <a:ext cx="929628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aeaea"/>
                </a:solidFill>
                <a:latin typeface="Verdana"/>
              </a:rPr>
              <a:t>Relacionamento do PMBOK e as areas de processos </a:t>
            </a:r>
            <a:br>
              <a:rPr sz="4000"/>
            </a:br>
            <a:r>
              <a:rPr b="0" lang="pt-BR" sz="4000" spc="-1" strike="noStrike">
                <a:solidFill>
                  <a:srgbClr val="eaeaea"/>
                </a:solidFill>
                <a:latin typeface="Verdana"/>
              </a:rPr>
              <a:t>gerenciais do CMMI</a:t>
            </a:r>
            <a:br>
              <a:rPr sz="4000"/>
            </a:br>
            <a:endParaRPr b="0" lang="en-US" sz="4000" spc="-1" strike="noStrike">
              <a:solidFill>
                <a:srgbClr val="eaeaea"/>
              </a:solidFill>
              <a:latin typeface="-소망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3822840"/>
            <a:ext cx="838188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93b2"/>
                </a:solidFill>
                <a:latin typeface="Verdana"/>
              </a:rPr>
              <a:t>slso@cin.ufpe.br</a:t>
            </a:r>
            <a:endParaRPr b="0" lang="en-US" sz="3600" spc="-1" strike="noStrike">
              <a:solidFill>
                <a:srgbClr val="1093b2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297199"/>
                </a:solidFill>
                <a:latin typeface="Verdana"/>
              </a:rPr>
              <a:t>Escopo</a:t>
            </a: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8331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fine o trabalho necessário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Áreas de Processo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esenvolvimento de Requisitos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lanejamento de Projeto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5 principais processos: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iciação (autorzação)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lanejamento de Escopo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efinição do Escopo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erificação do Escopo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trole de Mudança de Escopo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297199"/>
                </a:solidFill>
                <a:latin typeface="Verdana"/>
              </a:rPr>
              <a:t>Escopo</a:t>
            </a: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8331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iciação - ?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lanejamento do Escopo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finição do Escopo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stabelecer Estimativas (sg 1, PP)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timar escopo do Projeto (sp ,PP)</a:t>
            </a:r>
            <a:endParaRPr b="0" lang="en-US" sz="20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297199"/>
                </a:solidFill>
                <a:latin typeface="Verdana"/>
              </a:rPr>
              <a:t>Tempo, Custo</a:t>
            </a: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8542440" cy="613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lendário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ocessos: Definição de Atividades, Seqência de Atividades, Estimativa de duração de atividades, desenvolvimento do calendário, controle do calendário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usto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rçamento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ocessos: Planejamento de Recursos, Estimativas de custos, Orçamento de Custos, Controle de Custos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mbos PP, exceto processos de Controle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MC, SG 2, “Gerenciar Ações Corretivas Para o encerramento”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ível 2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297199"/>
                </a:solidFill>
                <a:latin typeface="Verdana"/>
              </a:rPr>
              <a:t>Qualidade</a:t>
            </a: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8331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ocessos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lanejamento da Qualidade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Garantia da Qualidade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trole da Qualidade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 -&gt; Garantia da Qualidade do Produto e do Processo (II), exceto controle (PMC).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ível 2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297199"/>
                </a:solidFill>
                <a:latin typeface="Verdana"/>
              </a:rPr>
              <a:t>RH</a:t>
            </a: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8331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odas as Pessoas envolvidas (clientes, parceiros)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3 processos Principais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lano Organizaciona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ontagem da Equipe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esenvolvimento da Equipe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ambém mais relacionada com PP.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297199"/>
                </a:solidFill>
                <a:latin typeface="Verdana"/>
              </a:rPr>
              <a:t>RH</a:t>
            </a: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8331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lano Organizacional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efinir Responsabilidades (gp)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lanejar Envolvimento dos Skateholders (sp 2.6)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senvolvimento da Equipe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lano para conhecimento e habilidades necessárias (sp 2.5)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ontagem da Equipe ??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297199"/>
                </a:solidFill>
                <a:latin typeface="Verdana"/>
              </a:rPr>
              <a:t>Comunicação</a:t>
            </a: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8331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leta e distribuição de informações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ocessos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lanejar da Comunicação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lanejar o envolvimento do skateholder (sp)</a:t>
            </a:r>
            <a:endParaRPr b="0" lang="en-US" sz="20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stribuição da Informação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nduzir Revisões dos Milestones (sp)</a:t>
            </a:r>
            <a:endParaRPr b="0" lang="en-US" sz="20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lato de Performance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ver Medidas e Resultados (sg)</a:t>
            </a:r>
            <a:endParaRPr b="0" lang="en-US" sz="20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ncerramento Administrativo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297199"/>
                </a:solidFill>
                <a:latin typeface="Verdana"/>
              </a:rPr>
              <a:t>Risco</a:t>
            </a: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8331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lanejar 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dentificar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nalisar Quantitativamente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nalisar Qualitativamente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lanejar Respostas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onitorar e Controlar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297199"/>
                </a:solidFill>
                <a:latin typeface="Verdana"/>
              </a:rPr>
              <a:t>Aquisições</a:t>
            </a: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8331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Bens e Serviços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ocessos: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lanejamento das Aquisições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eparação das Aquisições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btenção das Propostas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Seleção de Fornecedores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dministração de Contratos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ncerramento de Contrato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elecer Acordos com os fornecedores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uca equivalência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297199"/>
                </a:solidFill>
                <a:latin typeface="Verdana"/>
              </a:rPr>
              <a:t>Conclusão</a:t>
            </a: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8331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áticas Semelhantes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Não é possível mapear totalmente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ferença estrutura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297199"/>
                </a:solidFill>
                <a:latin typeface="Verdana"/>
              </a:rPr>
              <a:t>Roteiro</a:t>
            </a: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8331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MBOK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MMI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lacionamento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297199"/>
                </a:solidFill>
                <a:latin typeface="Verdana"/>
              </a:rPr>
              <a:t>Perguntas..</a:t>
            </a: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8331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297199"/>
                </a:solidFill>
                <a:latin typeface="Verdana"/>
              </a:rPr>
              <a:t>PMBOK</a:t>
            </a: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8331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oject Management Body of Knowledge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Lançado em 1987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senvolvido pelo PMI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guia onde se encontrariam todas as boas práticas pra que um projeto atingisse o sucesso.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MP -&gt; Profissional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297199"/>
                </a:solidFill>
                <a:latin typeface="Verdana"/>
              </a:rPr>
              <a:t>PMBOK</a:t>
            </a: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149960" cy="45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297199"/>
                </a:solidFill>
                <a:latin typeface="Verdana"/>
              </a:rPr>
              <a:t>CMMI</a:t>
            </a: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8331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senvolvido pelo SEI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urgiu para integrar modelos 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duzir custos com a melhorias do Processo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ssui Vários modelos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System Enginnering e SW Engineering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ossui 2 representações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ertificação SCAMPI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297199"/>
                </a:solidFill>
                <a:latin typeface="Verdana"/>
              </a:rPr>
              <a:t>CMMI</a:t>
            </a: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910120" cy="36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297199"/>
                </a:solidFill>
                <a:latin typeface="Verdana"/>
              </a:rPr>
              <a:t>PMBOK - CMMI</a:t>
            </a: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8331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MBOK – CMMI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quivalências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ma área de conhecimento normalmente equivale a uma área de processo ou mais</a:t>
            </a:r>
            <a:r>
              <a:rPr b="0" lang="pt-BR" sz="2200" spc="-1" strike="noStrike">
                <a:solidFill>
                  <a:srgbClr val="000000"/>
                </a:solidFill>
                <a:latin typeface="-소망M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etas do CMMI equivalem a um ou mais processos do PMBOK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297199"/>
                </a:solidFill>
                <a:latin typeface="Verdana"/>
              </a:rPr>
              <a:t>Integração</a:t>
            </a: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8331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ordenação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Áreas de Processo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lanejamento de Projeto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onitoramento e Controle de Projeto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3 principais processos: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esenvolvimento do Plano de Projeto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xecução de Plano do Projeto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trole Integrado de Mudança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77640" y="220680"/>
            <a:ext cx="7623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297199"/>
                </a:solidFill>
                <a:latin typeface="Verdana"/>
              </a:rPr>
              <a:t>Integração</a:t>
            </a:r>
            <a:endParaRPr b="0" lang="en-US" sz="3500" spc="-1" strike="noStrike">
              <a:solidFill>
                <a:srgbClr val="297199"/>
              </a:solidFill>
              <a:latin typeface="-소망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2600" y="1480680"/>
            <a:ext cx="8331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senvolvimento do Plano de Projeto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esenvolvimento de Plano de Projeto (sg, PP)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bter o comprometimento com Plano (sg, PP)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tegrar Planos (sg, IPPD – Integrated Management Project )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xecução do Plano de Projeto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onitorar Projeto (sg, PMC)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trole Integrado de Mudança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Gerenciar ações corretivas para o encerramento” (sg, PMC)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suppera</cp:lastModifiedBy>
  <dcterms:modified xsi:type="dcterms:W3CDTF">2005-08-17T16:54:57Z</dcterms:modified>
  <cp:revision>141</cp:revision>
  <dc:subject/>
  <dc:title>PowerPoint 프레젠테이션</dc:title>
</cp:coreProperties>
</file>