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77A43B-68EB-4774-BE83-AD7BCCC129D8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6640" y="8718480"/>
            <a:ext cx="104688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252D01-5615-4B94-9854-426D9C21342B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1200" y="874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B196-BBF6-42D5-883C-03BCDE6D8B62}" type="slidenum">
              <a:rPr b="0" lang="pt-BR" sz="14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8915400" cy="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24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24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24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324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324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24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3372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12408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33412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40080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9360">
            <a:solidFill>
              <a:srgbClr val="fff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0" y="0"/>
            <a:ext cx="304920" cy="327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8839080" y="3581280"/>
            <a:ext cx="304920" cy="3276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24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324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24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324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324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24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10480" y="0"/>
            <a:ext cx="0" cy="6858000"/>
          </a:xfrm>
          <a:prstGeom prst="line">
            <a:avLst/>
          </a:prstGeom>
          <a:ln w="9360">
            <a:solidFill>
              <a:srgbClr val="e1e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2361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304920" cy="327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839080" y="3581280"/>
            <a:ext cx="304920" cy="3276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523880"/>
            <a:ext cx="5532480" cy="4191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575160" y="1523880"/>
            <a:ext cx="1511280" cy="1671840"/>
            <a:chOff x="3575160" y="1523880"/>
            <a:chExt cx="1511280" cy="1671840"/>
          </a:xfrm>
        </p:grpSpPr>
        <p:sp>
          <p:nvSpPr>
            <p:cNvPr id="121" name=""/>
            <p:cNvSpPr/>
            <p:nvPr/>
          </p:nvSpPr>
          <p:spPr>
            <a:xfrm>
              <a:off x="3578400" y="1523880"/>
              <a:ext cx="1503360" cy="1671840"/>
            </a:xfrm>
            <a:custGeom>
              <a:avLst/>
              <a:gdLst/>
              <a:ahLst/>
              <a:rect l="l" t="t" r="r" b="b"/>
              <a:pathLst>
                <a:path w="2841" h="3159">
                  <a:moveTo>
                    <a:pt x="1420" y="0"/>
                  </a:moveTo>
                  <a:lnTo>
                    <a:pt x="1492" y="2"/>
                  </a:lnTo>
                  <a:lnTo>
                    <a:pt x="1565" y="8"/>
                  </a:lnTo>
                  <a:lnTo>
                    <a:pt x="1635" y="18"/>
                  </a:lnTo>
                  <a:lnTo>
                    <a:pt x="1705" y="33"/>
                  </a:lnTo>
                  <a:lnTo>
                    <a:pt x="1774" y="50"/>
                  </a:lnTo>
                  <a:lnTo>
                    <a:pt x="1842" y="71"/>
                  </a:lnTo>
                  <a:lnTo>
                    <a:pt x="1907" y="96"/>
                  </a:lnTo>
                  <a:lnTo>
                    <a:pt x="1973" y="125"/>
                  </a:lnTo>
                  <a:lnTo>
                    <a:pt x="2036" y="156"/>
                  </a:lnTo>
                  <a:lnTo>
                    <a:pt x="2096" y="191"/>
                  </a:lnTo>
                  <a:lnTo>
                    <a:pt x="2155" y="229"/>
                  </a:lnTo>
                  <a:lnTo>
                    <a:pt x="2213" y="270"/>
                  </a:lnTo>
                  <a:lnTo>
                    <a:pt x="2269" y="313"/>
                  </a:lnTo>
                  <a:lnTo>
                    <a:pt x="2324" y="360"/>
                  </a:lnTo>
                  <a:lnTo>
                    <a:pt x="2374" y="410"/>
                  </a:lnTo>
                  <a:lnTo>
                    <a:pt x="2424" y="462"/>
                  </a:lnTo>
                  <a:lnTo>
                    <a:pt x="2471" y="518"/>
                  </a:lnTo>
                  <a:lnTo>
                    <a:pt x="2516" y="575"/>
                  </a:lnTo>
                  <a:lnTo>
                    <a:pt x="2558" y="635"/>
                  </a:lnTo>
                  <a:lnTo>
                    <a:pt x="2598" y="697"/>
                  </a:lnTo>
                  <a:lnTo>
                    <a:pt x="2634" y="761"/>
                  </a:lnTo>
                  <a:lnTo>
                    <a:pt x="2669" y="826"/>
                  </a:lnTo>
                  <a:lnTo>
                    <a:pt x="2701" y="895"/>
                  </a:lnTo>
                  <a:lnTo>
                    <a:pt x="2729" y="964"/>
                  </a:lnTo>
                  <a:lnTo>
                    <a:pt x="2754" y="1037"/>
                  </a:lnTo>
                  <a:lnTo>
                    <a:pt x="2777" y="1109"/>
                  </a:lnTo>
                  <a:lnTo>
                    <a:pt x="2796" y="1184"/>
                  </a:lnTo>
                  <a:lnTo>
                    <a:pt x="2812" y="1260"/>
                  </a:lnTo>
                  <a:lnTo>
                    <a:pt x="2824" y="1338"/>
                  </a:lnTo>
                  <a:lnTo>
                    <a:pt x="2834" y="1418"/>
                  </a:lnTo>
                  <a:lnTo>
                    <a:pt x="2839" y="1497"/>
                  </a:lnTo>
                  <a:lnTo>
                    <a:pt x="2841" y="1578"/>
                  </a:lnTo>
                  <a:lnTo>
                    <a:pt x="2839" y="1659"/>
                  </a:lnTo>
                  <a:lnTo>
                    <a:pt x="2834" y="1739"/>
                  </a:lnTo>
                  <a:lnTo>
                    <a:pt x="2824" y="1819"/>
                  </a:lnTo>
                  <a:lnTo>
                    <a:pt x="2812" y="1897"/>
                  </a:lnTo>
                  <a:lnTo>
                    <a:pt x="2796" y="1973"/>
                  </a:lnTo>
                  <a:lnTo>
                    <a:pt x="2777" y="2048"/>
                  </a:lnTo>
                  <a:lnTo>
                    <a:pt x="2754" y="2122"/>
                  </a:lnTo>
                  <a:lnTo>
                    <a:pt x="2729" y="2193"/>
                  </a:lnTo>
                  <a:lnTo>
                    <a:pt x="2701" y="2263"/>
                  </a:lnTo>
                  <a:lnTo>
                    <a:pt x="2669" y="2332"/>
                  </a:lnTo>
                  <a:lnTo>
                    <a:pt x="2634" y="2397"/>
                  </a:lnTo>
                  <a:lnTo>
                    <a:pt x="2598" y="2461"/>
                  </a:lnTo>
                  <a:lnTo>
                    <a:pt x="2558" y="2524"/>
                  </a:lnTo>
                  <a:lnTo>
                    <a:pt x="2516" y="2584"/>
                  </a:lnTo>
                  <a:lnTo>
                    <a:pt x="2471" y="2640"/>
                  </a:lnTo>
                  <a:lnTo>
                    <a:pt x="2424" y="2696"/>
                  </a:lnTo>
                  <a:lnTo>
                    <a:pt x="2374" y="2748"/>
                  </a:lnTo>
                  <a:lnTo>
                    <a:pt x="2324" y="2798"/>
                  </a:lnTo>
                  <a:lnTo>
                    <a:pt x="2269" y="2845"/>
                  </a:lnTo>
                  <a:lnTo>
                    <a:pt x="2213" y="2890"/>
                  </a:lnTo>
                  <a:lnTo>
                    <a:pt x="2155" y="2931"/>
                  </a:lnTo>
                  <a:lnTo>
                    <a:pt x="2096" y="2968"/>
                  </a:lnTo>
                  <a:lnTo>
                    <a:pt x="2036" y="3003"/>
                  </a:lnTo>
                  <a:lnTo>
                    <a:pt x="1973" y="3035"/>
                  </a:lnTo>
                  <a:lnTo>
                    <a:pt x="1907" y="3064"/>
                  </a:lnTo>
                  <a:lnTo>
                    <a:pt x="1842" y="3088"/>
                  </a:lnTo>
                  <a:lnTo>
                    <a:pt x="1774" y="3110"/>
                  </a:lnTo>
                  <a:lnTo>
                    <a:pt x="1705" y="3127"/>
                  </a:lnTo>
                  <a:lnTo>
                    <a:pt x="1635" y="3141"/>
                  </a:lnTo>
                  <a:lnTo>
                    <a:pt x="1565" y="3151"/>
                  </a:lnTo>
                  <a:lnTo>
                    <a:pt x="1492" y="3157"/>
                  </a:lnTo>
                  <a:lnTo>
                    <a:pt x="1420" y="3159"/>
                  </a:lnTo>
                  <a:lnTo>
                    <a:pt x="1347" y="3157"/>
                  </a:lnTo>
                  <a:lnTo>
                    <a:pt x="1275" y="3151"/>
                  </a:lnTo>
                  <a:lnTo>
                    <a:pt x="1205" y="3141"/>
                  </a:lnTo>
                  <a:lnTo>
                    <a:pt x="1134" y="3127"/>
                  </a:lnTo>
                  <a:lnTo>
                    <a:pt x="1065" y="3110"/>
                  </a:lnTo>
                  <a:lnTo>
                    <a:pt x="999" y="3088"/>
                  </a:lnTo>
                  <a:lnTo>
                    <a:pt x="932" y="3064"/>
                  </a:lnTo>
                  <a:lnTo>
                    <a:pt x="868" y="3035"/>
                  </a:lnTo>
                  <a:lnTo>
                    <a:pt x="805" y="3003"/>
                  </a:lnTo>
                  <a:lnTo>
                    <a:pt x="744" y="2968"/>
                  </a:lnTo>
                  <a:lnTo>
                    <a:pt x="684" y="2931"/>
                  </a:lnTo>
                  <a:lnTo>
                    <a:pt x="628" y="2890"/>
                  </a:lnTo>
                  <a:lnTo>
                    <a:pt x="572" y="2845"/>
                  </a:lnTo>
                  <a:lnTo>
                    <a:pt x="517" y="2798"/>
                  </a:lnTo>
                  <a:lnTo>
                    <a:pt x="467" y="2748"/>
                  </a:lnTo>
                  <a:lnTo>
                    <a:pt x="417" y="2696"/>
                  </a:lnTo>
                  <a:lnTo>
                    <a:pt x="370" y="2640"/>
                  </a:lnTo>
                  <a:lnTo>
                    <a:pt x="325" y="2584"/>
                  </a:lnTo>
                  <a:lnTo>
                    <a:pt x="283" y="2524"/>
                  </a:lnTo>
                  <a:lnTo>
                    <a:pt x="243" y="2461"/>
                  </a:lnTo>
                  <a:lnTo>
                    <a:pt x="207" y="2397"/>
                  </a:lnTo>
                  <a:lnTo>
                    <a:pt x="172" y="2332"/>
                  </a:lnTo>
                  <a:lnTo>
                    <a:pt x="140" y="2263"/>
                  </a:lnTo>
                  <a:lnTo>
                    <a:pt x="112" y="2193"/>
                  </a:lnTo>
                  <a:lnTo>
                    <a:pt x="87" y="2122"/>
                  </a:lnTo>
                  <a:lnTo>
                    <a:pt x="64" y="2048"/>
                  </a:lnTo>
                  <a:lnTo>
                    <a:pt x="45" y="1973"/>
                  </a:lnTo>
                  <a:lnTo>
                    <a:pt x="29" y="1897"/>
                  </a:lnTo>
                  <a:lnTo>
                    <a:pt x="17" y="1819"/>
                  </a:lnTo>
                  <a:lnTo>
                    <a:pt x="7" y="1739"/>
                  </a:lnTo>
                  <a:lnTo>
                    <a:pt x="2" y="1659"/>
                  </a:lnTo>
                  <a:lnTo>
                    <a:pt x="0" y="1578"/>
                  </a:lnTo>
                  <a:lnTo>
                    <a:pt x="2" y="1497"/>
                  </a:lnTo>
                  <a:lnTo>
                    <a:pt x="7" y="1418"/>
                  </a:lnTo>
                  <a:lnTo>
                    <a:pt x="17" y="1338"/>
                  </a:lnTo>
                  <a:lnTo>
                    <a:pt x="29" y="1260"/>
                  </a:lnTo>
                  <a:lnTo>
                    <a:pt x="45" y="1184"/>
                  </a:lnTo>
                  <a:lnTo>
                    <a:pt x="64" y="1109"/>
                  </a:lnTo>
                  <a:lnTo>
                    <a:pt x="87" y="1037"/>
                  </a:lnTo>
                  <a:lnTo>
                    <a:pt x="112" y="964"/>
                  </a:lnTo>
                  <a:lnTo>
                    <a:pt x="140" y="895"/>
                  </a:lnTo>
                  <a:lnTo>
                    <a:pt x="172" y="826"/>
                  </a:lnTo>
                  <a:lnTo>
                    <a:pt x="207" y="761"/>
                  </a:lnTo>
                  <a:lnTo>
                    <a:pt x="243" y="697"/>
                  </a:lnTo>
                  <a:lnTo>
                    <a:pt x="283" y="635"/>
                  </a:lnTo>
                  <a:lnTo>
                    <a:pt x="325" y="575"/>
                  </a:lnTo>
                  <a:lnTo>
                    <a:pt x="370" y="518"/>
                  </a:lnTo>
                  <a:lnTo>
                    <a:pt x="417" y="462"/>
                  </a:lnTo>
                  <a:lnTo>
                    <a:pt x="467" y="410"/>
                  </a:lnTo>
                  <a:lnTo>
                    <a:pt x="517" y="360"/>
                  </a:lnTo>
                  <a:lnTo>
                    <a:pt x="572" y="313"/>
                  </a:lnTo>
                  <a:lnTo>
                    <a:pt x="628" y="270"/>
                  </a:lnTo>
                  <a:lnTo>
                    <a:pt x="684" y="229"/>
                  </a:lnTo>
                  <a:lnTo>
                    <a:pt x="744" y="191"/>
                  </a:lnTo>
                  <a:lnTo>
                    <a:pt x="805" y="156"/>
                  </a:lnTo>
                  <a:lnTo>
                    <a:pt x="868" y="125"/>
                  </a:lnTo>
                  <a:lnTo>
                    <a:pt x="932" y="96"/>
                  </a:lnTo>
                  <a:lnTo>
                    <a:pt x="999" y="71"/>
                  </a:lnTo>
                  <a:lnTo>
                    <a:pt x="1065" y="50"/>
                  </a:lnTo>
                  <a:lnTo>
                    <a:pt x="1134" y="33"/>
                  </a:lnTo>
                  <a:lnTo>
                    <a:pt x="1205" y="18"/>
                  </a:lnTo>
                  <a:lnTo>
                    <a:pt x="1275" y="8"/>
                  </a:lnTo>
                  <a:lnTo>
                    <a:pt x="1347" y="2"/>
                  </a:lnTo>
                  <a:lnTo>
                    <a:pt x="14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28880" y="1523880"/>
              <a:ext cx="1203480" cy="1671840"/>
            </a:xfrm>
            <a:custGeom>
              <a:avLst/>
              <a:gdLst/>
              <a:ahLst/>
              <a:rect l="l" t="t" r="r" b="b"/>
              <a:pathLst>
                <a:path w="2273" h="3159">
                  <a:moveTo>
                    <a:pt x="1136" y="0"/>
                  </a:moveTo>
                  <a:lnTo>
                    <a:pt x="1136" y="0"/>
                  </a:lnTo>
                  <a:lnTo>
                    <a:pt x="1194" y="2"/>
                  </a:lnTo>
                  <a:lnTo>
                    <a:pt x="1252" y="8"/>
                  </a:lnTo>
                  <a:lnTo>
                    <a:pt x="1309" y="18"/>
                  </a:lnTo>
                  <a:lnTo>
                    <a:pt x="1365" y="33"/>
                  </a:lnTo>
                  <a:lnTo>
                    <a:pt x="1419" y="50"/>
                  </a:lnTo>
                  <a:lnTo>
                    <a:pt x="1474" y="71"/>
                  </a:lnTo>
                  <a:lnTo>
                    <a:pt x="1526" y="96"/>
                  </a:lnTo>
                  <a:lnTo>
                    <a:pt x="1578" y="125"/>
                  </a:lnTo>
                  <a:lnTo>
                    <a:pt x="1628" y="156"/>
                  </a:lnTo>
                  <a:lnTo>
                    <a:pt x="1677" y="191"/>
                  </a:lnTo>
                  <a:lnTo>
                    <a:pt x="1724" y="229"/>
                  </a:lnTo>
                  <a:lnTo>
                    <a:pt x="1771" y="270"/>
                  </a:lnTo>
                  <a:lnTo>
                    <a:pt x="1815" y="313"/>
                  </a:lnTo>
                  <a:lnTo>
                    <a:pt x="1858" y="360"/>
                  </a:lnTo>
                  <a:lnTo>
                    <a:pt x="1899" y="410"/>
                  </a:lnTo>
                  <a:lnTo>
                    <a:pt x="1939" y="462"/>
                  </a:lnTo>
                  <a:lnTo>
                    <a:pt x="1977" y="518"/>
                  </a:lnTo>
                  <a:lnTo>
                    <a:pt x="2013" y="575"/>
                  </a:lnTo>
                  <a:lnTo>
                    <a:pt x="2047" y="635"/>
                  </a:lnTo>
                  <a:lnTo>
                    <a:pt x="2078" y="697"/>
                  </a:lnTo>
                  <a:lnTo>
                    <a:pt x="2107" y="761"/>
                  </a:lnTo>
                  <a:lnTo>
                    <a:pt x="2135" y="826"/>
                  </a:lnTo>
                  <a:lnTo>
                    <a:pt x="2161" y="895"/>
                  </a:lnTo>
                  <a:lnTo>
                    <a:pt x="2184" y="964"/>
                  </a:lnTo>
                  <a:lnTo>
                    <a:pt x="2204" y="1037"/>
                  </a:lnTo>
                  <a:lnTo>
                    <a:pt x="2222" y="1109"/>
                  </a:lnTo>
                  <a:lnTo>
                    <a:pt x="2237" y="1184"/>
                  </a:lnTo>
                  <a:lnTo>
                    <a:pt x="2250" y="1260"/>
                  </a:lnTo>
                  <a:lnTo>
                    <a:pt x="2260" y="1338"/>
                  </a:lnTo>
                  <a:lnTo>
                    <a:pt x="2267" y="1418"/>
                  </a:lnTo>
                  <a:lnTo>
                    <a:pt x="2272" y="1497"/>
                  </a:lnTo>
                  <a:lnTo>
                    <a:pt x="2273" y="1578"/>
                  </a:lnTo>
                  <a:lnTo>
                    <a:pt x="2273" y="1578"/>
                  </a:lnTo>
                  <a:lnTo>
                    <a:pt x="2272" y="1659"/>
                  </a:lnTo>
                  <a:lnTo>
                    <a:pt x="2267" y="1739"/>
                  </a:lnTo>
                  <a:lnTo>
                    <a:pt x="2260" y="1819"/>
                  </a:lnTo>
                  <a:lnTo>
                    <a:pt x="2250" y="1897"/>
                  </a:lnTo>
                  <a:lnTo>
                    <a:pt x="2237" y="1973"/>
                  </a:lnTo>
                  <a:lnTo>
                    <a:pt x="2222" y="2048"/>
                  </a:lnTo>
                  <a:lnTo>
                    <a:pt x="2204" y="2122"/>
                  </a:lnTo>
                  <a:lnTo>
                    <a:pt x="2184" y="2193"/>
                  </a:lnTo>
                  <a:lnTo>
                    <a:pt x="2161" y="2263"/>
                  </a:lnTo>
                  <a:lnTo>
                    <a:pt x="2135" y="2332"/>
                  </a:lnTo>
                  <a:lnTo>
                    <a:pt x="2107" y="2397"/>
                  </a:lnTo>
                  <a:lnTo>
                    <a:pt x="2078" y="2461"/>
                  </a:lnTo>
                  <a:lnTo>
                    <a:pt x="2047" y="2524"/>
                  </a:lnTo>
                  <a:lnTo>
                    <a:pt x="2013" y="2584"/>
                  </a:lnTo>
                  <a:lnTo>
                    <a:pt x="1977" y="2640"/>
                  </a:lnTo>
                  <a:lnTo>
                    <a:pt x="1939" y="2696"/>
                  </a:lnTo>
                  <a:lnTo>
                    <a:pt x="1899" y="2748"/>
                  </a:lnTo>
                  <a:lnTo>
                    <a:pt x="1858" y="2798"/>
                  </a:lnTo>
                  <a:lnTo>
                    <a:pt x="1815" y="2845"/>
                  </a:lnTo>
                  <a:lnTo>
                    <a:pt x="1771" y="2890"/>
                  </a:lnTo>
                  <a:lnTo>
                    <a:pt x="1724" y="2931"/>
                  </a:lnTo>
                  <a:lnTo>
                    <a:pt x="1677" y="2968"/>
                  </a:lnTo>
                  <a:lnTo>
                    <a:pt x="1628" y="3003"/>
                  </a:lnTo>
                  <a:lnTo>
                    <a:pt x="1578" y="3035"/>
                  </a:lnTo>
                  <a:lnTo>
                    <a:pt x="1526" y="3064"/>
                  </a:lnTo>
                  <a:lnTo>
                    <a:pt x="1474" y="3088"/>
                  </a:lnTo>
                  <a:lnTo>
                    <a:pt x="1419" y="3110"/>
                  </a:lnTo>
                  <a:lnTo>
                    <a:pt x="1365" y="3127"/>
                  </a:lnTo>
                  <a:lnTo>
                    <a:pt x="1309" y="3141"/>
                  </a:lnTo>
                  <a:lnTo>
                    <a:pt x="1252" y="3151"/>
                  </a:lnTo>
                  <a:lnTo>
                    <a:pt x="1194" y="3157"/>
                  </a:lnTo>
                  <a:lnTo>
                    <a:pt x="1136" y="3159"/>
                  </a:lnTo>
                  <a:lnTo>
                    <a:pt x="1136" y="3159"/>
                  </a:lnTo>
                  <a:lnTo>
                    <a:pt x="1078" y="3157"/>
                  </a:lnTo>
                  <a:lnTo>
                    <a:pt x="1020" y="3151"/>
                  </a:lnTo>
                  <a:lnTo>
                    <a:pt x="963" y="3141"/>
                  </a:lnTo>
                  <a:lnTo>
                    <a:pt x="907" y="3127"/>
                  </a:lnTo>
                  <a:lnTo>
                    <a:pt x="853" y="3110"/>
                  </a:lnTo>
                  <a:lnTo>
                    <a:pt x="799" y="3088"/>
                  </a:lnTo>
                  <a:lnTo>
                    <a:pt x="747" y="3064"/>
                  </a:lnTo>
                  <a:lnTo>
                    <a:pt x="695" y="3035"/>
                  </a:lnTo>
                  <a:lnTo>
                    <a:pt x="645" y="3003"/>
                  </a:lnTo>
                  <a:lnTo>
                    <a:pt x="595" y="2968"/>
                  </a:lnTo>
                  <a:lnTo>
                    <a:pt x="548" y="2931"/>
                  </a:lnTo>
                  <a:lnTo>
                    <a:pt x="502" y="2890"/>
                  </a:lnTo>
                  <a:lnTo>
                    <a:pt x="457" y="2845"/>
                  </a:lnTo>
                  <a:lnTo>
                    <a:pt x="414" y="2798"/>
                  </a:lnTo>
                  <a:lnTo>
                    <a:pt x="373" y="2748"/>
                  </a:lnTo>
                  <a:lnTo>
                    <a:pt x="334" y="2696"/>
                  </a:lnTo>
                  <a:lnTo>
                    <a:pt x="295" y="2640"/>
                  </a:lnTo>
                  <a:lnTo>
                    <a:pt x="260" y="2584"/>
                  </a:lnTo>
                  <a:lnTo>
                    <a:pt x="226" y="2524"/>
                  </a:lnTo>
                  <a:lnTo>
                    <a:pt x="195" y="2461"/>
                  </a:lnTo>
                  <a:lnTo>
                    <a:pt x="165" y="2397"/>
                  </a:lnTo>
                  <a:lnTo>
                    <a:pt x="138" y="2332"/>
                  </a:lnTo>
                  <a:lnTo>
                    <a:pt x="113" y="2263"/>
                  </a:lnTo>
                  <a:lnTo>
                    <a:pt x="90" y="2193"/>
                  </a:lnTo>
                  <a:lnTo>
                    <a:pt x="69" y="2122"/>
                  </a:lnTo>
                  <a:lnTo>
                    <a:pt x="51" y="2048"/>
                  </a:lnTo>
                  <a:lnTo>
                    <a:pt x="37" y="1973"/>
                  </a:lnTo>
                  <a:lnTo>
                    <a:pt x="23" y="1897"/>
                  </a:lnTo>
                  <a:lnTo>
                    <a:pt x="14" y="1819"/>
                  </a:lnTo>
                  <a:lnTo>
                    <a:pt x="6" y="1739"/>
                  </a:lnTo>
                  <a:lnTo>
                    <a:pt x="1" y="1659"/>
                  </a:lnTo>
                  <a:lnTo>
                    <a:pt x="0" y="1578"/>
                  </a:lnTo>
                  <a:lnTo>
                    <a:pt x="0" y="1578"/>
                  </a:lnTo>
                  <a:lnTo>
                    <a:pt x="1" y="1497"/>
                  </a:lnTo>
                  <a:lnTo>
                    <a:pt x="6" y="1418"/>
                  </a:lnTo>
                  <a:lnTo>
                    <a:pt x="14" y="1338"/>
                  </a:lnTo>
                  <a:lnTo>
                    <a:pt x="23" y="1260"/>
                  </a:lnTo>
                  <a:lnTo>
                    <a:pt x="37" y="1184"/>
                  </a:lnTo>
                  <a:lnTo>
                    <a:pt x="51" y="1109"/>
                  </a:lnTo>
                  <a:lnTo>
                    <a:pt x="69" y="1037"/>
                  </a:lnTo>
                  <a:lnTo>
                    <a:pt x="90" y="964"/>
                  </a:lnTo>
                  <a:lnTo>
                    <a:pt x="113" y="895"/>
                  </a:lnTo>
                  <a:lnTo>
                    <a:pt x="138" y="826"/>
                  </a:lnTo>
                  <a:lnTo>
                    <a:pt x="165" y="761"/>
                  </a:lnTo>
                  <a:lnTo>
                    <a:pt x="195" y="697"/>
                  </a:lnTo>
                  <a:lnTo>
                    <a:pt x="226" y="635"/>
                  </a:lnTo>
                  <a:lnTo>
                    <a:pt x="260" y="575"/>
                  </a:lnTo>
                  <a:lnTo>
                    <a:pt x="295" y="518"/>
                  </a:lnTo>
                  <a:lnTo>
                    <a:pt x="334" y="462"/>
                  </a:lnTo>
                  <a:lnTo>
                    <a:pt x="373" y="410"/>
                  </a:lnTo>
                  <a:lnTo>
                    <a:pt x="414" y="360"/>
                  </a:lnTo>
                  <a:lnTo>
                    <a:pt x="457" y="313"/>
                  </a:lnTo>
                  <a:lnTo>
                    <a:pt x="502" y="270"/>
                  </a:lnTo>
                  <a:lnTo>
                    <a:pt x="548" y="229"/>
                  </a:lnTo>
                  <a:lnTo>
                    <a:pt x="595" y="191"/>
                  </a:lnTo>
                  <a:lnTo>
                    <a:pt x="645" y="156"/>
                  </a:lnTo>
                  <a:lnTo>
                    <a:pt x="695" y="125"/>
                  </a:lnTo>
                  <a:lnTo>
                    <a:pt x="747" y="96"/>
                  </a:lnTo>
                  <a:lnTo>
                    <a:pt x="799" y="71"/>
                  </a:lnTo>
                  <a:lnTo>
                    <a:pt x="853" y="50"/>
                  </a:lnTo>
                  <a:lnTo>
                    <a:pt x="907" y="33"/>
                  </a:lnTo>
                  <a:lnTo>
                    <a:pt x="963" y="18"/>
                  </a:lnTo>
                  <a:lnTo>
                    <a:pt x="1020" y="8"/>
                  </a:lnTo>
                  <a:lnTo>
                    <a:pt x="1078" y="2"/>
                  </a:lnTo>
                  <a:lnTo>
                    <a:pt x="113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9720" y="1523880"/>
              <a:ext cx="901800" cy="1671840"/>
            </a:xfrm>
            <a:custGeom>
              <a:avLst/>
              <a:gdLst/>
              <a:ahLst/>
              <a:rect l="l" t="t" r="r" b="b"/>
              <a:pathLst>
                <a:path w="1704" h="3159">
                  <a:moveTo>
                    <a:pt x="851" y="0"/>
                  </a:moveTo>
                  <a:lnTo>
                    <a:pt x="851" y="0"/>
                  </a:lnTo>
                  <a:lnTo>
                    <a:pt x="895" y="2"/>
                  </a:lnTo>
                  <a:lnTo>
                    <a:pt x="938" y="8"/>
                  </a:lnTo>
                  <a:lnTo>
                    <a:pt x="981" y="18"/>
                  </a:lnTo>
                  <a:lnTo>
                    <a:pt x="1023" y="33"/>
                  </a:lnTo>
                  <a:lnTo>
                    <a:pt x="1064" y="50"/>
                  </a:lnTo>
                  <a:lnTo>
                    <a:pt x="1104" y="71"/>
                  </a:lnTo>
                  <a:lnTo>
                    <a:pt x="1144" y="96"/>
                  </a:lnTo>
                  <a:lnTo>
                    <a:pt x="1183" y="125"/>
                  </a:lnTo>
                  <a:lnTo>
                    <a:pt x="1220" y="156"/>
                  </a:lnTo>
                  <a:lnTo>
                    <a:pt x="1256" y="191"/>
                  </a:lnTo>
                  <a:lnTo>
                    <a:pt x="1293" y="229"/>
                  </a:lnTo>
                  <a:lnTo>
                    <a:pt x="1328" y="270"/>
                  </a:lnTo>
                  <a:lnTo>
                    <a:pt x="1360" y="313"/>
                  </a:lnTo>
                  <a:lnTo>
                    <a:pt x="1393" y="360"/>
                  </a:lnTo>
                  <a:lnTo>
                    <a:pt x="1423" y="410"/>
                  </a:lnTo>
                  <a:lnTo>
                    <a:pt x="1454" y="462"/>
                  </a:lnTo>
                  <a:lnTo>
                    <a:pt x="1481" y="518"/>
                  </a:lnTo>
                  <a:lnTo>
                    <a:pt x="1509" y="575"/>
                  </a:lnTo>
                  <a:lnTo>
                    <a:pt x="1535" y="635"/>
                  </a:lnTo>
                  <a:lnTo>
                    <a:pt x="1558" y="697"/>
                  </a:lnTo>
                  <a:lnTo>
                    <a:pt x="1581" y="761"/>
                  </a:lnTo>
                  <a:lnTo>
                    <a:pt x="1601" y="826"/>
                  </a:lnTo>
                  <a:lnTo>
                    <a:pt x="1619" y="895"/>
                  </a:lnTo>
                  <a:lnTo>
                    <a:pt x="1636" y="964"/>
                  </a:lnTo>
                  <a:lnTo>
                    <a:pt x="1652" y="1037"/>
                  </a:lnTo>
                  <a:lnTo>
                    <a:pt x="1665" y="1109"/>
                  </a:lnTo>
                  <a:lnTo>
                    <a:pt x="1677" y="1184"/>
                  </a:lnTo>
                  <a:lnTo>
                    <a:pt x="1687" y="1260"/>
                  </a:lnTo>
                  <a:lnTo>
                    <a:pt x="1694" y="1338"/>
                  </a:lnTo>
                  <a:lnTo>
                    <a:pt x="1699" y="1418"/>
                  </a:lnTo>
                  <a:lnTo>
                    <a:pt x="1703" y="1497"/>
                  </a:lnTo>
                  <a:lnTo>
                    <a:pt x="1704" y="1578"/>
                  </a:lnTo>
                  <a:lnTo>
                    <a:pt x="1704" y="1578"/>
                  </a:lnTo>
                  <a:lnTo>
                    <a:pt x="1703" y="1659"/>
                  </a:lnTo>
                  <a:lnTo>
                    <a:pt x="1699" y="1739"/>
                  </a:lnTo>
                  <a:lnTo>
                    <a:pt x="1694" y="1819"/>
                  </a:lnTo>
                  <a:lnTo>
                    <a:pt x="1687" y="1897"/>
                  </a:lnTo>
                  <a:lnTo>
                    <a:pt x="1677" y="1973"/>
                  </a:lnTo>
                  <a:lnTo>
                    <a:pt x="1665" y="2048"/>
                  </a:lnTo>
                  <a:lnTo>
                    <a:pt x="1652" y="2122"/>
                  </a:lnTo>
                  <a:lnTo>
                    <a:pt x="1636" y="2193"/>
                  </a:lnTo>
                  <a:lnTo>
                    <a:pt x="1619" y="2263"/>
                  </a:lnTo>
                  <a:lnTo>
                    <a:pt x="1601" y="2332"/>
                  </a:lnTo>
                  <a:lnTo>
                    <a:pt x="1581" y="2397"/>
                  </a:lnTo>
                  <a:lnTo>
                    <a:pt x="1558" y="2461"/>
                  </a:lnTo>
                  <a:lnTo>
                    <a:pt x="1535" y="2524"/>
                  </a:lnTo>
                  <a:lnTo>
                    <a:pt x="1509" y="2584"/>
                  </a:lnTo>
                  <a:lnTo>
                    <a:pt x="1481" y="2640"/>
                  </a:lnTo>
                  <a:lnTo>
                    <a:pt x="1454" y="2696"/>
                  </a:lnTo>
                  <a:lnTo>
                    <a:pt x="1423" y="2748"/>
                  </a:lnTo>
                  <a:lnTo>
                    <a:pt x="1393" y="2798"/>
                  </a:lnTo>
                  <a:lnTo>
                    <a:pt x="1360" y="2845"/>
                  </a:lnTo>
                  <a:lnTo>
                    <a:pt x="1328" y="2890"/>
                  </a:lnTo>
                  <a:lnTo>
                    <a:pt x="1293" y="2931"/>
                  </a:lnTo>
                  <a:lnTo>
                    <a:pt x="1256" y="2968"/>
                  </a:lnTo>
                  <a:lnTo>
                    <a:pt x="1220" y="3003"/>
                  </a:lnTo>
                  <a:lnTo>
                    <a:pt x="1183" y="3035"/>
                  </a:lnTo>
                  <a:lnTo>
                    <a:pt x="1144" y="3064"/>
                  </a:lnTo>
                  <a:lnTo>
                    <a:pt x="1104" y="3088"/>
                  </a:lnTo>
                  <a:lnTo>
                    <a:pt x="1064" y="3110"/>
                  </a:lnTo>
                  <a:lnTo>
                    <a:pt x="1023" y="3127"/>
                  </a:lnTo>
                  <a:lnTo>
                    <a:pt x="981" y="3141"/>
                  </a:lnTo>
                  <a:lnTo>
                    <a:pt x="938" y="3151"/>
                  </a:lnTo>
                  <a:lnTo>
                    <a:pt x="895" y="3157"/>
                  </a:lnTo>
                  <a:lnTo>
                    <a:pt x="851" y="3159"/>
                  </a:lnTo>
                  <a:lnTo>
                    <a:pt x="851" y="3159"/>
                  </a:lnTo>
                  <a:lnTo>
                    <a:pt x="808" y="3157"/>
                  </a:lnTo>
                  <a:lnTo>
                    <a:pt x="764" y="3151"/>
                  </a:lnTo>
                  <a:lnTo>
                    <a:pt x="722" y="3141"/>
                  </a:lnTo>
                  <a:lnTo>
                    <a:pt x="681" y="3127"/>
                  </a:lnTo>
                  <a:lnTo>
                    <a:pt x="639" y="3110"/>
                  </a:lnTo>
                  <a:lnTo>
                    <a:pt x="598" y="3088"/>
                  </a:lnTo>
                  <a:lnTo>
                    <a:pt x="560" y="3064"/>
                  </a:lnTo>
                  <a:lnTo>
                    <a:pt x="521" y="3035"/>
                  </a:lnTo>
                  <a:lnTo>
                    <a:pt x="483" y="3003"/>
                  </a:lnTo>
                  <a:lnTo>
                    <a:pt x="446" y="2968"/>
                  </a:lnTo>
                  <a:lnTo>
                    <a:pt x="411" y="2931"/>
                  </a:lnTo>
                  <a:lnTo>
                    <a:pt x="376" y="2890"/>
                  </a:lnTo>
                  <a:lnTo>
                    <a:pt x="343" y="2845"/>
                  </a:lnTo>
                  <a:lnTo>
                    <a:pt x="310" y="2798"/>
                  </a:lnTo>
                  <a:lnTo>
                    <a:pt x="279" y="2748"/>
                  </a:lnTo>
                  <a:lnTo>
                    <a:pt x="250" y="2696"/>
                  </a:lnTo>
                  <a:lnTo>
                    <a:pt x="222" y="2640"/>
                  </a:lnTo>
                  <a:lnTo>
                    <a:pt x="194" y="2584"/>
                  </a:lnTo>
                  <a:lnTo>
                    <a:pt x="169" y="2524"/>
                  </a:lnTo>
                  <a:lnTo>
                    <a:pt x="146" y="2461"/>
                  </a:lnTo>
                  <a:lnTo>
                    <a:pt x="123" y="2397"/>
                  </a:lnTo>
                  <a:lnTo>
                    <a:pt x="102" y="2332"/>
                  </a:lnTo>
                  <a:lnTo>
                    <a:pt x="84" y="2263"/>
                  </a:lnTo>
                  <a:lnTo>
                    <a:pt x="67" y="2193"/>
                  </a:lnTo>
                  <a:lnTo>
                    <a:pt x="52" y="2122"/>
                  </a:lnTo>
                  <a:lnTo>
                    <a:pt x="38" y="2048"/>
                  </a:lnTo>
                  <a:lnTo>
                    <a:pt x="26" y="1973"/>
                  </a:lnTo>
                  <a:lnTo>
                    <a:pt x="16" y="1897"/>
                  </a:lnTo>
                  <a:lnTo>
                    <a:pt x="9" y="1819"/>
                  </a:lnTo>
                  <a:lnTo>
                    <a:pt x="4" y="1739"/>
                  </a:lnTo>
                  <a:lnTo>
                    <a:pt x="1" y="1659"/>
                  </a:lnTo>
                  <a:lnTo>
                    <a:pt x="0" y="1578"/>
                  </a:lnTo>
                  <a:lnTo>
                    <a:pt x="0" y="1578"/>
                  </a:lnTo>
                  <a:lnTo>
                    <a:pt x="1" y="1497"/>
                  </a:lnTo>
                  <a:lnTo>
                    <a:pt x="4" y="1418"/>
                  </a:lnTo>
                  <a:lnTo>
                    <a:pt x="9" y="1338"/>
                  </a:lnTo>
                  <a:lnTo>
                    <a:pt x="16" y="1260"/>
                  </a:lnTo>
                  <a:lnTo>
                    <a:pt x="26" y="1184"/>
                  </a:lnTo>
                  <a:lnTo>
                    <a:pt x="38" y="1109"/>
                  </a:lnTo>
                  <a:lnTo>
                    <a:pt x="52" y="1037"/>
                  </a:lnTo>
                  <a:lnTo>
                    <a:pt x="67" y="964"/>
                  </a:lnTo>
                  <a:lnTo>
                    <a:pt x="84" y="895"/>
                  </a:lnTo>
                  <a:lnTo>
                    <a:pt x="102" y="826"/>
                  </a:lnTo>
                  <a:lnTo>
                    <a:pt x="123" y="761"/>
                  </a:lnTo>
                  <a:lnTo>
                    <a:pt x="146" y="697"/>
                  </a:lnTo>
                  <a:lnTo>
                    <a:pt x="169" y="635"/>
                  </a:lnTo>
                  <a:lnTo>
                    <a:pt x="194" y="575"/>
                  </a:lnTo>
                  <a:lnTo>
                    <a:pt x="222" y="518"/>
                  </a:lnTo>
                  <a:lnTo>
                    <a:pt x="250" y="462"/>
                  </a:lnTo>
                  <a:lnTo>
                    <a:pt x="279" y="410"/>
                  </a:lnTo>
                  <a:lnTo>
                    <a:pt x="310" y="360"/>
                  </a:lnTo>
                  <a:lnTo>
                    <a:pt x="343" y="313"/>
                  </a:lnTo>
                  <a:lnTo>
                    <a:pt x="376" y="270"/>
                  </a:lnTo>
                  <a:lnTo>
                    <a:pt x="411" y="229"/>
                  </a:lnTo>
                  <a:lnTo>
                    <a:pt x="446" y="191"/>
                  </a:lnTo>
                  <a:lnTo>
                    <a:pt x="483" y="156"/>
                  </a:lnTo>
                  <a:lnTo>
                    <a:pt x="521" y="125"/>
                  </a:lnTo>
                  <a:lnTo>
                    <a:pt x="560" y="96"/>
                  </a:lnTo>
                  <a:lnTo>
                    <a:pt x="598" y="71"/>
                  </a:lnTo>
                  <a:lnTo>
                    <a:pt x="639" y="50"/>
                  </a:lnTo>
                  <a:lnTo>
                    <a:pt x="681" y="33"/>
                  </a:lnTo>
                  <a:lnTo>
                    <a:pt x="722" y="18"/>
                  </a:lnTo>
                  <a:lnTo>
                    <a:pt x="764" y="8"/>
                  </a:lnTo>
                  <a:lnTo>
                    <a:pt x="808" y="2"/>
                  </a:lnTo>
                  <a:lnTo>
                    <a:pt x="851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29120" y="1523880"/>
              <a:ext cx="601560" cy="1671840"/>
            </a:xfrm>
            <a:custGeom>
              <a:avLst/>
              <a:gdLst/>
              <a:ahLst/>
              <a:rect l="l" t="t" r="r" b="b"/>
              <a:pathLst>
                <a:path w="1135" h="3159">
                  <a:moveTo>
                    <a:pt x="567" y="0"/>
                  </a:moveTo>
                  <a:lnTo>
                    <a:pt x="567" y="0"/>
                  </a:lnTo>
                  <a:lnTo>
                    <a:pt x="625" y="8"/>
                  </a:lnTo>
                  <a:lnTo>
                    <a:pt x="682" y="33"/>
                  </a:lnTo>
                  <a:lnTo>
                    <a:pt x="736" y="71"/>
                  </a:lnTo>
                  <a:lnTo>
                    <a:pt x="788" y="125"/>
                  </a:lnTo>
                  <a:lnTo>
                    <a:pt x="838" y="191"/>
                  </a:lnTo>
                  <a:lnTo>
                    <a:pt x="885" y="270"/>
                  </a:lnTo>
                  <a:lnTo>
                    <a:pt x="929" y="360"/>
                  </a:lnTo>
                  <a:lnTo>
                    <a:pt x="968" y="462"/>
                  </a:lnTo>
                  <a:lnTo>
                    <a:pt x="1005" y="575"/>
                  </a:lnTo>
                  <a:lnTo>
                    <a:pt x="1039" y="697"/>
                  </a:lnTo>
                  <a:lnTo>
                    <a:pt x="1066" y="826"/>
                  </a:lnTo>
                  <a:lnTo>
                    <a:pt x="1091" y="964"/>
                  </a:lnTo>
                  <a:lnTo>
                    <a:pt x="1110" y="1109"/>
                  </a:lnTo>
                  <a:lnTo>
                    <a:pt x="1123" y="1260"/>
                  </a:lnTo>
                  <a:lnTo>
                    <a:pt x="1133" y="1418"/>
                  </a:lnTo>
                  <a:lnTo>
                    <a:pt x="1135" y="1578"/>
                  </a:lnTo>
                  <a:lnTo>
                    <a:pt x="1135" y="1578"/>
                  </a:lnTo>
                  <a:lnTo>
                    <a:pt x="1133" y="1739"/>
                  </a:lnTo>
                  <a:lnTo>
                    <a:pt x="1123" y="1897"/>
                  </a:lnTo>
                  <a:lnTo>
                    <a:pt x="1110" y="2048"/>
                  </a:lnTo>
                  <a:lnTo>
                    <a:pt x="1091" y="2193"/>
                  </a:lnTo>
                  <a:lnTo>
                    <a:pt x="1066" y="2332"/>
                  </a:lnTo>
                  <a:lnTo>
                    <a:pt x="1039" y="2461"/>
                  </a:lnTo>
                  <a:lnTo>
                    <a:pt x="1005" y="2584"/>
                  </a:lnTo>
                  <a:lnTo>
                    <a:pt x="968" y="2696"/>
                  </a:lnTo>
                  <a:lnTo>
                    <a:pt x="929" y="2798"/>
                  </a:lnTo>
                  <a:lnTo>
                    <a:pt x="885" y="2890"/>
                  </a:lnTo>
                  <a:lnTo>
                    <a:pt x="838" y="2968"/>
                  </a:lnTo>
                  <a:lnTo>
                    <a:pt x="788" y="3035"/>
                  </a:lnTo>
                  <a:lnTo>
                    <a:pt x="736" y="3088"/>
                  </a:lnTo>
                  <a:lnTo>
                    <a:pt x="682" y="3127"/>
                  </a:lnTo>
                  <a:lnTo>
                    <a:pt x="625" y="3151"/>
                  </a:lnTo>
                  <a:lnTo>
                    <a:pt x="567" y="3159"/>
                  </a:lnTo>
                  <a:lnTo>
                    <a:pt x="567" y="3159"/>
                  </a:lnTo>
                  <a:lnTo>
                    <a:pt x="509" y="3151"/>
                  </a:lnTo>
                  <a:lnTo>
                    <a:pt x="453" y="3127"/>
                  </a:lnTo>
                  <a:lnTo>
                    <a:pt x="399" y="3088"/>
                  </a:lnTo>
                  <a:lnTo>
                    <a:pt x="347" y="3035"/>
                  </a:lnTo>
                  <a:lnTo>
                    <a:pt x="297" y="2968"/>
                  </a:lnTo>
                  <a:lnTo>
                    <a:pt x="250" y="2890"/>
                  </a:lnTo>
                  <a:lnTo>
                    <a:pt x="206" y="2798"/>
                  </a:lnTo>
                  <a:lnTo>
                    <a:pt x="166" y="2696"/>
                  </a:lnTo>
                  <a:lnTo>
                    <a:pt x="129" y="2584"/>
                  </a:lnTo>
                  <a:lnTo>
                    <a:pt x="96" y="2461"/>
                  </a:lnTo>
                  <a:lnTo>
                    <a:pt x="69" y="2332"/>
                  </a:lnTo>
                  <a:lnTo>
                    <a:pt x="44" y="2193"/>
                  </a:lnTo>
                  <a:lnTo>
                    <a:pt x="25" y="2048"/>
                  </a:lnTo>
                  <a:lnTo>
                    <a:pt x="12" y="1897"/>
                  </a:lnTo>
                  <a:lnTo>
                    <a:pt x="2" y="1739"/>
                  </a:lnTo>
                  <a:lnTo>
                    <a:pt x="0" y="1578"/>
                  </a:lnTo>
                  <a:lnTo>
                    <a:pt x="0" y="1578"/>
                  </a:lnTo>
                  <a:lnTo>
                    <a:pt x="2" y="1418"/>
                  </a:lnTo>
                  <a:lnTo>
                    <a:pt x="12" y="1260"/>
                  </a:lnTo>
                  <a:lnTo>
                    <a:pt x="25" y="1109"/>
                  </a:lnTo>
                  <a:lnTo>
                    <a:pt x="44" y="964"/>
                  </a:lnTo>
                  <a:lnTo>
                    <a:pt x="69" y="826"/>
                  </a:lnTo>
                  <a:lnTo>
                    <a:pt x="96" y="697"/>
                  </a:lnTo>
                  <a:lnTo>
                    <a:pt x="129" y="575"/>
                  </a:lnTo>
                  <a:lnTo>
                    <a:pt x="166" y="462"/>
                  </a:lnTo>
                  <a:lnTo>
                    <a:pt x="206" y="360"/>
                  </a:lnTo>
                  <a:lnTo>
                    <a:pt x="250" y="270"/>
                  </a:lnTo>
                  <a:lnTo>
                    <a:pt x="297" y="191"/>
                  </a:lnTo>
                  <a:lnTo>
                    <a:pt x="347" y="125"/>
                  </a:lnTo>
                  <a:lnTo>
                    <a:pt x="399" y="71"/>
                  </a:lnTo>
                  <a:lnTo>
                    <a:pt x="453" y="33"/>
                  </a:lnTo>
                  <a:lnTo>
                    <a:pt x="509" y="8"/>
                  </a:lnTo>
                  <a:lnTo>
                    <a:pt x="567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9960" y="1523880"/>
              <a:ext cx="299880" cy="1671840"/>
            </a:xfrm>
            <a:custGeom>
              <a:avLst/>
              <a:gdLst/>
              <a:ahLst/>
              <a:rect l="l" t="t" r="r" b="b"/>
              <a:pathLst>
                <a:path w="567" h="3159">
                  <a:moveTo>
                    <a:pt x="283" y="0"/>
                  </a:moveTo>
                  <a:lnTo>
                    <a:pt x="283" y="0"/>
                  </a:lnTo>
                  <a:lnTo>
                    <a:pt x="312" y="8"/>
                  </a:lnTo>
                  <a:lnTo>
                    <a:pt x="340" y="33"/>
                  </a:lnTo>
                  <a:lnTo>
                    <a:pt x="368" y="71"/>
                  </a:lnTo>
                  <a:lnTo>
                    <a:pt x="394" y="125"/>
                  </a:lnTo>
                  <a:lnTo>
                    <a:pt x="418" y="191"/>
                  </a:lnTo>
                  <a:lnTo>
                    <a:pt x="441" y="270"/>
                  </a:lnTo>
                  <a:lnTo>
                    <a:pt x="464" y="360"/>
                  </a:lnTo>
                  <a:lnTo>
                    <a:pt x="484" y="462"/>
                  </a:lnTo>
                  <a:lnTo>
                    <a:pt x="502" y="575"/>
                  </a:lnTo>
                  <a:lnTo>
                    <a:pt x="519" y="697"/>
                  </a:lnTo>
                  <a:lnTo>
                    <a:pt x="533" y="826"/>
                  </a:lnTo>
                  <a:lnTo>
                    <a:pt x="545" y="964"/>
                  </a:lnTo>
                  <a:lnTo>
                    <a:pt x="554" y="1109"/>
                  </a:lnTo>
                  <a:lnTo>
                    <a:pt x="561" y="1260"/>
                  </a:lnTo>
                  <a:lnTo>
                    <a:pt x="566" y="1418"/>
                  </a:lnTo>
                  <a:lnTo>
                    <a:pt x="567" y="1578"/>
                  </a:lnTo>
                  <a:lnTo>
                    <a:pt x="567" y="1578"/>
                  </a:lnTo>
                  <a:lnTo>
                    <a:pt x="566" y="1739"/>
                  </a:lnTo>
                  <a:lnTo>
                    <a:pt x="561" y="1897"/>
                  </a:lnTo>
                  <a:lnTo>
                    <a:pt x="554" y="2048"/>
                  </a:lnTo>
                  <a:lnTo>
                    <a:pt x="545" y="2193"/>
                  </a:lnTo>
                  <a:lnTo>
                    <a:pt x="533" y="2332"/>
                  </a:lnTo>
                  <a:lnTo>
                    <a:pt x="519" y="2461"/>
                  </a:lnTo>
                  <a:lnTo>
                    <a:pt x="502" y="2584"/>
                  </a:lnTo>
                  <a:lnTo>
                    <a:pt x="484" y="2696"/>
                  </a:lnTo>
                  <a:lnTo>
                    <a:pt x="464" y="2798"/>
                  </a:lnTo>
                  <a:lnTo>
                    <a:pt x="441" y="2890"/>
                  </a:lnTo>
                  <a:lnTo>
                    <a:pt x="418" y="2968"/>
                  </a:lnTo>
                  <a:lnTo>
                    <a:pt x="394" y="3035"/>
                  </a:lnTo>
                  <a:lnTo>
                    <a:pt x="368" y="3088"/>
                  </a:lnTo>
                  <a:lnTo>
                    <a:pt x="340" y="3127"/>
                  </a:lnTo>
                  <a:lnTo>
                    <a:pt x="312" y="3151"/>
                  </a:lnTo>
                  <a:lnTo>
                    <a:pt x="283" y="3159"/>
                  </a:lnTo>
                  <a:lnTo>
                    <a:pt x="283" y="3159"/>
                  </a:lnTo>
                  <a:lnTo>
                    <a:pt x="254" y="3151"/>
                  </a:lnTo>
                  <a:lnTo>
                    <a:pt x="226" y="3127"/>
                  </a:lnTo>
                  <a:lnTo>
                    <a:pt x="199" y="3088"/>
                  </a:lnTo>
                  <a:lnTo>
                    <a:pt x="173" y="3035"/>
                  </a:lnTo>
                  <a:lnTo>
                    <a:pt x="149" y="2968"/>
                  </a:lnTo>
                  <a:lnTo>
                    <a:pt x="124" y="2890"/>
                  </a:lnTo>
                  <a:lnTo>
                    <a:pt x="103" y="2798"/>
                  </a:lnTo>
                  <a:lnTo>
                    <a:pt x="83" y="2696"/>
                  </a:lnTo>
                  <a:lnTo>
                    <a:pt x="65" y="2584"/>
                  </a:lnTo>
                  <a:lnTo>
                    <a:pt x="48" y="2461"/>
                  </a:lnTo>
                  <a:lnTo>
                    <a:pt x="34" y="2332"/>
                  </a:lnTo>
                  <a:lnTo>
                    <a:pt x="22" y="2193"/>
                  </a:lnTo>
                  <a:lnTo>
                    <a:pt x="13" y="2048"/>
                  </a:lnTo>
                  <a:lnTo>
                    <a:pt x="6" y="1897"/>
                  </a:lnTo>
                  <a:lnTo>
                    <a:pt x="1" y="1739"/>
                  </a:lnTo>
                  <a:lnTo>
                    <a:pt x="0" y="1578"/>
                  </a:lnTo>
                  <a:lnTo>
                    <a:pt x="0" y="1578"/>
                  </a:lnTo>
                  <a:lnTo>
                    <a:pt x="1" y="1418"/>
                  </a:lnTo>
                  <a:lnTo>
                    <a:pt x="6" y="1260"/>
                  </a:lnTo>
                  <a:lnTo>
                    <a:pt x="13" y="1109"/>
                  </a:lnTo>
                  <a:lnTo>
                    <a:pt x="22" y="964"/>
                  </a:lnTo>
                  <a:lnTo>
                    <a:pt x="34" y="826"/>
                  </a:lnTo>
                  <a:lnTo>
                    <a:pt x="48" y="697"/>
                  </a:lnTo>
                  <a:lnTo>
                    <a:pt x="65" y="575"/>
                  </a:lnTo>
                  <a:lnTo>
                    <a:pt x="83" y="462"/>
                  </a:lnTo>
                  <a:lnTo>
                    <a:pt x="103" y="360"/>
                  </a:lnTo>
                  <a:lnTo>
                    <a:pt x="124" y="270"/>
                  </a:lnTo>
                  <a:lnTo>
                    <a:pt x="149" y="191"/>
                  </a:lnTo>
                  <a:lnTo>
                    <a:pt x="173" y="125"/>
                  </a:lnTo>
                  <a:lnTo>
                    <a:pt x="199" y="71"/>
                  </a:lnTo>
                  <a:lnTo>
                    <a:pt x="226" y="33"/>
                  </a:lnTo>
                  <a:lnTo>
                    <a:pt x="254" y="8"/>
                  </a:lnTo>
                  <a:lnTo>
                    <a:pt x="283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5160" y="2362320"/>
              <a:ext cx="1511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32240" y="1523880"/>
              <a:ext cx="1800" cy="1670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87920" y="1698480"/>
              <a:ext cx="1089000" cy="157320"/>
            </a:xfrm>
            <a:custGeom>
              <a:avLst/>
              <a:gdLst/>
              <a:ahLst/>
              <a:rect l="l" t="t" r="r" b="b"/>
              <a:pathLst>
                <a:path w="2059" h="299">
                  <a:moveTo>
                    <a:pt x="0" y="0"/>
                  </a:moveTo>
                  <a:lnTo>
                    <a:pt x="0" y="0"/>
                  </a:lnTo>
                  <a:lnTo>
                    <a:pt x="50" y="36"/>
                  </a:lnTo>
                  <a:lnTo>
                    <a:pt x="103" y="70"/>
                  </a:lnTo>
                  <a:lnTo>
                    <a:pt x="159" y="103"/>
                  </a:lnTo>
                  <a:lnTo>
                    <a:pt x="217" y="132"/>
                  </a:lnTo>
                  <a:lnTo>
                    <a:pt x="276" y="158"/>
                  </a:lnTo>
                  <a:lnTo>
                    <a:pt x="338" y="183"/>
                  </a:lnTo>
                  <a:lnTo>
                    <a:pt x="402" y="206"/>
                  </a:lnTo>
                  <a:lnTo>
                    <a:pt x="467" y="225"/>
                  </a:lnTo>
                  <a:lnTo>
                    <a:pt x="534" y="243"/>
                  </a:lnTo>
                  <a:lnTo>
                    <a:pt x="603" y="258"/>
                  </a:lnTo>
                  <a:lnTo>
                    <a:pt x="672" y="271"/>
                  </a:lnTo>
                  <a:lnTo>
                    <a:pt x="742" y="281"/>
                  </a:lnTo>
                  <a:lnTo>
                    <a:pt x="812" y="289"/>
                  </a:lnTo>
                  <a:lnTo>
                    <a:pt x="885" y="295"/>
                  </a:lnTo>
                  <a:lnTo>
                    <a:pt x="956" y="299"/>
                  </a:lnTo>
                  <a:lnTo>
                    <a:pt x="1029" y="299"/>
                  </a:lnTo>
                  <a:lnTo>
                    <a:pt x="1100" y="298"/>
                  </a:lnTo>
                  <a:lnTo>
                    <a:pt x="1171" y="294"/>
                  </a:lnTo>
                  <a:lnTo>
                    <a:pt x="1244" y="289"/>
                  </a:lnTo>
                  <a:lnTo>
                    <a:pt x="1314" y="281"/>
                  </a:lnTo>
                  <a:lnTo>
                    <a:pt x="1384" y="270"/>
                  </a:lnTo>
                  <a:lnTo>
                    <a:pt x="1454" y="256"/>
                  </a:lnTo>
                  <a:lnTo>
                    <a:pt x="1522" y="242"/>
                  </a:lnTo>
                  <a:lnTo>
                    <a:pt x="1590" y="224"/>
                  </a:lnTo>
                  <a:lnTo>
                    <a:pt x="1655" y="204"/>
                  </a:lnTo>
                  <a:lnTo>
                    <a:pt x="1719" y="181"/>
                  </a:lnTo>
                  <a:lnTo>
                    <a:pt x="1781" y="157"/>
                  </a:lnTo>
                  <a:lnTo>
                    <a:pt x="1841" y="131"/>
                  </a:lnTo>
                  <a:lnTo>
                    <a:pt x="1899" y="102"/>
                  </a:lnTo>
                  <a:lnTo>
                    <a:pt x="1955" y="70"/>
                  </a:lnTo>
                  <a:lnTo>
                    <a:pt x="2008" y="36"/>
                  </a:lnTo>
                  <a:lnTo>
                    <a:pt x="2059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89360" y="2871720"/>
              <a:ext cx="1087560" cy="158760"/>
            </a:xfrm>
            <a:custGeom>
              <a:avLst/>
              <a:gdLst/>
              <a:ahLst/>
              <a:rect l="l" t="t" r="r" b="b"/>
              <a:pathLst>
                <a:path w="2057" h="300">
                  <a:moveTo>
                    <a:pt x="0" y="300"/>
                  </a:moveTo>
                  <a:lnTo>
                    <a:pt x="0" y="300"/>
                  </a:lnTo>
                  <a:lnTo>
                    <a:pt x="49" y="264"/>
                  </a:lnTo>
                  <a:lnTo>
                    <a:pt x="103" y="230"/>
                  </a:lnTo>
                  <a:lnTo>
                    <a:pt x="158" y="197"/>
                  </a:lnTo>
                  <a:lnTo>
                    <a:pt x="215" y="168"/>
                  </a:lnTo>
                  <a:lnTo>
                    <a:pt x="276" y="142"/>
                  </a:lnTo>
                  <a:lnTo>
                    <a:pt x="337" y="116"/>
                  </a:lnTo>
                  <a:lnTo>
                    <a:pt x="401" y="95"/>
                  </a:lnTo>
                  <a:lnTo>
                    <a:pt x="467" y="74"/>
                  </a:lnTo>
                  <a:lnTo>
                    <a:pt x="533" y="57"/>
                  </a:lnTo>
                  <a:lnTo>
                    <a:pt x="601" y="41"/>
                  </a:lnTo>
                  <a:lnTo>
                    <a:pt x="670" y="29"/>
                  </a:lnTo>
                  <a:lnTo>
                    <a:pt x="740" y="18"/>
                  </a:lnTo>
                  <a:lnTo>
                    <a:pt x="811" y="10"/>
                  </a:lnTo>
                  <a:lnTo>
                    <a:pt x="883" y="4"/>
                  </a:lnTo>
                  <a:lnTo>
                    <a:pt x="954" y="1"/>
                  </a:lnTo>
                  <a:lnTo>
                    <a:pt x="1027" y="0"/>
                  </a:lnTo>
                  <a:lnTo>
                    <a:pt x="1098" y="1"/>
                  </a:lnTo>
                  <a:lnTo>
                    <a:pt x="1169" y="5"/>
                  </a:lnTo>
                  <a:lnTo>
                    <a:pt x="1242" y="11"/>
                  </a:lnTo>
                  <a:lnTo>
                    <a:pt x="1312" y="20"/>
                  </a:lnTo>
                  <a:lnTo>
                    <a:pt x="1382" y="29"/>
                  </a:lnTo>
                  <a:lnTo>
                    <a:pt x="1453" y="43"/>
                  </a:lnTo>
                  <a:lnTo>
                    <a:pt x="1520" y="58"/>
                  </a:lnTo>
                  <a:lnTo>
                    <a:pt x="1587" y="75"/>
                  </a:lnTo>
                  <a:lnTo>
                    <a:pt x="1653" y="96"/>
                  </a:lnTo>
                  <a:lnTo>
                    <a:pt x="1717" y="118"/>
                  </a:lnTo>
                  <a:lnTo>
                    <a:pt x="1779" y="143"/>
                  </a:lnTo>
                  <a:lnTo>
                    <a:pt x="1840" y="170"/>
                  </a:lnTo>
                  <a:lnTo>
                    <a:pt x="1898" y="199"/>
                  </a:lnTo>
                  <a:lnTo>
                    <a:pt x="1953" y="230"/>
                  </a:lnTo>
                  <a:lnTo>
                    <a:pt x="2007" y="264"/>
                  </a:lnTo>
                  <a:lnTo>
                    <a:pt x="2057" y="30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1120" y="3033720"/>
              <a:ext cx="839880" cy="112680"/>
            </a:xfrm>
            <a:custGeom>
              <a:avLst/>
              <a:gdLst/>
              <a:ahLst/>
              <a:rect l="l" t="t" r="r" b="b"/>
              <a:pathLst>
                <a:path w="1586" h="211">
                  <a:moveTo>
                    <a:pt x="0" y="211"/>
                  </a:moveTo>
                  <a:lnTo>
                    <a:pt x="0" y="211"/>
                  </a:lnTo>
                  <a:lnTo>
                    <a:pt x="47" y="186"/>
                  </a:lnTo>
                  <a:lnTo>
                    <a:pt x="94" y="161"/>
                  </a:lnTo>
                  <a:lnTo>
                    <a:pt x="142" y="138"/>
                  </a:lnTo>
                  <a:lnTo>
                    <a:pt x="190" y="118"/>
                  </a:lnTo>
                  <a:lnTo>
                    <a:pt x="237" y="100"/>
                  </a:lnTo>
                  <a:lnTo>
                    <a:pt x="287" y="82"/>
                  </a:lnTo>
                  <a:lnTo>
                    <a:pt x="335" y="66"/>
                  </a:lnTo>
                  <a:lnTo>
                    <a:pt x="384" y="52"/>
                  </a:lnTo>
                  <a:lnTo>
                    <a:pt x="433" y="40"/>
                  </a:lnTo>
                  <a:lnTo>
                    <a:pt x="483" y="30"/>
                  </a:lnTo>
                  <a:lnTo>
                    <a:pt x="532" y="20"/>
                  </a:lnTo>
                  <a:lnTo>
                    <a:pt x="582" y="13"/>
                  </a:lnTo>
                  <a:lnTo>
                    <a:pt x="633" y="8"/>
                  </a:lnTo>
                  <a:lnTo>
                    <a:pt x="682" y="3"/>
                  </a:lnTo>
                  <a:lnTo>
                    <a:pt x="733" y="0"/>
                  </a:lnTo>
                  <a:lnTo>
                    <a:pt x="783" y="0"/>
                  </a:lnTo>
                  <a:lnTo>
                    <a:pt x="834" y="0"/>
                  </a:lnTo>
                  <a:lnTo>
                    <a:pt x="884" y="3"/>
                  </a:lnTo>
                  <a:lnTo>
                    <a:pt x="934" y="8"/>
                  </a:lnTo>
                  <a:lnTo>
                    <a:pt x="985" y="14"/>
                  </a:lnTo>
                  <a:lnTo>
                    <a:pt x="1036" y="21"/>
                  </a:lnTo>
                  <a:lnTo>
                    <a:pt x="1086" y="31"/>
                  </a:lnTo>
                  <a:lnTo>
                    <a:pt x="1137" y="40"/>
                  </a:lnTo>
                  <a:lnTo>
                    <a:pt x="1187" y="54"/>
                  </a:lnTo>
                  <a:lnTo>
                    <a:pt x="1238" y="67"/>
                  </a:lnTo>
                  <a:lnTo>
                    <a:pt x="1287" y="83"/>
                  </a:lnTo>
                  <a:lnTo>
                    <a:pt x="1338" y="100"/>
                  </a:lnTo>
                  <a:lnTo>
                    <a:pt x="1388" y="119"/>
                  </a:lnTo>
                  <a:lnTo>
                    <a:pt x="1437" y="140"/>
                  </a:lnTo>
                  <a:lnTo>
                    <a:pt x="1487" y="161"/>
                  </a:lnTo>
                  <a:lnTo>
                    <a:pt x="1536" y="186"/>
                  </a:lnTo>
                  <a:lnTo>
                    <a:pt x="1586" y="211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24120" y="1851120"/>
              <a:ext cx="1425600" cy="183960"/>
            </a:xfrm>
            <a:custGeom>
              <a:avLst/>
              <a:gdLst/>
              <a:ahLst/>
              <a:rect l="l" t="t" r="r" b="b"/>
              <a:pathLst>
                <a:path w="2694" h="347">
                  <a:moveTo>
                    <a:pt x="0" y="0"/>
                  </a:moveTo>
                  <a:lnTo>
                    <a:pt x="0" y="0"/>
                  </a:lnTo>
                  <a:lnTo>
                    <a:pt x="44" y="43"/>
                  </a:lnTo>
                  <a:lnTo>
                    <a:pt x="98" y="83"/>
                  </a:lnTo>
                  <a:lnTo>
                    <a:pt x="157" y="119"/>
                  </a:lnTo>
                  <a:lnTo>
                    <a:pt x="223" y="153"/>
                  </a:lnTo>
                  <a:lnTo>
                    <a:pt x="296" y="184"/>
                  </a:lnTo>
                  <a:lnTo>
                    <a:pt x="375" y="213"/>
                  </a:lnTo>
                  <a:lnTo>
                    <a:pt x="457" y="239"/>
                  </a:lnTo>
                  <a:lnTo>
                    <a:pt x="545" y="262"/>
                  </a:lnTo>
                  <a:lnTo>
                    <a:pt x="636" y="282"/>
                  </a:lnTo>
                  <a:lnTo>
                    <a:pt x="731" y="299"/>
                  </a:lnTo>
                  <a:lnTo>
                    <a:pt x="829" y="314"/>
                  </a:lnTo>
                  <a:lnTo>
                    <a:pt x="930" y="326"/>
                  </a:lnTo>
                  <a:lnTo>
                    <a:pt x="1033" y="335"/>
                  </a:lnTo>
                  <a:lnTo>
                    <a:pt x="1137" y="343"/>
                  </a:lnTo>
                  <a:lnTo>
                    <a:pt x="1242" y="346"/>
                  </a:lnTo>
                  <a:lnTo>
                    <a:pt x="1347" y="347"/>
                  </a:lnTo>
                  <a:lnTo>
                    <a:pt x="1454" y="346"/>
                  </a:lnTo>
                  <a:lnTo>
                    <a:pt x="1558" y="341"/>
                  </a:lnTo>
                  <a:lnTo>
                    <a:pt x="1662" y="334"/>
                  </a:lnTo>
                  <a:lnTo>
                    <a:pt x="1765" y="326"/>
                  </a:lnTo>
                  <a:lnTo>
                    <a:pt x="1865" y="312"/>
                  </a:lnTo>
                  <a:lnTo>
                    <a:pt x="1963" y="298"/>
                  </a:lnTo>
                  <a:lnTo>
                    <a:pt x="2058" y="280"/>
                  </a:lnTo>
                  <a:lnTo>
                    <a:pt x="2150" y="259"/>
                  </a:lnTo>
                  <a:lnTo>
                    <a:pt x="2238" y="236"/>
                  </a:lnTo>
                  <a:lnTo>
                    <a:pt x="2320" y="211"/>
                  </a:lnTo>
                  <a:lnTo>
                    <a:pt x="2398" y="183"/>
                  </a:lnTo>
                  <a:lnTo>
                    <a:pt x="2470" y="151"/>
                  </a:lnTo>
                  <a:lnTo>
                    <a:pt x="2536" y="118"/>
                  </a:lnTo>
                  <a:lnTo>
                    <a:pt x="2596" y="81"/>
                  </a:lnTo>
                  <a:lnTo>
                    <a:pt x="2649" y="43"/>
                  </a:lnTo>
                  <a:lnTo>
                    <a:pt x="2694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6200" y="2095560"/>
              <a:ext cx="1436760" cy="106200"/>
            </a:xfrm>
            <a:custGeom>
              <a:avLst/>
              <a:gdLst/>
              <a:ahLst/>
              <a:rect l="l" t="t" r="r" b="b"/>
              <a:pathLst>
                <a:path w="2715" h="201">
                  <a:moveTo>
                    <a:pt x="0" y="0"/>
                  </a:moveTo>
                  <a:lnTo>
                    <a:pt x="0" y="0"/>
                  </a:lnTo>
                  <a:lnTo>
                    <a:pt x="63" y="24"/>
                  </a:lnTo>
                  <a:lnTo>
                    <a:pt x="131" y="47"/>
                  </a:lnTo>
                  <a:lnTo>
                    <a:pt x="202" y="69"/>
                  </a:lnTo>
                  <a:lnTo>
                    <a:pt x="277" y="88"/>
                  </a:lnTo>
                  <a:lnTo>
                    <a:pt x="355" y="106"/>
                  </a:lnTo>
                  <a:lnTo>
                    <a:pt x="437" y="122"/>
                  </a:lnTo>
                  <a:lnTo>
                    <a:pt x="520" y="138"/>
                  </a:lnTo>
                  <a:lnTo>
                    <a:pt x="608" y="151"/>
                  </a:lnTo>
                  <a:lnTo>
                    <a:pt x="697" y="163"/>
                  </a:lnTo>
                  <a:lnTo>
                    <a:pt x="788" y="173"/>
                  </a:lnTo>
                  <a:lnTo>
                    <a:pt x="881" y="181"/>
                  </a:lnTo>
                  <a:lnTo>
                    <a:pt x="975" y="189"/>
                  </a:lnTo>
                  <a:lnTo>
                    <a:pt x="1071" y="195"/>
                  </a:lnTo>
                  <a:lnTo>
                    <a:pt x="1166" y="198"/>
                  </a:lnTo>
                  <a:lnTo>
                    <a:pt x="1263" y="201"/>
                  </a:lnTo>
                  <a:lnTo>
                    <a:pt x="1360" y="201"/>
                  </a:lnTo>
                  <a:lnTo>
                    <a:pt x="1457" y="201"/>
                  </a:lnTo>
                  <a:lnTo>
                    <a:pt x="1554" y="198"/>
                  </a:lnTo>
                  <a:lnTo>
                    <a:pt x="1650" y="195"/>
                  </a:lnTo>
                  <a:lnTo>
                    <a:pt x="1745" y="189"/>
                  </a:lnTo>
                  <a:lnTo>
                    <a:pt x="1839" y="181"/>
                  </a:lnTo>
                  <a:lnTo>
                    <a:pt x="1932" y="173"/>
                  </a:lnTo>
                  <a:lnTo>
                    <a:pt x="2023" y="163"/>
                  </a:lnTo>
                  <a:lnTo>
                    <a:pt x="2111" y="151"/>
                  </a:lnTo>
                  <a:lnTo>
                    <a:pt x="2198" y="138"/>
                  </a:lnTo>
                  <a:lnTo>
                    <a:pt x="2282" y="122"/>
                  </a:lnTo>
                  <a:lnTo>
                    <a:pt x="2363" y="106"/>
                  </a:lnTo>
                  <a:lnTo>
                    <a:pt x="2440" y="88"/>
                  </a:lnTo>
                  <a:lnTo>
                    <a:pt x="2515" y="69"/>
                  </a:lnTo>
                  <a:lnTo>
                    <a:pt x="2585" y="47"/>
                  </a:lnTo>
                  <a:lnTo>
                    <a:pt x="2652" y="24"/>
                  </a:lnTo>
                  <a:lnTo>
                    <a:pt x="2715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4120" y="2687760"/>
              <a:ext cx="1425600" cy="183960"/>
            </a:xfrm>
            <a:custGeom>
              <a:avLst/>
              <a:gdLst/>
              <a:ahLst/>
              <a:rect l="l" t="t" r="r" b="b"/>
              <a:pathLst>
                <a:path w="2694" h="346">
                  <a:moveTo>
                    <a:pt x="0" y="346"/>
                  </a:moveTo>
                  <a:lnTo>
                    <a:pt x="0" y="346"/>
                  </a:lnTo>
                  <a:lnTo>
                    <a:pt x="44" y="304"/>
                  </a:lnTo>
                  <a:lnTo>
                    <a:pt x="98" y="265"/>
                  </a:lnTo>
                  <a:lnTo>
                    <a:pt x="157" y="228"/>
                  </a:lnTo>
                  <a:lnTo>
                    <a:pt x="223" y="194"/>
                  </a:lnTo>
                  <a:lnTo>
                    <a:pt x="296" y="162"/>
                  </a:lnTo>
                  <a:lnTo>
                    <a:pt x="375" y="134"/>
                  </a:lnTo>
                  <a:lnTo>
                    <a:pt x="457" y="109"/>
                  </a:lnTo>
                  <a:lnTo>
                    <a:pt x="545" y="86"/>
                  </a:lnTo>
                  <a:lnTo>
                    <a:pt x="636" y="65"/>
                  </a:lnTo>
                  <a:lnTo>
                    <a:pt x="731" y="49"/>
                  </a:lnTo>
                  <a:lnTo>
                    <a:pt x="829" y="33"/>
                  </a:lnTo>
                  <a:lnTo>
                    <a:pt x="930" y="21"/>
                  </a:lnTo>
                  <a:lnTo>
                    <a:pt x="1033" y="12"/>
                  </a:lnTo>
                  <a:lnTo>
                    <a:pt x="1137" y="5"/>
                  </a:lnTo>
                  <a:lnTo>
                    <a:pt x="1242" y="1"/>
                  </a:lnTo>
                  <a:lnTo>
                    <a:pt x="1347" y="0"/>
                  </a:lnTo>
                  <a:lnTo>
                    <a:pt x="1454" y="1"/>
                  </a:lnTo>
                  <a:lnTo>
                    <a:pt x="1558" y="6"/>
                  </a:lnTo>
                  <a:lnTo>
                    <a:pt x="1662" y="12"/>
                  </a:lnTo>
                  <a:lnTo>
                    <a:pt x="1765" y="22"/>
                  </a:lnTo>
                  <a:lnTo>
                    <a:pt x="1865" y="34"/>
                  </a:lnTo>
                  <a:lnTo>
                    <a:pt x="1963" y="50"/>
                  </a:lnTo>
                  <a:lnTo>
                    <a:pt x="2058" y="67"/>
                  </a:lnTo>
                  <a:lnTo>
                    <a:pt x="2150" y="87"/>
                  </a:lnTo>
                  <a:lnTo>
                    <a:pt x="2238" y="110"/>
                  </a:lnTo>
                  <a:lnTo>
                    <a:pt x="2320" y="136"/>
                  </a:lnTo>
                  <a:lnTo>
                    <a:pt x="2398" y="165"/>
                  </a:lnTo>
                  <a:lnTo>
                    <a:pt x="2470" y="195"/>
                  </a:lnTo>
                  <a:lnTo>
                    <a:pt x="2536" y="229"/>
                  </a:lnTo>
                  <a:lnTo>
                    <a:pt x="2596" y="265"/>
                  </a:lnTo>
                  <a:lnTo>
                    <a:pt x="2649" y="305"/>
                  </a:lnTo>
                  <a:lnTo>
                    <a:pt x="2694" y="346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6200" y="2522520"/>
              <a:ext cx="1436760" cy="106560"/>
            </a:xfrm>
            <a:custGeom>
              <a:avLst/>
              <a:gdLst/>
              <a:ahLst/>
              <a:rect l="l" t="t" r="r" b="b"/>
              <a:pathLst>
                <a:path w="2715" h="202">
                  <a:moveTo>
                    <a:pt x="0" y="202"/>
                  </a:moveTo>
                  <a:lnTo>
                    <a:pt x="0" y="202"/>
                  </a:lnTo>
                  <a:lnTo>
                    <a:pt x="63" y="177"/>
                  </a:lnTo>
                  <a:lnTo>
                    <a:pt x="131" y="154"/>
                  </a:lnTo>
                  <a:lnTo>
                    <a:pt x="202" y="133"/>
                  </a:lnTo>
                  <a:lnTo>
                    <a:pt x="277" y="113"/>
                  </a:lnTo>
                  <a:lnTo>
                    <a:pt x="355" y="95"/>
                  </a:lnTo>
                  <a:lnTo>
                    <a:pt x="437" y="79"/>
                  </a:lnTo>
                  <a:lnTo>
                    <a:pt x="520" y="64"/>
                  </a:lnTo>
                  <a:lnTo>
                    <a:pt x="608" y="50"/>
                  </a:lnTo>
                  <a:lnTo>
                    <a:pt x="697" y="38"/>
                  </a:lnTo>
                  <a:lnTo>
                    <a:pt x="788" y="29"/>
                  </a:lnTo>
                  <a:lnTo>
                    <a:pt x="881" y="20"/>
                  </a:lnTo>
                  <a:lnTo>
                    <a:pt x="975" y="13"/>
                  </a:lnTo>
                  <a:lnTo>
                    <a:pt x="1071" y="7"/>
                  </a:lnTo>
                  <a:lnTo>
                    <a:pt x="1166" y="3"/>
                  </a:lnTo>
                  <a:lnTo>
                    <a:pt x="1263" y="1"/>
                  </a:lnTo>
                  <a:lnTo>
                    <a:pt x="1360" y="0"/>
                  </a:lnTo>
                  <a:lnTo>
                    <a:pt x="1457" y="1"/>
                  </a:lnTo>
                  <a:lnTo>
                    <a:pt x="1554" y="3"/>
                  </a:lnTo>
                  <a:lnTo>
                    <a:pt x="1650" y="7"/>
                  </a:lnTo>
                  <a:lnTo>
                    <a:pt x="1745" y="13"/>
                  </a:lnTo>
                  <a:lnTo>
                    <a:pt x="1839" y="20"/>
                  </a:lnTo>
                  <a:lnTo>
                    <a:pt x="1932" y="29"/>
                  </a:lnTo>
                  <a:lnTo>
                    <a:pt x="2023" y="38"/>
                  </a:lnTo>
                  <a:lnTo>
                    <a:pt x="2111" y="50"/>
                  </a:lnTo>
                  <a:lnTo>
                    <a:pt x="2198" y="64"/>
                  </a:lnTo>
                  <a:lnTo>
                    <a:pt x="2282" y="79"/>
                  </a:lnTo>
                  <a:lnTo>
                    <a:pt x="2363" y="95"/>
                  </a:lnTo>
                  <a:lnTo>
                    <a:pt x="2440" y="113"/>
                  </a:lnTo>
                  <a:lnTo>
                    <a:pt x="2515" y="133"/>
                  </a:lnTo>
                  <a:lnTo>
                    <a:pt x="2585" y="154"/>
                  </a:lnTo>
                  <a:lnTo>
                    <a:pt x="2652" y="177"/>
                  </a:lnTo>
                  <a:lnTo>
                    <a:pt x="2715" y="20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1120" y="1574640"/>
              <a:ext cx="839880" cy="111240"/>
            </a:xfrm>
            <a:custGeom>
              <a:avLst/>
              <a:gdLst/>
              <a:ahLst/>
              <a:rect l="l" t="t" r="r" b="b"/>
              <a:pathLst>
                <a:path w="1586" h="210">
                  <a:moveTo>
                    <a:pt x="0" y="0"/>
                  </a:moveTo>
                  <a:lnTo>
                    <a:pt x="0" y="0"/>
                  </a:lnTo>
                  <a:lnTo>
                    <a:pt x="48" y="25"/>
                  </a:lnTo>
                  <a:lnTo>
                    <a:pt x="95" y="49"/>
                  </a:lnTo>
                  <a:lnTo>
                    <a:pt x="142" y="72"/>
                  </a:lnTo>
                  <a:lnTo>
                    <a:pt x="190" y="93"/>
                  </a:lnTo>
                  <a:lnTo>
                    <a:pt x="239" y="111"/>
                  </a:lnTo>
                  <a:lnTo>
                    <a:pt x="287" y="129"/>
                  </a:lnTo>
                  <a:lnTo>
                    <a:pt x="337" y="145"/>
                  </a:lnTo>
                  <a:lnTo>
                    <a:pt x="385" y="158"/>
                  </a:lnTo>
                  <a:lnTo>
                    <a:pt x="435" y="170"/>
                  </a:lnTo>
                  <a:lnTo>
                    <a:pt x="484" y="181"/>
                  </a:lnTo>
                  <a:lnTo>
                    <a:pt x="534" y="191"/>
                  </a:lnTo>
                  <a:lnTo>
                    <a:pt x="583" y="198"/>
                  </a:lnTo>
                  <a:lnTo>
                    <a:pt x="634" y="203"/>
                  </a:lnTo>
                  <a:lnTo>
                    <a:pt x="684" y="208"/>
                  </a:lnTo>
                  <a:lnTo>
                    <a:pt x="735" y="210"/>
                  </a:lnTo>
                  <a:lnTo>
                    <a:pt x="785" y="210"/>
                  </a:lnTo>
                  <a:lnTo>
                    <a:pt x="835" y="210"/>
                  </a:lnTo>
                  <a:lnTo>
                    <a:pt x="886" y="208"/>
                  </a:lnTo>
                  <a:lnTo>
                    <a:pt x="937" y="203"/>
                  </a:lnTo>
                  <a:lnTo>
                    <a:pt x="987" y="197"/>
                  </a:lnTo>
                  <a:lnTo>
                    <a:pt x="1038" y="189"/>
                  </a:lnTo>
                  <a:lnTo>
                    <a:pt x="1088" y="180"/>
                  </a:lnTo>
                  <a:lnTo>
                    <a:pt x="1139" y="170"/>
                  </a:lnTo>
                  <a:lnTo>
                    <a:pt x="1189" y="157"/>
                  </a:lnTo>
                  <a:lnTo>
                    <a:pt x="1239" y="143"/>
                  </a:lnTo>
                  <a:lnTo>
                    <a:pt x="1290" y="128"/>
                  </a:lnTo>
                  <a:lnTo>
                    <a:pt x="1339" y="111"/>
                  </a:lnTo>
                  <a:lnTo>
                    <a:pt x="1389" y="91"/>
                  </a:lnTo>
                  <a:lnTo>
                    <a:pt x="1439" y="71"/>
                  </a:lnTo>
                  <a:lnTo>
                    <a:pt x="1488" y="49"/>
                  </a:lnTo>
                  <a:lnTo>
                    <a:pt x="1538" y="25"/>
                  </a:lnTo>
                  <a:lnTo>
                    <a:pt x="158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620720" y="2306520"/>
            <a:ext cx="1989360" cy="3408480"/>
          </a:xfrm>
          <a:custGeom>
            <a:avLst/>
            <a:gdLst/>
            <a:ahLst/>
            <a:rect l="l" t="t" r="r" b="b"/>
            <a:pathLst>
              <a:path w="3759" h="6440">
                <a:moveTo>
                  <a:pt x="1654" y="3947"/>
                </a:moveTo>
                <a:lnTo>
                  <a:pt x="1654" y="5486"/>
                </a:lnTo>
                <a:lnTo>
                  <a:pt x="1653" y="5549"/>
                </a:lnTo>
                <a:lnTo>
                  <a:pt x="1648" y="5611"/>
                </a:lnTo>
                <a:lnTo>
                  <a:pt x="1641" y="5673"/>
                </a:lnTo>
                <a:lnTo>
                  <a:pt x="1630" y="5734"/>
                </a:lnTo>
                <a:lnTo>
                  <a:pt x="1617" y="5793"/>
                </a:lnTo>
                <a:lnTo>
                  <a:pt x="1600" y="5851"/>
                </a:lnTo>
                <a:lnTo>
                  <a:pt x="1581" y="5907"/>
                </a:lnTo>
                <a:lnTo>
                  <a:pt x="1559" y="5962"/>
                </a:lnTo>
                <a:lnTo>
                  <a:pt x="1547" y="5989"/>
                </a:lnTo>
                <a:lnTo>
                  <a:pt x="1535" y="6015"/>
                </a:lnTo>
                <a:lnTo>
                  <a:pt x="1521" y="6041"/>
                </a:lnTo>
                <a:lnTo>
                  <a:pt x="1508" y="6066"/>
                </a:lnTo>
                <a:lnTo>
                  <a:pt x="1494" y="6090"/>
                </a:lnTo>
                <a:lnTo>
                  <a:pt x="1479" y="6113"/>
                </a:lnTo>
                <a:lnTo>
                  <a:pt x="1465" y="6136"/>
                </a:lnTo>
                <a:lnTo>
                  <a:pt x="1449" y="6158"/>
                </a:lnTo>
                <a:lnTo>
                  <a:pt x="1433" y="6180"/>
                </a:lnTo>
                <a:lnTo>
                  <a:pt x="1416" y="6202"/>
                </a:lnTo>
                <a:lnTo>
                  <a:pt x="1399" y="6221"/>
                </a:lnTo>
                <a:lnTo>
                  <a:pt x="1382" y="6240"/>
                </a:lnTo>
                <a:lnTo>
                  <a:pt x="1364" y="6260"/>
                </a:lnTo>
                <a:lnTo>
                  <a:pt x="1346" y="6278"/>
                </a:lnTo>
                <a:lnTo>
                  <a:pt x="1328" y="6295"/>
                </a:lnTo>
                <a:lnTo>
                  <a:pt x="1308" y="6312"/>
                </a:lnTo>
                <a:lnTo>
                  <a:pt x="1289" y="6328"/>
                </a:lnTo>
                <a:lnTo>
                  <a:pt x="1269" y="6342"/>
                </a:lnTo>
                <a:lnTo>
                  <a:pt x="1248" y="6355"/>
                </a:lnTo>
                <a:lnTo>
                  <a:pt x="1229" y="6369"/>
                </a:lnTo>
                <a:lnTo>
                  <a:pt x="1208" y="6380"/>
                </a:lnTo>
                <a:lnTo>
                  <a:pt x="1188" y="6390"/>
                </a:lnTo>
                <a:lnTo>
                  <a:pt x="1167" y="6400"/>
                </a:lnTo>
                <a:lnTo>
                  <a:pt x="1145" y="6409"/>
                </a:lnTo>
                <a:lnTo>
                  <a:pt x="1125" y="6416"/>
                </a:lnTo>
                <a:lnTo>
                  <a:pt x="1104" y="6422"/>
                </a:lnTo>
                <a:lnTo>
                  <a:pt x="1082" y="6428"/>
                </a:lnTo>
                <a:lnTo>
                  <a:pt x="1061" y="6432"/>
                </a:lnTo>
                <a:lnTo>
                  <a:pt x="1040" y="6435"/>
                </a:lnTo>
                <a:lnTo>
                  <a:pt x="1018" y="6438"/>
                </a:lnTo>
                <a:lnTo>
                  <a:pt x="996" y="6440"/>
                </a:lnTo>
                <a:lnTo>
                  <a:pt x="975" y="6440"/>
                </a:lnTo>
                <a:lnTo>
                  <a:pt x="0" y="6440"/>
                </a:lnTo>
                <a:lnTo>
                  <a:pt x="0" y="5203"/>
                </a:lnTo>
                <a:lnTo>
                  <a:pt x="551" y="5203"/>
                </a:lnTo>
                <a:lnTo>
                  <a:pt x="551" y="5850"/>
                </a:lnTo>
                <a:lnTo>
                  <a:pt x="1103" y="5850"/>
                </a:lnTo>
                <a:lnTo>
                  <a:pt x="1103" y="3549"/>
                </a:lnTo>
                <a:lnTo>
                  <a:pt x="713" y="3549"/>
                </a:lnTo>
                <a:lnTo>
                  <a:pt x="688" y="3549"/>
                </a:lnTo>
                <a:lnTo>
                  <a:pt x="664" y="3547"/>
                </a:lnTo>
                <a:lnTo>
                  <a:pt x="640" y="3544"/>
                </a:lnTo>
                <a:lnTo>
                  <a:pt x="614" y="3540"/>
                </a:lnTo>
                <a:lnTo>
                  <a:pt x="591" y="3535"/>
                </a:lnTo>
                <a:lnTo>
                  <a:pt x="567" y="3527"/>
                </a:lnTo>
                <a:lnTo>
                  <a:pt x="544" y="3520"/>
                </a:lnTo>
                <a:lnTo>
                  <a:pt x="521" y="3512"/>
                </a:lnTo>
                <a:lnTo>
                  <a:pt x="498" y="3502"/>
                </a:lnTo>
                <a:lnTo>
                  <a:pt x="475" y="3491"/>
                </a:lnTo>
                <a:lnTo>
                  <a:pt x="452" y="3479"/>
                </a:lnTo>
                <a:lnTo>
                  <a:pt x="430" y="3466"/>
                </a:lnTo>
                <a:lnTo>
                  <a:pt x="409" y="3451"/>
                </a:lnTo>
                <a:lnTo>
                  <a:pt x="388" y="3436"/>
                </a:lnTo>
                <a:lnTo>
                  <a:pt x="366" y="3420"/>
                </a:lnTo>
                <a:lnTo>
                  <a:pt x="346" y="3402"/>
                </a:lnTo>
                <a:lnTo>
                  <a:pt x="325" y="3382"/>
                </a:lnTo>
                <a:lnTo>
                  <a:pt x="306" y="3363"/>
                </a:lnTo>
                <a:lnTo>
                  <a:pt x="286" y="3342"/>
                </a:lnTo>
                <a:lnTo>
                  <a:pt x="268" y="3321"/>
                </a:lnTo>
                <a:lnTo>
                  <a:pt x="250" y="3299"/>
                </a:lnTo>
                <a:lnTo>
                  <a:pt x="233" y="3276"/>
                </a:lnTo>
                <a:lnTo>
                  <a:pt x="216" y="3252"/>
                </a:lnTo>
                <a:lnTo>
                  <a:pt x="200" y="3227"/>
                </a:lnTo>
                <a:lnTo>
                  <a:pt x="185" y="3202"/>
                </a:lnTo>
                <a:lnTo>
                  <a:pt x="170" y="3175"/>
                </a:lnTo>
                <a:lnTo>
                  <a:pt x="156" y="3149"/>
                </a:lnTo>
                <a:lnTo>
                  <a:pt x="141" y="3121"/>
                </a:lnTo>
                <a:lnTo>
                  <a:pt x="128" y="3092"/>
                </a:lnTo>
                <a:lnTo>
                  <a:pt x="116" y="3063"/>
                </a:lnTo>
                <a:lnTo>
                  <a:pt x="104" y="3033"/>
                </a:lnTo>
                <a:lnTo>
                  <a:pt x="92" y="3001"/>
                </a:lnTo>
                <a:lnTo>
                  <a:pt x="71" y="2937"/>
                </a:lnTo>
                <a:lnTo>
                  <a:pt x="52" y="2872"/>
                </a:lnTo>
                <a:lnTo>
                  <a:pt x="36" y="2804"/>
                </a:lnTo>
                <a:lnTo>
                  <a:pt x="24" y="2736"/>
                </a:lnTo>
                <a:lnTo>
                  <a:pt x="13" y="2666"/>
                </a:lnTo>
                <a:lnTo>
                  <a:pt x="6" y="2595"/>
                </a:lnTo>
                <a:lnTo>
                  <a:pt x="1" y="2522"/>
                </a:lnTo>
                <a:lnTo>
                  <a:pt x="0" y="2447"/>
                </a:lnTo>
                <a:lnTo>
                  <a:pt x="0" y="991"/>
                </a:lnTo>
                <a:lnTo>
                  <a:pt x="1" y="920"/>
                </a:lnTo>
                <a:lnTo>
                  <a:pt x="7" y="850"/>
                </a:lnTo>
                <a:lnTo>
                  <a:pt x="15" y="782"/>
                </a:lnTo>
                <a:lnTo>
                  <a:pt x="26" y="717"/>
                </a:lnTo>
                <a:lnTo>
                  <a:pt x="42" y="654"/>
                </a:lnTo>
                <a:lnTo>
                  <a:pt x="60" y="592"/>
                </a:lnTo>
                <a:lnTo>
                  <a:pt x="82" y="533"/>
                </a:lnTo>
                <a:lnTo>
                  <a:pt x="106" y="475"/>
                </a:lnTo>
                <a:lnTo>
                  <a:pt x="119" y="447"/>
                </a:lnTo>
                <a:lnTo>
                  <a:pt x="134" y="420"/>
                </a:lnTo>
                <a:lnTo>
                  <a:pt x="150" y="394"/>
                </a:lnTo>
                <a:lnTo>
                  <a:pt x="164" y="368"/>
                </a:lnTo>
                <a:lnTo>
                  <a:pt x="181" y="344"/>
                </a:lnTo>
                <a:lnTo>
                  <a:pt x="197" y="320"/>
                </a:lnTo>
                <a:lnTo>
                  <a:pt x="214" y="297"/>
                </a:lnTo>
                <a:lnTo>
                  <a:pt x="232" y="275"/>
                </a:lnTo>
                <a:lnTo>
                  <a:pt x="250" y="253"/>
                </a:lnTo>
                <a:lnTo>
                  <a:pt x="268" y="233"/>
                </a:lnTo>
                <a:lnTo>
                  <a:pt x="288" y="213"/>
                </a:lnTo>
                <a:lnTo>
                  <a:pt x="307" y="194"/>
                </a:lnTo>
                <a:lnTo>
                  <a:pt x="326" y="176"/>
                </a:lnTo>
                <a:lnTo>
                  <a:pt x="348" y="158"/>
                </a:lnTo>
                <a:lnTo>
                  <a:pt x="369" y="141"/>
                </a:lnTo>
                <a:lnTo>
                  <a:pt x="390" y="125"/>
                </a:lnTo>
                <a:lnTo>
                  <a:pt x="412" y="111"/>
                </a:lnTo>
                <a:lnTo>
                  <a:pt x="435" y="96"/>
                </a:lnTo>
                <a:lnTo>
                  <a:pt x="458" y="84"/>
                </a:lnTo>
                <a:lnTo>
                  <a:pt x="480" y="72"/>
                </a:lnTo>
                <a:lnTo>
                  <a:pt x="503" y="60"/>
                </a:lnTo>
                <a:lnTo>
                  <a:pt x="526" y="50"/>
                </a:lnTo>
                <a:lnTo>
                  <a:pt x="549" y="40"/>
                </a:lnTo>
                <a:lnTo>
                  <a:pt x="572" y="32"/>
                </a:lnTo>
                <a:lnTo>
                  <a:pt x="595" y="25"/>
                </a:lnTo>
                <a:lnTo>
                  <a:pt x="618" y="19"/>
                </a:lnTo>
                <a:lnTo>
                  <a:pt x="642" y="13"/>
                </a:lnTo>
                <a:lnTo>
                  <a:pt x="665" y="9"/>
                </a:lnTo>
                <a:lnTo>
                  <a:pt x="689" y="5"/>
                </a:lnTo>
                <a:lnTo>
                  <a:pt x="712" y="3"/>
                </a:lnTo>
                <a:lnTo>
                  <a:pt x="736" y="0"/>
                </a:lnTo>
                <a:lnTo>
                  <a:pt x="761" y="0"/>
                </a:lnTo>
                <a:lnTo>
                  <a:pt x="1654" y="0"/>
                </a:lnTo>
                <a:lnTo>
                  <a:pt x="1654" y="1233"/>
                </a:lnTo>
                <a:lnTo>
                  <a:pt x="1103" y="1233"/>
                </a:lnTo>
                <a:lnTo>
                  <a:pt x="1103" y="592"/>
                </a:lnTo>
                <a:lnTo>
                  <a:pt x="551" y="592"/>
                </a:lnTo>
                <a:lnTo>
                  <a:pt x="551" y="2959"/>
                </a:lnTo>
                <a:lnTo>
                  <a:pt x="982" y="2959"/>
                </a:lnTo>
                <a:lnTo>
                  <a:pt x="1004" y="2959"/>
                </a:lnTo>
                <a:lnTo>
                  <a:pt x="1024" y="2961"/>
                </a:lnTo>
                <a:lnTo>
                  <a:pt x="1046" y="2964"/>
                </a:lnTo>
                <a:lnTo>
                  <a:pt x="1067" y="2967"/>
                </a:lnTo>
                <a:lnTo>
                  <a:pt x="1088" y="2972"/>
                </a:lnTo>
                <a:lnTo>
                  <a:pt x="1109" y="2978"/>
                </a:lnTo>
                <a:lnTo>
                  <a:pt x="1129" y="2986"/>
                </a:lnTo>
                <a:lnTo>
                  <a:pt x="1150" y="2994"/>
                </a:lnTo>
                <a:lnTo>
                  <a:pt x="1171" y="3004"/>
                </a:lnTo>
                <a:lnTo>
                  <a:pt x="1191" y="3013"/>
                </a:lnTo>
                <a:lnTo>
                  <a:pt x="1212" y="3025"/>
                </a:lnTo>
                <a:lnTo>
                  <a:pt x="1232" y="3038"/>
                </a:lnTo>
                <a:lnTo>
                  <a:pt x="1252" y="3052"/>
                </a:lnTo>
                <a:lnTo>
                  <a:pt x="1272" y="3067"/>
                </a:lnTo>
                <a:lnTo>
                  <a:pt x="1292" y="3084"/>
                </a:lnTo>
                <a:lnTo>
                  <a:pt x="1311" y="3100"/>
                </a:lnTo>
                <a:lnTo>
                  <a:pt x="1330" y="3119"/>
                </a:lnTo>
                <a:lnTo>
                  <a:pt x="1350" y="3137"/>
                </a:lnTo>
                <a:lnTo>
                  <a:pt x="1368" y="3156"/>
                </a:lnTo>
                <a:lnTo>
                  <a:pt x="1386" y="3175"/>
                </a:lnTo>
                <a:lnTo>
                  <a:pt x="1403" y="3196"/>
                </a:lnTo>
                <a:lnTo>
                  <a:pt x="1420" y="3218"/>
                </a:lnTo>
                <a:lnTo>
                  <a:pt x="1437" y="3240"/>
                </a:lnTo>
                <a:lnTo>
                  <a:pt x="1452" y="3263"/>
                </a:lnTo>
                <a:lnTo>
                  <a:pt x="1468" y="3286"/>
                </a:lnTo>
                <a:lnTo>
                  <a:pt x="1483" y="3310"/>
                </a:lnTo>
                <a:lnTo>
                  <a:pt x="1497" y="3335"/>
                </a:lnTo>
                <a:lnTo>
                  <a:pt x="1511" y="3361"/>
                </a:lnTo>
                <a:lnTo>
                  <a:pt x="1524" y="3386"/>
                </a:lnTo>
                <a:lnTo>
                  <a:pt x="1537" y="3413"/>
                </a:lnTo>
                <a:lnTo>
                  <a:pt x="1549" y="3440"/>
                </a:lnTo>
                <a:lnTo>
                  <a:pt x="1560" y="3468"/>
                </a:lnTo>
                <a:lnTo>
                  <a:pt x="1582" y="3526"/>
                </a:lnTo>
                <a:lnTo>
                  <a:pt x="1601" y="3584"/>
                </a:lnTo>
                <a:lnTo>
                  <a:pt x="1617" y="3644"/>
                </a:lnTo>
                <a:lnTo>
                  <a:pt x="1630" y="3703"/>
                </a:lnTo>
                <a:lnTo>
                  <a:pt x="1641" y="3763"/>
                </a:lnTo>
                <a:lnTo>
                  <a:pt x="1648" y="3824"/>
                </a:lnTo>
                <a:lnTo>
                  <a:pt x="1653" y="3885"/>
                </a:lnTo>
                <a:lnTo>
                  <a:pt x="1654" y="3947"/>
                </a:lnTo>
                <a:close/>
                <a:moveTo>
                  <a:pt x="2656" y="592"/>
                </a:moveTo>
                <a:lnTo>
                  <a:pt x="2656" y="3876"/>
                </a:lnTo>
                <a:lnTo>
                  <a:pt x="3208" y="3876"/>
                </a:lnTo>
                <a:lnTo>
                  <a:pt x="3208" y="592"/>
                </a:lnTo>
                <a:lnTo>
                  <a:pt x="2656" y="592"/>
                </a:lnTo>
                <a:close/>
                <a:moveTo>
                  <a:pt x="3759" y="1012"/>
                </a:moveTo>
                <a:lnTo>
                  <a:pt x="3759" y="3423"/>
                </a:lnTo>
                <a:lnTo>
                  <a:pt x="3758" y="3488"/>
                </a:lnTo>
                <a:lnTo>
                  <a:pt x="3753" y="3550"/>
                </a:lnTo>
                <a:lnTo>
                  <a:pt x="3746" y="3615"/>
                </a:lnTo>
                <a:lnTo>
                  <a:pt x="3735" y="3676"/>
                </a:lnTo>
                <a:lnTo>
                  <a:pt x="3723" y="3739"/>
                </a:lnTo>
                <a:lnTo>
                  <a:pt x="3707" y="3801"/>
                </a:lnTo>
                <a:lnTo>
                  <a:pt x="3688" y="3862"/>
                </a:lnTo>
                <a:lnTo>
                  <a:pt x="3667" y="3923"/>
                </a:lnTo>
                <a:lnTo>
                  <a:pt x="3655" y="3952"/>
                </a:lnTo>
                <a:lnTo>
                  <a:pt x="3643" y="3981"/>
                </a:lnTo>
                <a:lnTo>
                  <a:pt x="3631" y="4010"/>
                </a:lnTo>
                <a:lnTo>
                  <a:pt x="3618" y="4038"/>
                </a:lnTo>
                <a:lnTo>
                  <a:pt x="3604" y="4064"/>
                </a:lnTo>
                <a:lnTo>
                  <a:pt x="3590" y="4091"/>
                </a:lnTo>
                <a:lnTo>
                  <a:pt x="3575" y="4116"/>
                </a:lnTo>
                <a:lnTo>
                  <a:pt x="3560" y="4142"/>
                </a:lnTo>
                <a:lnTo>
                  <a:pt x="3544" y="4166"/>
                </a:lnTo>
                <a:lnTo>
                  <a:pt x="3527" y="4189"/>
                </a:lnTo>
                <a:lnTo>
                  <a:pt x="3511" y="4212"/>
                </a:lnTo>
                <a:lnTo>
                  <a:pt x="3493" y="4235"/>
                </a:lnTo>
                <a:lnTo>
                  <a:pt x="3476" y="4256"/>
                </a:lnTo>
                <a:lnTo>
                  <a:pt x="3457" y="4277"/>
                </a:lnTo>
                <a:lnTo>
                  <a:pt x="3439" y="4297"/>
                </a:lnTo>
                <a:lnTo>
                  <a:pt x="3419" y="4316"/>
                </a:lnTo>
                <a:lnTo>
                  <a:pt x="3400" y="4334"/>
                </a:lnTo>
                <a:lnTo>
                  <a:pt x="3381" y="4352"/>
                </a:lnTo>
                <a:lnTo>
                  <a:pt x="3360" y="4368"/>
                </a:lnTo>
                <a:lnTo>
                  <a:pt x="3341" y="4383"/>
                </a:lnTo>
                <a:lnTo>
                  <a:pt x="3320" y="4396"/>
                </a:lnTo>
                <a:lnTo>
                  <a:pt x="3300" y="4409"/>
                </a:lnTo>
                <a:lnTo>
                  <a:pt x="3279" y="4420"/>
                </a:lnTo>
                <a:lnTo>
                  <a:pt x="3257" y="4430"/>
                </a:lnTo>
                <a:lnTo>
                  <a:pt x="3237" y="4439"/>
                </a:lnTo>
                <a:lnTo>
                  <a:pt x="3215" y="4447"/>
                </a:lnTo>
                <a:lnTo>
                  <a:pt x="3193" y="4454"/>
                </a:lnTo>
                <a:lnTo>
                  <a:pt x="3171" y="4459"/>
                </a:lnTo>
                <a:lnTo>
                  <a:pt x="3150" y="4464"/>
                </a:lnTo>
                <a:lnTo>
                  <a:pt x="3128" y="4466"/>
                </a:lnTo>
                <a:lnTo>
                  <a:pt x="3106" y="4468"/>
                </a:lnTo>
                <a:lnTo>
                  <a:pt x="3083" y="4468"/>
                </a:lnTo>
                <a:lnTo>
                  <a:pt x="2656" y="4468"/>
                </a:lnTo>
                <a:lnTo>
                  <a:pt x="2656" y="6440"/>
                </a:lnTo>
                <a:lnTo>
                  <a:pt x="2104" y="6440"/>
                </a:lnTo>
                <a:lnTo>
                  <a:pt x="2104" y="979"/>
                </a:lnTo>
                <a:lnTo>
                  <a:pt x="2106" y="917"/>
                </a:lnTo>
                <a:lnTo>
                  <a:pt x="2110" y="856"/>
                </a:lnTo>
                <a:lnTo>
                  <a:pt x="2119" y="795"/>
                </a:lnTo>
                <a:lnTo>
                  <a:pt x="2130" y="735"/>
                </a:lnTo>
                <a:lnTo>
                  <a:pt x="2143" y="675"/>
                </a:lnTo>
                <a:lnTo>
                  <a:pt x="2160" y="616"/>
                </a:lnTo>
                <a:lnTo>
                  <a:pt x="2179" y="558"/>
                </a:lnTo>
                <a:lnTo>
                  <a:pt x="2201" y="501"/>
                </a:lnTo>
                <a:lnTo>
                  <a:pt x="2213" y="473"/>
                </a:lnTo>
                <a:lnTo>
                  <a:pt x="2225" y="446"/>
                </a:lnTo>
                <a:lnTo>
                  <a:pt x="2239" y="419"/>
                </a:lnTo>
                <a:lnTo>
                  <a:pt x="2253" y="394"/>
                </a:lnTo>
                <a:lnTo>
                  <a:pt x="2267" y="368"/>
                </a:lnTo>
                <a:lnTo>
                  <a:pt x="2281" y="344"/>
                </a:lnTo>
                <a:lnTo>
                  <a:pt x="2297" y="320"/>
                </a:lnTo>
                <a:lnTo>
                  <a:pt x="2313" y="297"/>
                </a:lnTo>
                <a:lnTo>
                  <a:pt x="2328" y="275"/>
                </a:lnTo>
                <a:lnTo>
                  <a:pt x="2345" y="253"/>
                </a:lnTo>
                <a:lnTo>
                  <a:pt x="2362" y="231"/>
                </a:lnTo>
                <a:lnTo>
                  <a:pt x="2379" y="212"/>
                </a:lnTo>
                <a:lnTo>
                  <a:pt x="2397" y="192"/>
                </a:lnTo>
                <a:lnTo>
                  <a:pt x="2415" y="173"/>
                </a:lnTo>
                <a:lnTo>
                  <a:pt x="2435" y="155"/>
                </a:lnTo>
                <a:lnTo>
                  <a:pt x="2454" y="137"/>
                </a:lnTo>
                <a:lnTo>
                  <a:pt x="2473" y="121"/>
                </a:lnTo>
                <a:lnTo>
                  <a:pt x="2493" y="106"/>
                </a:lnTo>
                <a:lnTo>
                  <a:pt x="2513" y="91"/>
                </a:lnTo>
                <a:lnTo>
                  <a:pt x="2533" y="78"/>
                </a:lnTo>
                <a:lnTo>
                  <a:pt x="2553" y="66"/>
                </a:lnTo>
                <a:lnTo>
                  <a:pt x="2573" y="55"/>
                </a:lnTo>
                <a:lnTo>
                  <a:pt x="2593" y="44"/>
                </a:lnTo>
                <a:lnTo>
                  <a:pt x="2614" y="36"/>
                </a:lnTo>
                <a:lnTo>
                  <a:pt x="2634" y="27"/>
                </a:lnTo>
                <a:lnTo>
                  <a:pt x="2655" y="20"/>
                </a:lnTo>
                <a:lnTo>
                  <a:pt x="2675" y="14"/>
                </a:lnTo>
                <a:lnTo>
                  <a:pt x="2696" y="9"/>
                </a:lnTo>
                <a:lnTo>
                  <a:pt x="2717" y="5"/>
                </a:lnTo>
                <a:lnTo>
                  <a:pt x="2738" y="3"/>
                </a:lnTo>
                <a:lnTo>
                  <a:pt x="2759" y="0"/>
                </a:lnTo>
                <a:lnTo>
                  <a:pt x="2779" y="0"/>
                </a:lnTo>
                <a:lnTo>
                  <a:pt x="3085" y="0"/>
                </a:lnTo>
                <a:lnTo>
                  <a:pt x="3107" y="0"/>
                </a:lnTo>
                <a:lnTo>
                  <a:pt x="3128" y="3"/>
                </a:lnTo>
                <a:lnTo>
                  <a:pt x="3150" y="5"/>
                </a:lnTo>
                <a:lnTo>
                  <a:pt x="3170" y="9"/>
                </a:lnTo>
                <a:lnTo>
                  <a:pt x="3192" y="15"/>
                </a:lnTo>
                <a:lnTo>
                  <a:pt x="3212" y="21"/>
                </a:lnTo>
                <a:lnTo>
                  <a:pt x="3233" y="28"/>
                </a:lnTo>
                <a:lnTo>
                  <a:pt x="3254" y="37"/>
                </a:lnTo>
                <a:lnTo>
                  <a:pt x="3274" y="46"/>
                </a:lnTo>
                <a:lnTo>
                  <a:pt x="3295" y="57"/>
                </a:lnTo>
                <a:lnTo>
                  <a:pt x="3315" y="69"/>
                </a:lnTo>
                <a:lnTo>
                  <a:pt x="3336" y="82"/>
                </a:lnTo>
                <a:lnTo>
                  <a:pt x="3355" y="96"/>
                </a:lnTo>
                <a:lnTo>
                  <a:pt x="3376" y="112"/>
                </a:lnTo>
                <a:lnTo>
                  <a:pt x="3395" y="127"/>
                </a:lnTo>
                <a:lnTo>
                  <a:pt x="3414" y="146"/>
                </a:lnTo>
                <a:lnTo>
                  <a:pt x="3434" y="164"/>
                </a:lnTo>
                <a:lnTo>
                  <a:pt x="3452" y="183"/>
                </a:lnTo>
                <a:lnTo>
                  <a:pt x="3471" y="204"/>
                </a:lnTo>
                <a:lnTo>
                  <a:pt x="3488" y="224"/>
                </a:lnTo>
                <a:lnTo>
                  <a:pt x="3506" y="245"/>
                </a:lnTo>
                <a:lnTo>
                  <a:pt x="3523" y="267"/>
                </a:lnTo>
                <a:lnTo>
                  <a:pt x="3539" y="290"/>
                </a:lnTo>
                <a:lnTo>
                  <a:pt x="3556" y="313"/>
                </a:lnTo>
                <a:lnTo>
                  <a:pt x="3571" y="337"/>
                </a:lnTo>
                <a:lnTo>
                  <a:pt x="3586" y="362"/>
                </a:lnTo>
                <a:lnTo>
                  <a:pt x="3601" y="386"/>
                </a:lnTo>
                <a:lnTo>
                  <a:pt x="3614" y="413"/>
                </a:lnTo>
                <a:lnTo>
                  <a:pt x="3627" y="440"/>
                </a:lnTo>
                <a:lnTo>
                  <a:pt x="3641" y="466"/>
                </a:lnTo>
                <a:lnTo>
                  <a:pt x="3653" y="494"/>
                </a:lnTo>
                <a:lnTo>
                  <a:pt x="3665" y="523"/>
                </a:lnTo>
                <a:lnTo>
                  <a:pt x="3687" y="582"/>
                </a:lnTo>
                <a:lnTo>
                  <a:pt x="3706" y="642"/>
                </a:lnTo>
                <a:lnTo>
                  <a:pt x="3722" y="702"/>
                </a:lnTo>
                <a:lnTo>
                  <a:pt x="3735" y="762"/>
                </a:lnTo>
                <a:lnTo>
                  <a:pt x="3746" y="823"/>
                </a:lnTo>
                <a:lnTo>
                  <a:pt x="3753" y="886"/>
                </a:lnTo>
                <a:lnTo>
                  <a:pt x="3758" y="948"/>
                </a:lnTo>
                <a:lnTo>
                  <a:pt x="3759" y="10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05160" y="3354480"/>
            <a:ext cx="292320" cy="23605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0880" y="2306520"/>
            <a:ext cx="1995480" cy="3408480"/>
          </a:xfrm>
          <a:custGeom>
            <a:avLst/>
            <a:gdLst/>
            <a:ahLst/>
            <a:rect l="l" t="t" r="r" b="b"/>
            <a:pathLst>
              <a:path w="3770" h="6440">
                <a:moveTo>
                  <a:pt x="1700" y="2037"/>
                </a:moveTo>
                <a:lnTo>
                  <a:pt x="1149" y="2037"/>
                </a:lnTo>
                <a:lnTo>
                  <a:pt x="1149" y="592"/>
                </a:lnTo>
                <a:lnTo>
                  <a:pt x="551" y="592"/>
                </a:lnTo>
                <a:lnTo>
                  <a:pt x="551" y="5850"/>
                </a:lnTo>
                <a:lnTo>
                  <a:pt x="1149" y="5850"/>
                </a:lnTo>
                <a:lnTo>
                  <a:pt x="1149" y="4430"/>
                </a:lnTo>
                <a:lnTo>
                  <a:pt x="1700" y="4430"/>
                </a:lnTo>
                <a:lnTo>
                  <a:pt x="1700" y="5469"/>
                </a:lnTo>
                <a:lnTo>
                  <a:pt x="1699" y="5533"/>
                </a:lnTo>
                <a:lnTo>
                  <a:pt x="1694" y="5597"/>
                </a:lnTo>
                <a:lnTo>
                  <a:pt x="1686" y="5659"/>
                </a:lnTo>
                <a:lnTo>
                  <a:pt x="1675" y="5720"/>
                </a:lnTo>
                <a:lnTo>
                  <a:pt x="1662" y="5780"/>
                </a:lnTo>
                <a:lnTo>
                  <a:pt x="1645" y="5839"/>
                </a:lnTo>
                <a:lnTo>
                  <a:pt x="1625" y="5896"/>
                </a:lnTo>
                <a:lnTo>
                  <a:pt x="1602" y="5951"/>
                </a:lnTo>
                <a:lnTo>
                  <a:pt x="1589" y="5979"/>
                </a:lnTo>
                <a:lnTo>
                  <a:pt x="1577" y="6006"/>
                </a:lnTo>
                <a:lnTo>
                  <a:pt x="1562" y="6031"/>
                </a:lnTo>
                <a:lnTo>
                  <a:pt x="1549" y="6057"/>
                </a:lnTo>
                <a:lnTo>
                  <a:pt x="1533" y="6082"/>
                </a:lnTo>
                <a:lnTo>
                  <a:pt x="1519" y="6106"/>
                </a:lnTo>
                <a:lnTo>
                  <a:pt x="1503" y="6129"/>
                </a:lnTo>
                <a:lnTo>
                  <a:pt x="1487" y="6152"/>
                </a:lnTo>
                <a:lnTo>
                  <a:pt x="1470" y="6174"/>
                </a:lnTo>
                <a:lnTo>
                  <a:pt x="1454" y="6196"/>
                </a:lnTo>
                <a:lnTo>
                  <a:pt x="1435" y="6216"/>
                </a:lnTo>
                <a:lnTo>
                  <a:pt x="1418" y="6236"/>
                </a:lnTo>
                <a:lnTo>
                  <a:pt x="1399" y="6255"/>
                </a:lnTo>
                <a:lnTo>
                  <a:pt x="1381" y="6273"/>
                </a:lnTo>
                <a:lnTo>
                  <a:pt x="1360" y="6290"/>
                </a:lnTo>
                <a:lnTo>
                  <a:pt x="1341" y="6307"/>
                </a:lnTo>
                <a:lnTo>
                  <a:pt x="1320" y="6323"/>
                </a:lnTo>
                <a:lnTo>
                  <a:pt x="1300" y="6338"/>
                </a:lnTo>
                <a:lnTo>
                  <a:pt x="1279" y="6352"/>
                </a:lnTo>
                <a:lnTo>
                  <a:pt x="1259" y="6365"/>
                </a:lnTo>
                <a:lnTo>
                  <a:pt x="1238" y="6377"/>
                </a:lnTo>
                <a:lnTo>
                  <a:pt x="1218" y="6388"/>
                </a:lnTo>
                <a:lnTo>
                  <a:pt x="1196" y="6398"/>
                </a:lnTo>
                <a:lnTo>
                  <a:pt x="1175" y="6406"/>
                </a:lnTo>
                <a:lnTo>
                  <a:pt x="1154" y="6415"/>
                </a:lnTo>
                <a:lnTo>
                  <a:pt x="1132" y="6421"/>
                </a:lnTo>
                <a:lnTo>
                  <a:pt x="1110" y="6427"/>
                </a:lnTo>
                <a:lnTo>
                  <a:pt x="1088" y="6432"/>
                </a:lnTo>
                <a:lnTo>
                  <a:pt x="1066" y="6435"/>
                </a:lnTo>
                <a:lnTo>
                  <a:pt x="1045" y="6438"/>
                </a:lnTo>
                <a:lnTo>
                  <a:pt x="1023" y="6440"/>
                </a:lnTo>
                <a:lnTo>
                  <a:pt x="1001" y="6440"/>
                </a:lnTo>
                <a:lnTo>
                  <a:pt x="667" y="6440"/>
                </a:lnTo>
                <a:lnTo>
                  <a:pt x="632" y="6439"/>
                </a:lnTo>
                <a:lnTo>
                  <a:pt x="598" y="6435"/>
                </a:lnTo>
                <a:lnTo>
                  <a:pt x="566" y="6429"/>
                </a:lnTo>
                <a:lnTo>
                  <a:pt x="533" y="6421"/>
                </a:lnTo>
                <a:lnTo>
                  <a:pt x="500" y="6409"/>
                </a:lnTo>
                <a:lnTo>
                  <a:pt x="469" y="6395"/>
                </a:lnTo>
                <a:lnTo>
                  <a:pt x="439" y="6380"/>
                </a:lnTo>
                <a:lnTo>
                  <a:pt x="408" y="6360"/>
                </a:lnTo>
                <a:lnTo>
                  <a:pt x="379" y="6340"/>
                </a:lnTo>
                <a:lnTo>
                  <a:pt x="350" y="6315"/>
                </a:lnTo>
                <a:lnTo>
                  <a:pt x="322" y="6290"/>
                </a:lnTo>
                <a:lnTo>
                  <a:pt x="296" y="6261"/>
                </a:lnTo>
                <a:lnTo>
                  <a:pt x="269" y="6231"/>
                </a:lnTo>
                <a:lnTo>
                  <a:pt x="244" y="6197"/>
                </a:lnTo>
                <a:lnTo>
                  <a:pt x="218" y="6162"/>
                </a:lnTo>
                <a:lnTo>
                  <a:pt x="194" y="6123"/>
                </a:lnTo>
                <a:lnTo>
                  <a:pt x="171" y="6082"/>
                </a:lnTo>
                <a:lnTo>
                  <a:pt x="148" y="6041"/>
                </a:lnTo>
                <a:lnTo>
                  <a:pt x="128" y="6000"/>
                </a:lnTo>
                <a:lnTo>
                  <a:pt x="110" y="5957"/>
                </a:lnTo>
                <a:lnTo>
                  <a:pt x="91" y="5914"/>
                </a:lnTo>
                <a:lnTo>
                  <a:pt x="76" y="5870"/>
                </a:lnTo>
                <a:lnTo>
                  <a:pt x="61" y="5827"/>
                </a:lnTo>
                <a:lnTo>
                  <a:pt x="48" y="5782"/>
                </a:lnTo>
                <a:lnTo>
                  <a:pt x="37" y="5736"/>
                </a:lnTo>
                <a:lnTo>
                  <a:pt x="27" y="5691"/>
                </a:lnTo>
                <a:lnTo>
                  <a:pt x="19" y="5644"/>
                </a:lnTo>
                <a:lnTo>
                  <a:pt x="12" y="5597"/>
                </a:lnTo>
                <a:lnTo>
                  <a:pt x="7" y="5550"/>
                </a:lnTo>
                <a:lnTo>
                  <a:pt x="3" y="5501"/>
                </a:lnTo>
                <a:lnTo>
                  <a:pt x="1" y="5453"/>
                </a:lnTo>
                <a:lnTo>
                  <a:pt x="0" y="5403"/>
                </a:lnTo>
                <a:lnTo>
                  <a:pt x="0" y="979"/>
                </a:lnTo>
                <a:lnTo>
                  <a:pt x="1" y="918"/>
                </a:lnTo>
                <a:lnTo>
                  <a:pt x="6" y="858"/>
                </a:lnTo>
                <a:lnTo>
                  <a:pt x="14" y="799"/>
                </a:lnTo>
                <a:lnTo>
                  <a:pt x="25" y="739"/>
                </a:lnTo>
                <a:lnTo>
                  <a:pt x="38" y="680"/>
                </a:lnTo>
                <a:lnTo>
                  <a:pt x="55" y="622"/>
                </a:lnTo>
                <a:lnTo>
                  <a:pt x="75" y="564"/>
                </a:lnTo>
                <a:lnTo>
                  <a:pt x="96" y="507"/>
                </a:lnTo>
                <a:lnTo>
                  <a:pt x="108" y="479"/>
                </a:lnTo>
                <a:lnTo>
                  <a:pt x="122" y="452"/>
                </a:lnTo>
                <a:lnTo>
                  <a:pt x="135" y="425"/>
                </a:lnTo>
                <a:lnTo>
                  <a:pt x="148" y="398"/>
                </a:lnTo>
                <a:lnTo>
                  <a:pt x="163" y="373"/>
                </a:lnTo>
                <a:lnTo>
                  <a:pt x="177" y="349"/>
                </a:lnTo>
                <a:lnTo>
                  <a:pt x="193" y="325"/>
                </a:lnTo>
                <a:lnTo>
                  <a:pt x="209" y="300"/>
                </a:lnTo>
                <a:lnTo>
                  <a:pt x="226" y="279"/>
                </a:lnTo>
                <a:lnTo>
                  <a:pt x="243" y="257"/>
                </a:lnTo>
                <a:lnTo>
                  <a:pt x="260" y="235"/>
                </a:lnTo>
                <a:lnTo>
                  <a:pt x="278" y="215"/>
                </a:lnTo>
                <a:lnTo>
                  <a:pt x="296" y="194"/>
                </a:lnTo>
                <a:lnTo>
                  <a:pt x="314" y="175"/>
                </a:lnTo>
                <a:lnTo>
                  <a:pt x="333" y="156"/>
                </a:lnTo>
                <a:lnTo>
                  <a:pt x="353" y="138"/>
                </a:lnTo>
                <a:lnTo>
                  <a:pt x="373" y="121"/>
                </a:lnTo>
                <a:lnTo>
                  <a:pt x="393" y="107"/>
                </a:lnTo>
                <a:lnTo>
                  <a:pt x="413" y="92"/>
                </a:lnTo>
                <a:lnTo>
                  <a:pt x="434" y="79"/>
                </a:lnTo>
                <a:lnTo>
                  <a:pt x="454" y="66"/>
                </a:lnTo>
                <a:lnTo>
                  <a:pt x="475" y="55"/>
                </a:lnTo>
                <a:lnTo>
                  <a:pt x="495" y="44"/>
                </a:lnTo>
                <a:lnTo>
                  <a:pt x="516" y="36"/>
                </a:lnTo>
                <a:lnTo>
                  <a:pt x="537" y="27"/>
                </a:lnTo>
                <a:lnTo>
                  <a:pt x="557" y="20"/>
                </a:lnTo>
                <a:lnTo>
                  <a:pt x="579" y="14"/>
                </a:lnTo>
                <a:lnTo>
                  <a:pt x="600" y="9"/>
                </a:lnTo>
                <a:lnTo>
                  <a:pt x="620" y="5"/>
                </a:lnTo>
                <a:lnTo>
                  <a:pt x="642" y="3"/>
                </a:lnTo>
                <a:lnTo>
                  <a:pt x="662" y="0"/>
                </a:lnTo>
                <a:lnTo>
                  <a:pt x="684" y="0"/>
                </a:lnTo>
                <a:lnTo>
                  <a:pt x="1012" y="0"/>
                </a:lnTo>
                <a:lnTo>
                  <a:pt x="1034" y="0"/>
                </a:lnTo>
                <a:lnTo>
                  <a:pt x="1056" y="3"/>
                </a:lnTo>
                <a:lnTo>
                  <a:pt x="1076" y="5"/>
                </a:lnTo>
                <a:lnTo>
                  <a:pt x="1098" y="10"/>
                </a:lnTo>
                <a:lnTo>
                  <a:pt x="1118" y="15"/>
                </a:lnTo>
                <a:lnTo>
                  <a:pt x="1140" y="21"/>
                </a:lnTo>
                <a:lnTo>
                  <a:pt x="1161" y="28"/>
                </a:lnTo>
                <a:lnTo>
                  <a:pt x="1183" y="37"/>
                </a:lnTo>
                <a:lnTo>
                  <a:pt x="1203" y="46"/>
                </a:lnTo>
                <a:lnTo>
                  <a:pt x="1224" y="57"/>
                </a:lnTo>
                <a:lnTo>
                  <a:pt x="1244" y="69"/>
                </a:lnTo>
                <a:lnTo>
                  <a:pt x="1265" y="83"/>
                </a:lnTo>
                <a:lnTo>
                  <a:pt x="1284" y="97"/>
                </a:lnTo>
                <a:lnTo>
                  <a:pt x="1305" y="113"/>
                </a:lnTo>
                <a:lnTo>
                  <a:pt x="1325" y="130"/>
                </a:lnTo>
                <a:lnTo>
                  <a:pt x="1345" y="148"/>
                </a:lnTo>
                <a:lnTo>
                  <a:pt x="1364" y="167"/>
                </a:lnTo>
                <a:lnTo>
                  <a:pt x="1383" y="187"/>
                </a:lnTo>
                <a:lnTo>
                  <a:pt x="1403" y="206"/>
                </a:lnTo>
                <a:lnTo>
                  <a:pt x="1421" y="228"/>
                </a:lnTo>
                <a:lnTo>
                  <a:pt x="1439" y="250"/>
                </a:lnTo>
                <a:lnTo>
                  <a:pt x="1456" y="271"/>
                </a:lnTo>
                <a:lnTo>
                  <a:pt x="1473" y="294"/>
                </a:lnTo>
                <a:lnTo>
                  <a:pt x="1490" y="319"/>
                </a:lnTo>
                <a:lnTo>
                  <a:pt x="1506" y="343"/>
                </a:lnTo>
                <a:lnTo>
                  <a:pt x="1521" y="368"/>
                </a:lnTo>
                <a:lnTo>
                  <a:pt x="1536" y="394"/>
                </a:lnTo>
                <a:lnTo>
                  <a:pt x="1550" y="420"/>
                </a:lnTo>
                <a:lnTo>
                  <a:pt x="1565" y="447"/>
                </a:lnTo>
                <a:lnTo>
                  <a:pt x="1578" y="475"/>
                </a:lnTo>
                <a:lnTo>
                  <a:pt x="1590" y="502"/>
                </a:lnTo>
                <a:lnTo>
                  <a:pt x="1602" y="531"/>
                </a:lnTo>
                <a:lnTo>
                  <a:pt x="1625" y="591"/>
                </a:lnTo>
                <a:lnTo>
                  <a:pt x="1645" y="650"/>
                </a:lnTo>
                <a:lnTo>
                  <a:pt x="1662" y="709"/>
                </a:lnTo>
                <a:lnTo>
                  <a:pt x="1675" y="770"/>
                </a:lnTo>
                <a:lnTo>
                  <a:pt x="1686" y="831"/>
                </a:lnTo>
                <a:lnTo>
                  <a:pt x="1694" y="892"/>
                </a:lnTo>
                <a:lnTo>
                  <a:pt x="1699" y="954"/>
                </a:lnTo>
                <a:lnTo>
                  <a:pt x="1700" y="1015"/>
                </a:lnTo>
                <a:lnTo>
                  <a:pt x="1700" y="2037"/>
                </a:lnTo>
                <a:close/>
                <a:moveTo>
                  <a:pt x="2115" y="5474"/>
                </a:moveTo>
                <a:lnTo>
                  <a:pt x="2115" y="977"/>
                </a:lnTo>
                <a:lnTo>
                  <a:pt x="2116" y="916"/>
                </a:lnTo>
                <a:lnTo>
                  <a:pt x="2121" y="857"/>
                </a:lnTo>
                <a:lnTo>
                  <a:pt x="2130" y="798"/>
                </a:lnTo>
                <a:lnTo>
                  <a:pt x="2141" y="738"/>
                </a:lnTo>
                <a:lnTo>
                  <a:pt x="2154" y="680"/>
                </a:lnTo>
                <a:lnTo>
                  <a:pt x="2171" y="622"/>
                </a:lnTo>
                <a:lnTo>
                  <a:pt x="2190" y="564"/>
                </a:lnTo>
                <a:lnTo>
                  <a:pt x="2212" y="507"/>
                </a:lnTo>
                <a:lnTo>
                  <a:pt x="2224" y="479"/>
                </a:lnTo>
                <a:lnTo>
                  <a:pt x="2237" y="452"/>
                </a:lnTo>
                <a:lnTo>
                  <a:pt x="2251" y="425"/>
                </a:lnTo>
                <a:lnTo>
                  <a:pt x="2264" y="398"/>
                </a:lnTo>
                <a:lnTo>
                  <a:pt x="2279" y="373"/>
                </a:lnTo>
                <a:lnTo>
                  <a:pt x="2293" y="349"/>
                </a:lnTo>
                <a:lnTo>
                  <a:pt x="2309" y="325"/>
                </a:lnTo>
                <a:lnTo>
                  <a:pt x="2324" y="300"/>
                </a:lnTo>
                <a:lnTo>
                  <a:pt x="2341" y="279"/>
                </a:lnTo>
                <a:lnTo>
                  <a:pt x="2357" y="257"/>
                </a:lnTo>
                <a:lnTo>
                  <a:pt x="2375" y="235"/>
                </a:lnTo>
                <a:lnTo>
                  <a:pt x="2392" y="215"/>
                </a:lnTo>
                <a:lnTo>
                  <a:pt x="2410" y="194"/>
                </a:lnTo>
                <a:lnTo>
                  <a:pt x="2428" y="175"/>
                </a:lnTo>
                <a:lnTo>
                  <a:pt x="2448" y="156"/>
                </a:lnTo>
                <a:lnTo>
                  <a:pt x="2467" y="138"/>
                </a:lnTo>
                <a:lnTo>
                  <a:pt x="2488" y="121"/>
                </a:lnTo>
                <a:lnTo>
                  <a:pt x="2507" y="107"/>
                </a:lnTo>
                <a:lnTo>
                  <a:pt x="2528" y="92"/>
                </a:lnTo>
                <a:lnTo>
                  <a:pt x="2547" y="79"/>
                </a:lnTo>
                <a:lnTo>
                  <a:pt x="2568" y="66"/>
                </a:lnTo>
                <a:lnTo>
                  <a:pt x="2588" y="55"/>
                </a:lnTo>
                <a:lnTo>
                  <a:pt x="2609" y="44"/>
                </a:lnTo>
                <a:lnTo>
                  <a:pt x="2629" y="36"/>
                </a:lnTo>
                <a:lnTo>
                  <a:pt x="2650" y="27"/>
                </a:lnTo>
                <a:lnTo>
                  <a:pt x="2670" y="20"/>
                </a:lnTo>
                <a:lnTo>
                  <a:pt x="2691" y="14"/>
                </a:lnTo>
                <a:lnTo>
                  <a:pt x="2712" y="9"/>
                </a:lnTo>
                <a:lnTo>
                  <a:pt x="2732" y="5"/>
                </a:lnTo>
                <a:lnTo>
                  <a:pt x="2753" y="3"/>
                </a:lnTo>
                <a:lnTo>
                  <a:pt x="2774" y="0"/>
                </a:lnTo>
                <a:lnTo>
                  <a:pt x="2795" y="0"/>
                </a:lnTo>
                <a:lnTo>
                  <a:pt x="3770" y="0"/>
                </a:lnTo>
                <a:lnTo>
                  <a:pt x="3770" y="2037"/>
                </a:lnTo>
                <a:lnTo>
                  <a:pt x="3218" y="2037"/>
                </a:lnTo>
                <a:lnTo>
                  <a:pt x="3218" y="592"/>
                </a:lnTo>
                <a:lnTo>
                  <a:pt x="2667" y="592"/>
                </a:lnTo>
                <a:lnTo>
                  <a:pt x="2667" y="2959"/>
                </a:lnTo>
                <a:lnTo>
                  <a:pt x="3218" y="2959"/>
                </a:lnTo>
                <a:lnTo>
                  <a:pt x="3218" y="3549"/>
                </a:lnTo>
                <a:lnTo>
                  <a:pt x="2667" y="3549"/>
                </a:lnTo>
                <a:lnTo>
                  <a:pt x="2667" y="5850"/>
                </a:lnTo>
                <a:lnTo>
                  <a:pt x="3218" y="5850"/>
                </a:lnTo>
                <a:lnTo>
                  <a:pt x="3218" y="4445"/>
                </a:lnTo>
                <a:lnTo>
                  <a:pt x="3770" y="4445"/>
                </a:lnTo>
                <a:lnTo>
                  <a:pt x="3770" y="6440"/>
                </a:lnTo>
                <a:lnTo>
                  <a:pt x="2795" y="6440"/>
                </a:lnTo>
                <a:lnTo>
                  <a:pt x="2774" y="6440"/>
                </a:lnTo>
                <a:lnTo>
                  <a:pt x="2753" y="6438"/>
                </a:lnTo>
                <a:lnTo>
                  <a:pt x="2732" y="6435"/>
                </a:lnTo>
                <a:lnTo>
                  <a:pt x="2712" y="6432"/>
                </a:lnTo>
                <a:lnTo>
                  <a:pt x="2690" y="6427"/>
                </a:lnTo>
                <a:lnTo>
                  <a:pt x="2669" y="6421"/>
                </a:lnTo>
                <a:lnTo>
                  <a:pt x="2649" y="6415"/>
                </a:lnTo>
                <a:lnTo>
                  <a:pt x="2628" y="6406"/>
                </a:lnTo>
                <a:lnTo>
                  <a:pt x="2608" y="6398"/>
                </a:lnTo>
                <a:lnTo>
                  <a:pt x="2587" y="6387"/>
                </a:lnTo>
                <a:lnTo>
                  <a:pt x="2568" y="6376"/>
                </a:lnTo>
                <a:lnTo>
                  <a:pt x="2547" y="6364"/>
                </a:lnTo>
                <a:lnTo>
                  <a:pt x="2526" y="6350"/>
                </a:lnTo>
                <a:lnTo>
                  <a:pt x="2507" y="6336"/>
                </a:lnTo>
                <a:lnTo>
                  <a:pt x="2487" y="6321"/>
                </a:lnTo>
                <a:lnTo>
                  <a:pt x="2467" y="6305"/>
                </a:lnTo>
                <a:lnTo>
                  <a:pt x="2448" y="6288"/>
                </a:lnTo>
                <a:lnTo>
                  <a:pt x="2428" y="6269"/>
                </a:lnTo>
                <a:lnTo>
                  <a:pt x="2409" y="6250"/>
                </a:lnTo>
                <a:lnTo>
                  <a:pt x="2391" y="6231"/>
                </a:lnTo>
                <a:lnTo>
                  <a:pt x="2374" y="6211"/>
                </a:lnTo>
                <a:lnTo>
                  <a:pt x="2356" y="6190"/>
                </a:lnTo>
                <a:lnTo>
                  <a:pt x="2339" y="6168"/>
                </a:lnTo>
                <a:lnTo>
                  <a:pt x="2323" y="6146"/>
                </a:lnTo>
                <a:lnTo>
                  <a:pt x="2308" y="6123"/>
                </a:lnTo>
                <a:lnTo>
                  <a:pt x="2292" y="6099"/>
                </a:lnTo>
                <a:lnTo>
                  <a:pt x="2277" y="6075"/>
                </a:lnTo>
                <a:lnTo>
                  <a:pt x="2264" y="6049"/>
                </a:lnTo>
                <a:lnTo>
                  <a:pt x="2249" y="6024"/>
                </a:lnTo>
                <a:lnTo>
                  <a:pt x="2236" y="5997"/>
                </a:lnTo>
                <a:lnTo>
                  <a:pt x="2224" y="5971"/>
                </a:lnTo>
                <a:lnTo>
                  <a:pt x="2212" y="5943"/>
                </a:lnTo>
                <a:lnTo>
                  <a:pt x="2190" y="5886"/>
                </a:lnTo>
                <a:lnTo>
                  <a:pt x="2171" y="5829"/>
                </a:lnTo>
                <a:lnTo>
                  <a:pt x="2154" y="5771"/>
                </a:lnTo>
                <a:lnTo>
                  <a:pt x="2141" y="5713"/>
                </a:lnTo>
                <a:lnTo>
                  <a:pt x="2130" y="5654"/>
                </a:lnTo>
                <a:lnTo>
                  <a:pt x="2121" y="5593"/>
                </a:lnTo>
                <a:lnTo>
                  <a:pt x="2116" y="5534"/>
                </a:lnTo>
                <a:lnTo>
                  <a:pt x="2115" y="547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ipos de processo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Cliente-Fornecedor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Engenharia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Gerenciamento 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Suporte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Organização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ipos de processo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1549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Processo      Descri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 - Cliente-Fornecedor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Processos que impactam diretamente os produtos e serviços de software no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fornecedor para o cliente.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1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Adquirir o produto de software e/ou serviç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2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Estabelecer contrat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3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Identificar necessidades do consumidor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4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Executar auditorias e revisões conjuntas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5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Empacotar, entregar e instalar o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6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Oferecer suporte a operação do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7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Fornecer serviço ao consumidor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CUS. 8 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      Avaliar a satisfação do consumidor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ipos de processo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cesso      Descri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 - Engenharia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cessos que especificam, implementam ou mantém um sistema ou produto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de software e sua documenta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1          Desenvolver requisitos e o projeto do sistema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2          Desenvolver requisitos de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3          Desenvolver o projeto do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4          Implementar o projeto do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5          Integrar e testar o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6          Integrar e testar o sistema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ENG.7          Manter o sistema e o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ipos de processo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cesso      Descri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 – Processo do Projeto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cessos que estabelecem o projeto, coordenam e gerenciam os recursos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ara produzir um produto ou prover um serviço que satisfaça o cliente.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1         Planejar o Ciclo de Vida do Projeto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2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Estabelecer o Plano de Projet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3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Montar Equipes de Projet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4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Gerenciar Requisitos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5 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Gerenciar a Qualidad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6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Gerenciar Riscos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7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Gerenciar Recursos e Cronogramas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. 8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     Gerenciar subcontratados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ipos de processo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Processo      Descri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SUP - Suport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Processos que podem ser empregados por qualquer um dos outros processos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SUP.1           Desenvolver a documenta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SUP.2           Executar a gerência de configura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SUP.3           Executar a garantia da qualidad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SUP.4           Executar a resolução de problemas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66cc"/>
                </a:solidFill>
                <a:latin typeface="Arial"/>
              </a:rPr>
              <a:t>SUP.5           Executar revisões por pares (peer reviews)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ipos de processo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cesso      Descri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 - Organiza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Processos que estabelecem os objetivos de negócios da organizaçã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1          Fazer a Engenharia do o negóci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2          Definir o process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3          Melhorar o process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4          Executar treinament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5          Habilitar reus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6          Fornecer ambiente de desenvolvimento de software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ORG.7          Fornecer facilidades de trabalho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b">
            <a:noAutofit/>
          </a:bodyPr>
          <a:p>
            <a:pPr indent="0" algn="ctr">
              <a:buNone/>
              <a:tabLst>
                <a:tab algn="l" pos="0"/>
                <a:tab algn="l" pos="517680"/>
                <a:tab algn="l" pos="1035000"/>
                <a:tab algn="l" pos="1552680"/>
                <a:tab algn="l" pos="2070000"/>
                <a:tab algn="l" pos="2587680"/>
                <a:tab algn="l" pos="3105000"/>
                <a:tab algn="l" pos="3622680"/>
                <a:tab algn="l" pos="4140360"/>
                <a:tab algn="l" pos="4657680"/>
                <a:tab algn="l" pos="5175360"/>
                <a:tab algn="l" pos="5692680"/>
                <a:tab algn="l" pos="6210360"/>
                <a:tab algn="l" pos="6727680"/>
                <a:tab algn="l" pos="7245360"/>
                <a:tab algn="l" pos="7763040"/>
                <a:tab algn="l" pos="8280360"/>
                <a:tab algn="l" pos="8798040"/>
                <a:tab algn="l" pos="9315360"/>
                <a:tab algn="l" pos="9833040"/>
                <a:tab algn="l" pos="1035036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íveis de Capacitação de um Process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10200" y="5396040"/>
            <a:ext cx="23112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10160" y="4583160"/>
            <a:ext cx="354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10160" y="4094280"/>
            <a:ext cx="354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0160" y="3668760"/>
            <a:ext cx="354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26000" y="3220920"/>
            <a:ext cx="354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26000" y="2755800"/>
            <a:ext cx="354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0160" y="2270160"/>
            <a:ext cx="354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200" y="4983120"/>
            <a:ext cx="272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512640"/>
                <a:tab algn="ctr" pos="917640"/>
                <a:tab algn="ctr" pos="1262160"/>
                <a:tab algn="ctr" pos="1833480"/>
                <a:tab algn="ctr" pos="240516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P1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P2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P3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P4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etc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 Narrow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960" y="2133720"/>
            <a:ext cx="383508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lhorado Continu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rolado Quantit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abele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anejado e Geren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lizado Inform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ão Re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952880" y="2254320"/>
            <a:ext cx="2667240" cy="2692440"/>
            <a:chOff x="4952880" y="2254320"/>
            <a:chExt cx="2667240" cy="2692440"/>
          </a:xfrm>
        </p:grpSpPr>
        <p:grpSp>
          <p:nvGrpSpPr>
            <p:cNvPr id="215" name=""/>
            <p:cNvGrpSpPr/>
            <p:nvPr/>
          </p:nvGrpSpPr>
          <p:grpSpPr>
            <a:xfrm>
              <a:off x="4952880" y="2254320"/>
              <a:ext cx="381240" cy="2692440"/>
              <a:chOff x="4952880" y="2254320"/>
              <a:chExt cx="381240" cy="2692440"/>
            </a:xfrm>
          </p:grpSpPr>
          <p:sp>
            <p:nvSpPr>
              <p:cNvPr id="216" name=""/>
              <p:cNvSpPr/>
              <p:nvPr/>
            </p:nvSpPr>
            <p:spPr>
              <a:xfrm>
                <a:off x="495936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52880" y="26668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52880" y="31240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52880" y="35812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40384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52880" y="44956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334120" y="2254320"/>
              <a:ext cx="380880" cy="2692440"/>
              <a:chOff x="5334120" y="2254320"/>
              <a:chExt cx="380880" cy="2692440"/>
            </a:xfrm>
          </p:grpSpPr>
          <p:sp>
            <p:nvSpPr>
              <p:cNvPr id="223" name=""/>
              <p:cNvSpPr/>
              <p:nvPr/>
            </p:nvSpPr>
            <p:spPr>
              <a:xfrm>
                <a:off x="534024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34120" y="26668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34120" y="31240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334120" y="35812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4120" y="40384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34120" y="44956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715000" y="2254320"/>
              <a:ext cx="380880" cy="2692440"/>
              <a:chOff x="5715000" y="2254320"/>
              <a:chExt cx="380880" cy="2692440"/>
            </a:xfrm>
          </p:grpSpPr>
          <p:sp>
            <p:nvSpPr>
              <p:cNvPr id="230" name=""/>
              <p:cNvSpPr/>
              <p:nvPr/>
            </p:nvSpPr>
            <p:spPr>
              <a:xfrm>
                <a:off x="572148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15000" y="26668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715000" y="31240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15000" y="35812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15000" y="40384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15000" y="44956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6095880" y="2254320"/>
              <a:ext cx="381240" cy="2692440"/>
              <a:chOff x="6095880" y="2254320"/>
              <a:chExt cx="381240" cy="2692440"/>
            </a:xfrm>
          </p:grpSpPr>
          <p:sp>
            <p:nvSpPr>
              <p:cNvPr id="237" name=""/>
              <p:cNvSpPr/>
              <p:nvPr/>
            </p:nvSpPr>
            <p:spPr>
              <a:xfrm>
                <a:off x="610236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95880" y="26668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5880" y="31240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5880" y="35812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95880" y="40384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95880" y="44956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77120" y="2254320"/>
              <a:ext cx="380880" cy="2692440"/>
              <a:chOff x="6477120" y="2254320"/>
              <a:chExt cx="380880" cy="2692440"/>
            </a:xfrm>
          </p:grpSpPr>
          <p:sp>
            <p:nvSpPr>
              <p:cNvPr id="244" name=""/>
              <p:cNvSpPr/>
              <p:nvPr/>
            </p:nvSpPr>
            <p:spPr>
              <a:xfrm>
                <a:off x="648324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7120" y="26668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77120" y="31240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477120" y="35812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477120" y="40384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7120" y="44956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7238880" y="2254320"/>
              <a:ext cx="381240" cy="2692440"/>
              <a:chOff x="7238880" y="2254320"/>
              <a:chExt cx="381240" cy="2692440"/>
            </a:xfrm>
          </p:grpSpPr>
          <p:sp>
            <p:nvSpPr>
              <p:cNvPr id="251" name=""/>
              <p:cNvSpPr/>
              <p:nvPr/>
            </p:nvSpPr>
            <p:spPr>
              <a:xfrm>
                <a:off x="724536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38880" y="26668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38880" y="31240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38880" y="35812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8880" y="40384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38880" y="449568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6858000" y="2254320"/>
              <a:ext cx="380880" cy="2692440"/>
              <a:chOff x="6858000" y="2254320"/>
              <a:chExt cx="380880" cy="2692440"/>
            </a:xfrm>
          </p:grpSpPr>
          <p:sp>
            <p:nvSpPr>
              <p:cNvPr id="258" name=""/>
              <p:cNvSpPr/>
              <p:nvPr/>
            </p:nvSpPr>
            <p:spPr>
              <a:xfrm>
                <a:off x="6864480" y="2254320"/>
                <a:ext cx="368280" cy="2692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8000" y="26668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858000" y="31240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58000" y="35812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858000" y="40384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58000" y="449568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íveis de Capacitação de um Process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0 – Não Realizado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ão existem produtos de trabalho nem saídas do processo facilmente identificáveis.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1 – Realizado Informalmente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 objetivo do processo em geral é atingido, embora não necessariamente de forma planejada e controlada.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2 – Planejado e Gerenciad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o processo produz os produtos de trabalho com qualidade aceitável e dentro do prazo, de forma planejada e controlada.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3 – Estabelecido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 processo é realizado e gerenciado usando um processo definido (padrão organizacional), baseado em princípios de Engenharia de Software.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4 – Controlado Quantitativamente: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das da realização do processo são coletadas e analisadas.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5 – Melhorado Continuamente: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ão estabelecidos objetivos quantitativos de eficácia e eficiência para o processo, alinhados aos objetivos da organização. Utilização de experiências anteriores e medições para melhoria contínua.</a:t>
            </a:r>
            <a:endParaRPr b="1" lang="en-US" sz="1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s Componentes do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I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a de Introdução e Conceitos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Modelo para Gerenciamento de Processos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a para pontuação de processos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a para realização de uma avaliação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nstrução, seleção e uso de instrumentos e ferramentas de avaliação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a para qualificação e treinamento de avaliadores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a para uso na melhoria de processos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a para determinação da capacitação do processo do fornecedor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Vocabulário</a:t>
            </a:r>
            <a:endParaRPr b="1" lang="en-US" sz="20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800000"/>
                </a:solidFill>
                <a:latin typeface="Bedrock"/>
              </a:rPr>
              <a:t>S</a:t>
            </a:r>
            <a:r>
              <a:rPr b="1" lang="pt-BR" sz="4100" spc="-1" strike="noStrike">
                <a:solidFill>
                  <a:srgbClr val="0066cc"/>
                </a:solidFill>
                <a:latin typeface="Arial"/>
              </a:rPr>
              <a:t>oftware </a:t>
            </a:r>
            <a:r>
              <a:rPr b="1" lang="pt-BR" sz="6000" spc="-1" strike="noStrike">
                <a:solidFill>
                  <a:srgbClr val="800000"/>
                </a:solidFill>
                <a:latin typeface="Bedrock"/>
              </a:rPr>
              <a:t>P</a:t>
            </a:r>
            <a:r>
              <a:rPr b="1" lang="pt-BR" sz="4100" spc="-1" strike="noStrike">
                <a:solidFill>
                  <a:srgbClr val="0066cc"/>
                </a:solidFill>
                <a:latin typeface="Arial"/>
              </a:rPr>
              <a:t>rocess </a:t>
            </a:r>
            <a:r>
              <a:rPr b="1" lang="pt-BR" sz="6000" spc="-1" strike="noStrike">
                <a:solidFill>
                  <a:srgbClr val="800000"/>
                </a:solidFill>
                <a:latin typeface="Bedrock"/>
              </a:rPr>
              <a:t>I</a:t>
            </a:r>
            <a:r>
              <a:rPr b="1" lang="pt-BR" sz="4100" spc="-1" strike="noStrike">
                <a:solidFill>
                  <a:srgbClr val="0066cc"/>
                </a:solidFill>
                <a:latin typeface="Arial"/>
              </a:rPr>
              <a:t>mprovement</a:t>
            </a:r>
            <a:endParaRPr b="1" lang="en-US" sz="41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100" spc="-1" strike="noStrike">
                <a:solidFill>
                  <a:srgbClr val="0066cc"/>
                </a:solidFill>
                <a:latin typeface="Arial"/>
              </a:rPr>
              <a:t>&amp;</a:t>
            </a:r>
            <a:endParaRPr b="1" lang="en-US" sz="4100" spc="-1" strike="noStrike">
              <a:solidFill>
                <a:srgbClr val="0066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800000"/>
                </a:solidFill>
                <a:latin typeface="Bedrock"/>
              </a:rPr>
              <a:t>C</a:t>
            </a:r>
            <a:r>
              <a:rPr b="1" lang="pt-BR" sz="4100" spc="-1" strike="noStrike">
                <a:solidFill>
                  <a:srgbClr val="0066cc"/>
                </a:solidFill>
                <a:latin typeface="Arial"/>
              </a:rPr>
              <a:t>apability d</a:t>
            </a:r>
            <a:r>
              <a:rPr b="1" lang="pt-BR" sz="6000" spc="-1" strike="noStrike">
                <a:solidFill>
                  <a:srgbClr val="800000"/>
                </a:solidFill>
                <a:latin typeface="Bedrock"/>
              </a:rPr>
              <a:t>E</a:t>
            </a:r>
            <a:r>
              <a:rPr b="1" lang="pt-BR" sz="4100" spc="-1" strike="noStrike">
                <a:solidFill>
                  <a:srgbClr val="0066cc"/>
                </a:solidFill>
                <a:latin typeface="Arial"/>
              </a:rPr>
              <a:t>termination</a:t>
            </a:r>
            <a:endParaRPr b="1" lang="en-US" sz="41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 que é  </a:t>
            </a:r>
            <a:r>
              <a:rPr b="1" i="1" lang="en-US" sz="4000" spc="-1" strike="noStrike">
                <a:solidFill>
                  <a:srgbClr val="800000"/>
                </a:solidFill>
                <a:latin typeface="Bedrock"/>
              </a:rPr>
              <a:t>S P I C E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cc"/>
                </a:solidFill>
                <a:latin typeface="Arial"/>
              </a:rPr>
              <a:t>Padrão Internacional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para </a:t>
            </a:r>
            <a:r>
              <a:rPr b="1" i="1" lang="en-US" sz="2800" spc="-1" strike="noStrike">
                <a:solidFill>
                  <a:srgbClr val="0066cc"/>
                </a:solidFill>
                <a:latin typeface="Arial"/>
              </a:rPr>
              <a:t>Avaliação de Processos de Software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Futura Norma ISO/IEC 15504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Para que serve?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elhoria contínua do processo de SW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nejamento, gerenciamento, monitoração, aquisição, fornecimento, desenvolvimento, operação, evolução e supor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terminação da capacitação do processo de SW numa organização e nos seus fornecedor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Baseia-se em vários padrõe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cc"/>
                </a:solidFill>
                <a:latin typeface="Arial"/>
              </a:rPr>
              <a:t>SW-CMM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900" spc="-1" strike="noStrike">
                <a:solidFill>
                  <a:srgbClr val="0066cc"/>
                </a:solidFill>
                <a:latin typeface="Times New Roman"/>
              </a:rPr>
              <a:t>TRILLIUM</a:t>
            </a:r>
            <a:endParaRPr b="1" lang="en-US" sz="29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cc"/>
                </a:solidFill>
                <a:latin typeface="Arial"/>
              </a:rPr>
              <a:t>BootStrap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cc"/>
                </a:solidFill>
                <a:latin typeface="Arial"/>
              </a:rPr>
              <a:t>STD (Software Technology Diagnostic)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cc"/>
                </a:solidFill>
                <a:latin typeface="Arial"/>
              </a:rPr>
              <a:t>etc....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448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O que o </a:t>
            </a:r>
            <a:r>
              <a:rPr b="1" i="1" lang="en-US" sz="3600" spc="-1" strike="noStrike">
                <a:solidFill>
                  <a:srgbClr val="800000"/>
                </a:solidFill>
                <a:latin typeface="Bedrock"/>
              </a:rPr>
              <a:t>S P I C E</a:t>
            </a:r>
            <a:r>
              <a:rPr b="0" i="1" lang="en-US" sz="3600" spc="-1" strike="noStrike">
                <a:solidFill>
                  <a:srgbClr val="800000"/>
                </a:solidFill>
                <a:latin typeface="Bedrock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tem a Oferecer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seada num consenso internacional</a:t>
            </a:r>
            <a:endParaRPr b="1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ritério para qualificação de avaliador</a:t>
            </a:r>
            <a:endParaRPr b="1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clui um modelo de referência, dividido em cinco categorias de processo, as quais são detalhadas em processos: Cliente-Fornecedor, Engenharia, Suporte, Gerência e Organização.</a:t>
            </a:r>
            <a:endParaRPr b="1" lang="en-US" sz="2400" spc="-1" strike="noStrike">
              <a:solidFill>
                <a:srgbClr val="0066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fine 6 níveis de capacitação de cada processo: </a:t>
            </a:r>
            <a:endParaRPr b="1" lang="en-US" sz="2400" spc="-1" strike="noStrike">
              <a:solidFill>
                <a:srgbClr val="0066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ão realizado,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alizado informalmente,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lanejado e gerenciado,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tabelecido,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trolado quantitativamente, e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lhorado continuamente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Avaliação de Process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Um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valiação disciplinada</a:t>
            </a:r>
            <a:r>
              <a:rPr b="1" i="1" lang="en-US" sz="2800" spc="-1" strike="noStrike">
                <a:solidFill>
                  <a:srgbClr val="d4d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e processos de software de uma organização comparada ao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odelo de processo</a:t>
            </a:r>
            <a:r>
              <a:rPr b="1" i="1" lang="en-US" sz="2800" spc="-1" strike="noStrike">
                <a:solidFill>
                  <a:srgbClr val="d4d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escrito neste padrão internacional.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Melhoria do Process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ção tomada para mudar os processos de uma organização de modo que eles atinjam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s necessidades</a:t>
            </a:r>
            <a:r>
              <a:rPr b="1" i="1" lang="en-US" sz="2800" spc="-1" strike="noStrike">
                <a:solidFill>
                  <a:srgbClr val="d4d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e objetivos do negócio mais efetivamente.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eterminação da Capacitaçã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Um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valiação sistemática</a:t>
            </a:r>
            <a:r>
              <a:rPr b="1" i="1" lang="en-US" sz="2800" spc="-1" strike="noStrike">
                <a:solidFill>
                  <a:srgbClr val="d4d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e análise d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processos de software selecionados</a:t>
            </a:r>
            <a:r>
              <a:rPr b="1" i="1" lang="en-US" sz="2800" spc="-1" strike="noStrike">
                <a:solidFill>
                  <a:srgbClr val="d4d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numa organização feita com o objetivo de identificar os pontos fortes, fracos e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iscos</a:t>
            </a:r>
            <a:r>
              <a:rPr b="1" i="1" lang="en-US" sz="2800" spc="-1" strike="noStrike">
                <a:solidFill>
                  <a:srgbClr val="d4dd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ssociados com a implantação de processos para atingir um requisito específico.</a:t>
            </a:r>
            <a:endParaRPr b="1" lang="en-US" sz="28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valiação x Capacitação x Melhoria x Process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1587600"/>
            <a:ext cx="7500240" cy="5118120"/>
            <a:chOff x="685800" y="1587600"/>
            <a:chExt cx="7500240" cy="5118120"/>
          </a:xfrm>
        </p:grpSpPr>
        <p:sp>
          <p:nvSpPr>
            <p:cNvPr id="166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30520" y="1587600"/>
              <a:ext cx="2082960" cy="901440"/>
            </a:xfrm>
            <a:prstGeom prst="ellipse">
              <a:avLst/>
            </a:prstGeom>
            <a:solidFill>
              <a:srgbClr val="800000"/>
            </a:solidFill>
            <a:ln w="507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9240" y="1903320"/>
              <a:ext cx="1327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30520" y="3619440"/>
              <a:ext cx="2082960" cy="901800"/>
            </a:xfrm>
            <a:prstGeom prst="ellipse">
              <a:avLst/>
            </a:prstGeom>
            <a:solidFill>
              <a:srgbClr val="800000"/>
            </a:solidFill>
            <a:ln w="507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2280" y="3751200"/>
              <a:ext cx="1821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Avaliação 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Proces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939960" y="5051520"/>
              <a:ext cx="2082600" cy="901440"/>
              <a:chOff x="939960" y="5051520"/>
              <a:chExt cx="2082600" cy="901440"/>
            </a:xfrm>
          </p:grpSpPr>
          <p:sp>
            <p:nvSpPr>
              <p:cNvPr id="173" name=""/>
              <p:cNvSpPr/>
              <p:nvPr/>
            </p:nvSpPr>
            <p:spPr>
              <a:xfrm>
                <a:off x="939960" y="5051520"/>
                <a:ext cx="2082600" cy="901440"/>
              </a:xfrm>
              <a:prstGeom prst="ellipse">
                <a:avLst/>
              </a:prstGeom>
              <a:solidFill>
                <a:srgbClr val="800000"/>
              </a:solidFill>
              <a:ln w="507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78280" y="5183280"/>
                <a:ext cx="1607760" cy="63756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Arial"/>
                  </a:rPr>
                  <a:t>Melhoria 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cc9900"/>
                    </a:solidFill>
                    <a:latin typeface="Arial"/>
                  </a:rPr>
                  <a:t>Process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>
              <a:off x="1974600" y="2444760"/>
              <a:ext cx="1917720" cy="25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4560" y="2435400"/>
              <a:ext cx="1892520" cy="257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813040" y="4502160"/>
              <a:ext cx="123192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59520" y="4483080"/>
              <a:ext cx="116496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0" y="252108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1640" y="5524560"/>
              <a:ext cx="306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76080" y="3276720"/>
              <a:ext cx="15958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Identif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aplicabil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2040" y="4800600"/>
              <a:ext cx="829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Leva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3880" y="3257640"/>
              <a:ext cx="15112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Identif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mudanças 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0400" y="4800600"/>
              <a:ext cx="882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Leva 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88840" y="2811600"/>
              <a:ext cx="1048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É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sujeito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64960" y="5262480"/>
              <a:ext cx="1423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9900"/>
                  </a:solidFill>
                  <a:latin typeface="Univers"/>
                </a:rPr>
                <a:t>Pode levar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5880" y="4952880"/>
              <a:ext cx="2082960" cy="901800"/>
            </a:xfrm>
            <a:prstGeom prst="ellipse">
              <a:avLst/>
            </a:prstGeom>
            <a:solidFill>
              <a:srgbClr val="800000"/>
            </a:solidFill>
            <a:ln w="507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36200" y="5105520"/>
              <a:ext cx="20498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Determin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9900"/>
                  </a:solidFill>
                  <a:latin typeface="Arial"/>
                </a:rPr>
                <a:t>da Capacit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2T15:28:56Z</dcterms:created>
  <dc:creator>Jean-Normand Drouin</dc:creator>
  <dc:description/>
  <dc:language>en-US</dc:language>
  <cp:lastModifiedBy>Alexandre Vasconcelos</cp:lastModifiedBy>
  <dcterms:modified xsi:type="dcterms:W3CDTF">2002-07-08T19:46:57Z</dcterms:modified>
  <cp:revision>116</cp:revision>
  <dc:subject/>
  <dc:title>No Slide Title</dc:title>
</cp:coreProperties>
</file>