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6AC9A-EF2F-4111-8E86-6D2542819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A2376-2FD3-402B-92AB-02389CB1A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10BB5-2D76-472B-A69A-C196ABDE3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B7EA6-85DB-41A5-A553-E58852B40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7634A-7AD4-4F8D-BC6C-00C3A2881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72E7B-6A13-4D75-8ED0-5A02BCB91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62E29-26EC-4253-BB7C-34C4653C4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87D21-38AE-41E0-B74D-C587E8063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3F92D-1D83-473D-A5B7-08D0020BB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990720" y="18284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1D90C-D4B5-4341-91AE-F5EC62C6D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AA338-B276-48AD-973E-37154B020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8A46E-A575-4E27-88C5-AAD0935F2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D6052-C2E4-452B-8F49-CBE0C9516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61049-8AE3-4553-9A21-EE5C56B80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2EC1A-C738-4A55-B46F-AC2F1B693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E720D-3228-4E52-BD42-DF4F6EDE1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5226B-9D13-428A-ADB6-B0503755A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C4E3E-F10A-4A3D-9AEC-7E13DCEBA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4EA91-D009-4139-9B2F-DA51AA407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5D9D6-5E56-4000-9346-267F602E9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90720" y="18284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4F177-FC47-4BF5-A1C9-88B10C893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FA836-B8BA-45F3-A252-E02E9A978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C1E7C-0A0E-4FFC-A8B7-DB1F34CED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A71AE-8D45-4207-A55D-54B3C3F84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28240" y="632448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333399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Tahoma"/>
              </a:rPr>
              <a:t>Recife, 21 de Outubro de 200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333399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Tahoma"/>
              </a:rPr>
              <a:t>ISO / IEC 15504 – SP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Tahoma"/>
              </a:rPr>
              <a:t>Leonardo Batista de Queiro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2B940-4D16-4CEB-8DC3-2560DC001FE2}" type="slidenum">
              <a:rPr b="0" lang="pt-B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527F2-19B9-432E-B371-DD4F63AA240E}" type="slidenum">
              <a:rPr b="0" lang="pt-BR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sqi.gu.edu.au/spice/" TargetMode="External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43000" y="1066320"/>
            <a:ext cx="72388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3333cc"/>
                </a:solidFill>
                <a:latin typeface="Arial"/>
              </a:rPr>
              <a:t>SPICE</a:t>
            </a:r>
            <a:br>
              <a:rPr sz="4400"/>
            </a:b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ftware 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P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ocess 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I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provement and 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C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pability d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ermination –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SO / IEC 15504</a:t>
            </a:r>
            <a:r>
              <a:rPr b="0" lang="pt-BR" sz="32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2133720" y="5181480"/>
            <a:ext cx="543384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Leonardo Batista de Queiroz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leobatista@yahoo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mensão de Process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Corresponde à definição de um conjunto de porcessos considerados universais e fundamentais para a boa prática da engenharia de software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Atualmente, um modelo de referência de processo no domínio de software é a ISO 12207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5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0" dur="5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mensão de Process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m modelo de avaliação, baseado na ISO 12207, é o definido na ISO 15504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ste último, os processos são agrupados em cinco grandes categorias de processo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e-Fornecedor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genharia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orte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rência; 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ganizaçã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7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2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5" dur="5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8" dur="5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1" dur="500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4" dur="500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7" dur="500"/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cesso Cliente-Fornecedo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1182600" y="2017800"/>
          <a:ext cx="7772400" cy="4114800"/>
        </p:xfrm>
        <a:graphic>
          <a:graphicData uri="http://schemas.openxmlformats.org/drawingml/2006/table">
            <a:tbl>
              <a:tblPr/>
              <a:tblGrid>
                <a:gridCol w="3530880"/>
                <a:gridCol w="4241520"/>
              </a:tblGrid>
              <a:tr h="496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cess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scriçã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72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US - Cliente-Fornecedor</a:t>
                      </a:r>
                      <a:br>
                        <a:rPr sz="1100"/>
                      </a:b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cessos que impactam diretamente os produtos e serviços de software na </a:t>
                      </a:r>
                      <a:br>
                        <a:rPr sz="1100"/>
                      </a:b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ornecedor para o cliente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6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US.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dquirir Softwar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6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US.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erenciar necessidades do Client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4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US.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ornecer Softwar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6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US.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perar Softwar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6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US.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ver Serviço ao Client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cesso Engenhari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1182600" y="2017800"/>
          <a:ext cx="7772400" cy="4114800"/>
        </p:xfrm>
        <a:graphic>
          <a:graphicData uri="http://schemas.openxmlformats.org/drawingml/2006/table">
            <a:tbl>
              <a:tblPr/>
              <a:tblGrid>
                <a:gridCol w="3530880"/>
                <a:gridCol w="4241520"/>
              </a:tblGrid>
              <a:tr h="1014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NG - Engenharia</a:t>
                      </a:r>
                      <a:br>
                        <a:rPr sz="1100"/>
                      </a:b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cessos que especificam, implementam ou mantém um sistema ou produto </a:t>
                      </a:r>
                      <a:br>
                        <a:rPr sz="1100"/>
                      </a:b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 software e sua documentaçã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43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NG.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senvolver requisitos e o projeto do sistem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NG.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senvolver requisitos de softwar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2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NG.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senvolver o projeto do softwar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NG.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mplementar o projeto do softwar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1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NG.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tegrar e testar o softwar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NG.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tegrar e testar o sistem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NG.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anter o sistema e o softwar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1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cesso Suport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1182600" y="2017800"/>
          <a:ext cx="7772400" cy="4114800"/>
        </p:xfrm>
        <a:graphic>
          <a:graphicData uri="http://schemas.openxmlformats.org/drawingml/2006/table">
            <a:tbl>
              <a:tblPr/>
              <a:tblGrid>
                <a:gridCol w="3530880"/>
                <a:gridCol w="4241520"/>
              </a:tblGrid>
              <a:tr h="7027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UP - Suporte</a:t>
                      </a:r>
                      <a:br>
                        <a:rPr sz="1100"/>
                      </a:b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cessos que podem ser empregados por qualquer um dos outros processo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5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UP.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senvolver a documentaçã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7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UP.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sempenhar a gerência de configuraçã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UP.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xecutar a garantia da qualidad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UP.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xecutar a verificação dos produtos de trabalh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UP.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xecutar a validação dos produtos de trabalh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UP.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xecutar revisões conjunta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UP.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xecutar auditoria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UP.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xecutar resolução de problema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cesso Gerênci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1182600" y="2017800"/>
          <a:ext cx="7772400" cy="4114800"/>
        </p:xfrm>
        <a:graphic>
          <a:graphicData uri="http://schemas.openxmlformats.org/drawingml/2006/table">
            <a:tbl>
              <a:tblPr/>
              <a:tblGrid>
                <a:gridCol w="3530880"/>
                <a:gridCol w="4241520"/>
              </a:tblGrid>
              <a:tr h="149940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AN - Gerência </a:t>
                      </a:r>
                      <a:br>
                        <a:rPr sz="1100"/>
                      </a:b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cessos que contém práticas de natureza genérica que podem ser usadas </a:t>
                      </a:r>
                      <a:br>
                        <a:rPr sz="1100"/>
                      </a:b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r quem gerencia projetos ou processos dentro de um ciclo de vida de softwar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537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AN.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erenciar o projet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37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AN.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erenciar a qualidad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41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AN.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erenciar risco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37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AN.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erenciar subcontratant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5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cesso Organizaçã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1182600" y="2017800"/>
          <a:ext cx="7772400" cy="4114800"/>
        </p:xfrm>
        <a:graphic>
          <a:graphicData uri="http://schemas.openxmlformats.org/drawingml/2006/table">
            <a:tbl>
              <a:tblPr/>
              <a:tblGrid>
                <a:gridCol w="3530880"/>
                <a:gridCol w="4241520"/>
              </a:tblGrid>
              <a:tr h="101880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RG - Organização</a:t>
                      </a:r>
                      <a:br>
                        <a:rPr sz="1100"/>
                      </a:b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cessos que estabelecem os objetivos de negócios da organizaçã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19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RG.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struir o negóci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9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RG.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finir o process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9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RG.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lhorar o process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88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RG.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ver recursos de treinament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95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RG.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ver infra-estrutura organizacion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 que a norma diz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norma define detalhes de cada um dos processos mencionados acima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ra cada um deles existe uma definição mais detalhada, uma lista dos resultados da sua implementação bem sucedida e uma descrição detalhada de cada uma das práticas básica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9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4" dur="5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íveis de Capacitaçã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 SPICE, entretanto, não se limita a listar categorias e processos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u principal objetivo, na realidade, é avaliar a capacitação da organização em cada processo e permitir a sua melhoria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 modelo de referência do SPICE inclui seis níveis de capacitação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da um dos processos mencionados acima deve ser classificado nestes nívei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1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6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1" dur="5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6" dur="5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imensão de Capacidade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tabelece a graduação em uma escala de 6 níveis de que caracterizam cada process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ompleto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ado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renciado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elecido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isível; 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imizado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0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3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1500"/>
                            </p:stCondLst>
                            <p:childTnLst>
                              <p:par>
                                <p:cTn id="415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7" dur="5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3000"/>
                            </p:stCondLst>
                            <p:childTnLst>
                              <p:par>
                                <p:cTn id="419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1" dur="5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4500"/>
                            </p:stCondLst>
                            <p:childTnLst>
                              <p:par>
                                <p:cTn id="423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5" dur="500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6000"/>
                            </p:stCondLst>
                            <p:childTnLst>
                              <p:par>
                                <p:cTn id="427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9" dur="500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7500"/>
                            </p:stCondLst>
                            <p:childTnLst>
                              <p:par>
                                <p:cTn id="431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3" dur="500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9000"/>
                            </p:stCondLst>
                            <p:childTnLst>
                              <p:par>
                                <p:cTn id="435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7" dur="500"/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 que se trata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2017800"/>
            <a:ext cx="8345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orma* Internacional para Avaliação de Processos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esenvolvida pela ISO e pelo IEC, com o apoio do projeto SPICE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nicialmente Relatório Técnico e posteriormente Norm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adrão para avaliação do processo de software, visand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Determinar a capacitação de uma organização e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rientar a organização para uma melhoria contínua do processo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bre todos os aspectos da Qualidade do Processo de Software e está sendo elaborada num esforço mundial conjunto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Cinco centros técnicos: EUA, Canadá/América Latina, Europa, Pacífico Norte e Pacífico Su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" dur="5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" dur="5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" dur="5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500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s primeiros 3 níveis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1219320" y="1981080"/>
          <a:ext cx="7619760" cy="4227480"/>
        </p:xfrm>
        <a:graphic>
          <a:graphicData uri="http://schemas.openxmlformats.org/drawingml/2006/table">
            <a:tbl>
              <a:tblPr/>
              <a:tblGrid>
                <a:gridCol w="877680"/>
                <a:gridCol w="1277640"/>
                <a:gridCol w="5464440"/>
              </a:tblGrid>
              <a:tr h="393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íve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m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scriçã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complet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á uma falha geral em realizar o objetivo do processo. Não existem produtos de trabalho nem saídas do processo facilmente identificáveis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63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xecutad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 objetivo do processo em geral é atingido, embora não necessariamente de forma planejada e controlada. Há um consenso na organização de que as ações devem ser realizadas e quando são necessárias. Existem produtos de trabalho para o processo e eles são utilizados para atestar o atendimento dos objetivos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erenciad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 processo produz os produtos de trabalho com qualidade aceitável e dentro do prazo. Isto é feito de forma planejada e controlada. Os produtos de trabalho estão de acordo com padrões e requisitos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 principal distinção desse nível em relação ao nível EXECUTADO é que a execução do processo gera produtos de trabalho que satisfazem os requisitos de qualidade especificados dentro do cronograma de tempo e custos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4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s demais níveis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1219320" y="1844640"/>
          <a:ext cx="7619760" cy="4400640"/>
        </p:xfrm>
        <a:graphic>
          <a:graphicData uri="http://schemas.openxmlformats.org/drawingml/2006/table">
            <a:tbl>
              <a:tblPr/>
              <a:tblGrid>
                <a:gridCol w="877680"/>
                <a:gridCol w="1277640"/>
                <a:gridCol w="5464440"/>
              </a:tblGrid>
              <a:tr h="126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stabelecid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 processo é realizado e gerenciado usando um processo definido, baseado em princípios de Engenharia de Software. As pessoas que implementam o processo usam processos aprovados, que são versões adaptadas do processo padrão documentado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 principal distinção deste nível em relação ao nível GERENCIADO é que o processo padrão capaz de atingir os resultados definidos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6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evisíve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 processo é realizado de forma consistente, dentro dos limites de controle, para atingir os objetivos. Medidas da realização do processo são coletadas e analisadas. Isto leva a um entendimento quantitativo da capacitação do processo a uma habilidade de predizer a realização.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 principal distinção deste nível em relação ao nível ESTABELECIDO é que o processo passa a ser executado de maneira coerente dentro de limites definidos para obter seus resultados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95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timizad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 realização do processo é otimizada para atender às necessidade atuais e futuras do negócio. O processo atinge seus objetivos de negócio e consegue ser repetido. São estabelecidos objetivos quantitativos de eficácia e eficiência para o processo, segundo os objetivos da organização. A monitoração constante do processo segundo estes objetivos é conseguida obtendo feedback quantitativo e o melhoramento é conseguido pela análise dos resultados.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1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rande vantagem da 15504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versidade de formatos de apresentação de resultado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s riqueza de detalhes que o CMM (único número para nível de maturidade)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resenta o perfil de capacidade típico para os processos selecionados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lustra, para cada processo, o grau de atendimento aos requisitos associados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c..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8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3" dur="5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8" dur="5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3" dur="500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8" dur="500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Uma forma de apresentaçã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2244600" y="3357720"/>
          <a:ext cx="5280120" cy="2920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44600" y="3357720"/>
                    <a:ext cx="5280120" cy="292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371600" y="1844640"/>
            <a:ext cx="7448400" cy="15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ma forma de apresentação pode ser usada quando várias instâncias de processo são avaliadas, normalmente uma em cada projet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5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0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 o que significa iss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sto é conhecido como abordagem em duas dimensões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É bem mais flexível que o CMM original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fluenciou decisivamente a concepção de outros modelos criados posteriormente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o é o caso do CMMI, na sua variante contínua*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7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2" dur="5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7" dur="500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2" dur="500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Comparação com outros modelo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905040" y="2143080"/>
            <a:ext cx="7705440" cy="39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99"/>
                </a:solidFill>
                <a:latin typeface="Tahoma"/>
              </a:rPr>
              <a:t>Bibliografi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Qualidade de Software – Teoria e Prátic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Rocha, Maldonado, We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Melhoria e Avaliação de Processo com ISO/IEC 15504 (SPICE) e CM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Texto Acadêmico - UFL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sqi.gu.edu.au/spice/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057400" y="2285640"/>
            <a:ext cx="5410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99"/>
                </a:solidFill>
                <a:latin typeface="Tahoma"/>
              </a:rPr>
              <a:t>O B R I G A D O ! ! !</a:t>
            </a:r>
            <a:br>
              <a:rPr sz="4400"/>
            </a:br>
            <a:br>
              <a:rPr sz="4400"/>
            </a:br>
            <a:r>
              <a:rPr b="0" lang="pt-BR" sz="4400" spc="-1" strike="noStrike">
                <a:solidFill>
                  <a:srgbClr val="333399"/>
                </a:solidFill>
                <a:latin typeface="Tahoma"/>
              </a:rPr>
              <a:t>Dúvida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 no Brasil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O Brasil está representado por um grupo de estudos da ABNT nesse processo de desenvolviment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Grupo de estudos CB-21/SC-10: Subcomitê de Software CE-21:1001.4: Avaliação de Processos de Software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Além de trabalhar na tradução das versões preliminares da norma para o portuguê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stóric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Tahoma"/>
              </a:rPr>
              <a:t>Iniciado em Janeiro de 1992: estudo da ISO sobre as necessidades e os requisitos de um padrão internacional para avaliação de processos de SW;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Tahoma"/>
              </a:rPr>
              <a:t>1993-1994: Criação do projeto SPICE e elaboração da versão inicial; Realização de trials - Fase 1 (35 avaliações);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Tahoma"/>
              </a:rPr>
              <a:t>1996: Versão PDTR (Previous Draft Technical Report);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Tahoma"/>
              </a:rPr>
              <a:t>1997: Versão DTR, Trials - Fase 2 (70 avaliações);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Tahoma"/>
              </a:rPr>
              <a:t>1998: Versão TR2, Início dos Trials - Fase 3;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Tahoma"/>
              </a:rPr>
              <a:t>1999-2003: Transformação em Norma ISO/IEC 15504.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" dur="5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" dur="500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rque o projeto SPICE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manda por Qualidade de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ordagem de Processo de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liferação de Modelos de Proces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érie 9000/ISO, SW-CMM/SEI, Bootstrap, Trillium/Bell, STD/Compita, SQPA/HP 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cessidade de um Padrão Internac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enso internacional sobr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idade e Requisitos deste Padrã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idade de um rápido desenvolvimento e experimentaçã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5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0" dur="5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5" dur="500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0" dur="500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4" dur="500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rque mais um model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tivando, inicialmente, um relatório técnico que fosse, ao mesmo tempo, mais geral e abrangente que os modelos existentes e mais específico que a norma ISO 9001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ta-se à realização de avaliações de processos de SW com dois objetivo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Melhoria de Processos e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Determinação da Capacidade de Processos de uma organização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1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6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1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6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elhoria de Process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"/>
          <p:cNvSpPr/>
          <p:nvPr/>
        </p:nvSpPr>
        <p:spPr>
          <a:xfrm>
            <a:off x="1973160" y="2987640"/>
            <a:ext cx="165600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973160" y="5219640"/>
            <a:ext cx="165600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862600" y="2987640"/>
            <a:ext cx="165564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862600" y="5219640"/>
            <a:ext cx="165564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278240" y="3417840"/>
            <a:ext cx="0" cy="144144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286240" y="3346560"/>
            <a:ext cx="0" cy="1441440"/>
          </a:xfrm>
          <a:prstGeom prst="line">
            <a:avLst/>
          </a:prstGeom>
          <a:ln cap="sq"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3629160" y="2627280"/>
            <a:ext cx="2233440" cy="792360"/>
            <a:chOff x="3629160" y="2627280"/>
            <a:chExt cx="2233440" cy="792360"/>
          </a:xfrm>
        </p:grpSpPr>
        <p:sp>
          <p:nvSpPr>
            <p:cNvPr id="119" name=""/>
            <p:cNvSpPr/>
            <p:nvPr/>
          </p:nvSpPr>
          <p:spPr>
            <a:xfrm>
              <a:off x="3629160" y="2627280"/>
              <a:ext cx="2233440" cy="792360"/>
            </a:xfrm>
            <a:prstGeom prst="ellipse">
              <a:avLst/>
            </a:prstGeom>
            <a:noFill/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113360" y="2719440"/>
              <a:ext cx="1315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Melhoria de Process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3629160" y="4788000"/>
            <a:ext cx="2233440" cy="792000"/>
            <a:chOff x="3629160" y="4788000"/>
            <a:chExt cx="2233440" cy="792000"/>
          </a:xfrm>
        </p:grpSpPr>
        <p:sp>
          <p:nvSpPr>
            <p:cNvPr id="122" name=""/>
            <p:cNvSpPr/>
            <p:nvPr/>
          </p:nvSpPr>
          <p:spPr>
            <a:xfrm>
              <a:off x="3629160" y="4788000"/>
              <a:ext cx="2233440" cy="792000"/>
            </a:xfrm>
            <a:prstGeom prst="ellipse">
              <a:avLst/>
            </a:prstGeom>
            <a:noFill/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062240" y="4859280"/>
              <a:ext cx="1440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Avaliação de Process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3278160" y="3809880"/>
            <a:ext cx="8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edi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6400" y="3657600"/>
            <a:ext cx="1905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erar perfil dos processos para plano de melho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365880" y="2266920"/>
            <a:ext cx="201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lhorias institucionaliza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822240" y="2273400"/>
            <a:ext cx="2530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inir as necessidades e metas da organizaçã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781680" y="5256360"/>
            <a:ext cx="201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scolher modelos e métodos para avalia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09480" y="4343400"/>
            <a:ext cx="2133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 organização deve definir o contexto, restrições e objeti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500"/>
                            </p:stCondLst>
                            <p:childTnLst>
                              <p:par>
                                <p:cTn id="16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500"/>
                            </p:stCondLst>
                            <p:childTnLst>
                              <p:par>
                                <p:cTn id="17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500"/>
                            </p:stCondLst>
                            <p:childTnLst>
                              <p:par>
                                <p:cTn id="18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500"/>
                            </p:stCondLst>
                            <p:childTnLst>
                              <p:par>
                                <p:cTn id="20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500"/>
                            </p:stCondLst>
                            <p:childTnLst>
                              <p:par>
                                <p:cTn id="20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terminação da Capacida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97200" y="2909880"/>
            <a:ext cx="1369800" cy="144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897200" y="5143680"/>
            <a:ext cx="165564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075360" y="2909880"/>
            <a:ext cx="1366920" cy="1440"/>
          </a:xfrm>
          <a:prstGeom prst="line">
            <a:avLst/>
          </a:prstGeom>
          <a:ln cap="sq"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786280" y="5143680"/>
            <a:ext cx="165600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202280" y="3486240"/>
            <a:ext cx="1440" cy="129672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5210280" y="3486240"/>
            <a:ext cx="1440" cy="1225440"/>
          </a:xfrm>
          <a:prstGeom prst="line">
            <a:avLst/>
          </a:prstGeom>
          <a:ln cap="sq"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3338640" y="2335320"/>
            <a:ext cx="2666880" cy="1150920"/>
            <a:chOff x="3338640" y="2335320"/>
            <a:chExt cx="2666880" cy="1150920"/>
          </a:xfrm>
        </p:grpSpPr>
        <p:sp>
          <p:nvSpPr>
            <p:cNvPr id="138" name=""/>
            <p:cNvSpPr/>
            <p:nvPr/>
          </p:nvSpPr>
          <p:spPr>
            <a:xfrm>
              <a:off x="3338640" y="2335320"/>
              <a:ext cx="2666880" cy="1150920"/>
            </a:xfrm>
            <a:prstGeom prst="ellipse">
              <a:avLst/>
            </a:prstGeom>
            <a:noFill/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483000" y="2575080"/>
              <a:ext cx="2449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eterminação da Capacidade de process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3552840" y="4711680"/>
            <a:ext cx="2233440" cy="792360"/>
            <a:chOff x="3552840" y="4711680"/>
            <a:chExt cx="2233440" cy="792360"/>
          </a:xfrm>
        </p:grpSpPr>
        <p:sp>
          <p:nvSpPr>
            <p:cNvPr id="141" name=""/>
            <p:cNvSpPr/>
            <p:nvPr/>
          </p:nvSpPr>
          <p:spPr>
            <a:xfrm>
              <a:off x="3552840" y="4711680"/>
              <a:ext cx="2233440" cy="792360"/>
            </a:xfrm>
            <a:prstGeom prst="ellipse">
              <a:avLst/>
            </a:prstGeom>
            <a:noFill/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86280" y="4782960"/>
              <a:ext cx="1439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Avaliação de Process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3144600" y="3868560"/>
            <a:ext cx="8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edi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470560" y="3846600"/>
            <a:ext cx="170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gistro e Perf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 Capacid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289560" y="2190600"/>
            <a:ext cx="20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latório de Capacid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85800" y="2438280"/>
            <a:ext cx="185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inir requisitos esper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477120" y="518148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inir modelos e métodos de avalia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33520" y="4267080"/>
            <a:ext cx="2133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inir o contexto, restrições e objetivos da avalia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500"/>
                            </p:stCondLst>
                            <p:childTnLst>
                              <p:par>
                                <p:cTn id="22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500"/>
                            </p:stCondLst>
                            <p:childTnLst>
                              <p:par>
                                <p:cTn id="22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5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500"/>
                            </p:stCondLst>
                            <p:childTnLst>
                              <p:par>
                                <p:cTn id="24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500"/>
                            </p:stCondLst>
                            <p:childTnLst>
                              <p:par>
                                <p:cTn id="25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500"/>
                            </p:stCondLst>
                            <p:childTnLst>
                              <p:par>
                                <p:cTn id="26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00"/>
                            </p:stCondLst>
                            <p:childTnLst>
                              <p:par>
                                <p:cTn id="27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 que tem de especial no SPICE?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454040" y="2205000"/>
            <a:ext cx="7439040" cy="35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 SPICE inclui um modelo de referência, que serve de base para o processo de avaliação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ste modelo define duas dimensõe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mensão de Processo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mensão de Capacidade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3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8" dur="5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3" dur="5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8" dur="5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19T13:22:34Z</dcterms:created>
  <dc:creator>Leonardo Batista de Queiroz</dc:creator>
  <dc:description/>
  <dc:language>en-US</dc:language>
  <cp:lastModifiedBy>Leonardo Batista de Queiroz</cp:lastModifiedBy>
  <dcterms:modified xsi:type="dcterms:W3CDTF">2003-10-24T19:50:29Z</dcterms:modified>
  <cp:revision>5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112106428</vt:r8>
  </property>
  <property fmtid="{D5CDD505-2E9C-101B-9397-08002B2CF9AE}" pid="3" name="_AuthorEmail">
    <vt:lpwstr>leonardo.queiroz@caeser.org.br</vt:lpwstr>
  </property>
  <property fmtid="{D5CDD505-2E9C-101B-9397-08002B2CF9AE}" pid="4" name="_AuthorEmailDisplayName">
    <vt:lpwstr>Leonardo Batista de Queiroz</vt:lpwstr>
  </property>
  <property fmtid="{D5CDD505-2E9C-101B-9397-08002B2CF9AE}" pid="5" name="_EmailSubject">
    <vt:lpwstr>SPICE</vt:lpwstr>
  </property>
</Properties>
</file>