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60E-6012-45D2-9485-0F9C0191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9B9-EF96-430A-8253-42068227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0B2-365D-4398-88C1-BA1697E9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B51-BE65-427A-AC4E-6C1F31B7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FF20-E167-407A-84EE-4BB5DBD9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681-80D1-4B34-A18D-AD61DEC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C263-894B-4CD9-802E-8A1715E0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2AE-EBA1-42EE-B258-F272D7BD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779E-5703-46FB-81B3-70E27C0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250C-95FD-4D90-9C07-D456DD6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B60F-C6B7-427D-A24A-0549A31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CEF-7DA5-4E54-AF6E-C14D3A8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FFB4-16DE-4FCE-B2E9-27E40C98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53F-1B8A-46D6-96AE-7870C5D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56B1-482C-459D-93E2-07FC0A0D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2FBB-D2DF-474A-A3EB-6D21D508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0E40-EC69-4337-A26C-7DC1D7CA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A82-D1A1-45BE-950A-C878A4A7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F47-54C0-4935-8EDD-F684CD07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F24-95A1-4FD7-B30C-8BB89756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FDD-2212-4172-8828-539D6E09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B3A-0EE8-4BF4-9742-40717FB8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BE8-229C-4322-9CCA-FAD3312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22D-ECD3-4D4C-A682-C1DE381F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99663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2CB2-FCE1-47E3-91DC-B4C059357C33}" type="datetime">
              <a:rPr b="1" lang="pt-BR" sz="1400" spc="-1" strike="noStrike">
                <a:solidFill>
                  <a:srgbClr val="996633"/>
                </a:solidFill>
                <a:latin typeface="Verdana"/>
              </a:rPr>
              <a:t>28/07/26</a:t>
            </a:fld>
            <a:r>
              <a:rPr b="1" lang="pt-BR" sz="1400" spc="-1" strike="noStrike">
                <a:solidFill>
                  <a:srgbClr val="996633"/>
                </a:solidFill>
                <a:latin typeface="Verdana"/>
              </a:rPr>
              <a:t>Junho/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9966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6633"/>
                </a:solidFill>
                <a:latin typeface="Verdana"/>
              </a:rPr>
              <a:t>&lt;footer&gt;</a:t>
            </a:r>
            <a:r>
              <a:rPr b="1" lang="pt-BR" sz="1400" spc="-1" strike="noStrike">
                <a:solidFill>
                  <a:srgbClr val="996633"/>
                </a:solidFill>
                <a:latin typeface="Verdana"/>
              </a:rPr>
              <a:t>Keilla Co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9966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505-3B6D-4C74-A7F2-95B62929470F}" type="slidenum">
              <a:rPr b="1" lang="pt-BR" sz="1400" spc="-1" strike="noStrike">
                <a:solidFill>
                  <a:srgbClr val="99663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F3BC-AD03-4D71-86AC-A5F6CDBD562C}" type="datetime">
              <a:rPr b="1" lang="pt-BR" sz="3200" spc="-1" strike="noStrike">
                <a:solidFill>
                  <a:srgbClr val="333300"/>
                </a:solidFill>
                <a:latin typeface="Arial"/>
              </a:rPr>
              <a:t>28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8BDC-2A34-43E3-B398-5D846EDC3F08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160" y="1066320"/>
            <a:ext cx="640548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Verdana"/>
              </a:rPr>
              <a:t>SP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555120" y="0"/>
            <a:ext cx="393228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apresentação irá envolver algum debate com a platéia, o que irá criar itens de ação.   Use o PowerPoint para registrar estes itens de ação durante sua apresentaçã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odo de apresentação de slides, clique no botão direito do mous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'Registro de reuni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a guia 'Itens de aç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gite os itens de ação à medida que eles forem surgind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que em OK para desconsiderar esta caix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sso criará automaticamente um slide do item de ação no fim da apresentação contendo os pontos que você forneceu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34290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9900"/>
                </a:solidFill>
                <a:latin typeface="Verdana"/>
              </a:rPr>
              <a:t>S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ftware </a:t>
            </a:r>
            <a:r>
              <a:rPr b="1" lang="pt-BR" sz="3200" spc="-1" strike="noStrike">
                <a:solidFill>
                  <a:srgbClr val="cc9900"/>
                </a:solidFill>
                <a:latin typeface="Verdana"/>
              </a:rPr>
              <a:t>P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ocess </a:t>
            </a:r>
            <a:r>
              <a:rPr b="1" lang="pt-BR" sz="3200" spc="-1" strike="noStrike">
                <a:solidFill>
                  <a:srgbClr val="cc9900"/>
                </a:solidFill>
                <a:latin typeface="Verdana"/>
              </a:rPr>
              <a:t>I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provement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pt-BR" sz="3200" spc="-1" strike="noStrike">
                <a:solidFill>
                  <a:srgbClr val="cc9900"/>
                </a:solidFill>
                <a:latin typeface="Verdana"/>
              </a:rPr>
              <a:t>C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ability d</a:t>
            </a:r>
            <a:r>
              <a:rPr b="1" lang="pt-BR" sz="3200" spc="-1" strike="noStrike">
                <a:solidFill>
                  <a:srgbClr val="cc9900"/>
                </a:solidFill>
                <a:latin typeface="Verdana"/>
              </a:rPr>
              <a:t>E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ermination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ISO/IEC 15504</a:t>
            </a:r>
            <a:r>
              <a:rPr b="1" lang="pt-BR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7440" y="57135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33"/>
                </a:solidFill>
                <a:latin typeface="Verdana"/>
              </a:rPr>
              <a:t>Keilla Cost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6633"/>
                </a:solidFill>
                <a:latin typeface="Verdana"/>
              </a:rPr>
              <a:t>keilla@nlink.com.b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36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SUP - Su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219320"/>
            <a:ext cx="76010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desenvolver a documentação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desempenhar a gerência de configuração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a garantia de qualidad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a verificação dos produtos de trabalho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a validação dos produtos de trabalho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revisões conjuntas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auditorias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xecutar resolução de problema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94E-4D03-4EE8-866A-82DF1EC6F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36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MAN - Ger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601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erenciar o projet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erenciar a qualidade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erenciar os risco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erenciar subcontratantes.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1EE-F09F-43BF-B39B-942EA2C6C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ORG - E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26960" y="1219320"/>
            <a:ext cx="7600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construir o negóci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definir o process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melhorar o process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prover recursos de treinament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prover infra-estrutura organizacional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EFF-6786-403B-B36D-B4ED9F7E3C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83840" y="456840"/>
            <a:ext cx="7759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Avaliação x Capacitação x Melhoria x Process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93760" y="1676520"/>
            <a:ext cx="7581960" cy="51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9B5-AE2D-4F71-BBA4-97BA44083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i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apaci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7263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modelo </a:t>
            </a:r>
            <a:r>
              <a:rPr b="1" lang="pt-BR" sz="2600" spc="-1" strike="noStrike">
                <a:solidFill>
                  <a:srgbClr val="996633"/>
                </a:solidFill>
                <a:latin typeface="Verdana"/>
              </a:rPr>
              <a:t>SPICE</a:t>
            </a: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 não se limita a listar categorias e processos. Seu objetivo principal é avaliar a capacitação da empresa em cada processo e permitir melhoria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modelo de referência do </a:t>
            </a:r>
            <a:r>
              <a:rPr b="1" lang="pt-BR" sz="2600" spc="-1" strike="noStrike">
                <a:solidFill>
                  <a:srgbClr val="996633"/>
                </a:solidFill>
                <a:latin typeface="Verdana"/>
              </a:rPr>
              <a:t>SPICE</a:t>
            </a: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 inclui seis níveis de capacitação. Cada um dos  processos deve ser classificado nestes nívei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0E0-48B2-4A52-859E-3A693335D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1080" y="12672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0 - Incomple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601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66560" indent="-466560">
              <a:lnSpc>
                <a:spcPct val="100000"/>
              </a:lnSpc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Há uma falha geral em realizar o objetivo do processo.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466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Não existem produtos de trabalho nem saídas do processo facilmente identificáveis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EBE-CA24-461F-AAFE-5B6A21CFC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1080" y="12672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1 - Real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1562040"/>
            <a:ext cx="7601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99880" indent="-299880">
              <a:lnSpc>
                <a:spcPct val="100000"/>
              </a:lnSpc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objetivo em geral é atingido, embora não necessariamente de forma planejada e controlada;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299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Há um consenso na organização de que as ações devem ser realizadas e quando necessárias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2998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299880" indent="-299880">
              <a:lnSpc>
                <a:spcPct val="100000"/>
              </a:lnSpc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Produtos de trabalho para o processo são utilizados  para atestar o atendimento dos objetivo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B05-C7B0-4E75-B042-DFF7485162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2 - Gerenc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26960" y="1219320"/>
            <a:ext cx="7600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processo produz os produtos de trabalho com qualidade aceitável e no prazo, de forma planejada e controlada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s produtos de trabalho estão de acordo com padrões e requisito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A9B-2DAD-4662-862C-F4F39D3BF3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3 - Estabelec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26960" y="1219320"/>
            <a:ext cx="7600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processo é realizado e gerenciado usando um processo definido, baseado em princípios de  Engenharia de Softwar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São utilizadas versões  adaptadas do processo padrão pelas pessoas que implementam o processo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6C3-1AD9-4632-BCA8-567CDB0EF8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4 - Previ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26960" y="1219320"/>
            <a:ext cx="76006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processo é realizado de forma consistente, dentro dos limites de controle, para atingir os objetivos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Medidas da realização do processo  são coletadas e analisadas, o que leva a um entendimento quantitativo da capacitação do processo capaz de predizer sua realização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BC5-1A43-401C-BB7A-A8C6C0A2E7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O Que é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0120" y="1294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Padrão Internacional para Avaliação de Processos de Software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Norma ISO/IEC 15504 (desenvolvida pela ISO e pelo IEC, com o apoio do projeto SPICE)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bjetivos: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determinar a capacitação de uma empresa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rientar a empresa para uma melhoria contínua do processo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9D3-4627-4463-8B71-B96879160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2160" y="-88920"/>
            <a:ext cx="788184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l 5 - Otimiz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5440" y="1142640"/>
            <a:ext cx="7918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A realização do processo é otimizada para atender às necessidades do negócio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O processo atinge seus objetivos de negócio 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São estabelecidos objetivos quantitativos de eficácia e eficiência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Há monitoração constante do processo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Análise de resultados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Uso piloto de idéias e tecnologia inovadora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33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Mudança de processos ineficient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515-8662-403B-ADBC-EFE009ECBB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960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ívei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apaci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28800" y="1523520"/>
            <a:ext cx="2743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Otimizad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Previsí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Estabelecid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Gerenciad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Realizad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00"/>
                </a:solidFill>
                <a:latin typeface="Arial"/>
              </a:rPr>
              <a:t>Incompleto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724560" cy="3741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08640" y="52959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Verdana"/>
              </a:rPr>
              <a:t>P1 P2 P3 P4  ...     P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581280"/>
            <a:ext cx="152640" cy="152640"/>
          </a:xfrm>
          <a:prstGeom prst="flowChartConnector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2438280"/>
            <a:ext cx="152280" cy="152640"/>
          </a:xfrm>
          <a:prstGeom prst="flowChartConnector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7600" y="3581280"/>
            <a:ext cx="152640" cy="152640"/>
          </a:xfrm>
          <a:prstGeom prst="flowChartConnector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4267080"/>
            <a:ext cx="152640" cy="152640"/>
          </a:xfrm>
          <a:prstGeom prst="flowChartConnector">
            <a:avLst/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638360" y="1562040"/>
            <a:ext cx="0" cy="3657600"/>
          </a:xfrm>
          <a:prstGeom prst="line">
            <a:avLst/>
          </a:prstGeom>
          <a:ln cap="sq"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B0C-C93A-419B-9EF7-7EB3311A8A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87000" y="-152640"/>
            <a:ext cx="788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Manu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uia de introdução e conceito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modelo de referência para processo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realizando uma avaliação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um modelo de avaliação e guia de indicadore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uia para qualificação de avaliadore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uia para uso no melhoramento de processos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guia para uso na determinação do processo de fornecedor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vocabulário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B13-4399-4B44-B4CF-D928E17E6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1080" y="12672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omparação com 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outros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17560" y="1523880"/>
          <a:ext cx="712152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523880"/>
                    <a:ext cx="71215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C52-9BD6-48D2-87BE-9CCA87C677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ngenharia de Software e Sistemas de Informação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Rezende , Denis Alcid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Software Process Improvement and Capability dEtermination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http://www.sqi.gu.edu.au/spice/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Apostila sobre Qualidade de Software 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Qualiti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356-51C1-46D0-A8B5-F80FB6A056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Jan/92: estudo da ISO sobre as necessidades e os requisitos de um padrão internacional para avaliação de processos de Software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1993-1994: criação do projeto SPICE e elaboração da versão inicial; </a:t>
            </a:r>
            <a:br>
              <a:rPr sz="2500"/>
            </a:b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Realização de trials - Fase 1 (35 avaliações)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1996: Versão PDTR (Previous Draft Technical Report)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1997: Versão DTR, Trials - Fase 2 (70 avaliações)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1998: Versão TR2, Início dos Trials - Fase 3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Arial"/>
              </a:rPr>
              <a:t>1999-2003: Transformação em Norma ISO/IEC 15504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4B3-8E1A-4AB0-948C-741C8C8BBB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No Brasil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ABNT participa do processo de desenvolvimento como membro colaborador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Grupo de estudos CB-21/SC-10: Subcomitê de Software CE-21:1001.4: Avaliação de Processos de Softwar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Além de trabalhar na tradução das versões preliminares da norma para o portuguê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8D3-F716-4DFC-BCFF-A8F72A701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Organização do SP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pice_o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972480" cy="3267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95280" y="1143000"/>
            <a:ext cx="7848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Verdana"/>
              </a:rPr>
              <a:t>Para ajudar distribuir e controlar o projeto em torno do mundo, cinco centros técnicos foram criad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444-AB65-4542-BF37-E40288B0E2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296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Inclui um </a:t>
            </a:r>
            <a:r>
              <a:rPr b="1" lang="pt-BR" sz="2600" spc="-1" strike="noStrike">
                <a:solidFill>
                  <a:srgbClr val="996633"/>
                </a:solidFill>
                <a:latin typeface="Verdana"/>
              </a:rPr>
              <a:t>modelo de referência</a:t>
            </a: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 que serve de base para o processo de avaliação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8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 modelo é dividido em cinco categorias de processo: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Cliente-Fornecedor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ngenharia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Suport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Gerência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Empresa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460-1C9A-439B-8515-38AEBB2B89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ategorias e Proces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601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Uma das contribuições do </a:t>
            </a:r>
            <a:r>
              <a:rPr b="1" lang="pt-BR" sz="2600" spc="-1" strike="noStrike">
                <a:solidFill>
                  <a:srgbClr val="996633"/>
                </a:solidFill>
                <a:latin typeface="Verdana"/>
              </a:rPr>
              <a:t>SPICE</a:t>
            </a: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 é definir em seu modelo de referência todos os processos envolvidos  no desenvolvimento de software, agrupados  em categorias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Cada categoria é detalhada em processos mais específicos e descrita detalhadamente pela norma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195-2A76-4ED8-8044-B2E2A9A5A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7760" y="-360"/>
            <a:ext cx="788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CUS</a:t>
            </a: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 - Cliente-Fornece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42960" y="1219320"/>
            <a:ext cx="760104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adquirir softwar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gerenciar necessidades do client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fornecer softwar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operar software;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49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Verdana"/>
              </a:rPr>
              <a:t>prover serviço ao cliente.</a:t>
            </a:r>
            <a:endParaRPr b="1" lang="en-US" sz="2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CA3-840A-48E8-A0EC-9065F4E7FD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1080" y="-36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Verdana"/>
              </a:rPr>
              <a:t>ENG</a:t>
            </a: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 - Engenha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601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0">
              <a:lnSpc>
                <a:spcPct val="10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desenvolver requisitos e o  projeto do sistema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desenvolver requisitos de software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desenvolver o projeto do software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implementar o projeto do software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integrar e testar o software;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integrar e testar o sistema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spcBef>
                <a:spcPts val="624"/>
              </a:spcBef>
              <a:buClr>
                <a:srgbClr val="999933"/>
              </a:buClr>
              <a:buFont typeface="MNIPA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333300"/>
                </a:solidFill>
                <a:latin typeface="Verdana"/>
              </a:rPr>
              <a:t>manter o sistema e o software</a:t>
            </a:r>
            <a:endParaRPr b="1" lang="en-US" sz="25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FDA-095C-46C1-A6B3-54F01D9BF7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20:44:46Z</dcterms:created>
  <dc:creator>Suporte</dc:creator>
  <dc:description/>
  <dc:language>en-US</dc:language>
  <cp:lastModifiedBy>KEILLA</cp:lastModifiedBy>
  <cp:lastPrinted>2004-06-02T02:21:35Z</cp:lastPrinted>
  <dcterms:modified xsi:type="dcterms:W3CDTF">2004-06-07T10:26:42Z</dcterms:modified>
  <cp:revision>82</cp:revision>
  <dc:subject/>
  <dc:title>SPICE</dc:title>
</cp:coreProperties>
</file>