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864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2552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346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864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2552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2552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346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346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2864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2552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2552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2552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346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346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346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42864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2552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864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600" y="2552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864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255276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1560" y="255276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42864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3428640" y="304560"/>
            <a:ext cx="533412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864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2552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255276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71600" y="346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864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2552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2864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255276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1560" y="2552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51560" y="346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42864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1600" y="2552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51560" y="2552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371600" y="346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42864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2552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371600" y="346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42864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600" y="2552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51560" y="2552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371600" y="346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51560" y="346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42864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600" y="2552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35560" y="2552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699880" y="2552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371600" y="346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35560" y="346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699880" y="346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864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2552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864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55276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255276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2864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428640" y="304560"/>
            <a:ext cx="533412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864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2552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255276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46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864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255276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2552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346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864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2552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2552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346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7c1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2438280"/>
            <a:ext cx="914400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2743200"/>
            <a:ext cx="914400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048120"/>
            <a:ext cx="914400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3657600"/>
            <a:ext cx="914400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0" y="3962520"/>
            <a:ext cx="914400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0" y="4267080"/>
            <a:ext cx="914400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0" y="4572000"/>
            <a:ext cx="914400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0" y="4876920"/>
            <a:ext cx="914400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0" y="5181480"/>
            <a:ext cx="914400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0" y="5486400"/>
            <a:ext cx="914400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0" y="5791320"/>
            <a:ext cx="914400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" name="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>
            <a:off x="0" y="6705720"/>
            <a:ext cx="914400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>
            <a:off x="304920" y="0"/>
            <a:ext cx="0" cy="685800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219320" y="0"/>
            <a:ext cx="0" cy="685800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523880" y="0"/>
            <a:ext cx="0" cy="685800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1828800" y="0"/>
            <a:ext cx="0" cy="685800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" name=""/>
          <p:cNvSpPr/>
          <p:nvPr/>
        </p:nvSpPr>
        <p:spPr>
          <a:xfrm>
            <a:off x="2133720" y="0"/>
            <a:ext cx="0" cy="685800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" name=""/>
          <p:cNvSpPr/>
          <p:nvPr/>
        </p:nvSpPr>
        <p:spPr>
          <a:xfrm>
            <a:off x="2438280" y="0"/>
            <a:ext cx="0" cy="685800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" name=""/>
          <p:cNvSpPr/>
          <p:nvPr/>
        </p:nvSpPr>
        <p:spPr>
          <a:xfrm>
            <a:off x="2743200" y="0"/>
            <a:ext cx="0" cy="685800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3048120" y="0"/>
            <a:ext cx="0" cy="685800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3352680" y="0"/>
            <a:ext cx="0" cy="685800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" name=""/>
          <p:cNvSpPr/>
          <p:nvPr/>
        </p:nvSpPr>
        <p:spPr>
          <a:xfrm>
            <a:off x="3657600" y="0"/>
            <a:ext cx="0" cy="685800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3962520" y="0"/>
            <a:ext cx="0" cy="685800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" name=""/>
          <p:cNvSpPr/>
          <p:nvPr/>
        </p:nvSpPr>
        <p:spPr>
          <a:xfrm>
            <a:off x="4267080" y="0"/>
            <a:ext cx="0" cy="685800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4876920" y="0"/>
            <a:ext cx="0" cy="685800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5181480" y="0"/>
            <a:ext cx="0" cy="685800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5486400" y="0"/>
            <a:ext cx="0" cy="685800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791320" y="0"/>
            <a:ext cx="0" cy="685800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5880" y="0"/>
            <a:ext cx="0" cy="685800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400800" y="0"/>
            <a:ext cx="0" cy="685800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05720" y="0"/>
            <a:ext cx="0" cy="685800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10280" y="0"/>
            <a:ext cx="0" cy="685800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315200" y="0"/>
            <a:ext cx="0" cy="685800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924680" y="0"/>
            <a:ext cx="0" cy="685800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229600" y="0"/>
            <a:ext cx="0" cy="685800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839080" y="0"/>
            <a:ext cx="0" cy="685800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7c1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352680" y="0"/>
            <a:ext cx="5791320" cy="152388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438280"/>
            <a:ext cx="914400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743200"/>
            <a:ext cx="914400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048120"/>
            <a:ext cx="914400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657600"/>
            <a:ext cx="914400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962520"/>
            <a:ext cx="914400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267080"/>
            <a:ext cx="914400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572000"/>
            <a:ext cx="914400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876920"/>
            <a:ext cx="914400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181480"/>
            <a:ext cx="914400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486400"/>
            <a:ext cx="914400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791320"/>
            <a:ext cx="914400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705720"/>
            <a:ext cx="914400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0"/>
            <a:ext cx="0" cy="685800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19320" y="0"/>
            <a:ext cx="0" cy="685800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3880" y="0"/>
            <a:ext cx="0" cy="685800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0"/>
            <a:ext cx="0" cy="685800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33720" y="0"/>
            <a:ext cx="0" cy="685800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0"/>
            <a:ext cx="0" cy="685800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43200" y="0"/>
            <a:ext cx="0" cy="685800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0"/>
            <a:ext cx="0" cy="685800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52680" y="0"/>
            <a:ext cx="0" cy="685800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57600" y="0"/>
            <a:ext cx="0" cy="685800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62520" y="0"/>
            <a:ext cx="0" cy="685800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0"/>
            <a:ext cx="0" cy="685800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76920" y="0"/>
            <a:ext cx="0" cy="685800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81480" y="0"/>
            <a:ext cx="0" cy="685800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0"/>
            <a:ext cx="0" cy="685800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91320" y="0"/>
            <a:ext cx="0" cy="685800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5880" y="0"/>
            <a:ext cx="0" cy="685800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00800" y="0"/>
            <a:ext cx="0" cy="685800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0"/>
            <a:ext cx="0" cy="685800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10280" y="0"/>
            <a:ext cx="0" cy="685800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15200" y="0"/>
            <a:ext cx="0" cy="685800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0"/>
            <a:ext cx="0" cy="685800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229600" y="0"/>
            <a:ext cx="0" cy="685800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839080" y="0"/>
            <a:ext cx="0" cy="685800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42864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ei.cmu.edu/pub/documents/96.reports/pdf/tr002.96.pdf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://www.sei.cmu.edu/pub/documents/95.reports/pdf/tr012.95.pdf" TargetMode="External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7c1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42864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oftware Capability Evaluation - S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2552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Árlei José Calazans Morais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Juliana de Carvalho S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Leandro Marques do Nascimen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arilia Eutímia de Souza Oliveir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iago Sampaio Lin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{ajcm,jcs,lmn2,meso,tsl}@cin.ufpe.b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entro de Informátic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Universidade Federal de Pernambuc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Qualidade de Software – IF72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7c1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Planejando e preparando a avaliaçã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Para a organização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Determinar os atributos do produto escolhid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Selecionar a equipe de avaliaçã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Determinar qual processo será utilizado de acordo com os objetivos do negóci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Para a equipe de avaliação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Identificar áreas onde a equipe de desenvolvimento tem menos experiência (áreas de risco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Definir o escopo da avaliaçã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Selecionar projetos para avaliaçã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Preparar tópicos específicos para a avaliaçã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Analisar dados de instrumentos de trabalh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7c1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Conduzindo a avalia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Para a equipe de avaliaçã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Investigar cada tópico planejad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Conduzir a coleção de dados através de entrevistas, revisão de documentos e apresentaçõ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Consolidar informação coletada e validar observaçõ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Determinar pontos fortes, fracos e atividades em desenvolvimen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7c1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Relatórios de resultados da avaliaçã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Para a equipe de avaliaçã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Apresenta e entrega as descobertas para o contratant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Produz um relatório final para a organização contratant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Faz recomendações sobre possíveis melhor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7c1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Características da aplicação do SC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Seleção de fornecedor: SCE foi originalmente criado para esse intuito (seleção de fornecedor para o Depto de Defesa Americano). o SCE poderia identificar fraquezas e possíveis áreas de risco no fornecedo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Monitoramento de Processo: serve também como incentivo para priorizar esforços em áreas de risco específic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Avaliação interna: organizações que buscam avaliação independente dos seus processos intern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7c1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rientação de Implementa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nálise de Requisi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pósi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Entender as necessidades, objetivos e limitações empresariais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Açõ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Metas, limitações, escopo e produções da avaliação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Resultad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Verdana"/>
                <a:ea typeface="Courier New"/>
              </a:rPr>
              <a:t>Decisão de procede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Limitações e escopo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7c1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rientação de Implementa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itérios para usar S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mponentes crític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alor Tot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iclo de vid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íodo de temp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amanho do Softwar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istemas sem precedent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7c1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rientação de Implementa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enefícios de usar S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Desenvolvimento de Software Adicion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Capacida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Realism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Aumento da objetividade em informaçã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Motivação para o contratante com a melhoria das açõ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7c1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rientação de Implementa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incipais custos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Pesso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Temp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Financeir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7c1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rientação de Implementa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Desenvolvimento do Plano de Avaliação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pósi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Criar um artefato que irá guiar e definir a execução da avaliação concentrando-se nas necessidades e restrições do negócio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çõ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As ações são desenvolver e refinar o plano de avaliação inicial 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sulta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Ao final o receptor e os lideres da equipe de avaliação concordam com curso de ações do plano de avaliação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7c1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rientação de Implementa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Selecionando e preparando o time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pósi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O objetivo é ter uma equipe experiente e treinada para ler e executar a avaliação. Para isso seleciona-se e prepara-se o time SCE de avaliação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sultad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Uma equipe experiente e treinada apta a executar o processo de avaliaçã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7c1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Roteir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Introduçã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Estrutura do S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Fases do S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Implementação do S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Orientação de implementaçã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Conclusã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Referênci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7c1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rientação de Implementa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Selecionando o time S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As chaves para a montagem da equipe sã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Experiência Individua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Habilidades de equipe e experiênci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Experiência inter-pessoal individu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Habilidades de liderança da equipe, atividades de construção em equip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7c1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rientação de Implementa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Experiência Individu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Deve ser selecionado o membro de maior experiência tendo em vista que as equipes mais bem sucedidas serão aquelas que calculam a média ao menos de dez anos da experiência de desenvolvimento apropriado ou da gerência da equip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7c1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rientação de Implementa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901"/>
              </a:spcBef>
              <a:buSzPct val="100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t-BR" sz="3600" spc="-1" strike="noStrike">
                <a:solidFill>
                  <a:srgbClr val="40458c"/>
                </a:solidFill>
                <a:latin typeface="Tahoma"/>
              </a:rPr>
              <a:t>A equipe deve ter no mínimo: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um ou dois membros – 10 anos ou mais de experiência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Dois ou três membros – de 8 a 10 anos de experiência, tenha participado de no mínimo um time SC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Um membro – com 5 anos de experiência, pois não tem respaldo para entender alguns aspectos de processo de softwa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Nenhum membro deve ter menos de 5 anos de experiênci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7c1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Orientação da Implementa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Treinando a equipe S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Existem três níveis de treinamento necessários antes do individuo ser considerado completamente qualificado pra conduzir o SCE 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Preparaçã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Curso Prátic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Experiênci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7c1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Orientação da Implementa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40458c"/>
                </a:solidFill>
                <a:latin typeface="Tahoma"/>
              </a:rPr>
              <a:t>Preparação</a:t>
            </a: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O estágio preparatório consiste na experiência no trabalho, no treinamento prévio, e na leitura profission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7c1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Orientação da Implementa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Curso Prático - Fornece o conhecimento e reforça as habilidades requeridas para conduzir eficazmente o SCE, e ajuda ao grupo tornar-se uma equipe coesa. O curso segu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Exercícios de construção em equip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eparação para visita loca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visão de documen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alidação das observaçõ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7c1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Orientação da Implementa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Experiência</a:t>
            </a: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Todo graduado do programa de treinamento SCE deverá ser um membro, e não um líder, de uma equipe SCE por pelo menos por dois SC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7c1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Orientação da Implementa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Obtendo Informação da Organização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pósi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Obter a informação da organização que permite que a equipe refine o plano de avaliação e focalize a investigação em atividades subseqüentes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sulta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A informação da organização do desenvolvimento é obtida por que a equipe pode finalizar seu foco, prioridades, e logística da avaliaçã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7c1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Orientação da Implementa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Análise de dados instrumenta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pósi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Identificar as áreas importantes para futuras investigações, durante a condução da avaliação. Obter um entendimento preliminar das operações da organizaçã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çõ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Receber, sintetizar e analisar dados do instrumento. Desenvolver um perfil da análise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sulta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A equipe tem um alto nível de entendimento sobre as operações locais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7c1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rientação de Implementa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lecionar e Preparar os Participant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pósi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40458c"/>
                </a:solidFill>
                <a:latin typeface="Verdana"/>
                <a:ea typeface="Times New Roman"/>
              </a:rPr>
              <a:t>pessoal mais apropriad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çõ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40458c"/>
                </a:solidFill>
                <a:latin typeface="Verdana"/>
                <a:ea typeface="Times New Roman"/>
              </a:rPr>
              <a:t>Lugares</a:t>
            </a:r>
            <a:r>
              <a:rPr b="0" lang="pt-BR" sz="2400" spc="-1" strike="noStrike">
                <a:solidFill>
                  <a:srgbClr val="40458c"/>
                </a:solidFill>
                <a:latin typeface="Verdana"/>
                <a:ea typeface="Times New Roman"/>
              </a:rPr>
              <a:t>, </a:t>
            </a:r>
            <a:r>
              <a:rPr b="0" lang="pt-PT" sz="2400" spc="-1" strike="noStrike">
                <a:solidFill>
                  <a:srgbClr val="40458c"/>
                </a:solidFill>
                <a:latin typeface="Verdana"/>
                <a:ea typeface="Times New Roman"/>
              </a:rPr>
              <a:t>projetos</a:t>
            </a:r>
            <a:r>
              <a:rPr b="0" lang="pt-BR" sz="2400" spc="-1" strike="noStrike">
                <a:solidFill>
                  <a:srgbClr val="40458c"/>
                </a:solidFill>
                <a:latin typeface="Verdana"/>
                <a:ea typeface="Times New Roman"/>
              </a:rPr>
              <a:t>, </a:t>
            </a:r>
            <a:r>
              <a:rPr b="0" lang="pt-PT" sz="2400" spc="-1" strike="noStrike">
                <a:solidFill>
                  <a:srgbClr val="40458c"/>
                </a:solidFill>
                <a:latin typeface="Verdana"/>
                <a:ea typeface="Times New Roman"/>
              </a:rPr>
              <a:t>participantes</a:t>
            </a:r>
            <a:r>
              <a:rPr b="0" lang="pt-BR" sz="2400" spc="-1" strike="noStrike">
                <a:solidFill>
                  <a:srgbClr val="40458c"/>
                </a:solidFill>
                <a:latin typeface="Verdana"/>
                <a:ea typeface="Times New Roman"/>
              </a:rPr>
              <a:t> </a:t>
            </a:r>
            <a:r>
              <a:rPr b="0" lang="pt-PT" sz="2400" spc="-1" strike="noStrike">
                <a:solidFill>
                  <a:srgbClr val="40458c"/>
                </a:solidFill>
                <a:latin typeface="Verdana"/>
                <a:ea typeface="Times New Roman"/>
              </a:rPr>
              <a:t>introdução inicial</a:t>
            </a:r>
            <a:r>
              <a:rPr b="0" lang="pt-PT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sultad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 algn="just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Verdana"/>
                <a:ea typeface="Courier New"/>
              </a:rPr>
              <a:t>E</a:t>
            </a:r>
            <a:r>
              <a:rPr b="0" lang="pt-PT" sz="2400" spc="-1" strike="noStrike">
                <a:solidFill>
                  <a:srgbClr val="40458c"/>
                </a:solidFill>
                <a:latin typeface="Verdana"/>
                <a:ea typeface="Courier New"/>
              </a:rPr>
              <a:t>ntend</a:t>
            </a:r>
            <a:r>
              <a:rPr b="0" lang="pt-BR" sz="2400" spc="-1" strike="noStrike">
                <a:solidFill>
                  <a:srgbClr val="40458c"/>
                </a:solidFill>
                <a:latin typeface="Verdana"/>
                <a:ea typeface="Courier New"/>
              </a:rPr>
              <a:t>imento d</a:t>
            </a:r>
            <a:r>
              <a:rPr b="0" lang="pt-PT" sz="2400" spc="-1" strike="noStrike">
                <a:solidFill>
                  <a:srgbClr val="40458c"/>
                </a:solidFill>
                <a:latin typeface="Verdana"/>
                <a:ea typeface="Courier New"/>
              </a:rPr>
              <a:t>os process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 algn="just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Certificaçã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7c1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Introdu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SCE - Software Capability Evalu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Método de avaliação do processo de software usado em organizações cujo foco principal é o desenvolvimento de softwar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Método SCE fornec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Guia para identificar riscos no processo de softwar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Melhor orientação para empresas que irão adquirir softwar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Complementa o treinamento da equip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Público Alvo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Avaliadores S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Fábricas de Softwar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Grandes compradores de SW (Governo e Indústria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Avaliador / Recepto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7c1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rientação de Implementa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eparar para Coleção de Dad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pósi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40458c"/>
                </a:solidFill>
                <a:latin typeface="Verdana"/>
                <a:ea typeface="Times New Roman"/>
              </a:rPr>
              <a:t>Características</a:t>
            </a:r>
            <a:r>
              <a:rPr b="0" lang="pt-BR" sz="2000" spc="-1" strike="noStrike">
                <a:solidFill>
                  <a:srgbClr val="40458c"/>
                </a:solidFill>
                <a:latin typeface="Verdana"/>
                <a:ea typeface="Times New Roman"/>
              </a:rPr>
              <a:t> </a:t>
            </a:r>
            <a:r>
              <a:rPr b="0" lang="pt-PT" sz="2000" spc="-1" strike="noStrike">
                <a:solidFill>
                  <a:srgbClr val="40458c"/>
                </a:solidFill>
                <a:latin typeface="Verdana"/>
                <a:ea typeface="Times New Roman"/>
              </a:rPr>
              <a:t>do ambient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Verdana"/>
                <a:ea typeface="Times New Roman"/>
              </a:rPr>
              <a:t>O</a:t>
            </a:r>
            <a:r>
              <a:rPr b="0" lang="pt-PT" sz="2000" spc="-1" strike="noStrike">
                <a:solidFill>
                  <a:srgbClr val="40458c"/>
                </a:solidFill>
                <a:latin typeface="Verdana"/>
                <a:ea typeface="Times New Roman"/>
              </a:rPr>
              <a:t>timizar o temp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çõ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40458c"/>
                </a:solidFill>
                <a:latin typeface="Verdana"/>
                <a:ea typeface="Times New Roman"/>
              </a:rPr>
              <a:t>Refina</a:t>
            </a:r>
            <a:r>
              <a:rPr b="0" lang="pt-BR" sz="2000" spc="-1" strike="noStrike">
                <a:solidFill>
                  <a:srgbClr val="40458c"/>
                </a:solidFill>
                <a:latin typeface="Verdana"/>
                <a:ea typeface="Times New Roman"/>
              </a:rPr>
              <a:t>r </a:t>
            </a:r>
            <a:r>
              <a:rPr b="0" lang="pt-PT" sz="2000" spc="-1" strike="noStrike">
                <a:solidFill>
                  <a:srgbClr val="40458c"/>
                </a:solidFill>
                <a:latin typeface="Verdana"/>
                <a:ea typeface="Times New Roman"/>
              </a:rPr>
              <a:t>entrevistas</a:t>
            </a:r>
            <a:r>
              <a:rPr b="0" lang="pt-BR" sz="2000" spc="-1" strike="noStrike">
                <a:solidFill>
                  <a:srgbClr val="40458c"/>
                </a:solidFill>
                <a:latin typeface="Verdana"/>
                <a:ea typeface="Times New Roman"/>
              </a:rPr>
              <a:t>, </a:t>
            </a:r>
            <a:r>
              <a:rPr b="0" lang="pt-PT" sz="2000" spc="-1" strike="noStrike">
                <a:solidFill>
                  <a:srgbClr val="40458c"/>
                </a:solidFill>
                <a:latin typeface="Verdana"/>
                <a:ea typeface="Times New Roman"/>
              </a:rPr>
              <a:t>revis</a:t>
            </a:r>
            <a:r>
              <a:rPr b="0" lang="pt-BR" sz="2000" spc="-1" strike="noStrike">
                <a:solidFill>
                  <a:srgbClr val="40458c"/>
                </a:solidFill>
                <a:latin typeface="Verdana"/>
                <a:ea typeface="Times New Roman"/>
              </a:rPr>
              <a:t>ar</a:t>
            </a:r>
            <a:r>
              <a:rPr b="0" lang="pt-PT" sz="2000" spc="-1" strike="noStrike">
                <a:solidFill>
                  <a:srgbClr val="40458c"/>
                </a:solidFill>
                <a:latin typeface="Verdana"/>
                <a:ea typeface="Times New Roman"/>
              </a:rPr>
              <a:t> documentos estratégicos</a:t>
            </a:r>
            <a:r>
              <a:rPr b="0" lang="pt-BR" sz="2000" spc="-1" strike="noStrike">
                <a:solidFill>
                  <a:srgbClr val="40458c"/>
                </a:solidFill>
                <a:latin typeface="Verdana"/>
                <a:ea typeface="Times New Roman"/>
              </a:rPr>
              <a:t>, </a:t>
            </a:r>
            <a:r>
              <a:rPr b="0" lang="pt-PT" sz="2000" spc="-1" strike="noStrike">
                <a:solidFill>
                  <a:srgbClr val="40458c"/>
                </a:solidFill>
                <a:latin typeface="Verdana"/>
                <a:ea typeface="Times New Roman"/>
              </a:rPr>
              <a:t>avalia</a:t>
            </a:r>
            <a:r>
              <a:rPr b="0" lang="pt-BR" sz="2000" spc="-1" strike="noStrike">
                <a:solidFill>
                  <a:srgbClr val="40458c"/>
                </a:solidFill>
                <a:latin typeface="Verdana"/>
                <a:ea typeface="Times New Roman"/>
              </a:rPr>
              <a:t>r</a:t>
            </a:r>
            <a:r>
              <a:rPr b="0" lang="pt-PT" sz="2000" spc="-1" strike="noStrike">
                <a:solidFill>
                  <a:srgbClr val="40458c"/>
                </a:solidFill>
                <a:latin typeface="Verdana"/>
                <a:ea typeface="Times New Roman"/>
              </a:rPr>
              <a:t> papel e responsabilidad</a:t>
            </a:r>
            <a:r>
              <a:rPr b="0" lang="pt-BR" sz="2000" spc="-1" strike="noStrike">
                <a:solidFill>
                  <a:srgbClr val="40458c"/>
                </a:solidFill>
                <a:latin typeface="Verdana"/>
                <a:ea typeface="Times New Roman"/>
              </a:rPr>
              <a:t>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sultad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40458c"/>
                </a:solidFill>
                <a:latin typeface="Verdana"/>
                <a:ea typeface="Times New Roman"/>
              </a:rPr>
              <a:t>Planeja</a:t>
            </a:r>
            <a:r>
              <a:rPr b="0" lang="pt-BR" sz="2000" spc="-1" strike="noStrike">
                <a:solidFill>
                  <a:srgbClr val="40458c"/>
                </a:solidFill>
                <a:latin typeface="Verdana"/>
                <a:ea typeface="Times New Roman"/>
              </a:rPr>
              <a:t>men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7c1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rientação de Implementa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t-PT" sz="3200" spc="-1" strike="noStrike">
                <a:solidFill>
                  <a:srgbClr val="40458c"/>
                </a:solidFill>
                <a:latin typeface="Verdana"/>
                <a:ea typeface="Times New Roman"/>
              </a:rPr>
              <a:t>Receber Apresentaçõ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pósi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40458c"/>
                </a:solidFill>
                <a:latin typeface="Verdana"/>
                <a:ea typeface="Times New Roman"/>
              </a:rPr>
              <a:t>Refina</a:t>
            </a:r>
            <a:r>
              <a:rPr b="0" lang="pt-BR" sz="2400" spc="-1" strike="noStrike">
                <a:solidFill>
                  <a:srgbClr val="40458c"/>
                </a:solidFill>
                <a:latin typeface="Verdana"/>
                <a:ea typeface="Times New Roman"/>
              </a:rPr>
              <a:t>r </a:t>
            </a:r>
            <a:r>
              <a:rPr b="0" lang="pt-PT" sz="2400" spc="-1" strike="noStrike">
                <a:solidFill>
                  <a:srgbClr val="40458c"/>
                </a:solidFill>
                <a:latin typeface="Verdana"/>
                <a:ea typeface="Times New Roman"/>
              </a:rPr>
              <a:t>e atualiza</a:t>
            </a:r>
            <a:r>
              <a:rPr b="0" lang="pt-BR" sz="2400" spc="-1" strike="noStrike">
                <a:solidFill>
                  <a:srgbClr val="40458c"/>
                </a:solidFill>
                <a:latin typeface="Verdana"/>
                <a:ea typeface="Times New Roman"/>
              </a:rPr>
              <a:t>r processos de software para S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çõ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lestras para o S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sultad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Verdana"/>
                <a:ea typeface="Times New Roman"/>
              </a:rPr>
              <a:t>R</a:t>
            </a:r>
            <a:r>
              <a:rPr b="0" lang="pt-PT" sz="2400" spc="-1" strike="noStrike">
                <a:solidFill>
                  <a:srgbClr val="40458c"/>
                </a:solidFill>
                <a:latin typeface="Verdana"/>
                <a:ea typeface="Times New Roman"/>
              </a:rPr>
              <a:t>efina</a:t>
            </a:r>
            <a:r>
              <a:rPr b="0" lang="pt-BR" sz="2400" spc="-1" strike="noStrike">
                <a:solidFill>
                  <a:srgbClr val="40458c"/>
                </a:solidFill>
                <a:latin typeface="Verdana"/>
                <a:ea typeface="Times New Roman"/>
              </a:rPr>
              <a:t>r</a:t>
            </a:r>
            <a:r>
              <a:rPr b="0" lang="pt-PT" sz="2400" spc="-1" strike="noStrike">
                <a:solidFill>
                  <a:srgbClr val="40458c"/>
                </a:solidFill>
                <a:latin typeface="Verdana"/>
                <a:ea typeface="Times New Roman"/>
              </a:rPr>
              <a:t> e atualiz</a:t>
            </a:r>
            <a:r>
              <a:rPr b="0" lang="pt-BR" sz="2400" spc="-1" strike="noStrike">
                <a:solidFill>
                  <a:srgbClr val="40458c"/>
                </a:solidFill>
                <a:latin typeface="Verdana"/>
                <a:ea typeface="Times New Roman"/>
              </a:rPr>
              <a:t>ar processos</a:t>
            </a:r>
            <a:r>
              <a:rPr b="0" lang="pt-PT" sz="2400" spc="-1" strike="noStrike">
                <a:solidFill>
                  <a:srgbClr val="40458c"/>
                </a:solidFill>
                <a:latin typeface="Verdana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40458c"/>
                </a:solidFill>
                <a:latin typeface="Verdana"/>
                <a:ea typeface="Times New Roman"/>
              </a:rPr>
              <a:t>de software para Organizaçã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7c1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rientação de Implementa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t-PT" sz="3200" spc="-1" strike="noStrike">
                <a:solidFill>
                  <a:srgbClr val="40458c"/>
                </a:solidFill>
                <a:latin typeface="Verdana"/>
                <a:ea typeface="Times New Roman"/>
              </a:rPr>
              <a:t>Revisar os Documen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pósi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ntender demais processos da organizaçã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çõ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Informações, documentos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,</a:t>
            </a:r>
            <a:r>
              <a:rPr b="0" lang="pt-PT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artefatos e revisão dos componentes relativos ao modelo de referência</a:t>
            </a:r>
            <a:r>
              <a:rPr b="0" lang="pt-PT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sultad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solidar iformaçõ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7c1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rientação de Implementa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40458c"/>
                </a:solidFill>
                <a:latin typeface="Verdana"/>
                <a:ea typeface="Times New Roman"/>
              </a:rPr>
              <a:t>Conduzir as Entrevist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pósi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Verdana"/>
                <a:ea typeface="Times New Roman"/>
              </a:rPr>
              <a:t>Perpesctiva pessoal dos participant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çõ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formações e entrevist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sultad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alidação das informaçõ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7c1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rientação de Implementa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40458c"/>
                </a:solidFill>
                <a:latin typeface="Verdana"/>
                <a:ea typeface="Times New Roman"/>
              </a:rPr>
              <a:t>Consolidar os Dad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pósi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apeamento dos dados com modelo de referênci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ontos fortes e frac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çõ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40458c"/>
                </a:solidFill>
                <a:latin typeface="Verdana"/>
                <a:ea typeface="Times New Roman"/>
              </a:rPr>
              <a:t>Combinar</a:t>
            </a:r>
            <a:r>
              <a:rPr b="0" lang="pt-BR" sz="2000" spc="-1" strike="noStrike">
                <a:solidFill>
                  <a:srgbClr val="40458c"/>
                </a:solidFill>
                <a:latin typeface="Verdana"/>
                <a:ea typeface="Times New Roman"/>
              </a:rPr>
              <a:t> </a:t>
            </a:r>
            <a:r>
              <a:rPr b="0" lang="pt-PT" sz="2000" spc="-1" strike="noStrike">
                <a:solidFill>
                  <a:srgbClr val="40458c"/>
                </a:solidFill>
                <a:latin typeface="Verdana"/>
                <a:ea typeface="Times New Roman"/>
              </a:rPr>
              <a:t>os dados obtidos, revisar o plano de coleção de dad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sultad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40458c"/>
                </a:solidFill>
                <a:latin typeface="Verdana"/>
                <a:ea typeface="Times New Roman"/>
              </a:rPr>
              <a:t>Cobertura</a:t>
            </a:r>
            <a:r>
              <a:rPr b="0" lang="pt-BR" sz="2000" spc="-1" strike="noStrike">
                <a:solidFill>
                  <a:srgbClr val="40458c"/>
                </a:solidFill>
                <a:latin typeface="Verdana"/>
                <a:ea typeface="Times New Roman"/>
              </a:rPr>
              <a:t> </a:t>
            </a:r>
            <a:r>
              <a:rPr b="0" lang="pt-PT" sz="2000" spc="-1" strike="noStrike">
                <a:solidFill>
                  <a:srgbClr val="40458c"/>
                </a:solidFill>
                <a:latin typeface="Verdana"/>
                <a:ea typeface="Times New Roman"/>
              </a:rPr>
              <a:t>e suficiência</a:t>
            </a:r>
            <a:r>
              <a:rPr b="0" lang="pt-BR" sz="2000" spc="-1" strike="noStrike">
                <a:solidFill>
                  <a:srgbClr val="40458c"/>
                </a:solidFill>
                <a:latin typeface="Verdana"/>
                <a:ea typeface="Times New Roman"/>
              </a:rPr>
              <a:t> dos dad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7c1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rientação de Implementa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40458c"/>
                </a:solidFill>
                <a:latin typeface="Verdana"/>
                <a:ea typeface="Times New Roman"/>
              </a:rPr>
              <a:t>Entrega de Resultados</a:t>
            </a:r>
            <a:r>
              <a:rPr b="0" lang="pt-BR" sz="3200" spc="-1" strike="noStrike">
                <a:solidFill>
                  <a:srgbClr val="40458c"/>
                </a:solidFill>
                <a:latin typeface="Verdana"/>
                <a:ea typeface="Times New Roman"/>
              </a:rPr>
              <a:t> </a:t>
            </a:r>
            <a:r>
              <a:rPr b="0" lang="pt-PT" sz="3200" spc="-1" strike="noStrike">
                <a:solidFill>
                  <a:srgbClr val="40458c"/>
                </a:solidFill>
                <a:latin typeface="Verdana"/>
                <a:ea typeface="Times New Roman"/>
              </a:rPr>
              <a:t>Encontrad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pósi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alidar observações preliminares, credibilidade da avaliaçã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çõ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presentação de resultados prévi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sultad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valiação dos resulta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7c1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rientação de Implementa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Julgamento da Avaliaçã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pósi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Validar observações e capacidade de processo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çõ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Julgar a satisfação do modelo e executar práticas chave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sultad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Decisão de avaliação formal para cada componente modelo que foi planejado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7c1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Orientação de Implementa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Apresentação dos resultados fina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Propósi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Apresentar um sumário claro dos resultados da avaliação para a organizaçã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Açõ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Preparar e apresentar os resultados finais. Fechar as atividad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Resultad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O patrocinador e a organização avaliada entenderem e aceitarem os resultados finais da equipe de avaliaçã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7c1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Orientação de Implementa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0458c"/>
                </a:solidFill>
                <a:latin typeface="Tahoma"/>
              </a:rPr>
              <a:t>Produzir relatórios e suporte para atividades seguinte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Propósi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Produzir um baseline da condução da avaliação e dos resultados obtidos para o patrocinador e demais stakeholders. Assegurar que os resultados da avaliação são usados apropriadamente para conseguir os objetivos do negóci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Açõ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Produzir e distribuir os relatórios; Armazenar e disponibilizar registros e dar suporte para as atividades seguint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Resultad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7c1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Orientação de Implementa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0458c"/>
                </a:solidFill>
                <a:latin typeface="Tahoma"/>
              </a:rPr>
              <a:t>Produzir relatórios e suporte para atividades seguintes (continuação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Resultad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Um baseline da condução da avaliação e os resultados são estabelecidos e os relatórios são distribuídos aos stakeholder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Os resultados da avaliação são usados para alcançar os objetivos do negóc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7c1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Avalia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Áreas de avaliação incluem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Processos de decisão (planejamento de projeto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Processos de comunicação (comunicação entre os colaboradore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Processos de suporte técnico (revisão em pare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Não incluem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Processos técnicos tais como: análise e especificação de requisitos, design, por exemp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7c1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Conclus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Utilizar SCE para aquisição do certificado CMM numa organização acrescenta qualidade aos produtos da mesma. Além disso, o SCE faz com que o processo de desenvolvimento esteja sempre numa melhoria contínu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7c1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Referênci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http://www.sei.cmu.edu/pub/documents/96.reports/pdf/tr002.96.pdf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http://www.sei.cmu.edu/pub/documents/95.reports/pdf/tr012.95.pdf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7c1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2864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Software Capability Evaluation - S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371600" y="2552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Árlei José Calazans Morais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Juliana de Carvalho S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Leandro Marques do Nascimen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Marilia Eutímia de Souza Oliveir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Tiago Sampaio Lin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40458c"/>
                </a:solidFill>
                <a:latin typeface="Tahoma"/>
              </a:rPr>
              <a:t>{ajcm,jcs,lmn2,meso,tsl}@cin.ufpe.b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Centro de Informátic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Universidade Federal de Pernambuc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ahoma"/>
              </a:rPr>
              <a:t>Qualidade de Software – IF72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7c1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Avalia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809720" y="2219400"/>
            <a:ext cx="5829480" cy="3486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7c1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Avalia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SEI usa SCE para avaliação do modelo CMM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CMM utiliza KPAs (Key Process Are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Cada KPA identifica um pedaço de atividades relacionadas que, quando executadas em conjunto, atingem um conjunto de objetivos considerados importantes para a potencialidade do processo como um to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Importante: CMM não garante um produto de sucesso, mas reduz o risco associado ao que foi planejado e garante um processo estáve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7c1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Estrutura do S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900080" y="1981080"/>
            <a:ext cx="5648400" cy="3962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7c1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Estrutura do S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Níveis de maturidade: Inicial </a:t>
            </a:r>
            <a:r>
              <a:rPr b="0" lang="pt-BR" sz="2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 Repetível  </a:t>
            </a:r>
            <a:r>
              <a:rPr b="0" lang="pt-BR" sz="2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 Definido </a:t>
            </a:r>
            <a:r>
              <a:rPr b="0" lang="pt-BR" sz="2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 Gerenciado </a:t>
            </a:r>
            <a:r>
              <a:rPr b="0" lang="pt-BR" sz="2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 Otimizad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KPAs: cada nível de maturidade é subdividido em varias KPAs. Exemplo: Gerência de proje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Common Features: as KPAs são organizadas em conjuntos de características comu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Key Pratices: são as práticas em si, os procedimentos. Pode se falar em tópicos ou procedimentos. Exemplo: estimativa de tamanho de softwar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7c1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Aplicando o processo S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Divisão em três fas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Planejamento e preparação da avaliaçã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Conduzindo a avaliaçã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Relatórios de resultados da avaliaçã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Pontos de investigação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Entrevista, revisão de documentos, apresentações e instrumentos de trabalh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20:25:43Z</dcterms:created>
  <dc:creator>Laura Bergells</dc:creator>
  <dc:description/>
  <dc:language>en-US</dc:language>
  <cp:lastModifiedBy>Juliana de Carvalho Sá</cp:lastModifiedBy>
  <cp:lastPrinted>1997-07-23T15:08:40Z</cp:lastPrinted>
  <dcterms:modified xsi:type="dcterms:W3CDTF">2004-08-13T07:24:57Z</dcterms:modified>
  <cp:revision>48</cp:revision>
  <dc:subject/>
  <dc:title>GridIron Girls</dc:title>
</cp:coreProperties>
</file>