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C947-931C-4EFA-A8BB-E7788065F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9694-A69C-4A38-B281-34FC23CD8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4D94-74DB-42E7-B66F-1125D5B91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091E-D6DC-4338-8F36-93375D558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1E49-3F78-4DD1-8C6F-9ACCCDAB5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7934-2489-4EED-B332-2EE2E27DE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2EF1-3054-4CBC-BC32-8EE6179B4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7552-D7F1-45C8-A322-D8FF76DB7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A9F6-A119-43E0-83D1-AD991F0A3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0D26-04B9-4FC0-93CC-795E229B9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C66F-58E4-469A-ADE4-82983960A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CECB-91EE-4ABF-B506-E7AAF72B4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m" descr=""/>
          <p:cNvPicPr/>
          <p:nvPr/>
        </p:nvPicPr>
        <p:blipFill>
          <a:blip r:embed="rId2"/>
          <a:stretch/>
        </p:blipFill>
        <p:spPr>
          <a:xfrm>
            <a:off x="-3240" y="-54000"/>
            <a:ext cx="9147240" cy="696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A4F-123A-4DEE-BCB3-4A854930C626}" type="slidenum">
              <a:rPr b="0" lang="pt-BR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228960" y="2062080"/>
            <a:ext cx="518148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plicações</a:t>
            </a:r>
            <a:br>
              <a:rPr sz="4000"/>
            </a:br>
            <a:r>
              <a:rPr b="0" lang="pt-BR" sz="2500" spc="-1" strike="noStrike">
                <a:solidFill>
                  <a:srgbClr val="660066"/>
                </a:solidFill>
                <a:latin typeface="Tahoma"/>
              </a:rPr>
              <a:t>de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agentes</a:t>
            </a:r>
            <a:br>
              <a:rPr sz="4000"/>
            </a:b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inteligentes</a:t>
            </a:r>
            <a:br>
              <a:rPr sz="4000"/>
            </a:br>
            <a:r>
              <a:rPr b="0" lang="pt-BR" sz="2500" spc="-1" strike="noStrike">
                <a:solidFill>
                  <a:srgbClr val="660066"/>
                </a:solidFill>
                <a:latin typeface="Tahoma"/>
              </a:rPr>
              <a:t>em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computação</a:t>
            </a:r>
            <a:br>
              <a:rPr sz="4000"/>
            </a:b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music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190760" y="3809880"/>
            <a:ext cx="4136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545472"/>
                </a:solidFill>
                <a:latin typeface="Tahoma"/>
              </a:rPr>
              <a:t>Alessandro Lima</a:t>
            </a:r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545472"/>
                </a:solidFill>
                <a:latin typeface="Tahoma"/>
              </a:rPr>
              <a:t>Filipe Levi</a:t>
            </a:r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545472"/>
                </a:solidFill>
                <a:latin typeface="Tahoma"/>
              </a:rPr>
              <a:t>Ivan Cardim</a:t>
            </a:r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545472"/>
                </a:solidFill>
                <a:latin typeface="Tahoma"/>
              </a:rPr>
              <a:t>Paulo Roberto</a:t>
            </a:r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545472"/>
                </a:solidFill>
                <a:latin typeface="Tahoma"/>
              </a:rPr>
              <a:t>Rafael Duarte</a:t>
            </a:r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c7c7df"/>
                </a:solidFill>
                <a:latin typeface="Tahoma"/>
              </a:rPr>
              <a:t>{avfl, flba, icc2, prsof, rmd}@cin.ufpe.br</a:t>
            </a:r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80" name="cm" descr=""/>
          <p:cNvPicPr/>
          <p:nvPr/>
        </p:nvPicPr>
        <p:blipFill>
          <a:blip r:embed="rId1"/>
          <a:stretch/>
        </p:blipFill>
        <p:spPr>
          <a:xfrm>
            <a:off x="4724280" y="690480"/>
            <a:ext cx="3646440" cy="2778120"/>
          </a:xfrm>
          <a:prstGeom prst="rect">
            <a:avLst/>
          </a:prstGeom>
          <a:ln w="12600">
            <a:solidFill>
              <a:srgbClr val="cc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gente - arquite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1295280"/>
            <a:ext cx="2133360" cy="838440"/>
          </a:xfrm>
          <a:prstGeom prst="can">
            <a:avLst>
              <a:gd name="adj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Base de conhecimentos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histórica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743200"/>
            <a:ext cx="1218960" cy="762120"/>
          </a:xfrm>
          <a:prstGeom prst="can">
            <a:avLst>
              <a:gd name="adj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stado do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undo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4343400"/>
            <a:ext cx="1218960" cy="685800"/>
          </a:xfrm>
          <a:prstGeom prst="can">
            <a:avLst>
              <a:gd name="adj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vicçõe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2743200"/>
            <a:ext cx="1219320" cy="685800"/>
          </a:xfrm>
          <a:prstGeom prst="can">
            <a:avLst>
              <a:gd name="adj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Objetivos de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ecução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4114800"/>
            <a:ext cx="1371600" cy="1447920"/>
            <a:chOff x="1143000" y="4114800"/>
            <a:chExt cx="1371600" cy="1447920"/>
          </a:xfrm>
        </p:grpSpPr>
        <p:sp>
          <p:nvSpPr>
            <p:cNvPr id="103" name=""/>
            <p:cNvSpPr/>
            <p:nvPr/>
          </p:nvSpPr>
          <p:spPr>
            <a:xfrm>
              <a:off x="1143000" y="4114800"/>
              <a:ext cx="1371600" cy="1447920"/>
            </a:xfrm>
            <a:prstGeom prst="rect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tmo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monia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ressão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lódica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4537080"/>
              <a:ext cx="13716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4959360"/>
              <a:ext cx="13716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09880" y="2819520"/>
            <a:ext cx="1905120" cy="685800"/>
            <a:chOff x="3809880" y="2819520"/>
            <a:chExt cx="1905120" cy="685800"/>
          </a:xfrm>
        </p:grpSpPr>
        <p:sp>
          <p:nvSpPr>
            <p:cNvPr id="107" name=""/>
            <p:cNvSpPr/>
            <p:nvPr/>
          </p:nvSpPr>
          <p:spPr>
            <a:xfrm>
              <a:off x="3809880" y="2819520"/>
              <a:ext cx="1905120" cy="685800"/>
            </a:xfrm>
            <a:prstGeom prst="rect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8195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canismo de Inferência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010280" y="3886200"/>
            <a:ext cx="1371600" cy="1447920"/>
            <a:chOff x="7010280" y="3886200"/>
            <a:chExt cx="1371600" cy="1447920"/>
          </a:xfrm>
        </p:grpSpPr>
        <p:sp>
          <p:nvSpPr>
            <p:cNvPr id="110" name=""/>
            <p:cNvSpPr/>
            <p:nvPr/>
          </p:nvSpPr>
          <p:spPr>
            <a:xfrm>
              <a:off x="7010280" y="3886200"/>
              <a:ext cx="1371600" cy="1447920"/>
            </a:xfrm>
            <a:prstGeom prst="rect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tmo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monia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ressão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lódica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10280" y="4308480"/>
              <a:ext cx="13716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0280" y="4730760"/>
              <a:ext cx="13716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55627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ponente de percepção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5410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ponente de execução</a:t>
            </a:r>
            <a:r>
              <a:rPr b="0" lang="pt-BR" sz="16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828800" y="3504960"/>
            <a:ext cx="0" cy="60948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00600" y="3505320"/>
            <a:ext cx="0" cy="83808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97000" y="2131920"/>
            <a:ext cx="7200" cy="53352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200400"/>
            <a:ext cx="1371600" cy="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124080"/>
            <a:ext cx="1066680" cy="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438280" y="2057400"/>
            <a:ext cx="1295640" cy="91440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429000"/>
            <a:ext cx="0" cy="45720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22" name="MP00640_" descr=""/>
          <p:cNvPicPr/>
          <p:nvPr/>
        </p:nvPicPr>
        <p:blipFill>
          <a:blip r:embed="rId1"/>
          <a:stretch/>
        </p:blipFill>
        <p:spPr>
          <a:xfrm>
            <a:off x="4419720" y="5562720"/>
            <a:ext cx="990360" cy="985680"/>
          </a:xfrm>
          <a:prstGeom prst="rect">
            <a:avLst/>
          </a:prstGeom>
          <a:ln w="0">
            <a:noFill/>
          </a:ln>
        </p:spPr>
      </p:pic>
      <p:pic>
        <p:nvPicPr>
          <p:cNvPr id="123" name="ear" descr=""/>
          <p:cNvPicPr/>
          <p:nvPr/>
        </p:nvPicPr>
        <p:blipFill>
          <a:blip r:embed="rId2"/>
          <a:stretch/>
        </p:blipFill>
        <p:spPr>
          <a:xfrm>
            <a:off x="1523880" y="5943600"/>
            <a:ext cx="762120" cy="703440"/>
          </a:xfrm>
          <a:prstGeom prst="rect">
            <a:avLst/>
          </a:prstGeom>
          <a:ln w="0">
            <a:noFill/>
          </a:ln>
        </p:spPr>
      </p:pic>
      <p:pic>
        <p:nvPicPr>
          <p:cNvPr id="124" name="mouth" descr=""/>
          <p:cNvPicPr/>
          <p:nvPr/>
        </p:nvPicPr>
        <p:blipFill>
          <a:blip r:embed="rId3"/>
          <a:stretch/>
        </p:blipFill>
        <p:spPr>
          <a:xfrm>
            <a:off x="7315200" y="5791320"/>
            <a:ext cx="914400" cy="81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2285640" y="6095880"/>
            <a:ext cx="2133720" cy="15264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410080" y="6095880"/>
            <a:ext cx="1828800" cy="7632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istemas musicais com ag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mono ou multi-agentes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erformance de música é algo inerentemente distribuíd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um sistema mono-agente seria pré-processado (teria como saber com antecedência o resultado da execuçã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istema musical multi-ag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munidade onde músicos reais e artificiais comunicam-se através de eventos musica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aracterísticas important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latência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der de processament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der de expressã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mam genérico</a:t>
            </a:r>
            <a:br>
              <a:rPr sz="4400"/>
            </a:b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 caracterí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existência de líder (centralização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comunicação entre os agent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FIPA AC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escolha de representação para a música (linguagem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rioridades para os agent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igual para todo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humanos com prioridade mai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nível de detalhe dos agent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quanto eles percebem de uma músic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qualidade da função de utilidad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mam </a:t>
            </a:r>
            <a:br>
              <a:rPr sz="4400"/>
            </a:b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x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latênc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sincronism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oder de processa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essage handling deve ser econômic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oder de express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odos os agentes devem ter o mesmo poder de expressã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utilização de MIDI como linguag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mam - arquite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6" name="blackboard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048120" cy="1241640"/>
          </a:xfrm>
          <a:prstGeom prst="rect">
            <a:avLst/>
          </a:prstGeom>
          <a:ln w="0">
            <a:noFill/>
          </a:ln>
        </p:spPr>
      </p:pic>
      <p:pic>
        <p:nvPicPr>
          <p:cNvPr id="137" name="keyboard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838440" cy="47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54360" y="4013280"/>
            <a:ext cx="15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Arial"/>
                <a:ea typeface="Arial"/>
              </a:rPr>
              <a:t>Agente Musical 1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Arial"/>
                <a:ea typeface="Arial"/>
              </a:rPr>
              <a:t>(interface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429000"/>
            <a:ext cx="1676520" cy="114300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64240" y="4038480"/>
            <a:ext cx="158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Arial"/>
                <a:ea typeface="Arial"/>
              </a:rPr>
              <a:t>Agente Musical 2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Arial"/>
                <a:ea typeface="Arial"/>
              </a:rPr>
              <a:t>Bateria autônoma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3429000"/>
            <a:ext cx="1676520" cy="114300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2" name="pc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95440" cy="609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12760" y="4038480"/>
            <a:ext cx="17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Arial"/>
                <a:ea typeface="Arial"/>
              </a:rPr>
              <a:t>Agente Musical 3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Arial"/>
                <a:ea typeface="Arial"/>
              </a:rPr>
              <a:t>Saxofone autônomo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429000"/>
            <a:ext cx="1676520" cy="114300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c" descr=""/>
          <p:cNvPicPr/>
          <p:nvPr/>
        </p:nvPicPr>
        <p:blipFill>
          <a:blip r:embed="rId4"/>
          <a:stretch/>
        </p:blipFill>
        <p:spPr>
          <a:xfrm>
            <a:off x="7086600" y="3505320"/>
            <a:ext cx="595440" cy="609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981080" y="2819160"/>
            <a:ext cx="1524240" cy="60948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409720" y="2819160"/>
            <a:ext cx="1752840" cy="60948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572000" y="2819160"/>
            <a:ext cx="0" cy="60948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52480" y="4572000"/>
            <a:ext cx="0" cy="53352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1600200"/>
            <a:ext cx="25909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1828800"/>
            <a:ext cx="25146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Blackboard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5105520"/>
          <a:ext cx="127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105520"/>
                    <a:ext cx="1276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361600" y="6248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Ray Charle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mam genérico</a:t>
            </a:r>
            <a:br>
              <a:rPr sz="4400"/>
            </a:b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scolh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escolha cuidadosa</a:t>
            </a:r>
            <a:br>
              <a:rPr sz="2800"/>
            </a:b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e agent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gentes com objetivos</a:t>
            </a:r>
            <a:br>
              <a:rPr sz="2300"/>
            </a:b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nflitant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arinhas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373356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666800" y="4916520"/>
            <a:ext cx="5876640" cy="1082520"/>
            <a:chOff x="1666800" y="4916520"/>
            <a:chExt cx="5876640" cy="1082520"/>
          </a:xfrm>
        </p:grpSpPr>
        <p:graphicFrame>
          <p:nvGraphicFramePr>
            <p:cNvPr id="159" name=""/>
            <p:cNvGraphicFramePr/>
            <p:nvPr/>
          </p:nvGraphicFramePr>
          <p:xfrm>
            <a:off x="1666800" y="4916520"/>
            <a:ext cx="2457360" cy="1082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66800" y="4916520"/>
                      <a:ext cx="2457360" cy="10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5094000" y="4916520"/>
            <a:ext cx="2449440" cy="108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94000" y="4916520"/>
                      <a:ext cx="2449440" cy="10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188960" y="5057640"/>
            <a:ext cx="816120" cy="799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88960" y="5057640"/>
                      <a:ext cx="816120" cy="79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693880" cy="3024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Inbalad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057400"/>
            <a:ext cx="562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rojeto desenvolvido na cadeira de computação musi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simulação de uma batucada             – apenas percussã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agentes tocam em ritmos que “combinam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Inbalad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8193"/>
          <a:stretch/>
        </p:blipFill>
        <p:spPr>
          <a:xfrm>
            <a:off x="1692360" y="1940040"/>
            <a:ext cx="5832360" cy="4537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63640" y="172404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11640" y="1724040"/>
            <a:ext cx="1285920" cy="94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940360" y="1795320"/>
            <a:ext cx="1366920" cy="847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835280" y="12924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45472"/>
                </a:solidFill>
                <a:latin typeface="Arial"/>
              </a:rPr>
              <a:t>Novo agent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129240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45472"/>
                </a:solidFill>
                <a:latin typeface="Arial"/>
              </a:rPr>
              <a:t>Agente mais antigo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12924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45472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ossíveis melho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créscimo de novos instrumento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melhorar o processo de negociaç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melhorar função de avaliaç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efinições important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relacionando as cois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gent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istemas multi-agentes musica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exemplos rea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nclus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utros siste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olvo violon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ntidades envolvidas na performance do violã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companhamento de sal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gente entra no ritmo da banda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stado da arte – teste de tu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33720" y="2133720"/>
          <a:ext cx="5181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181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clus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o paradigma de sistemas multi-agentes se aplica muito bem no contexto de computação music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Wulfhorst, R. D. et al. A Multiagent Approach for Musical Interactive System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stalonga, L. L et al. Um Sistema Multiagente para Simulação de Performance Rítmica no Violã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Murray-Rust, D. et al. VirtuaLatin – Towards a Musical Multi-Agent Syste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’Inverno M. et al. Embedded intelligent music – or iHiFi the intelligent HiF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finiçõ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mputação music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Tahoma"/>
              </a:rPr>
              <a:t>computer music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is music generated with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br>
              <a:rPr sz="2300"/>
            </a:b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or composed with the aid of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computers</a:t>
            </a:r>
            <a:br>
              <a:rPr sz="2300"/>
            </a:br>
            <a:r>
              <a:rPr b="0" lang="pt-BR" sz="1500" spc="-1" strike="noStrike">
                <a:solidFill>
                  <a:srgbClr val="545472"/>
                </a:solidFill>
                <a:latin typeface="Tahoma"/>
              </a:rPr>
              <a:t>www.wikipedia.org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gente inteligent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m </a:t>
            </a:r>
            <a:r>
              <a:rPr b="1" lang="pt-BR" sz="2300" spc="-1" strike="noStrike">
                <a:solidFill>
                  <a:srgbClr val="000000"/>
                </a:solidFill>
                <a:latin typeface="Tahoma"/>
              </a:rPr>
              <a:t>agente inteligent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é uma entidade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br>
              <a:rPr sz="2300"/>
            </a:b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ahoma"/>
              </a:rPr>
              <a:t>real ou virtual – inserida em um ambiente</a:t>
            </a:r>
            <a:br>
              <a:rPr sz="2300"/>
            </a:b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ahoma"/>
              </a:rPr>
              <a:t>onde pode executar açõ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lacionando as cois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utonom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reflex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reativida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ró-ativida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ercepção baseada em objetiv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nsciência soci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municaç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gentes – defini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entidade virtual ou real, inserida num contexto onde pode realizar ação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aracterísticas antropomórfic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dentificação e classificação de habilidades naturais dos músicos: percepção, empolgação, experiência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aca de dois gumes: agentes nunca erram. Em compensação, não tem emoçã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g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onjunto mínimo de açõ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erceber/representa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nota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timbr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batucad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municar-s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transmitir e entender recad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utonomia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seguir objetiv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ercep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nunca é possível perceber a música como um tod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é necessário no mínim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nter sincronia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ferir mudanças harmônica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todas as outras ações devem respeitar as acim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munic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importante coordenar sensores e atores (sincronism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nem sempre é possível agradar. é importante saber o grau de satisfação (Função de Utilidad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b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xec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cuidadoso: toca apenas se tem alta confianç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líder: toca firmemente, estimulando outros músicos a se adaptare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inflexível: mantém sua métric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flexível: se adapta a qualquer mudança de métric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improvisador: propõe mudanças harmônicas freqüentement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lírico: não se preocupa em seguir o tempo dos outros. propõe mudanças quando acha apropriado ou segur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15:19:37Z</dcterms:created>
  <dc:creator>flba</dc:creator>
  <dc:description/>
  <dc:language>en-US</dc:language>
  <cp:lastModifiedBy>flba</cp:lastModifiedBy>
  <dcterms:modified xsi:type="dcterms:W3CDTF">2004-08-05T18:57:41Z</dcterms:modified>
  <cp:revision>44</cp:revision>
  <dc:subject/>
  <dc:title>aplicações de agentes inteligentes em computação musical</dc:title>
</cp:coreProperties>
</file>