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17C3-03CF-4758-B6E4-1356D9C139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neubourg: efetuado pela formiga argentina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Linepithema humile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é bas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ttp://www.stigmergicsystems.com/stig_v1/stigrefs/article1.html?5515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ttp://www.stigmergicsystems.com/stig_v1/whatisstigmergy.html?8985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8C8-3EF3-4418-A58D-956C0E7F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90F-D7D2-411E-8B06-853D93C3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DC3-D9E4-4BCE-855A-9BE4A0BF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A49-A146-4485-9C98-3067895A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FA5E-D251-4E57-AE8D-E7EC29DB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6D53-17C3-4EF3-9C64-E44D71AB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321B-B01B-4840-B09F-EC2689CE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3738-E1E0-44A9-9085-4AA07AB9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9189-3E0E-42B0-AFCD-75FC7EB3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5D75-C00A-4AD6-895D-096F91BF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FF52-5ED0-46D9-92EC-E8776EF1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D89-EFC1-49B4-97C7-F8A09881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A5AE-38F2-4029-9810-C17BA161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A9AE-D403-49F5-B093-3218E34F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A699-835E-44DA-B0A4-A0E6DDE4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E40D-6542-4372-9BBA-57B4652E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B0E9-3094-4A25-A76C-C85AFB0E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254-1702-4B24-9851-D478A992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F7F-41CD-46A7-9372-C0F9C29C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BCE-7343-453B-B4E0-0AEEAFC1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C69-C85C-49A2-8CEE-C0D3D234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098-0F63-4595-A57B-58DF7E1C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248-91FC-4787-8F79-179CB2FB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746-42FE-4628-A1D7-82EB9DAA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924320" y="64134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ACA3-865F-4F77-998E-D6D551E4D581}" type="slidenum">
              <a:rPr b="0" lang="pt-BR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r>
              <a:rPr b="0" lang="pt-BR" sz="2400" spc="-1" strike="noStrike">
                <a:solidFill>
                  <a:srgbClr val="2a3d7a"/>
                </a:solidFill>
                <a:latin typeface="Times New Roman"/>
              </a:rPr>
              <a:t>/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9DC8-13A4-4503-8869-C449EA0000AC}" type="slidenum"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ducation.mit.edu/starlogo/" TargetMode="External"/><Relationship Id="rId2" Type="http://schemas.openxmlformats.org/officeDocument/2006/relationships/hyperlink" Target="http://education.mit.edu/starlogo/" TargetMode="External"/><Relationship Id="rId3" Type="http://schemas.openxmlformats.org/officeDocument/2006/relationships/hyperlink" Target="http://education.mit.edu/starlogo/" TargetMode="External"/><Relationship Id="rId4" Type="http://schemas.openxmlformats.org/officeDocument/2006/relationships/hyperlink" Target="http://education.mit.edu/starlogo/" TargetMode="External"/><Relationship Id="rId5" Type="http://schemas.openxmlformats.org/officeDocument/2006/relationships/hyperlink" Target="http://education.mit.edu/starlogo/" TargetMode="External"/><Relationship Id="rId6" Type="http://schemas.openxmlformats.org/officeDocument/2006/relationships/hyperlink" Target="http://education.mit.edu/starlogo/" TargetMode="External"/><Relationship Id="rId7" Type="http://schemas.openxmlformats.org/officeDocument/2006/relationships/hyperlink" Target="http://education.mit.edu/starlogo/" TargetMode="External"/><Relationship Id="rId8" Type="http://schemas.openxmlformats.org/officeDocument/2006/relationships/hyperlink" Target="http://education.mit.edu/starlogo/" TargetMode="External"/><Relationship Id="rId9" Type="http://schemas.openxmlformats.org/officeDocument/2006/relationships/hyperlink" Target="http://www.stigmergicsystems.com/" TargetMode="External"/><Relationship Id="rId10" Type="http://schemas.openxmlformats.org/officeDocument/2006/relationships/hyperlink" Target="http://www.stigmergicsystems.com/" TargetMode="External"/><Relationship Id="rId11" Type="http://schemas.openxmlformats.org/officeDocument/2006/relationships/hyperlink" Target="http://www.cin.ufpe.br/~aluizioa/Aprendizagem-de-Maquinas/AM-inteligencia-enxames.ps" TargetMode="Externa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Agentes Reativo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Daniel d’Andrada T. de Carvalho – ddt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João Paulo Cavalcanti Rolim – jpc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Marcelo Henrique Cavalcanti Jucá – mhcj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Cupins – Tempo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3" name="cupins04" descr=""/>
          <p:cNvPicPr/>
          <p:nvPr/>
        </p:nvPicPr>
        <p:blipFill>
          <a:blip r:embed="rId1"/>
          <a:stretch/>
        </p:blipFill>
        <p:spPr>
          <a:xfrm>
            <a:off x="3029040" y="2209680"/>
            <a:ext cx="39052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E0F-1C73-4E9B-9A9F-D690BC16BE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Estigmergia (Stigmergy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Times New Roman"/>
              </a:rPr>
              <a:t>Experimento do entomologista Deneubourg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Espalhou milhares de formigas mortas no interior de um formigueir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Dia 1: Várias pequenas pilh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Dia 2: Um gurpo menor de  pilhas maior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Dia 3: Uma única grande pilh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286-B259-4AB4-A4E7-78E2E03D98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Abelh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Times New Roman"/>
              </a:rPr>
              <a:t>Movimento das abelh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Favos de M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Forma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Circular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Hexagonai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Iteraçã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Trilha químic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Quantidade de abelh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601-3DCF-43B7-B5D5-EF3EBBB001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Abelhas – Tempo 0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abelhas01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9ED-0AE9-4428-A544-5D66322178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Abelhas – Tempo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1" name="abelhas0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114800" cy="408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C0F-261E-4154-8077-B755C65127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Abelhas – Tempo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3" name="abelhas03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1036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59F-C4B7-41B5-AFD3-FD7AA8705A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Abelhas – Tempo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5" name="abelhas04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093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F2A-A5F4-46AB-BF96-CA65968F07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Abelhas – Tempo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7" name="abelhas05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11480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048-66B0-4765-B006-1572B42756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Abelhas – Tempo 5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9" name="abelhas06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01796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5C1-F80E-46BD-8057-DCE8B59E95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Vaga-Lu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Times New Roman"/>
              </a:rPr>
              <a:t>Regr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Piscadas freqüênt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Tende a sincronizar o piscar com o da vizinhanç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9AF-38BF-4157-8A58-42C7C70819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O que é um agente reativ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Times New Roman"/>
              </a:rPr>
              <a:t>Não possui memóri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Times New Roman"/>
              </a:rPr>
              <a:t>Simplesmente “reage” ao estado atual do mund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Times New Roman"/>
              </a:rPr>
              <a:t>Pode ser visto como uma simples funçã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Times New Roman"/>
              </a:rPr>
              <a:t>Sua utilidade surge na atuação de vários agentes simultâneamen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E9D-4F38-41F6-AD01-A6F18E20CE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2a3d7a"/>
                </a:solidFill>
                <a:latin typeface="Times New Roman"/>
              </a:rPr>
              <a:t>Simulação de Vaga-Lumes – Tempo 0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3" name="vagaLumes01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114800" cy="409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C3F-C86A-49D5-9000-E737A2A855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2a3d7a"/>
                </a:solidFill>
                <a:latin typeface="Times New Roman"/>
              </a:rPr>
              <a:t>Simulação de Vaga-Lumes – Tempo 1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vagaLumes0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00824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5FB-3E12-40EE-A1F3-DA68E7DD77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2a3d7a"/>
                </a:solidFill>
                <a:latin typeface="Times New Roman"/>
              </a:rPr>
              <a:t>Simulação de Vaga-Lumes – Tempo 2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7" name="vagaLumes03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2A0-7B5B-4DBD-8A4D-B21E3FB731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2a3d7a"/>
                </a:solidFill>
                <a:latin typeface="Times New Roman"/>
              </a:rPr>
              <a:t>Simulação de Vaga-Lumes – Tempo 3</a:t>
            </a:r>
            <a:endParaRPr b="0" lang="en-US" sz="3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9" name="vagaLumes04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0273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9B5-1D75-4EA7-A426-B9142A8FDA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Formig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Caracterização do agen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Sensor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74040" indent="-212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Olfa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Efetuador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74040" indent="-212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Pat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274040" indent="-212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Mijad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Regras “Condição-Ação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274040" indent="-212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Se encontrar comida:</a:t>
            </a:r>
            <a:br>
              <a:rPr sz="2000"/>
            </a:b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Seguir o caminho de volta para o ninho.</a:t>
            </a:r>
            <a:br>
              <a:rPr sz="2000"/>
            </a:b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Senão:</a:t>
            </a:r>
            <a:br>
              <a:rPr sz="2000"/>
            </a:b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Procure por comida aleatoriamente.</a:t>
            </a:r>
            <a:br>
              <a:rPr sz="2000"/>
            </a:b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Se encontrar feromônio:</a:t>
            </a: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Segue o rastro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6E2-660D-4EC5-A49B-F811632C2F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Formig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Times New Roman"/>
              </a:rPr>
              <a:t>Organização da colôn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Cada agente (formiga) realiza suas ações individualmente (exploradora, soldado, porta-comida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Auto-organização (sem indivíduos ‘supervisores’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CB0-4E3E-4FEC-BE0D-D0827740CF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Formig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Experim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Deneubour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Escolha do caminho baseada em auto-organização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Conclusõ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Escolha do caminho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45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b5249"/>
                </a:solidFill>
                <a:latin typeface="Times New Roman"/>
              </a:rPr>
              <a:t>Caminho curto </a:t>
            </a:r>
            <a:r>
              <a:rPr b="0" lang="pt-BR" sz="1800" spc="-1" strike="noStrike">
                <a:solidFill>
                  <a:srgbClr val="5b5249"/>
                </a:solidFill>
                <a:latin typeface="Webdings"/>
                <a:ea typeface="Webdings"/>
              </a:rPr>
              <a:t></a:t>
            </a:r>
            <a:r>
              <a:rPr b="0" lang="pt-BR" sz="1800" spc="-1" strike="noStrike">
                <a:solidFill>
                  <a:srgbClr val="5b5249"/>
                </a:solidFill>
                <a:latin typeface="Times New Roman"/>
              </a:rPr>
              <a:t> mais feromôni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249"/>
                </a:solidFill>
                <a:latin typeface="Times New Roman"/>
              </a:rPr>
              <a:t>Limitaçã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45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b5249"/>
                </a:solidFill>
                <a:latin typeface="Times New Roman"/>
              </a:rPr>
              <a:t>Criação de novos caminhos mais curto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Evaporação VS Caminhos long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Memóri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8F8-4040-4F31-9FB7-B94AB2F411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Experimento de Deneubour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8120" y="1752480"/>
            <a:ext cx="4114800" cy="4876920"/>
            <a:chOff x="3048120" y="1752480"/>
            <a:chExt cx="4114800" cy="4876920"/>
          </a:xfrm>
        </p:grpSpPr>
        <p:sp>
          <p:nvSpPr>
            <p:cNvPr id="168" name=""/>
            <p:cNvSpPr/>
            <p:nvPr/>
          </p:nvSpPr>
          <p:spPr>
            <a:xfrm flipH="1">
              <a:off x="3353040" y="2895480"/>
              <a:ext cx="457200" cy="129564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53040" y="4191120"/>
              <a:ext cx="914400" cy="121896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0240" y="2895480"/>
              <a:ext cx="3352680" cy="11430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029560" y="4038480"/>
              <a:ext cx="2133360" cy="4572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267080" y="4495680"/>
              <a:ext cx="762120" cy="9144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10240" y="2286000"/>
              <a:ext cx="0" cy="60948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440" y="5410080"/>
              <a:ext cx="0" cy="6858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05320" y="6095880"/>
              <a:ext cx="1447920" cy="5335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5b5249"/>
                  </a:solidFill>
                  <a:latin typeface="Times New Roman"/>
                </a:rPr>
                <a:t>ninh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8120" y="1752480"/>
              <a:ext cx="1447920" cy="5335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5b5249"/>
                  </a:solidFill>
                  <a:latin typeface="Times New Roman"/>
                </a:rPr>
                <a:t>aliment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43400" y="4994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T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DA1-CD1C-40CC-8FB6-4106F208CB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Experimento de Deneubour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8120" y="1752480"/>
            <a:ext cx="4114800" cy="4876920"/>
            <a:chOff x="3048120" y="1752480"/>
            <a:chExt cx="4114800" cy="4876920"/>
          </a:xfrm>
        </p:grpSpPr>
        <p:grpSp>
          <p:nvGrpSpPr>
            <p:cNvPr id="180" name=""/>
            <p:cNvGrpSpPr/>
            <p:nvPr/>
          </p:nvGrpSpPr>
          <p:grpSpPr>
            <a:xfrm>
              <a:off x="3048120" y="1752480"/>
              <a:ext cx="4114800" cy="4876920"/>
              <a:chOff x="3048120" y="1752480"/>
              <a:chExt cx="4114800" cy="487692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3353040" y="2895480"/>
                <a:ext cx="457200" cy="1295640"/>
              </a:xfrm>
              <a:prstGeom prst="line">
                <a:avLst/>
              </a:prstGeom>
              <a:ln w="63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53040" y="4191120"/>
                <a:ext cx="914400" cy="1218960"/>
              </a:xfrm>
              <a:prstGeom prst="line">
                <a:avLst/>
              </a:prstGeom>
              <a:ln w="63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10240" y="2895480"/>
                <a:ext cx="3352680" cy="1143000"/>
              </a:xfrm>
              <a:prstGeom prst="line">
                <a:avLst/>
              </a:prstGeom>
              <a:ln w="63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029560" y="4038480"/>
                <a:ext cx="2133360" cy="457200"/>
              </a:xfrm>
              <a:prstGeom prst="line">
                <a:avLst/>
              </a:prstGeom>
              <a:ln w="63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4267080" y="4495680"/>
                <a:ext cx="762120" cy="914400"/>
              </a:xfrm>
              <a:prstGeom prst="line">
                <a:avLst/>
              </a:prstGeom>
              <a:ln w="63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10240" y="2286000"/>
                <a:ext cx="0" cy="609480"/>
              </a:xfrm>
              <a:prstGeom prst="line">
                <a:avLst/>
              </a:prstGeom>
              <a:ln w="63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67440" y="5410080"/>
                <a:ext cx="0" cy="685800"/>
              </a:xfrm>
              <a:prstGeom prst="line">
                <a:avLst/>
              </a:prstGeom>
              <a:ln w="63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05320" y="6095880"/>
                <a:ext cx="1447920" cy="5335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5b5249"/>
                    </a:solidFill>
                    <a:latin typeface="Times New Roman"/>
                  </a:rPr>
                  <a:t>ninho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48120" y="1752480"/>
                <a:ext cx="1447920" cy="5335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5b5249"/>
                    </a:solidFill>
                    <a:latin typeface="Times New Roman"/>
                  </a:rPr>
                  <a:t>alimento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5243400" y="4994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5b5249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81640" y="3124080"/>
              <a:ext cx="228600" cy="22860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6240" y="3581280"/>
              <a:ext cx="228600" cy="22860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6040" y="4800600"/>
              <a:ext cx="228600" cy="22860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4648320"/>
              <a:ext cx="228600" cy="22860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15000" y="4267080"/>
              <a:ext cx="228600" cy="22860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38B-763A-4A44-B28F-2100A0C050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Experimento de Deneubour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048120" y="1752480"/>
            <a:ext cx="4114800" cy="4876920"/>
            <a:chOff x="3048120" y="1752480"/>
            <a:chExt cx="4114800" cy="4876920"/>
          </a:xfrm>
        </p:grpSpPr>
        <p:sp>
          <p:nvSpPr>
            <p:cNvPr id="198" name=""/>
            <p:cNvSpPr/>
            <p:nvPr/>
          </p:nvSpPr>
          <p:spPr>
            <a:xfrm flipH="1">
              <a:off x="3353040" y="2895480"/>
              <a:ext cx="457200" cy="129564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3040" y="4191120"/>
              <a:ext cx="914400" cy="121896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10240" y="2895480"/>
              <a:ext cx="3352680" cy="11430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029560" y="4038480"/>
              <a:ext cx="2133360" cy="4572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267080" y="4495680"/>
              <a:ext cx="762120" cy="9144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10240" y="2286000"/>
              <a:ext cx="0" cy="60948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440" y="5410080"/>
              <a:ext cx="0" cy="6858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6095880"/>
              <a:ext cx="1447920" cy="5335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5b5249"/>
                  </a:solidFill>
                  <a:latin typeface="Times New Roman"/>
                </a:rPr>
                <a:t>ninh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48120" y="1752480"/>
              <a:ext cx="1447920" cy="5335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5b5249"/>
                  </a:solidFill>
                  <a:latin typeface="Times New Roman"/>
                </a:rPr>
                <a:t>aliment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487840" y="5105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320040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34340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88620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472428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50532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502920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327672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3A9-488F-444C-A31F-1A64C8C66F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O que é um agente reativ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02560" y="2604960"/>
            <a:ext cx="1119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5b5249"/>
                </a:solidFill>
                <a:latin typeface="Arial"/>
              </a:rPr>
              <a:t>Agente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2592360"/>
            <a:ext cx="8444160" cy="2360520"/>
            <a:chOff x="609480" y="2592360"/>
            <a:chExt cx="8444160" cy="2360520"/>
          </a:xfrm>
        </p:grpSpPr>
        <p:sp>
          <p:nvSpPr>
            <p:cNvPr id="105" name=""/>
            <p:cNvSpPr/>
            <p:nvPr/>
          </p:nvSpPr>
          <p:spPr>
            <a:xfrm>
              <a:off x="2704680" y="2592360"/>
              <a:ext cx="6274800" cy="23605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1686600" y="4618080"/>
              <a:ext cx="1517400" cy="252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86960" y="2866320"/>
              <a:ext cx="158976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60520" y="2704680"/>
              <a:ext cx="1303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5b5249"/>
                  </a:solidFill>
                  <a:latin typeface="Arial"/>
                </a:rPr>
                <a:t>sensore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86360" y="4456800"/>
              <a:ext cx="1629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5b5249"/>
                  </a:solidFill>
                  <a:latin typeface="Arial"/>
                </a:rPr>
                <a:t>efetuadore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480" y="2592360"/>
              <a:ext cx="1360440" cy="2301480"/>
            </a:xfrm>
            <a:custGeom>
              <a:avLst/>
              <a:gdLst>
                <a:gd name="textAreaLeft" fmla="*/ 49680 w 1360440"/>
                <a:gd name="textAreaRight" fmla="*/ 1310760 w 1360440"/>
                <a:gd name="textAreaTop" fmla="*/ 49680 h 2301480"/>
                <a:gd name="textAreaBottom" fmla="*/ 2251800 h 2301480"/>
              </a:gdLst>
              <a:ahLst/>
              <a:rect l="textAreaLeft" t="textAreaTop" r="textAreaRight" b="textAreaBottom"/>
              <a:pathLst>
                <a:path w="21600" h="36537">
                  <a:moveTo>
                    <a:pt x="2699" y="0"/>
                  </a:moveTo>
                  <a:arcTo wR="2699" hR="2699" stAng="16200000" swAng="-5400000"/>
                  <a:lnTo>
                    <a:pt x="0" y="33838"/>
                  </a:lnTo>
                  <a:arcTo wR="2699" hR="2699" stAng="10800000" swAng="-5400000"/>
                  <a:lnTo>
                    <a:pt x="18901" y="3653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2760" y="3265920"/>
              <a:ext cx="3341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000" spc="-1" strike="noStrike">
                  <a:solidFill>
                    <a:srgbClr val="5b5249"/>
                  </a:solidFill>
                  <a:latin typeface="Arial"/>
                </a:rPr>
                <a:t>Como está o mundo agora?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7520" y="3897000"/>
              <a:ext cx="3812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2000" spc="-1" strike="noStrike">
                  <a:solidFill>
                    <a:srgbClr val="5b5249"/>
                  </a:solidFill>
                  <a:latin typeface="Arial"/>
                </a:rPr>
                <a:t>Que ação devo escolher agora?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2880" y="3007080"/>
              <a:ext cx="0" cy="34992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82880" y="3566520"/>
              <a:ext cx="0" cy="35136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2880" y="4197600"/>
              <a:ext cx="0" cy="27972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456240" y="4080960"/>
              <a:ext cx="433440" cy="0"/>
            </a:xfrm>
            <a:prstGeom prst="line">
              <a:avLst/>
            </a:prstGeom>
            <a:ln w="12600">
              <a:solidFill>
                <a:srgbClr val="5b524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29200" y="3857760"/>
              <a:ext cx="2224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5b5249"/>
                  </a:solidFill>
                  <a:latin typeface="Arial"/>
                </a:rPr>
                <a:t>Regras 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5b5249"/>
                  </a:solidFill>
                  <a:latin typeface="Arial"/>
                </a:rPr>
                <a:t>“</a:t>
              </a:r>
              <a:r>
                <a:rPr b="1" lang="pt-BR" sz="2000" spc="-1" strike="noStrike">
                  <a:solidFill>
                    <a:srgbClr val="5b5249"/>
                  </a:solidFill>
                  <a:latin typeface="Arial"/>
                </a:rPr>
                <a:t>condição-ação”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96160" y="3884400"/>
              <a:ext cx="2010960" cy="52848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41000" y="3519360"/>
              <a:ext cx="1792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5b5249"/>
                  </a:solidFill>
                  <a:latin typeface="Arial"/>
                </a:rPr>
                <a:t>a m b i e n t 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394-AD15-4C94-AE4C-7BEA720A7E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Experimento de Deneubour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48120" y="1752480"/>
            <a:ext cx="4114800" cy="4876920"/>
            <a:chOff x="3048120" y="1752480"/>
            <a:chExt cx="4114800" cy="4876920"/>
          </a:xfrm>
        </p:grpSpPr>
        <p:sp>
          <p:nvSpPr>
            <p:cNvPr id="217" name=""/>
            <p:cNvSpPr/>
            <p:nvPr/>
          </p:nvSpPr>
          <p:spPr>
            <a:xfrm flipH="1">
              <a:off x="3353040" y="2895480"/>
              <a:ext cx="457200" cy="129564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53040" y="4191120"/>
              <a:ext cx="914400" cy="121896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10240" y="2895480"/>
              <a:ext cx="3352680" cy="11430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029560" y="4038480"/>
              <a:ext cx="2133360" cy="4572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267080" y="4495680"/>
              <a:ext cx="762120" cy="9144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10240" y="2286000"/>
              <a:ext cx="0" cy="60948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67440" y="5410080"/>
              <a:ext cx="0" cy="685800"/>
            </a:xfrm>
            <a:prstGeom prst="line">
              <a:avLst/>
            </a:prstGeom>
            <a:ln w="63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6095880"/>
              <a:ext cx="1447920" cy="5335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5b5249"/>
                  </a:solidFill>
                  <a:latin typeface="Times New Roman"/>
                </a:rPr>
                <a:t>ninh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1752480"/>
              <a:ext cx="1447920" cy="5335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5b5249"/>
                  </a:solidFill>
                  <a:latin typeface="Times New Roman"/>
                </a:rPr>
                <a:t>aliment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487840" y="5105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20040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434340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88620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472428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350532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502920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3276720"/>
            <a:ext cx="228600" cy="2286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809880" y="2895120"/>
            <a:ext cx="457200" cy="2514600"/>
          </a:xfrm>
          <a:prstGeom prst="line">
            <a:avLst/>
          </a:prstGeom>
          <a:ln w="63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979-7FFA-4081-A647-07DBEBAA40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Formigas – Tempo 0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36" name="formigas01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038480" cy="40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701-D1A0-4AA4-BE04-FD200B1057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formigas0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Formigas – Tempo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7FF-DA86-413C-8396-124503E85C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formigas03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076640" cy="41148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Formigas – Tempo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6A2-D7BC-4BD1-BA28-8E7D349B64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formigas04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Formigas – Tempo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F58-E654-447C-9777-D869D68EA7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formigas05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114800" cy="40924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Formigas – Tempo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E5B-B371-40CD-B886-F39EAEAFA9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Starlogo: </a:t>
            </a:r>
            <a:r>
              <a:rPr b="0" lang="pt-BR" sz="2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pt-BR" sz="2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pt-BR" sz="24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education</a:t>
            </a:r>
            <a:r>
              <a:rPr b="0" lang="pt-BR" sz="24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.mit.</a:t>
            </a:r>
            <a:r>
              <a:rPr b="0" lang="pt-BR" sz="24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edu</a:t>
            </a:r>
            <a:r>
              <a:rPr b="0" lang="pt-BR" sz="24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pt-BR" sz="24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starlogo</a:t>
            </a:r>
            <a:r>
              <a:rPr b="0" lang="pt-BR" sz="24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/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Stigmergyc Systems: </a:t>
            </a:r>
            <a:r>
              <a:rPr b="0" lang="pt-BR" sz="24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http://www.stigmergicsystems.com</a:t>
            </a:r>
            <a:r>
              <a:rPr b="0" lang="pt-BR" sz="24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/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Formigas: </a:t>
            </a:r>
            <a:r>
              <a:rPr b="0" lang="pt-BR" sz="24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http://www.cin.ufpe.br/~aluizioa/Aprendizagem-de-Maquinas/AM-inteligencia-enxames.p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E8D-F389-4C8F-B982-1483581C06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Estigmergia (Stigmergy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Proposto originalmente por Grasse para explicar o comportamento de cupin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Comunicação indireta através da alteração do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Raiz do comportamento de construção de ninhos de cupins, formigas, abelhas, vespas e outros insetos socia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Sistemas simples produzindo resultados altamentes organizados e coordenado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260-9FAD-492B-9775-DFE5440049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Estigmergia (Stigmergy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termitenest" descr="termite nest"/>
          <p:cNvPicPr/>
          <p:nvPr/>
        </p:nvPicPr>
        <p:blipFill>
          <a:blip r:embed="rId1"/>
          <a:stretch/>
        </p:blipFill>
        <p:spPr>
          <a:xfrm>
            <a:off x="2895480" y="1600200"/>
            <a:ext cx="3851280" cy="505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405-F473-454A-BC51-36C07D166C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Estigmergia (Stigmergy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b5249"/>
                </a:solidFill>
                <a:latin typeface="Times New Roman"/>
              </a:rPr>
              <a:t>Experimento de Grasse com cupi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Prato com terra e pequenas bolas de dejetos de cupim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Adiciona-se um punhado de cupin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Algumas colun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249"/>
                </a:solidFill>
                <a:latin typeface="Times New Roman"/>
              </a:rPr>
              <a:t>Arco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4EA-1470-47A2-BEDC-3F338ADFC7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Cupins – Tempo 0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cupins01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905280" cy="38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5DF-8FAD-4E0A-A09F-8B4114B4F4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Cupins – Tempo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9" name="cupins02" descr=""/>
          <p:cNvPicPr/>
          <p:nvPr/>
        </p:nvPicPr>
        <p:blipFill>
          <a:blip r:embed="rId1"/>
          <a:stretch/>
        </p:blipFill>
        <p:spPr>
          <a:xfrm>
            <a:off x="2971800" y="2181240"/>
            <a:ext cx="3914640" cy="391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F86-71DF-472C-AC90-40A3218039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2a3d7a"/>
                </a:solidFill>
                <a:latin typeface="Times New Roman"/>
              </a:rPr>
              <a:t>Simulação de Cupins – Tempo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1" name="cupins03" descr=""/>
          <p:cNvPicPr/>
          <p:nvPr/>
        </p:nvPicPr>
        <p:blipFill>
          <a:blip r:embed="rId1"/>
          <a:stretch/>
        </p:blipFill>
        <p:spPr>
          <a:xfrm>
            <a:off x="3029040" y="2209680"/>
            <a:ext cx="3905280" cy="38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F17-EA06-4CDF-95DA-CEB916EDA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dtc</cp:lastModifiedBy>
  <dcterms:modified xsi:type="dcterms:W3CDTF">2004-08-02T15:41:37Z</dcterms:modified>
  <cp:revision>22</cp:revision>
  <dc:subject/>
  <dc:title>PowerPoint Presentation</dc:title>
</cp:coreProperties>
</file>