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9487-6380-4B7D-ABD1-86BFDBEEC3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6B42-5898-4FD7-895C-CA96145893A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531-FBA9-4F1D-A58C-F8C4762AD6F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63AC-74F1-444F-821A-984B07D3DEF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9061-6D7E-4526-B7D3-25A1920B74F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7C85-6DED-4D86-98A2-ED7762DC2B4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0BB7-6E5A-48AF-86DE-18C0EF8A5E8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4953-FF6C-410F-B332-31CCF3B5500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1F95-C6F6-4DD5-917A-A3116BB44A2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C631-AE35-45C0-9D67-CEC8F77EC41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B0E-2EC9-499D-A0B8-07C532B2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399-2DC0-45AB-9E7B-B0FE9889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5D7-94E3-4EA5-8B7F-437AA272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108-E816-4238-BB1F-F899DF70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E5C-B351-4FB1-8118-ABDD59E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6B6-3534-48BF-AE44-97507F91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FA4-6268-4A59-92C3-7DAEDACC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64C-41C5-499D-B0E6-B14A5C83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1EB-0935-4FB6-B51C-2693F9E1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A11-95CF-46A1-8CC1-86955AD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21F-B2A9-495A-8536-3A91223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BD5-F4F7-4039-A352-07368747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dc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4282-7822-4154-B6A4-D2A7BF3A21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blackbox/domain.pdd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blackbox/domain.pdd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ramentas de Planejamento em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ackbox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DDL - Bla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www.cs.washington.edu/homes/kautz/blackbo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PDDL (Planning Domain Description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e duas partes: domínio 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 domí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ção do probl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log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otes a serem levados por caminhão e av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pie para o mesmo diretório os seguintes arqu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blackbox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cygwin1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domain.pd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.cin.ufpe.br/~cas/classes/blackbox/prob004-log-a.pd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ad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types PACKAGE TRUCK LOCATION AIRPLANE CITY AIR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cados e Variá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predicates (at ?obj ?loc)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 com parâmetros, pré-condições e efei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action LOAD-TRUCK :parameters(?obj – PACKAG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main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main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-TRU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Y-AIRPLAN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action FLY-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?airplane - 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?loc-from - AIR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?loc-to - AIR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pre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?airplane ?loc-fr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: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nd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not (at ?airplane ?loc-from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?airplane ?loc-to)))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 de fatos: prob004-log-a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a situação in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objetos do tip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aeropo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caminh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loc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ckage1 –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irplane1 – AIR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 –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-truck –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gh-po –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004-log-a.pd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a situaçã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init (in-city pgh-po pgh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:goal (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MS Mincho"/>
              </a:rPr>
              <a:t>(at package1 bos-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t package2 bos-airport)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cutando o Bla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ha de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pção -o indica o arquivo de operações e a opção -f o arquivo de f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mbre-se! Todos os arquivos que você copiou devem estar em um mesmo diretó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aminando o arquivo de saí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 &gt; out.t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lackbox -o domain.pddl -f  prob004-log-a.pddl –g saida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erra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 Spac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do problema em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no domínio dos blo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www.cs.ubc.ca/labs/lci/CIspace/Version4/planning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-Plan: Arquitetura de Planej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do problema em TF (Task Formal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em um domínio de busca e salv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oplan.aiai.ed.ac.uk/oplan/web-demo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docs: planejamento 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 baseado em restrições temporais (pa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monstração no domínio de veículos não tripulados (víd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0:42:37Z</dcterms:created>
  <dc:creator>c.siebra</dc:creator>
  <dc:description/>
  <dc:language>en-US</dc:language>
  <cp:lastModifiedBy>glr</cp:lastModifiedBy>
  <dcterms:modified xsi:type="dcterms:W3CDTF">2011-03-18T03:25:47Z</dcterms:modified>
  <cp:revision>27</cp:revision>
  <dc:subject/>
  <dc:title>Ferramentas de Planejamento em IA</dc:title>
</cp:coreProperties>
</file>