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E75-C355-4FF9-84A0-D8997AB1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C14-D523-4A8E-949A-F023B30C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EE3-7A5D-4603-BAE7-C31323A2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443-7B05-4E3E-8BB4-96770C64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9E67-BA28-48C1-B3DB-A760B836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FCD5-BEAA-44C2-B695-9E637DB8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9BFB-DF35-4251-9D03-8C33B895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0C0C-C1C0-4D90-A3D9-29401BDD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066F-D991-440B-A316-A1FD9FE1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C534-1CAC-4CFB-A2E6-F3DEDBBD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3B8D-C7C7-4181-9068-B5593972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62B8-9278-40A0-92FD-0730980A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05A6-AE5E-4B5C-8557-6F5269D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EFAF-884C-4529-97A2-A5D7135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5ADC-2F27-4A34-8829-47767E5F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388F-8B71-4234-ADE9-64EEA616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1A05-FAFC-42C2-8486-A38CE984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430-C50A-4219-933C-5D5DB415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56B3-657E-47BC-9696-665FC958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CC4-75B2-4EAB-94F7-52B4A6D9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5DE-3802-4FDE-95C2-77E4858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F47-49B1-4AE8-A488-0C6A3066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C03-FCB4-46E2-A55D-F7FC0A6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9F7-F254-43A3-AA55-4D5B861A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DB31-789B-49FE-82C1-95223F6BF5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75C9-A2F8-414C-A555-5368FC5B50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put/Outpu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240" y="3733920"/>
            <a:ext cx="67057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Haske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The Craft of Functional Programm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imom Thomps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Capítulo 1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empl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514600"/>
            <a:ext cx="8077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main :: IO (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main  = putStrLn ”Escrevendo no arquivo teste.txt" &gt;&gt;         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writeFile "teste.txt" (listIntToString [4,5,11,23]) &gt;&gt;        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putStrLn ”Lendo o arquivo teste.txt" &gt;&gt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readFile "teste.txt" &gt;&gt;= \x -&gt;    -- x e’ uma string!        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putStrLn x &gt;&gt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putStrLn ”Soma da lista do arquivo teste.txt e’:" &gt;&gt;         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putStrLn (show (sum (stringToListInt x))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listIntToString :: [Int] -&gt; String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listIntToString [] = "F"           -- fim!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listIntToString (x:xs) = show x ++ " " ++ listIntToString xs                          -- para inteiros poder usar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inuação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36232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showstringToListInt :: String -&gt; [Int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stringToListInt "F" = [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stringToListInt xs   = [(stringToInt 0 (takeWhile (/= ' ') xs))]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++(stringToListInt (tail (dropWhile (/= ' ') xs))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-- o tail acima e' para tirar o espaco em branco entre os inteiros.-- senao o programa entra em loop!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stringToInt :: Int -&gt; String -&gt; In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stringToInt accum [] = accumstringToInt accum (x:xs) =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                       </a:t>
            </a:r>
            <a:r>
              <a:rPr b="0" lang="pt-BR" sz="1600" spc="-1" strike="noStrike">
                <a:solidFill>
                  <a:srgbClr val="ffffcc"/>
                </a:solidFill>
                <a:latin typeface="Courier New"/>
              </a:rPr>
              <a:t>stringToInt (accum*10 + ord x - ord '0') x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s tipos 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O 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getLine :: IO St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utStr :: String -&gt; IO 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utStrLn :: String -&gt; IO 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05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s objetos que pertencem ao tipo 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IO 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rão realizar algum IO (entrada/saída) e retornarão um valor do tipo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3276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Ler uma linha da entra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434340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66"/>
                </a:solidFill>
                <a:latin typeface="Times New Roman"/>
              </a:rPr>
              <a:t>Escreve uma String na tela. O resultado desta interação tem o tipo ().  É usado quando algum valor variado deve ser retornado, tal valor não tem importância para outras funçõ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5851440"/>
            <a:ext cx="708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66"/>
                </a:solidFill>
                <a:latin typeface="Times New Roman"/>
              </a:rPr>
              <a:t>É um caso especial da função putStr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66"/>
                </a:solidFill>
                <a:latin typeface="Times New Roman"/>
              </a:rPr>
              <a:t>putStrLn st = putStr (st ++ “\n”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 operação ‘then’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9810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A operação ‘then’ simbolizada por  </a:t>
            </a: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&gt;&gt;=</a:t>
            </a:r>
            <a:r>
              <a:rPr b="1" lang="pt-B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dá seqüência a duas operações, uma após a outr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743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(&gt;&gt;=) :: IO t -&gt; (t -&gt; IO u) -&gt; IO 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00200" y="3962520"/>
            <a:ext cx="1523880" cy="459720"/>
            <a:chOff x="1600200" y="3962520"/>
            <a:chExt cx="1523880" cy="459720"/>
          </a:xfrm>
        </p:grpSpPr>
        <p:sp>
          <p:nvSpPr>
            <p:cNvPr id="104" name=""/>
            <p:cNvSpPr/>
            <p:nvPr/>
          </p:nvSpPr>
          <p:spPr>
            <a:xfrm>
              <a:off x="2133360" y="3962520"/>
              <a:ext cx="990720" cy="4572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00200" y="3962520"/>
              <a:ext cx="914400" cy="4572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403884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6880" y="3962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334120" y="4038480"/>
            <a:ext cx="2361600" cy="457200"/>
            <a:chOff x="5334120" y="4038480"/>
            <a:chExt cx="2361600" cy="457200"/>
          </a:xfrm>
        </p:grpSpPr>
        <p:sp>
          <p:nvSpPr>
            <p:cNvPr id="109" name=""/>
            <p:cNvSpPr/>
            <p:nvPr/>
          </p:nvSpPr>
          <p:spPr>
            <a:xfrm>
              <a:off x="5334120" y="4038480"/>
              <a:ext cx="914040" cy="45720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4038480"/>
              <a:ext cx="1218600" cy="4572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58000" y="4038480"/>
              <a:ext cx="837720" cy="45720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72200" y="411480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80880" y="3276720"/>
            <a:ext cx="769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sta operação combina um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IO t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com uma função que pega o resultado disso (tipo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) e retorna uma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IO u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86000" y="5410080"/>
            <a:ext cx="3809880" cy="459720"/>
            <a:chOff x="2286000" y="5410080"/>
            <a:chExt cx="3809880" cy="459720"/>
          </a:xfrm>
        </p:grpSpPr>
        <p:grpSp>
          <p:nvGrpSpPr>
            <p:cNvPr id="115" name=""/>
            <p:cNvGrpSpPr/>
            <p:nvPr/>
          </p:nvGrpSpPr>
          <p:grpSpPr>
            <a:xfrm>
              <a:off x="2286000" y="5410080"/>
              <a:ext cx="1523880" cy="459720"/>
              <a:chOff x="2286000" y="5410080"/>
              <a:chExt cx="1523880" cy="459720"/>
            </a:xfrm>
          </p:grpSpPr>
          <p:sp>
            <p:nvSpPr>
              <p:cNvPr id="116" name=""/>
              <p:cNvSpPr/>
              <p:nvPr/>
            </p:nvSpPr>
            <p:spPr>
              <a:xfrm>
                <a:off x="2819160" y="5410080"/>
                <a:ext cx="990720" cy="45720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86000" y="5410080"/>
                <a:ext cx="914400" cy="4572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14600" y="54864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O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352680" y="54100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733560" y="5410080"/>
              <a:ext cx="2362320" cy="457200"/>
              <a:chOff x="3733560" y="5410080"/>
              <a:chExt cx="236232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3733560" y="5410080"/>
                <a:ext cx="914400" cy="457200"/>
              </a:xfrm>
              <a:custGeom>
                <a:avLst/>
                <a:gdLst>
                  <a:gd name="textAreaLeft" fmla="*/ 0 w 914400"/>
                  <a:gd name="textAreaRight" fmla="*/ 914760 w 91440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43400" y="5410080"/>
                <a:ext cx="1218960" cy="45720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257800" y="5410080"/>
                <a:ext cx="838080" cy="457200"/>
              </a:xfrm>
              <a:custGeom>
                <a:avLst/>
                <a:gdLst>
                  <a:gd name="textAreaLeft" fmla="*/ 0 w 838080"/>
                  <a:gd name="textAreaRight" fmla="*/ 838440 w 8380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72000" y="54864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O</a:t>
                </a: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"/>
          <p:cNvSpPr/>
          <p:nvPr/>
        </p:nvSpPr>
        <p:spPr>
          <a:xfrm>
            <a:off x="380880" y="45720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Nós podemos junta-las, passando o resultado da primeira como primeiro argumento da segund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048120" y="6095880"/>
            <a:ext cx="2818800" cy="457200"/>
            <a:chOff x="3048120" y="6095880"/>
            <a:chExt cx="2818800" cy="457200"/>
          </a:xfrm>
        </p:grpSpPr>
        <p:sp>
          <p:nvSpPr>
            <p:cNvPr id="127" name=""/>
            <p:cNvSpPr/>
            <p:nvPr/>
          </p:nvSpPr>
          <p:spPr>
            <a:xfrm>
              <a:off x="3048120" y="6095880"/>
              <a:ext cx="1142640" cy="457200"/>
            </a:xfrm>
            <a:custGeom>
              <a:avLst/>
              <a:gdLst>
                <a:gd name="textAreaLeft" fmla="*/ 0 w 1142640"/>
                <a:gd name="textAreaRight" fmla="*/ 1142640 w 1142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560" y="6095880"/>
              <a:ext cx="2057040" cy="457200"/>
            </a:xfrm>
            <a:custGeom>
              <a:avLst/>
              <a:gdLst>
                <a:gd name="textAreaLeft" fmla="*/ 0 w 2057040"/>
                <a:gd name="textAreaRight" fmla="*/ 2057400 w 20570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609588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6095880"/>
              <a:ext cx="0" cy="4572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2120" y="2590920"/>
            <a:ext cx="7467120" cy="3200400"/>
            <a:chOff x="762120" y="2590920"/>
            <a:chExt cx="7467120" cy="3200400"/>
          </a:xfrm>
        </p:grpSpPr>
        <p:sp>
          <p:nvSpPr>
            <p:cNvPr id="132" name=""/>
            <p:cNvSpPr/>
            <p:nvPr/>
          </p:nvSpPr>
          <p:spPr>
            <a:xfrm>
              <a:off x="762120" y="2590920"/>
              <a:ext cx="7467120" cy="320040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400" y="2651040"/>
              <a:ext cx="7306920" cy="307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empl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971800"/>
            <a:ext cx="655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main :: IO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main = putStr "Digite seu nome:" &gt;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getLine &gt;&gt;= \ st -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utStr "O seu nome ao contrario e':" &gt;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utStr (reverse s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utras Iteraçõ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return :: t -&gt; IO 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(&gt;&gt;) :: IO t -&gt; IO u -&gt; IO 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apply :: (t -&gt; u) -&gt; t -&gt; IO 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733920"/>
            <a:ext cx="7467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66"/>
                </a:solidFill>
                <a:latin typeface="Times New Roman"/>
              </a:rPr>
              <a:t>Caso não queria passar o resultado da primeira para a segunda iteraçã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66"/>
                </a:solidFill>
                <a:latin typeface="Times New Roman"/>
              </a:rPr>
              <a:t>f &gt;&gt; g = f  &gt;&gt;= const 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410080"/>
            <a:ext cx="7086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66"/>
                </a:solidFill>
                <a:latin typeface="Times New Roman"/>
              </a:rPr>
              <a:t>Permite mudar o valor  o resultado de um objeto I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66"/>
                </a:solidFill>
                <a:latin typeface="Times New Roman"/>
              </a:rPr>
              <a:t>apply f a = return (f 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7432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Faz uma iteração trivial: simplesmente retorna uma valor sem algum I/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s funções de iteração do tipo IO 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00200" y="2057400"/>
            <a:ext cx="5790960" cy="4800240"/>
            <a:chOff x="1600200" y="2057400"/>
            <a:chExt cx="5790960" cy="4800240"/>
          </a:xfrm>
        </p:grpSpPr>
        <p:grpSp>
          <p:nvGrpSpPr>
            <p:cNvPr id="143" name=""/>
            <p:cNvGrpSpPr/>
            <p:nvPr/>
          </p:nvGrpSpPr>
          <p:grpSpPr>
            <a:xfrm>
              <a:off x="1600200" y="2057400"/>
              <a:ext cx="5790960" cy="4800240"/>
              <a:chOff x="1600200" y="2057400"/>
              <a:chExt cx="5790960" cy="48002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057400"/>
                <a:ext cx="5790960" cy="4800240"/>
              </a:xfrm>
              <a:prstGeom prst="rect">
                <a:avLst/>
              </a:prstGeom>
              <a:solidFill>
                <a:srgbClr val="ff9933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62480" y="2147400"/>
                <a:ext cx="5666400" cy="4619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209680" y="2438280"/>
              <a:ext cx="4419720" cy="41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Times New Roman"/>
                </a:rPr>
                <a:t>getLine :: IO String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Times New Roman"/>
                </a:rPr>
                <a:t>putStr :: String -&gt; IO (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Times New Roman"/>
                </a:rPr>
                <a:t>putStrLn :: String -&gt; IO (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Times New Roman"/>
                </a:rPr>
                <a:t>(&gt;&gt;=) :: IO t -&gt; (t -&gt; IO u) -&gt; IO u]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Times New Roman"/>
                </a:rPr>
                <a:t>(&gt;&gt;) :: IO t -&gt; -&gt; IO u -&gt; IO u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Times New Roman"/>
                </a:rPr>
                <a:t>return :: t -&gt; IO t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Times New Roman"/>
                </a:rPr>
                <a:t>apply :: (t -&gt; u) -&gt; t -&gt; IO u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Times New Roman"/>
                </a:rPr>
                <a:t>while :: IO Bool -&gt; IO () -&gt; IO (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cc"/>
                  </a:solidFill>
                  <a:latin typeface="Times New Roman"/>
                </a:rPr>
                <a:t>interact :: (String -&gt; String) -&gt; IO (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xemplo de Proje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2743200"/>
            <a:ext cx="8076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oisJog :: Window -&gt; Tabuleiro -&gt; Vez -&gt; IO (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oisJog w tb v = clearWindow w &gt;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raw w (overMany ((quadrados w tb 120) ++ divisoes ++ tabuleiro ++ botaoSair ++ botaoNovo ++ background)) &gt;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pintaVez w v &gt;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casaEscolhida w tb &gt;&gt;= \ casa -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verClique casa &gt;&gt;= \ click -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case click o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"S" -&gt; closeWindow 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"N" -&gt; m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438280"/>
            <a:ext cx="6629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_ -&gt; if (coordValida casa tb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marca w casa v &gt;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colocaPeca1 casa tb v &gt;&gt;= \ newtab -&g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if (perdeu v newtab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if v==Vermelha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fim w "O vermelho ganhou!"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fim w "O cinza ganhou!"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oisJog w newtab (trocaVez v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ffffcc"/>
                </a:solidFill>
                <a:latin typeface="Times New Roman"/>
              </a:rPr>
              <a:t>doisJog w tb v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6858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tinuaçã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quiv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2133720"/>
            <a:ext cx="7238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Leitura de arquiv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cc"/>
                </a:solidFill>
                <a:latin typeface="Times New Roman"/>
              </a:rPr>
              <a:t>readFile :: (arquivo) -&gt; Str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4114800"/>
            <a:ext cx="71629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66"/>
                </a:solidFill>
                <a:latin typeface="Times New Roman"/>
              </a:rPr>
              <a:t>Escrever em arquivo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cc"/>
                </a:solidFill>
                <a:latin typeface="Times New Roman"/>
              </a:rPr>
              <a:t>writeFile :: (arquivo) -&gt; String -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19:24:19Z</dcterms:created>
  <dc:creator>jhbg</dc:creator>
  <dc:description/>
  <dc:language>en-US</dc:language>
  <cp:lastModifiedBy>jhbg</cp:lastModifiedBy>
  <dcterms:modified xsi:type="dcterms:W3CDTF">1999-01-19T22:10:19Z</dcterms:modified>
  <cp:revision>14</cp:revision>
  <dc:subject/>
  <dc:title>Input/Output</dc:title>
</cp:coreProperties>
</file>