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33C-045C-418A-9D57-AB20A564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B37-EE6C-454F-AAC9-A9ADB65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ABF-02CE-4BAA-89ED-24C25F83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956-4117-4CAE-B781-7655B39A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EE8-2AD4-4B1E-8DB0-805C715B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F98-A4B2-4934-86AD-40A3C599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156B-6CCA-43CD-8C48-E0C947C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2D13-58FE-4CCE-A95D-756EB0C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665-E45C-4C31-A74A-420C5D89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251-E6D1-4635-B7A1-EEC2519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9211-399F-4942-B3FB-F775264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680-C02D-4F62-BC52-030881E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F36-0228-4BF3-8DB9-21F6E01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07E-5CA5-4AF5-A432-E292AD9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DC0E-F13A-416D-BCCB-0060046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108-5E7D-403D-9086-F001CEE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910-F831-4C71-9E54-F771398E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6AF-A06B-4431-A4CD-A7925C65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5BF-4DDC-4266-A616-0A5F829E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8D8-962F-4A99-B5FD-0BBEB80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A2F-F478-4CA2-A7A2-8D83CB74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805-0F24-4ADD-B6DC-B98FCE7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32E-988E-4211-955D-5A3EB2A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6B2-8711-44FC-9450-84A2967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012-281C-4472-86AE-8C41AE23C5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7570-2A32-4767-BB24-99F2C3707F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ula Gráfica de LP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or: André San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itor: José Ed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ombinando Pi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11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ver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(withBrush red $ polygon [(200,200),(400,200),(300,400)])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(withBrush blue $ polygon [(100,100),(500,100),(500,500),(100,500)]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086360"/>
            <a:ext cx="7924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verMan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[(withBrush blue $ polygon [(250,200),(350,200),(350,250),(250,250)])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(withBrush red $ polygon [(200,200),(400,200),(300,400)]),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(withBrush blue $ polygon [(100,100),(500,100),(500,500),(100,500)])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867280"/>
            <a:ext cx="5867280" cy="914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ver recebe apenas duas figura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nquanto overMany recebe uma lis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81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66"/>
                </a:solidFill>
                <a:latin typeface="Times New Roman"/>
              </a:rPr>
              <a:t>over :: Picture -&gt; Picture -&gt; Pi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505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66"/>
                </a:solidFill>
                <a:latin typeface="Times New Roman"/>
              </a:rPr>
              <a:t>overMany :: [Picture] -&gt; Pi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905120"/>
            <a:ext cx="8077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main :: IO (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main = runGraphics (d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 &lt;- openWindow "Projeto de LP2 - JOGO DA VELHA" (400, 300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raw w (overMan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(quadrados ++ divisoes ++ tabuleiro ++ background)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raw w tabuleir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raw w diviso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raw w (overMany quadrados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getKey 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closeWindow 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background ::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background =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[(withRGB (RGB 135 135 135) (polygon [(0,0),(0,300),(400,300),(400,0)]))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tabuleiro ::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tabuleiro =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[(withRGB (RGB 170 170 170) (polygon [(50,50),(50,250),(250,250),(250,50)]))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505320"/>
            <a:ext cx="3810240" cy="13716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a adaptar-se ao “overMany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s funções background, tabulei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 divisoes, retornam um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ista de Pic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43200" y="4114440"/>
            <a:ext cx="1600200" cy="6094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495320"/>
            <a:ext cx="1905120" cy="121932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ação do Exempl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752480"/>
            <a:ext cx="7238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ivisoes ::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ivisoes = [o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(withCor Preto (polyline [(250,50),(50,50),(50,250)])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(withCor Branco (polyline [(50,250),(250,250),(250,50)]))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quadrados ::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quadrados = linha 9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linha :: Int -&gt;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linha 0 = [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linha n | (n&gt;=1 &amp;&amp; n&lt;=3) = auxLinha n 55 115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(n&gt;=4 &amp;&amp; n&lt;=6) = auxLinha (n-3) 55 180 ++ linha 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(n&gt;=7 &amp;&amp; n&lt;=9) = auxLinha (n-6) 55 245 ++ linha 6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uxLinha :: Int -&gt; Int -&gt; Int -&gt; [Picture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uxLinha 0 _ _ = [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uxLinha n x y = [(withCor Branco (polyline [(x,y),(x,y-60),(x+60,y-60)]))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(withCor Preto (polyline [(x,y),(x+60,y),(x+60,y-60)]))] ++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uxLinha (n-1) (x+65) 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Wind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0574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getPicture :: Window -&gt; IO Picture</a:t>
            </a:r>
            <a:br>
              <a:rPr sz="2400"/>
            </a:b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setPicture :: Window -&gt; Picture -&gt; IO 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97180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stas funções são muito utilizadas quando temos um IO Picture e queremos retornar um IO (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las são usadas tanto na definição de “draw”, como na de clearWindow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80060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draw :: Window -&gt; Picture -&gt; IO ()</a:t>
            </a: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draw w p = do</a:t>
            </a: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oldPicture &lt;- getPicture w</a:t>
            </a: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setPicture w (p `over` oldPicture)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clearWindow :: Window -&gt; IO ()</a:t>
            </a: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clearWindow w = setPicture w emp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ouse Ev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809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getLBP :: Window -&gt; IO Point</a:t>
            </a:r>
            <a:br>
              <a:rPr sz="2400"/>
            </a:b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 getRBP :: Window -&gt; IO Point</a:t>
            </a:r>
            <a:br>
              <a:rPr sz="2400"/>
            </a:b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 getButton :: Window -&gt; Bool -&gt; Bool -&gt; IO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xistem três funcões para o uso do mouse. getLBP e getRBP esperam o pressionamento do botões esquerdo e direito do mouse. Ambas funções são definidas usando getButton, o qual pode ser utilizada para os botões esquerdo e direito tanto para  pressionar e soltar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1976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getLBP w = getButton w True True</a:t>
            </a:r>
            <a:br>
              <a:rPr sz="2400"/>
            </a:br>
            <a:r>
              <a:rPr b="1" i="1" lang="pt-BR" sz="2400" spc="-1" strike="noStrike">
                <a:solidFill>
                  <a:srgbClr val="ffcc66"/>
                </a:solidFill>
                <a:latin typeface="Times New Roman"/>
              </a:rPr>
              <a:t> getRBP w = getButton w False Tr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534960" y="5040360"/>
            <a:ext cx="2589120" cy="642600"/>
          </a:xfrm>
          <a:prstGeom prst="borderCallout1">
            <a:avLst>
              <a:gd name="adj1" fmla="val 18750"/>
              <a:gd name="adj2" fmla="val -8333"/>
              <a:gd name="adj3" fmla="val 117578"/>
              <a:gd name="adj4" fmla="val -6081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True para o esquerdo,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alse para o direit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502920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3814"/>
              <a:gd name="adj4" fmla="val -3390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True para pressionar,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alse para solta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3 - Uso do Mou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70040"/>
            <a:ext cx="8229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odule Tela  w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import Graphic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import GCol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ain :: IO (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ain = runGraphics (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w &lt;- openWindow "Projeto de LP2 - JOGO DA VELHA" (400, 3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draw w (overMany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(quadrados ++ divisoes ++ tabuleiro ++ background)) &gt;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getLBP w &gt;&gt;= \ ponto -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odificar w po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getKey 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closeWindow 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odificar :: Window -&gt; (Int,Int) -&gt; IO(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odificar w (x,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| (x&gt;=55)&amp;&amp;(x&lt;=115)&amp;&amp;(y&gt;=55)&amp;&amp;(y&lt;=115) =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draw w (withCor Magenta (polygon [(55,55),(55,115),(115,115),(115,55)]))|                 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|otherwise = draw w (withCor Preto (text (30,30) "LUGAR ERRADO!")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Bitmap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2860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import GraphicsBitmap(drawStretched,loa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readBitmap filename = load filename &gt;&gt;= \ (bm,sz) -&gt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return b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343400"/>
            <a:ext cx="80769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modificar :: Window -&gt; (Int,Int) -&gt; IO(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modificar w (x,y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| (x&gt;=55)&amp;&amp;(x&lt;=115)&amp;&amp;(y&gt;=55)&amp;&amp;(y&lt;=115) =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                       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readBitmap "rpcb.bmp" &gt;&gt;= \teste -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                       </a:t>
            </a: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draw w (drawStretched (55,55) (115,115) teste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| otherwise = draw w (withCor Preto (text (30,30) "LUGAR ERRADO!")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omo abrir uma janela em Haskell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83000"/>
            <a:ext cx="800100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odule Tela  w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import Graphic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import OldLi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import GraphicsDraw(drawBufferedPictur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ain :: IO (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main = runGraphics (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w &lt;- openWindow "Projeto de LP2" (300, 300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draw w (text (100, 100) "Haskell"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draw w (text (50, 200)  "Craft of Functional Programming"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getKey 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closeWindow 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alisando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133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rungraphics :: IO() -&gt; IO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Chama a parte gráf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1860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openWindow :: String -&gt; Point -&gt; IO Wind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Abre uma janela, especificando o título e o tamanh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3290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draw :: Window -&gt; Picture -&gt; IO()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Desenha uma figura na janel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28600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35268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49568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1840" y="5791320"/>
            <a:ext cx="365112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12435"/>
              <a:gd name="adj5" fmla="val -234037"/>
              <a:gd name="adj6" fmla="val -22773"/>
            </a:avLst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xto, elipse, retangu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133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text :: Point -&gt; String -&gt; 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Cria uma figura que é uma string no ponto d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1860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getKey :: Window -&gt; IO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Espera o pressionamento de uma tecl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71024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closeWindow :: Window -&gt; IO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cc"/>
                </a:solidFill>
                <a:latin typeface="Times New Roman"/>
              </a:rPr>
              <a:t>Fecha a janel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35268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8769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alisando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i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051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Outras figuras que podem ser desenhadas na te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66680" y="2590920"/>
            <a:ext cx="7086600" cy="4038480"/>
            <a:chOff x="1066680" y="2590920"/>
            <a:chExt cx="7086600" cy="4038480"/>
          </a:xfrm>
        </p:grpSpPr>
        <p:sp>
          <p:nvSpPr>
            <p:cNvPr id="115" name=""/>
            <p:cNvSpPr/>
            <p:nvPr/>
          </p:nvSpPr>
          <p:spPr>
            <a:xfrm>
              <a:off x="1066680" y="2590920"/>
              <a:ext cx="7086600" cy="40384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2666880"/>
              <a:ext cx="6934320" cy="3886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0200" y="320040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mpty           ::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llipse          :: Point -&gt; Point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hearEllipse :: Point -&gt; Point -&gt; Point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line               :: Point -&gt; Point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olyline        :: [Point]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olygon        :: [Point]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olyBezier    :: [Point]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text               :: Point -&gt; String -&gt; 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914400" y="3200400"/>
            <a:ext cx="7467120" cy="3429000"/>
            <a:chOff x="914400" y="3200400"/>
            <a:chExt cx="7467120" cy="3429000"/>
          </a:xfrm>
        </p:grpSpPr>
        <p:sp>
          <p:nvSpPr>
            <p:cNvPr id="119" name=""/>
            <p:cNvSpPr/>
            <p:nvPr/>
          </p:nvSpPr>
          <p:spPr>
            <a:xfrm>
              <a:off x="914400" y="3200400"/>
              <a:ext cx="7467120" cy="342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4680" y="3264840"/>
              <a:ext cx="7306920" cy="329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ificadores de Figur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61332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withFont                  :: Font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TextColor         :: RGB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TextAlignment :: Alignment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BkColor            :: RGB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BkMode            :: BkMode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Pen                    :: Pen -&gt; Picture -&gt; Picture</a:t>
            </a: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withBrush                 :: Brush -&gt; Picture -&gt; Pi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225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 figuras podem ser modificadas de várias formas. Alguns dos modificadores sã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 com C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447920"/>
            <a:ext cx="7848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module Tela  whe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import Graphic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import OldLi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import GraphicsDraw(drawBufferedPicture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import GCol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main :: IO (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main = runGraphics (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w &lt;- openWindow "Projeto de LP2 - JOGO DA VELHA" (400, 300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draw w backgroun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draw w tabulei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draw w diviso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getKey w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closeWindow w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background :: Pictu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background =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(withRGB (RGB 135 135 135) (polygon [(0,0),(0,300),(400,300),(400,0)])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tabuleiro :: Pictu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tabuleiro =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(withRGB (RGB 170 170 170) (polygon [(50,50),(50,250),(250,250),(250,50)])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divisoes :: [Picture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divisoes =     </a:t>
            </a:r>
            <a:r>
              <a:rPr b="0" lang="pt-BR" sz="1400" spc="-1" strike="noStrike">
                <a:solidFill>
                  <a:srgbClr val="ffcc66"/>
                </a:solidFill>
                <a:latin typeface="Times New Roman"/>
              </a:rPr>
              <a:t>over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  ( (withCor Preto (polyline [(250,50),(50,50),(50,250)])),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(withCor Branco (polyline [(50,250),(250,250),(250,50)])) 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9625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629"/>
              <a:gd name="adj4" fmla="val -66750"/>
              <a:gd name="adj5" fmla="val -47750"/>
              <a:gd name="adj6" fmla="val -66736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raw :: Window -&gt; Picture -&gt; IO(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8440" y="2138760"/>
            <a:ext cx="3817080" cy="459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Color não é pré-definida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GCol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647720"/>
            <a:ext cx="8153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module GColor whe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import Graphic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-- Estrutura de c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ata Co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= Amarel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Azu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Branc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Pre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| Magen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deriving (Eq, Ord, Bounded, Enum, Ix, Show, Rea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-- funcao que utiliza cores especificadas ------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 :: Color -&gt; Picture -&gt; Picture   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 Amarelo y        = withRGB (RGB 255 255 0)    y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zul y              = withRGB (RGB 0 0 255)    y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 Branco y           = withRGB (RGB 255 255 255)   y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 Preto y              = withRGB (RGB 0 0 0)   y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withCor Magenta y        = withRGB (RGB 255 0 255)   y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res pré-defin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209680"/>
            <a:ext cx="54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data Color 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= Black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Blue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Green 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Cyan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Red 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Magenta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Yellow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| White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deriving (Eq, Ord, Bounded,     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Enum, Ix, Show, Rea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276720"/>
            <a:ext cx="3352680" cy="12189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stes casos não é preci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balhar com RG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0:27:24Z</dcterms:created>
  <dc:creator>Taciana Melcop Lacerda de Melo</dc:creator>
  <dc:description/>
  <dc:language>en-US</dc:language>
  <cp:lastModifiedBy>Edson</cp:lastModifiedBy>
  <dcterms:modified xsi:type="dcterms:W3CDTF">2000-03-09T22:48:54Z</dcterms:modified>
  <cp:revision>33</cp:revision>
  <dc:subject/>
  <dc:title>Aula Gráfica de LP2</dc:title>
</cp:coreProperties>
</file>