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E46A6-C003-429D-A0C5-5671DA3C2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6400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6400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A8568-E857-47AD-A31D-D4298B195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123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965760" y="1981080"/>
            <a:ext cx="3123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123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3965760" y="4130640"/>
            <a:ext cx="3123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2FB09-2F63-4189-B5E5-99EC00A7C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0606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849760" y="1981080"/>
            <a:ext cx="20606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014080" y="1981080"/>
            <a:ext cx="20606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0606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849760" y="4130640"/>
            <a:ext cx="20606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014080" y="4130640"/>
            <a:ext cx="20606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18F46-27F0-424D-B3BD-303AEBF7C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6400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5E187-2A37-451B-B7E1-AC2DE503D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6400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7CCC3-B3EC-46B6-834D-37AAD7C5A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1233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3965760" y="1981080"/>
            <a:ext cx="31233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5A649-EC0D-4672-B586-92D45F783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4C6FD-4BDA-4B93-B84F-4EB5840D6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6400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24AF0-638E-4822-88FB-65D69859E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123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3965760" y="1981080"/>
            <a:ext cx="31233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123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166D0-296E-4870-BF03-B0F6C7414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1233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965760" y="1981080"/>
            <a:ext cx="3123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965760" y="4130640"/>
            <a:ext cx="3123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65F46-F552-47DB-ADD0-3414924F5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123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965760" y="1981080"/>
            <a:ext cx="3123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6400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4AA0F-14F7-463A-87A2-C21BB5D8D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-4680"/>
            <a:ext cx="9156600" cy="68752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6400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33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33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33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33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35920-6D78-4C52-B3C4-208B0ED608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0"/>
            <a:ext cx="822960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Times New Roman"/>
              </a:rPr>
              <a:t>OPORTUNIDAD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Times New Roman"/>
              </a:rPr>
              <a:t>DE COMÉRCIO NA INTER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bompreco.com.br/" TargetMode="External"/><Relationship Id="rId2" Type="http://schemas.openxmlformats.org/officeDocument/2006/relationships/hyperlink" Target="http://www.bompreco.com.br/" TargetMode="External"/><Relationship Id="rId3" Type="http://schemas.openxmlformats.org/officeDocument/2006/relationships/hyperlink" Target="http://www.bompreco.com.br/" TargetMode="External"/><Relationship Id="rId4" Type="http://schemas.openxmlformats.org/officeDocument/2006/relationships/hyperlink" Target="http://www.bompreco.com.br/" TargetMode="External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comércio eletrônico: novos modelos de negócio na economia globa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hermano perrelli de mou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http://www.di.ufpe.br/~herma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 novo modelo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6400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ão existem fronteiras geográf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to grau de personalizaç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cerias da informaç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$0,01 é muito importa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ão existem intermediár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to valor agregado em serviç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sência de fronteiras político-econôm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marketspac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6400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do lugar para o espaç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do físico para o virtu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do tangível para o intangí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marketplace + cyberspace = market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portunidad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6400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 primeira ordem (físic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 segunda ordem (virtu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0 milhões de endereço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6400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WorldWide Marketing Group is pleased to finally offer to the direct marketer, the culmination of its intensive 6 month long project in compiling the single largest e-mail address list available anywhere - over 30 million e-mail addresses free of duplicates, one per line and alphabetically sorted - for only US$149! This is for real... there is NO catch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ogístic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6400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ís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rtual (da informaçã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xemplo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6400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www</a:t>
            </a:r>
            <a:r>
              <a:rPr b="0" lang="pt-BR" sz="28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.</a:t>
            </a:r>
            <a:r>
              <a:rPr b="0" lang="pt-BR" sz="28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bompreco</a:t>
            </a:r>
            <a:r>
              <a:rPr b="0" lang="pt-BR" sz="28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.com.b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 u="sng">
                <a:solidFill>
                  <a:srgbClr val="3333cc"/>
                </a:solidFill>
                <a:uFillTx/>
                <a:latin typeface="Arial"/>
              </a:rPr>
              <a:t>www.mappin.com.b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 u="sng">
                <a:solidFill>
                  <a:srgbClr val="3333cc"/>
                </a:solidFill>
                <a:uFillTx/>
                <a:latin typeface="Arial"/>
              </a:rPr>
              <a:t>www.campus.com.b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 u="sng">
                <a:solidFill>
                  <a:srgbClr val="3333cc"/>
                </a:solidFill>
                <a:uFillTx/>
                <a:latin typeface="Arial"/>
              </a:rPr>
              <a:t>www.lojasparaiso.com.b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 u="sng">
                <a:solidFill>
                  <a:srgbClr val="3333cc"/>
                </a:solidFill>
                <a:uFillTx/>
                <a:latin typeface="Arial"/>
              </a:rPr>
              <a:t>www.arapua.com.b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 u="sng">
                <a:solidFill>
                  <a:srgbClr val="3333cc"/>
                </a:solidFill>
                <a:uFillTx/>
                <a:latin typeface="Arial"/>
              </a:rPr>
              <a:t>www.receita.fazenda.gov.b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m plano de Interne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6400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ff33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re na Inter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ff33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tude os concorre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ff33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ie o pla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33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ção, análise da situação atual, problemas e oportunidades, estratégias de marketing, análise e pesquisa de mercado, orçamento, plano, avaliação, acompanha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ff33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ecute o pla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ff33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lie o seu posicionam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lgumas perguntas..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6400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ua empresa tem se capitalizado usando os benefícios potenciais do C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ções de competidores (ou de novas empresas) podem deixar você lutando pela sobrevivênci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cê pode tomar alguma providência no sentido de antecipar-se às ações dos competidor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is perguntas..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6400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cê está ciente do poder da informação embebida nos seus produtos e serviços e que podem agregar valor aos client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rá que existem produtos e serviços da informação que podem ser oferecidos aos seus client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tinuando a reflexão..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6400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33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cê tem usado o benefício potencial da integração de canais eletrônico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ff33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cê tem usado CE para gerenciar a complexidade de mercado e produt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ff33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iminando canais intermediár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ff33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cando e agilizando a entrega de produtos e serviç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ff33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zindo dramaticamente cus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oteiro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6400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ércio eletrôn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ércio eletrônico e 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ércio eletrônico e Inter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 novo mode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empl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m plano de Inter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gumas pergunt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... e finalment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6400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 infra-estrutura técnica está pront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você tem usado de forma equilibrada novas tecnologia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formação é a essência!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2209680" y="1828800"/>
            <a:ext cx="3657600" cy="3508200"/>
            <a:chOff x="2209680" y="1828800"/>
            <a:chExt cx="3657600" cy="3508200"/>
          </a:xfrm>
        </p:grpSpPr>
        <p:sp>
          <p:nvSpPr>
            <p:cNvPr id="85" name=""/>
            <p:cNvSpPr txBox="1"/>
            <p:nvPr/>
          </p:nvSpPr>
          <p:spPr>
            <a:xfrm>
              <a:off x="2209680" y="1828800"/>
              <a:ext cx="3657600" cy="3508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ascadeUp">
                <a:avLst>
                  <a:gd name="adj" fmla="val 44444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1"/>
                    <a:srcRect/>
                    <a:tile tx="0" ty="0" sx="100000" sy="100000" algn="ctr"/>
                  </a:blipFill>
                  <a:latin typeface="Arial Black"/>
                </a:rPr>
                <a:t>Internet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 Black"/>
                <a:ea typeface="Arial Black"/>
              </a:endParaRPr>
            </a:p>
          </p:txBody>
        </p:sp>
        <p:grpSp>
          <p:nvGrpSpPr>
            <p:cNvPr id="86" name=""/>
            <p:cNvGrpSpPr/>
            <p:nvPr/>
          </p:nvGrpSpPr>
          <p:grpSpPr>
            <a:xfrm>
              <a:off x="4191120" y="2514600"/>
              <a:ext cx="1531800" cy="2286000"/>
              <a:chOff x="4191120" y="2514600"/>
              <a:chExt cx="1531800" cy="2286000"/>
            </a:xfrm>
          </p:grpSpPr>
          <p:pic>
            <p:nvPicPr>
              <p:cNvPr id="87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4191120" y="2514600"/>
                <a:ext cx="1531800" cy="2286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" name=""/>
              <p:cNvSpPr/>
              <p:nvPr/>
            </p:nvSpPr>
            <p:spPr>
              <a:xfrm>
                <a:off x="4952880" y="3657600"/>
                <a:ext cx="53316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3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60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 ponto de vend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6400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fix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loja, agência bancária, hosp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mó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ascate, home banking, UTI mó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mércio eletrônico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6400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 processo de fazer negócios eletronicamente, envolvendo a automação de várias transações entre empres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K C Laudon &amp; J P Laud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mércio eletrônico e TI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6400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olução da 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o dentro das organizaçõ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o entre organizaçõ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o fora das organizaçõ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mércio eletrônico e TI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6400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33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cnologi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ff33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elef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ff33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elemarketing (telefone + computado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ff33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elevis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ff33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DI (Electronic Data Interchang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ff33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ff3300"/>
              </a:buClr>
              <a:buSzPct val="9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plicações multimíd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ff3300"/>
              </a:buClr>
              <a:buSzPct val="9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telefonia via Int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ff3300"/>
              </a:buClr>
              <a:buSzPct val="9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áudio e víde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ff3300"/>
              </a:buClr>
              <a:buSzPct val="9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Web T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ara que as empresas estão usando a Interne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6400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unicaç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ferência de da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íst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nção de despes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sca de novos merca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operaç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ndas diret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enefícios da Interne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6400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ff33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ção dos custos de comunicaç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ff33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la direta 1200 pessoas: US$ 12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ff33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 Internet: US$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ff33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erfeiçoamento da comunicação e coordenaç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ff33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eleração da distribuição de conhecim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ff33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mento da competitividade glob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ff33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ércio eletrôn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mércio eletrônico e Interne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6400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33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lhor relação fornecedor-cli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ff33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dução, venda, pós-ven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ff33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elo personaliz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ff33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I bara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ff33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5.000 mensagens/mê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99"/>
              </a:spcBef>
              <a:buClr>
                <a:srgbClr val="ff3300"/>
              </a:buClr>
              <a:buSzPct val="9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DI: US$ 50.000 a US$ 100.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99"/>
              </a:spcBef>
              <a:buClr>
                <a:srgbClr val="ff3300"/>
              </a:buClr>
              <a:buSzPct val="9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net: US$ 10.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ff33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ansão de parceiros ED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ff33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álculo de merc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0T14:22:14Z</dcterms:created>
  <dc:creator>BRA/92/019 - ProTeM-CC</dc:creator>
  <dc:description/>
  <dc:language>en-US</dc:language>
  <cp:lastModifiedBy>Fabio</cp:lastModifiedBy>
  <dcterms:modified xsi:type="dcterms:W3CDTF">1997-06-27T15:07:34Z</dcterms:modified>
  <cp:revision>14</cp:revision>
  <dc:subject/>
  <dc:title>Slide sem título </dc:title>
</cp:coreProperties>
</file>